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7.png" ContentType="image/png"/>
  <Override PartName="/ppt/media/image37.png" ContentType="image/pn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8.png" ContentType="image/png"/>
  <Override PartName="/ppt/media/image38.jpeg" ContentType="image/jpeg"/>
  <Override PartName="/ppt/media/image9.wmf" ContentType="image/x-wmf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534-AAED-403A-A923-CC7638BF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A6E-8316-4AEE-B974-30975624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7FA-8A07-44D4-849E-696F914D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E0E-6D48-45C5-AF70-8C2AA9F0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75B7D-A63D-4F7C-9D9B-BCF53A8F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166D8-D551-4623-B520-796A86AF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140D4-2D1F-4A2B-A834-B6E05403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0E240-D223-417E-BB02-BC85D777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53A0F-EF3E-451E-9F54-124AB5AD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FCBE2-C721-4DB0-89BC-DEF99AE4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E72EA-1096-472C-A91E-870E4AEE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B46-4319-4289-AC4E-26EFF57C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A0AEB-1F4F-4739-81EF-A9CFFC36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7DDC1-C843-4E88-9E0E-D160EFB8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74D3B-442D-4126-9BFC-FC8125F9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B35F7-5B2C-40F1-A1D3-46112EB2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9234D-15B2-4090-80F0-5C800E4B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CFE-6BA7-4E70-853B-D8A25561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19D-35CA-4319-894A-097259D2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C82-12A9-457C-912F-C296802F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4AA-A41C-467E-A4C4-02825D35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498-C9A7-42E2-A0A9-7B5252F9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294-64DE-4713-AA4F-B2F4A5DB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A34-0BAA-4385-8014-0C9B5BED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6F12-B94C-4BBC-AE98-E5FAD8CAC6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4639-F8BC-4CA5-A64D-C4C7F3BEC6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F:\Kate\картинки\26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4800"/>
            </a:br>
            <a:br>
              <a:rPr sz="2000"/>
            </a:br>
            <a:r>
              <a:rPr b="1" i="1" lang="ru-RU" sz="36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«Проблема выбора профессии в 21 веке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lazma_-_Black_Would_Be_White_(zvukoff.ru)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C:\Users\Пользователь\Pictures\2608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типа професси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2920" y="928800"/>
          <a:ext cx="9001080" cy="5715000"/>
        </p:xfrm>
        <a:graphic>
          <a:graphicData uri="http://schemas.openxmlformats.org/drawingml/2006/table">
            <a:tbl>
              <a:tblPr/>
              <a:tblGrid>
                <a:gridCol w="1285920"/>
                <a:gridCol w="1357200"/>
                <a:gridCol w="1500120"/>
                <a:gridCol w="1785960"/>
                <a:gridCol w="1785960"/>
                <a:gridCol w="1285920"/>
              </a:tblGrid>
              <a:tr h="1052280">
                <a:tc gridSpan="6"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Профессиональные ти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gridSpan="6"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48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Предмет труд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Природ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Техник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Знак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Художественный образ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Условия труд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Бытовы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На Открытом воздухе..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Необычны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C повышенной Моральной ответственностью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Средства труд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Ручны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Машины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Автоматизированны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Функциональны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Цели труд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Гностически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Преобразующи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Изыскательски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1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C:\Users\Пользователь\Pictures\DYCAC9CODGCAEEHS3CCAGDEDZ8CAB1OQ8MCAKHOW7PCA15256ECA01OH45CAAJM3PECA00F1V6CAAM5LV0CAUKN872CAVJ7II9CAOGUK8YCACQ6Q3GCAU2N0R5CA9GWCEPCAVCZ85WCAMS0DPE.jpg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6040" y="691920"/>
            <a:ext cx="82692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ки при выборе професси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5864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Отношение к выбору профессии как к неизменном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Бытующие мнения о престижности професс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Выбор профессии под влиянием товарищей (за компанию, чтобы не отстать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еренос отношения к человеку, представителю той или иной профессии, на саму професси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Увлечение только внешней или какой-нибудь частной стороной професс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Отождествление школьного учебного предмета с профессией или плохое различение этих поняти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Устарелые представления о характере труда в сфере материального производ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Неумение/ нежелание разбираться в своих личностных качествах (склонностях, способностях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Незнание/ недооценка своих физических особенностей, недостатков, существенных при выборе професс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Незнание основных действий, операций и их порядка при решении, обдумывании задачи при выборе профессии.</a:t>
            </a:r>
            <a:br>
              <a:rPr sz="1600"/>
            </a:br>
            <a:r>
              <a:rPr b="1" i="1" lang="ru-RU" sz="1600" spc="-1" strike="noStrike">
                <a:solidFill>
                  <a:srgbClr val="2929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500"/>
                            </p:stCondLst>
                            <p:childTnLst>
                              <p:par>
                                <p:cTn id="39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7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0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500"/>
                            </p:stCondLst>
                            <p:childTnLst>
                              <p:par>
                                <p:cTn id="4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3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6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500"/>
                            </p:stCondLst>
                            <p:childTnLst>
                              <p:par>
                                <p:cTn id="40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9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9500"/>
                            </p:stCondLst>
                            <p:childTnLst>
                              <p:par>
                                <p:cTn id="4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2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93" descr="C:\Users\Пользователь\Pictures\water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580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73"/>
                </a:solidFill>
                <a:latin typeface="Times New Roman"/>
                <a:ea typeface="Times New Roman"/>
              </a:rPr>
              <a:t>Анкетирование</a:t>
            </a:r>
            <a:br>
              <a:rPr sz="3200"/>
            </a:br>
            <a:br>
              <a:rPr sz="32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42920" y="714240"/>
          <a:ext cx="4143240" cy="5929560"/>
        </p:xfrm>
        <a:graphic>
          <a:graphicData uri="http://schemas.openxmlformats.org/drawingml/2006/table">
            <a:tbl>
              <a:tblPr/>
              <a:tblGrid>
                <a:gridCol w="2765520"/>
                <a:gridCol w="688680"/>
                <a:gridCol w="689040"/>
              </a:tblGrid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Что оказывает влияние на выбор профессии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иция старших членов семьи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иция друз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659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иция учите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ые профессиональные пла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притязаний на общественное призн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ирован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ло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0" y="714240"/>
          <a:ext cx="4429080" cy="600732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4352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Какие профессии, по вашему, сейчас престижные на рынке труда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водч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р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м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мато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47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урнал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дж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зайн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жен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4348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Какие профессии по вашему, сейчас востребованы на рынке труда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м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жен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р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дж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50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водч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мато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зайн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урнал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40"/>
                            </p:stCondLst>
                            <p:childTnLst>
                              <p:par>
                                <p:cTn id="4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740"/>
                            </p:stCondLst>
                            <p:childTnLst>
                              <p:par>
                                <p:cTn id="4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C:\Users\Пользователь\Pictures\2420713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авнительный анализ влияющих факторов в России и Брит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Содержимое 3" descr=""/>
          <p:cNvPicPr/>
          <p:nvPr/>
        </p:nvPicPr>
        <p:blipFill>
          <a:blip r:embed="rId2"/>
          <a:stretch/>
        </p:blipFill>
        <p:spPr>
          <a:xfrm>
            <a:off x="0" y="1071720"/>
            <a:ext cx="4929120" cy="578628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4" descr=""/>
          <p:cNvPicPr/>
          <p:nvPr/>
        </p:nvPicPr>
        <p:blipFill>
          <a:blip r:embed="rId3"/>
          <a:stretch/>
        </p:blipFill>
        <p:spPr>
          <a:xfrm>
            <a:off x="4643280" y="1000080"/>
            <a:ext cx="4500720" cy="5857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1 0.058 -0.05861 C 0.095 -0.05861 0.125 -0.02265 0.125 0.02265 C 0.125 0.0373 0.122 0.05062 0.116 0.06261 C 0.117 0.06261 0 0.24244 0 0.24377 C 0 0.24244 -0.117 0.06261 -0.116 0.06261 C -0.122 0.05062 -0.125 0.0373 -0.125 0.02265 C -0.125 -0.02265 -0.095 -0.05861 -0.057 -0.05861 C -0.033 -0.05861 -0.012 -0.02398 0 0 Z">
                                      <p:cBhvr>
                                        <p:cTn id="43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path" presetID="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7 0 L 0.21 0.22246 L -0.04 0.22246 L 0 0 Z">
                                      <p:cBhvr>
                                        <p:cTn id="440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29 0.037 -0.04263 C 0.075 -0.03863 0.09 -0.00932 0.125 -0.03863 C 0.147 -0.05595 0.173 -0.09991 0.192 -0.09858 C 0.235 -0.09724 0.244 -0.05195 0.244 -0.01066 C 0.245 0.04796 0.189 0.09724 0.121 0.10257 C 0.052 0.10657 -0.005 0.04396 0 0 Z">
                                      <p:cBhvr>
                                        <p:cTn id="443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C:\Users\Пользователь\Desktop\Рисунок1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f5f5"/>
                </a:solidFill>
                <a:latin typeface="Times New Roman"/>
                <a:ea typeface="Times New Roman"/>
              </a:rPr>
              <a:t>Сравнительный анализ самых престижных профессии в России и Брита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Содержимое 4" descr=""/>
          <p:cNvPicPr/>
          <p:nvPr/>
        </p:nvPicPr>
        <p:blipFill>
          <a:blip r:embed="rId2"/>
          <a:stretch/>
        </p:blipFill>
        <p:spPr>
          <a:xfrm>
            <a:off x="0" y="1928880"/>
            <a:ext cx="4714920" cy="4929120"/>
          </a:xfrm>
          <a:prstGeom prst="rect">
            <a:avLst/>
          </a:prstGeom>
          <a:ln w="0">
            <a:noFill/>
          </a:ln>
        </p:spPr>
      </p:pic>
      <p:pic>
        <p:nvPicPr>
          <p:cNvPr id="145" name="Object 4" descr=""/>
          <p:cNvPicPr/>
          <p:nvPr/>
        </p:nvPicPr>
        <p:blipFill>
          <a:blip r:embed="rId3"/>
          <a:stretch/>
        </p:blipFill>
        <p:spPr>
          <a:xfrm>
            <a:off x="4629240" y="1874880"/>
            <a:ext cx="451476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C:\Users\Пользователь\Pictures\pgfczj_cont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691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авнительный анализ рынка труда в Великобритании  и России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reportChart_JobseekersPerCategory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454824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2" descr=""/>
          <p:cNvPicPr/>
          <p:nvPr/>
        </p:nvPicPr>
        <p:blipFill>
          <a:blip r:embed="rId3"/>
          <a:srcRect l="0" t="0" r="0" b="-38"/>
          <a:stretch/>
        </p:blipFill>
        <p:spPr>
          <a:xfrm>
            <a:off x="4572000" y="1643040"/>
            <a:ext cx="457200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8" descr="F:\Kate\картинки\sun_fu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82580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5e0e0"/>
                </a:solidFill>
                <a:latin typeface="Times New Roman"/>
                <a:ea typeface="Times New Roman"/>
              </a:rPr>
              <a:t>Самые перспективные профессии ближайших ле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Выноска со стрелкой вниз 3"/>
          <p:cNvSpPr/>
          <p:nvPr/>
        </p:nvSpPr>
        <p:spPr>
          <a:xfrm>
            <a:off x="2143080" y="1357200"/>
            <a:ext cx="2857680" cy="1000080"/>
          </a:xfrm>
          <a:prstGeom prst="downArrowCallout">
            <a:avLst>
              <a:gd name="adj1" fmla="val 25005"/>
              <a:gd name="adj2" fmla="val 25003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ециалис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14360" y="2356920"/>
            <a:ext cx="2857680" cy="74268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txBody>
          <a:bodyPr anchor="ctr">
            <a:normAutofit fontScale="79000"/>
          </a:bodyPr>
          <a:p>
            <a:pPr marL="270720" indent="-2707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ециалисты топливо -энергетического комплек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Выноска со стрелкой вниз 12"/>
          <p:cNvSpPr/>
          <p:nvPr/>
        </p:nvSpPr>
        <p:spPr>
          <a:xfrm>
            <a:off x="2143080" y="3500280"/>
            <a:ext cx="2928960" cy="1071720"/>
          </a:xfrm>
          <a:prstGeom prst="downArrowCallout">
            <a:avLst>
              <a:gd name="adj1" fmla="val 25004"/>
              <a:gd name="adj2" fmla="val 25001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работчики месторождений нефти и г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Выноска со стрелкой вниз 13"/>
          <p:cNvSpPr/>
          <p:nvPr/>
        </p:nvSpPr>
        <p:spPr>
          <a:xfrm>
            <a:off x="2143080" y="4572000"/>
            <a:ext cx="3000600" cy="1071720"/>
          </a:xfrm>
          <a:prstGeom prst="downArrowCallout">
            <a:avLst>
              <a:gd name="adj1" fmla="val 24993"/>
              <a:gd name="adj2" fmla="val 25004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ециалисты по инвестиция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2" descr="F:\Наталья\QuintCareers Career Assessment Powered by JVIS_COM.files\jobs.gif"/>
          <p:cNvPicPr/>
          <p:nvPr/>
        </p:nvPicPr>
        <p:blipFill>
          <a:blip r:embed="rId2"/>
          <a:stretch/>
        </p:blipFill>
        <p:spPr>
          <a:xfrm>
            <a:off x="5286240" y="3865680"/>
            <a:ext cx="3857760" cy="2992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5 0.031 0.0413 C 0.031 0.06527 0.017 0.08392 0 0.08392 C -0.017 0.08392 -0.031 0.10257 -0.031 0.12522 C -0.031 0.14786 -0.017 0.16651 0 0.16651 C 0.017 0.16651 0.031 0.18516 0.031 0.20781 C 0.031 0.23045 0.017 0.2491 0 0.2491 C -0.017 0.2491 -0.031 0.26775 -0.031 0.29173 C -0.031 0.31438 -0.017 0.33302 0 0.33302 C 0.017 0.33302 0.031 0.31438 0.031 0.29173 C 0.031 0.26775 0.017 0.2491 0 0.2491 C -0.017 0.2491 -0.031 0.23045 -0.031 0.20781 C -0.031 0.18516 -0.017 0.16651 0 0.16651 C 0.017 0.16651 0.031 0.14786 0.031 0.12522 C 0.031 0.10257 0.017 0.08392 0 0.08392 C -0.017 0.08392 -0.031 0.06527 -0.031 0.0413 C -0.031 0.01865 -0.017 0 0 0 Z">
                                      <p:cBhvr>
                                        <p:cTn id="501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0"/>
                            </p:stCondLst>
                            <p:childTnLst>
                              <p:par>
                                <p:cTn id="5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0"/>
                            </p:stCondLst>
                            <p:childTnLst>
                              <p:par>
                                <p:cTn id="5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7000"/>
                            </p:stCondLst>
                            <p:childTnLst>
                              <p:par>
                                <p:cTn id="5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80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F:\Kate\картинки\normal_easter_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329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блема выбора профессии в 2026 году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олная автоматизация «рабочей сил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Большой спрос на специалистов в генной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инжене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олитики, артисты, солдаты, налогов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инспекто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 0.069 0.09191 C 0.069 0.12522 0.056 0.15452 0.037 0.17184 L 0.036 0.17184 C 0.029 0.1785 0.025 0.18916 0.025 0.20115 C 0.025 0.2118 0.029 0.22113 0.034 0.22779 C 0.042 0.23845 0.047 0.25443 0.047 0.27042 C 0.047 0.30505 0.026 0.33302 0 0.33302 C -0.026 0.33302 -0.047 0.30505 -0.047 0.27042 C -0.047 0.25443 -0.042 0.23845 -0.034 0.22779 C -0.029 0.22113 -0.026 0.2118 -0.026 0.20115 C -0.026 0.18916 -0.03 0.1785 -0.036 0.17184 L -0.037 0.17184 C -0.057 0.15452 -0.07 0.12522 -0.07 0.09191 C -0.07 0.0413 -0.039 0 0 0 Z">
                                      <p:cBhvr>
                                        <p:cTn id="536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050"/>
                            </p:stCondLst>
                            <p:childTnLst>
                              <p:par>
                                <p:cTn id="54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6150"/>
                            </p:stCondLst>
                            <p:childTnLst>
                              <p:par>
                                <p:cTn id="55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7050"/>
                            </p:stCondLst>
                            <p:childTnLst>
                              <p:par>
                                <p:cTn id="55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9200"/>
                            </p:stCondLst>
                            <p:childTnLst>
                              <p:par>
                                <p:cTn id="56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6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7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C:\Users\Пользователь\Pictures\ETCA2KIG8SCABWKTF2CAZDCVU8CA14TN8LCAQG7T04CAIOKML7CA0BRA7CCABGGC1UCABDFVXWCABQ895CCAIZ9DQ3CACK2FRCCADBST9ZCAH89WQVCA93YMNCCA3XLCVBCANXPXJUCAY79EYY.jpg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916360" y="907920"/>
            <a:ext cx="4248000" cy="28576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70ff"/>
                </a:solidFill>
                <a:latin typeface="Times New Roman"/>
                <a:ea typeface="Times New Roman"/>
              </a:rPr>
              <a:t>Семь шагов к взвешенному решени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37890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Составить список подходящих професс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Составить перечень требований выбираемой професс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Определить значимость каждого треб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Оценить свое соответствие требованиям каждой из подходящих професс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одсчитать и проанализировать результа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роверить результа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Определить основные практические шаги к успех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8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000"/>
                            </p:stCondLst>
                            <p:childTnLst>
                              <p:par>
                                <p:cTn id="5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000"/>
                            </p:stCondLst>
                            <p:childTnLst>
                              <p:par>
                                <p:cTn id="6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C:\Users\Пользователь\Pictures\suns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1714320"/>
            <a:ext cx="91440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результатам моего исследования можно сказать, что очень важно разумно и осознанно подходить к выбору профессии. Мое  исследование как раз показало, что чем больше возможностей мы рассматриваем при  выборе профессии тем правильнее выбор мы сделаем. Мое исследование продолжается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C:\Users\Пользователь\Pictures\VUCA79B0OJCAF98ZBGCARVYD22CAS01XGPCAGDGZ77CAEXW5UICA6ZH0FECAIKSFN7CAD2PT2JCA6AG8JDCA3VJ9OJCAWU1JQACA8GGLRVCAH11O0WCA8HG10ACAF2039GCA14763TCAW8YMQG.jpg"/>
          <p:cNvPicPr/>
          <p:nvPr/>
        </p:nvPicPr>
        <p:blipFill>
          <a:blip r:embed="rId2"/>
          <a:stretch/>
        </p:blipFill>
        <p:spPr>
          <a:xfrm>
            <a:off x="7358040" y="0"/>
            <a:ext cx="1143000" cy="1601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1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5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500"/>
                            </p:stCondLst>
                            <p:childTnLst>
                              <p:par>
                                <p:cTn id="6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6500"/>
                            </p:stCondLst>
                            <p:childTnLst>
                              <p:par>
                                <p:cTn id="6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7500"/>
                            </p:stCondLst>
                            <p:childTnLst>
                              <p:par>
                                <p:cTn id="6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C:\Users\Пользователь\Pictures\пи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291960"/>
            <a:ext cx="82580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c8c8"/>
                </a:solidFill>
                <a:latin typeface="Times New Roman"/>
                <a:ea typeface="Times New Roman"/>
              </a:rPr>
              <a:t>Эпигра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ем больше мы пополняем копилку наших знаний, тем искреннее становится наша душа. Чем искреннее наша душа, разумнее становимся мы. Становясь разумными, мы развиваем нашу культуру. Когда развивается культура, семья живет в гармонии. Если семья в гармонии, то процветает страна. Процветание страны приводит к миру во всем мире. Значит образование это залог мира. А мир это важная составляющая человеческого счасть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итайская мудр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path" presetID="1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6 0.124 -0.16651 C 0.124 -0.0746 0.179 -0.00133 0.248 -0.00133 C 0.179 -0.00133 0.125 0.0746 0.125 0.16651 C 0.125 0.0746 0.069 0 0 0 Z">
                                      <p:cBhvr>
                                        <p:cTn id="1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Users\Пользователь\Pictures\slide0015_background.gif"/>
          <p:cNvPicPr/>
          <p:nvPr/>
        </p:nvPicPr>
        <p:blipFill>
          <a:blip r:embed="rId1"/>
          <a:stretch/>
        </p:blipFill>
        <p:spPr>
          <a:xfrm>
            <a:off x="-6480" y="0"/>
            <a:ext cx="9150480" cy="7143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714240" y="0"/>
            <a:ext cx="79725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8ff38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4" descr="C:\Users\Пользователь\Pictures\20.jpg"/>
          <p:cNvPicPr/>
          <p:nvPr/>
        </p:nvPicPr>
        <p:blipFill>
          <a:blip r:embed="rId2"/>
          <a:stretch/>
        </p:blipFill>
        <p:spPr>
          <a:xfrm>
            <a:off x="2071800" y="1428840"/>
            <a:ext cx="4857480" cy="50004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0"/>
                            </p:stCondLst>
                            <p:childTnLst>
                              <p:par>
                                <p:cTn id="67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C:\Users\Пользователь\Pictures\Drawn_wallpapers_Sea_painting_005332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i="1" lang="ru-RU" sz="20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1" i="1" lang="ru-RU" sz="20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провести сравнительный анализ выбора профессии среди английских и российских участников</a:t>
            </a:r>
            <a:br>
              <a:rPr sz="2000"/>
            </a:br>
            <a:br>
              <a:rPr sz="2000"/>
            </a:br>
            <a:r>
              <a:rPr b="1" i="1" lang="ru-RU" sz="32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Задачи: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1. Собрать материал по теме «Проблема выбора профессии в 21 веке»</a:t>
            </a:r>
            <a:br>
              <a:rPr sz="2000"/>
            </a:br>
            <a:r>
              <a:rPr b="1" i="1" lang="ru-RU" sz="20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2. Проанализировать собранный материал</a:t>
            </a:r>
            <a:br>
              <a:rPr sz="2000"/>
            </a:br>
            <a:r>
              <a:rPr b="1" i="1" lang="ru-RU" sz="20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3. Провести  тематическое анкетирование</a:t>
            </a:r>
            <a:br>
              <a:rPr sz="2000"/>
            </a:br>
            <a:r>
              <a:rPr b="1" i="1" lang="ru-RU" sz="20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4. Систематизировать и сделать общие выводы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32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Гипотеза:</a:t>
            </a:r>
            <a:br>
              <a:rPr sz="2000"/>
            </a:br>
            <a:r>
              <a:rPr b="1" i="1" lang="ru-RU" sz="20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«Чем больше возможностей мы рассматриваем при выборе профессии, тем правильнее выбор мы сделаем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2920" y="4642920"/>
            <a:ext cx="878688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36708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C:\Users\Public\Pictures\Sample Pictures\D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1867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Введение</a:t>
            </a:r>
            <a:r>
              <a:rPr b="1" lang="en-US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 (</a:t>
            </a: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хочу-могу-над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Основные навыки 21 ве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Основные факторы, влияющие на выбор профессии(8 углов выбора професси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Существующие способы помощи при выборе профессии в России и Великобрита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6 типов личности по Голланд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4 типа професс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Ошибки при выборе професс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Сравнительный анализ факторов влияющих на выбор профессии в Великобритании и Росс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Сравнительный анализ существующих способов помощи при выборе профессии в России и Брита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Сравнительный анализ самых престижных профессий в Великобритании и Росс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Сравнительный анализ рынка труда в Великобритании  и Росс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Самые перспективные профессии ближайших л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Проблема выбора профессии в 2026 год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Семь шагов к взвешенному решен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При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9 0.011 0.08659 0.028 0.11323 C 0.028 0.11456 0.055 0.15053 0.055 0.1492 C 0.07 0.16918 0.079 0.19715 0.079 0.22646 C 0.079 0.28507 0.044 0.33169 0 0.33302 C -0.044 0.33169 -0.079 0.28507 -0.079 0.22646 C -0.079 0.19715 -0.07 0.16918 -0.055 0.1492 C -0.055 0.15053 -0.028 0.11456 -0.028 0.11323 C -0.011 0.08659 -0.001 0.04529 0 0 Z">
                                      <p:cBhvr>
                                        <p:cTn id="3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C:\Users\Пользователь\Pictures\more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7" descr=""/>
          <p:cNvPicPr/>
          <p:nvPr/>
        </p:nvPicPr>
        <p:blipFill>
          <a:blip r:embed="rId2"/>
          <a:stretch/>
        </p:blipFill>
        <p:spPr>
          <a:xfrm>
            <a:off x="-360360" y="1779480"/>
            <a:ext cx="9894960" cy="272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857240" cy="144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b8b8ff"/>
                </a:solidFill>
                <a:uFillTx/>
                <a:latin typeface="Times New Roman"/>
                <a:ea typeface="Times New Roman"/>
              </a:rPr>
              <a:t>Вве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 хотите, чтобы ваша профессия была престижной, пользовалась признанием  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  обществе?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 хотите приобрести любую профессию, лишь бы она хорошо оплачивалась?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ам хочется, чтобы ваша профессия была интересной?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 ищете профессию, которая характеризовалась бы хорошими условиями             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уда?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 выбираете профессию, которую легче всего приобрести?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 собираетесь связать свою судьбу с профессией по совету или примеру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ругих людей?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73"/>
                </a:solidFill>
                <a:latin typeface="Times New Roman"/>
                <a:ea typeface="Times New Roman"/>
              </a:rPr>
              <a:t>Итак, для того чтобы правильно выбрать себе профессию, вам надо сориентироваться в трех вещах: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ределить, каковы ваши </a:t>
            </a:r>
            <a:r>
              <a:rPr b="1" i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фессиональные интересы и склонности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т.е. желания человека, побуждения, потребности в определенных видах деятельности, стремления не только к результату, но и к самому процессу того, что человек делает. От склонностей зависит привлекательность работы, интерес к ней. Склонности условно обозначают выражением </a:t>
            </a:r>
            <a:r>
              <a:rPr b="1" i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"Я хочу"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ценить ваши </a:t>
            </a:r>
            <a:r>
              <a:rPr b="1" i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фессионально важные качества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которые определяют, в конечном счете, вашу профессиональную пригодность. Кроме здоровья и квалификации, к этой группе относятся способности, т.е. такие индивидуальные качества человека, от которых зависит возможность успешного осуществления деятельности (например, темперамент). </a:t>
            </a:r>
            <a:r>
              <a:rPr b="1" i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ности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условно выражают словами </a:t>
            </a:r>
            <a:r>
              <a:rPr b="1" i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"Я могу"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знать, какие профессии пользуются </a:t>
            </a:r>
            <a:r>
              <a:rPr b="1" i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росом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у работодателей </a:t>
            </a:r>
            <a:r>
              <a:rPr b="1" i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рынке труда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по каким профессиям можно найти себе работу. Иначе говоря, определить, каково сегодня </a:t>
            </a:r>
            <a:r>
              <a:rPr b="1" i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"Надо"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1400" spc="-1" strike="noStrike">
                <a:solidFill>
                  <a:srgbClr val="000073"/>
                </a:solidFill>
                <a:latin typeface="Times New Roman"/>
                <a:ea typeface="Times New Roman"/>
              </a:rPr>
              <a:t>В том случае, если вы сумеете совместить "Хочу", "Могу" и "Надо", то ваш профессиональный выбор будет удачны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3857760" y="5929200"/>
            <a:ext cx="863640" cy="428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3" descr="C:\Users\Пользователь\Pictures\3295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58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сновные навыки 21 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Чтение                                                                                            Творческое мыш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исьмо                                                                                           Навыки решения проблем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Математика                                                                                Навыки принятия реш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Умение говорить                                                                         Визуализац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Умение слуша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Социальные                                                                    Чувство собственного достоин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ереговорные                                                                  Самоуправ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Лидерские                                                                        Ответствен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Навыки взаимодейств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Культурное многообраз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Выноска со стрелкой вниз 4"/>
          <p:cNvSpPr/>
          <p:nvPr/>
        </p:nvSpPr>
        <p:spPr>
          <a:xfrm>
            <a:off x="214200" y="785880"/>
            <a:ext cx="2428920" cy="1071360"/>
          </a:xfrm>
          <a:prstGeom prst="downArrowCallout">
            <a:avLst>
              <a:gd name="adj1" fmla="val 25004"/>
              <a:gd name="adj2" fmla="val 25001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навы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Выноска со стрелкой вниз 5"/>
          <p:cNvSpPr/>
          <p:nvPr/>
        </p:nvSpPr>
        <p:spPr>
          <a:xfrm>
            <a:off x="5857920" y="1000080"/>
            <a:ext cx="2857320" cy="1071720"/>
          </a:xfrm>
          <a:prstGeom prst="downArrowCallout">
            <a:avLst>
              <a:gd name="adj1" fmla="val 25009"/>
              <a:gd name="adj2" fmla="val 24995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ллектуальные навы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Выноска со стрелкой вниз 6"/>
          <p:cNvSpPr/>
          <p:nvPr/>
        </p:nvSpPr>
        <p:spPr>
          <a:xfrm>
            <a:off x="214200" y="3786120"/>
            <a:ext cx="2571840" cy="1143000"/>
          </a:xfrm>
          <a:prstGeom prst="downArrowCallout">
            <a:avLst>
              <a:gd name="adj1" fmla="val 25003"/>
              <a:gd name="adj2" fmla="val 25001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личностные навы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Выноска со стрелкой вниз 7"/>
          <p:cNvSpPr/>
          <p:nvPr/>
        </p:nvSpPr>
        <p:spPr>
          <a:xfrm>
            <a:off x="5857920" y="3786120"/>
            <a:ext cx="2786040" cy="928800"/>
          </a:xfrm>
          <a:prstGeom prst="downArrowCallout">
            <a:avLst>
              <a:gd name="adj1" fmla="val 24999"/>
              <a:gd name="adj2" fmla="val 24997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чные навы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12" descr="C:\Users\Пользователь\Pictures\аепа.jpg"/>
          <p:cNvPicPr/>
          <p:nvPr/>
        </p:nvPicPr>
        <p:blipFill>
          <a:blip r:embed="rId2"/>
          <a:stretch/>
        </p:blipFill>
        <p:spPr>
          <a:xfrm>
            <a:off x="3214800" y="5357880"/>
            <a:ext cx="2071440" cy="150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15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650"/>
                            </p:stCondLst>
                            <p:childTnLst>
                              <p:par>
                                <p:cTn id="1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150"/>
                            </p:stCondLst>
                            <p:childTnLst>
                              <p:par>
                                <p:cTn id="16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15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65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15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65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15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65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15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65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15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65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2" descr="C:\Users\Пользователь\Pictures\99e5cf19e8dd9d8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2580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факторы, влияющие на выбор профессии (8 углов выбора профессии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292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озиция старших членов семь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2929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озиция учителей, школьных педагог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2929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озиция товарищей, подруг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4.  Личные профессиональные пл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5.  Способ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6.  Уровень притязаний на общественное призна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7.  Информирован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8.  Склон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C:\Users\Пользователь\Pictures\дотд.jpg"/>
          <p:cNvPicPr/>
          <p:nvPr/>
        </p:nvPicPr>
        <p:blipFill>
          <a:blip r:embed="rId2"/>
          <a:stretch/>
        </p:blipFill>
        <p:spPr>
          <a:xfrm>
            <a:off x="6500880" y="2571840"/>
            <a:ext cx="2500200" cy="2214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4 -0.169 0.15586 C -0.169 0.24644 -0.114 0.32104 -0.044 0.32104 C -0.029 0.32104 -0.014 0.31704 0 0.31038 C -0.047 0.2864 -0.08 0.22646 -0.08 0.15586 C -0.08 0.08392 -0.047 0.02398 0 0 Z">
                                      <p:cBhvr>
                                        <p:cTn id="212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100"/>
                            </p:stCondLst>
                            <p:childTnLst>
                              <p:par>
                                <p:cTn id="2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100"/>
                            </p:stCondLst>
                            <p:childTnLst>
                              <p:par>
                                <p:cTn id="2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100"/>
                            </p:stCondLst>
                            <p:childTnLst>
                              <p:par>
                                <p:cTn id="2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100"/>
                            </p:stCondLst>
                            <p:childTnLst>
                              <p:par>
                                <p:cTn id="2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1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100"/>
                            </p:stCondLst>
                            <p:childTnLst>
                              <p:par>
                                <p:cTn id="2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3100"/>
                            </p:stCondLst>
                            <p:childTnLst>
                              <p:par>
                                <p:cTn id="2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4100"/>
                            </p:stCondLst>
                            <p:childTnLst>
                              <p:par>
                                <p:cTn id="2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F:\Kate\картинки\1058849.jpg"/>
          <p:cNvPicPr/>
          <p:nvPr/>
        </p:nvPicPr>
        <p:blipFill>
          <a:blip r:embed="rId1"/>
          <a:srcRect l="8722" t="7250" r="8722" b="9787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70ff"/>
                </a:solidFill>
                <a:latin typeface="Times New Roman"/>
                <a:ea typeface="Times New Roman"/>
              </a:rPr>
              <a:t>Существующие способы помощи при выборе профессии в России и Великобритани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9" descr="images"/>
          <p:cNvPicPr/>
          <p:nvPr/>
        </p:nvPicPr>
        <p:blipFill>
          <a:blip r:embed="rId2"/>
          <a:stretch/>
        </p:blipFill>
        <p:spPr>
          <a:xfrm>
            <a:off x="714240" y="4143240"/>
            <a:ext cx="1714680" cy="1094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Users\Пользователь\Pictures\ял.jpg"/>
          <p:cNvPicPr/>
          <p:nvPr/>
        </p:nvPicPr>
        <p:blipFill>
          <a:blip r:embed="rId3"/>
          <a:stretch/>
        </p:blipFill>
        <p:spPr>
          <a:xfrm>
            <a:off x="7072200" y="4071960"/>
            <a:ext cx="1857600" cy="1071720"/>
          </a:xfrm>
          <a:prstGeom prst="rect">
            <a:avLst/>
          </a:prstGeom>
          <a:ln w="0">
            <a:noFill/>
          </a:ln>
        </p:spPr>
      </p:pic>
      <p:sp>
        <p:nvSpPr>
          <p:cNvPr id="117" name="Овальная выноска 8"/>
          <p:cNvSpPr/>
          <p:nvPr/>
        </p:nvSpPr>
        <p:spPr>
          <a:xfrm>
            <a:off x="500040" y="1714680"/>
            <a:ext cx="3357720" cy="2071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ориентация в шко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нь Открытых Двер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ультации в ВУЗах и колледж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Овальная выноска 9"/>
          <p:cNvSpPr/>
          <p:nvPr/>
        </p:nvSpPr>
        <p:spPr>
          <a:xfrm>
            <a:off x="5429160" y="1643040"/>
            <a:ext cx="3506760" cy="2273400"/>
          </a:xfrm>
          <a:prstGeom prst="wedgeEllipseCallout">
            <a:avLst>
              <a:gd name="adj1" fmla="val -21018"/>
              <a:gd name="adj2" fmla="val 52759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ориентация в школе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нь Открытых Дверей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ультации в ВУЗах и колледжах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вободный год»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Bar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64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14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640"/>
                            </p:stCondLst>
                            <p:childTnLst>
                              <p:par>
                                <p:cTn id="3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140"/>
                            </p:stCondLst>
                            <p:childTnLst>
                              <p:par>
                                <p:cTn id="3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7" descr="C:\Users\Пользователь\Pictures\L7CAMZSFQPCAFE4F76CAW11SDMCAYD3A17CAEIKGWBCACJ1HMICAH33TBUCAKDDMYACA80EG77CATA1BL4CAUM83RFCA4FHWM0CA92376JCA5P8NBACAQVFGJJCA97ABSGCA7FEBP5CAY1XWW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5e0e0"/>
                </a:solidFill>
                <a:latin typeface="Times New Roman"/>
                <a:ea typeface="Times New Roman"/>
              </a:rPr>
              <a:t>6 типов личности по Голланду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i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Любознательный                  Социальный                            </a:t>
            </a:r>
            <a:r>
              <a:rPr b="1" i="1" lang="ru-RU" sz="17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Конвенциальный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Реалистичный            Артистический                  Инициатив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Равнобедренный треугольник 3"/>
          <p:cNvSpPr/>
          <p:nvPr/>
        </p:nvSpPr>
        <p:spPr>
          <a:xfrm>
            <a:off x="85680" y="3083040"/>
            <a:ext cx="2214720" cy="15001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инженер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Равнобедренный треугольник 4"/>
          <p:cNvSpPr/>
          <p:nvPr/>
        </p:nvSpPr>
        <p:spPr>
          <a:xfrm>
            <a:off x="2643120" y="3071880"/>
            <a:ext cx="2357640" cy="1428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зайне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Равнобедренный треугольник 5"/>
          <p:cNvSpPr/>
          <p:nvPr/>
        </p:nvSpPr>
        <p:spPr>
          <a:xfrm>
            <a:off x="5500800" y="3071880"/>
            <a:ext cx="2286000" cy="1428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двока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Блок-схема: объединение 6"/>
          <p:cNvSpPr/>
          <p:nvPr/>
        </p:nvSpPr>
        <p:spPr>
          <a:xfrm>
            <a:off x="1500120" y="3071880"/>
            <a:ext cx="2000160" cy="1428840"/>
          </a:xfrm>
          <a:prstGeom prst="flowChartMerg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м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Блок-схема: объединение 7"/>
          <p:cNvSpPr/>
          <p:nvPr/>
        </p:nvSpPr>
        <p:spPr>
          <a:xfrm>
            <a:off x="7072200" y="3071880"/>
            <a:ext cx="2071800" cy="1428840"/>
          </a:xfrm>
          <a:prstGeom prst="flowChartMerg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ер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Блок-схема: объединение 8"/>
          <p:cNvSpPr/>
          <p:nvPr/>
        </p:nvSpPr>
        <p:spPr>
          <a:xfrm>
            <a:off x="4071960" y="3071880"/>
            <a:ext cx="2286000" cy="1428840"/>
          </a:xfrm>
          <a:prstGeom prst="flowChartMerg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2 0.075 -0.08259 0.125 -0.08259 C 0.175 -0.08259 0.22 -0.05062 0.25 0 C 0.22 0.05062 0.175 0.08259 0.125 0.08259 C 0.075 0.08259 0.03 0.05062 0 0 Z">
                                      <p:cBhvr>
                                        <p:cTn id="33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6700"/>
                            </p:stCondLst>
                            <p:childTnLst>
                              <p:par>
                                <p:cTn id="3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1:37:55Z</dcterms:created>
  <dc:creator>andrey</dc:creator>
  <dc:description/>
  <dc:language>en-US</dc:language>
  <cp:lastModifiedBy>Пользователь</cp:lastModifiedBy>
  <dcterms:modified xsi:type="dcterms:W3CDTF">2009-02-25T19:17:22Z</dcterms:modified>
  <cp:revision>103</cp:revision>
  <dc:subject/>
  <dc:title>"Реализация системы наставничества на предприятии".</dc:title>
</cp:coreProperties>
</file>