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C4B-BB9D-4017-9F45-604317F0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E2C-2205-483F-B109-29EA1A6C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37B-1B16-4262-ACBC-C9A7C78F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63C-ABBE-4BE0-8434-8B22C782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944-FD49-4DD3-A625-E982C19B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D3E-B126-4379-AB83-77CA2E90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635-B0FB-4407-AF84-B24F959E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925-2E29-427F-B623-04E554FF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835-14FA-41A6-8906-01EB63B8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2BF-0210-43CA-8290-77A1C713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E7A-ED97-46E4-B57A-C66071CA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7BA-EC78-404E-8C70-C4D246FA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42A6-EEBD-4078-A354-E8FF1FDA9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2016000" cy="172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73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16360" y="50133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ыполнила ученица 10 класса Шек Екатер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71640" y="1557360"/>
            <a:ext cx="4824720" cy="27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8440">
                  <a:solidFill>
                    <a:srgbClr val="cc99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тистика.</a:t>
            </a:r>
            <a:endParaRPr b="0" lang="en-US" sz="1800" spc="1" strike="noStrike">
              <a:ln cap="rnd" w="28440">
                <a:solidFill>
                  <a:srgbClr val="cc99ff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8440">
                  <a:solidFill>
                    <a:srgbClr val="cc99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вновесие тел.</a:t>
            </a:r>
            <a:endParaRPr b="0" lang="en-US" sz="1800" spc="1" strike="noStrike">
              <a:ln cap="rnd" w="28440">
                <a:solidFill>
                  <a:srgbClr val="cc99ff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Вывод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Равновесие устойчиво, если при малом отклонении от положения    равновесия есть сила, стремящаяся вернуть его в это 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Устойчиво такое положение, в котором его потенциальная энергия минима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6520" y="0"/>
            <a:ext cx="86709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85080" cy="5113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4940280"/>
            <a:ext cx="9144000" cy="1922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центр тяжести находится выше точки опоры, то в этом случае осуществить равновесие сил практически невозможно. При малейшем отклонении карандаша от вертикального положения, его центр тяжести понижается и карандаш 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747" t="6944" r="0" b="20733"/>
          <a:stretch/>
        </p:blipFill>
        <p:spPr>
          <a:xfrm>
            <a:off x="324000" y="0"/>
            <a:ext cx="8820000" cy="5373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5305320"/>
            <a:ext cx="8785440" cy="1557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лучае если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центр тяжести расположен ниже точки опор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равновесие тела или системы тел –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стойчиво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ри отклонении тела, центр тяжести повышается, и тело возвращается в исходное состо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88680" cy="5216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5157720"/>
            <a:ext cx="8569080" cy="2113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вновесие тела, имеющего точку опоры ниже центра тяжести 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еустойчи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Но равновесие може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восстанавливать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утём смещения точки опоры тела в сторону смещения центра тяж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0" t="3794" r="0" b="18022"/>
          <a:stretch/>
        </p:blipFill>
        <p:spPr>
          <a:xfrm>
            <a:off x="0" y="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516640"/>
            <a:ext cx="914400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ждение на ходулях (две точки опоры или линия опоры) осуществляется путём непрерывного смещения центра тяжести относительно линии, соединяющей точки опоры(А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659800" cy="5661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5305320"/>
            <a:ext cx="8605800" cy="1557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положению центра тяжести можно судить о виде равновесия. Например езда эквилибриста по канату на велосипеде с противовесом является  примером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стойчивого равновесия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Вывод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Для устойчивости тела, находящегося на одной точке или линии опоры  необходимо, чтобы центр тяжести находился ниже точки (линии) оп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-137" t="2756" r="1810" b="20605"/>
          <a:stretch/>
        </p:blipFill>
        <p:spPr>
          <a:xfrm>
            <a:off x="0" y="0"/>
            <a:ext cx="8964720" cy="5256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 площадью опоры понимают площадь соприкосновения тела с опорой или площадь, ограниченную возможными осями, относительно которых может происходить опрокидывание ( поворот) тела под действием внешних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51280" y="1125000"/>
            <a:ext cx="4680000" cy="49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GPresquire"/>
              </a:rPr>
              <a:t>СТАТИКА –</a:t>
            </a:r>
            <a:r>
              <a:rPr b="0" lang="en-US" sz="4400" spc="-1" strike="noStrike">
                <a:solidFill>
                  <a:srgbClr val="000000"/>
                </a:solidFill>
                <a:latin typeface="a_AntiqueGr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Georgia"/>
              </a:rPr>
              <a:t>раздел механики, изучающий условия равновесия с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БАШНЯ"/>
          <p:cNvPicPr/>
          <p:nvPr/>
        </p:nvPicPr>
        <p:blipFill>
          <a:blip r:embed="rId2"/>
          <a:stretch/>
        </p:blipFill>
        <p:spPr>
          <a:xfrm>
            <a:off x="0" y="1052640"/>
            <a:ext cx="3789360" cy="508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-344" t="6969" r="2054" b="19537"/>
          <a:stretch/>
        </p:blipFill>
        <p:spPr>
          <a:xfrm>
            <a:off x="179280" y="61920"/>
            <a:ext cx="8791560" cy="5167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76720" y="3933720"/>
            <a:ext cx="57492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4221000"/>
            <a:ext cx="57636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4869000"/>
            <a:ext cx="8785440" cy="2478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при отклонении тела, имеющего площадь опоры, происходит повышение центра тяжести, то равновесие будет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тойчивым. При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стойчивом равновесии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вертикальная прямая, проходящая через центр тяжести, всегда будет проходить через площадь оп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26320" cy="547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484360" y="3716280"/>
            <a:ext cx="57636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4005360"/>
            <a:ext cx="50328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4653000"/>
            <a:ext cx="57600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4365720"/>
            <a:ext cx="576000" cy="510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125360"/>
            <a:ext cx="431640" cy="440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4aa"/>
                </a:solidFill>
                <a:latin typeface="Arial"/>
              </a:rPr>
              <a:t>F</a:t>
            </a:r>
            <a:r>
              <a:rPr b="0" lang="ru-RU" sz="2000" spc="-1" strike="noStrike" baseline="-25000">
                <a:solidFill>
                  <a:srgbClr val="eff4aa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5670720"/>
            <a:ext cx="896472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а тела, у которых одинаковы вес и площадь опоры, но разная высота, имеют разный предельный угол наклона . Если этот угол превысить, то тела опрокиды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1052640"/>
            <a:ext cx="2303640" cy="579600"/>
          </a:xfrm>
          <a:prstGeom prst="rect">
            <a:avLst/>
          </a:prstGeom>
          <a:solidFill>
            <a:srgbClr val="e30b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= F</a:t>
            </a:r>
            <a:r>
              <a:rPr b="0" lang="ru-RU" sz="2800" spc="-1" strike="noStrike" baseline="-25000">
                <a:solidFill>
                  <a:srgbClr val="ffff66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1268280"/>
            <a:ext cx="144360" cy="2160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11280" y="3357720"/>
            <a:ext cx="57636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3500280"/>
            <a:ext cx="50328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4581360"/>
            <a:ext cx="504720" cy="510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4292640"/>
            <a:ext cx="50472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620640"/>
            <a:ext cx="505080" cy="440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20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49360"/>
            <a:ext cx="2303280" cy="648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= F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765000"/>
            <a:ext cx="144360" cy="216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более низком положении центра тяжести необходимо затратить большую работу для опрокидывания тела. Следовательно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работа по опрокидыван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может служить мерой его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стойчиво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-252360" y="3357720"/>
            <a:ext cx="4968720" cy="3203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-790" t="5903" r="0" b="8886"/>
          <a:stretch/>
        </p:blipFill>
        <p:spPr>
          <a:xfrm>
            <a:off x="4392720" y="3357720"/>
            <a:ext cx="4751280" cy="3168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692360" y="0"/>
            <a:ext cx="5400720" cy="3273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03280" y="5589720"/>
            <a:ext cx="576360" cy="405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18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3716280"/>
            <a:ext cx="503280" cy="405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5280" y="5805360"/>
            <a:ext cx="432000" cy="405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</a:t>
            </a:r>
            <a:r>
              <a:rPr b="0" lang="ru-RU" sz="1800" spc="-1" strike="noStrike" baseline="-25000">
                <a:solidFill>
                  <a:srgbClr val="080808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5805360"/>
            <a:ext cx="431640" cy="405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18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56720" y="5950080"/>
            <a:ext cx="431640" cy="405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F</a:t>
            </a:r>
            <a:r>
              <a:rPr b="0" lang="ru-RU" sz="1800" spc="-1" strike="noStrike" baseline="-25000">
                <a:solidFill>
                  <a:srgbClr val="111111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6078600"/>
            <a:ext cx="3600720" cy="1381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6165720"/>
            <a:ext cx="3887640" cy="1015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rcRect l="-2984" t="0" r="0" b="17137"/>
          <a:stretch/>
        </p:blipFill>
        <p:spPr>
          <a:xfrm>
            <a:off x="-324000" y="3141720"/>
            <a:ext cx="4916520" cy="3095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-1638" t="6984" r="183" b="19296"/>
          <a:stretch/>
        </p:blipFill>
        <p:spPr>
          <a:xfrm>
            <a:off x="2124000" y="0"/>
            <a:ext cx="5400720" cy="3154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rcRect l="0" t="6291" r="-1147" b="12885"/>
          <a:stretch/>
        </p:blipFill>
        <p:spPr>
          <a:xfrm>
            <a:off x="4572000" y="3141720"/>
            <a:ext cx="4932360" cy="3168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360" y="6021360"/>
            <a:ext cx="8281800" cy="1381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м ниже центр тяжести корабля, тем больше его устойч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4643280" cy="3031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606920" y="0"/>
            <a:ext cx="4537080" cy="300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050920" y="3068640"/>
            <a:ext cx="5042160" cy="3306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9280" y="6035760"/>
            <a:ext cx="8640720" cy="825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бы увеличить устойчивость машин на поворотах, полотно дороги наклоняют в сторону повор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Вывод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31640" y="1268280"/>
            <a:ext cx="736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1. Устойчиво то тело, у которого площадь опоры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2. Из двух тел одинаковой площади устойчиво то, у которого центр тяжести расположен ниже, т.к. его можно отклонить  без опрокидывания на большой уг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7775280" cy="4487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Почему Пизанская башня стоит под наклоном и не пада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rcRect l="43712" t="29222" r="17321" b="8760"/>
          <a:stretch/>
        </p:blipFill>
        <p:spPr>
          <a:xfrm>
            <a:off x="2484360" y="1557360"/>
            <a:ext cx="3898800" cy="4680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чему «Ванька-встанька» возвращается в положение равновесия при любом наклоне игр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Каким образом сохраняют равновесие велосипедисты и мотоциклис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0" t="4636" r="-17" b="2759"/>
          <a:stretch/>
        </p:blipFill>
        <p:spPr>
          <a:xfrm>
            <a:off x="1403280" y="1844640"/>
            <a:ext cx="676908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3243240" cy="3057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5940360" y="1268280"/>
            <a:ext cx="2752920" cy="4429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2562480" cy="359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AGPresquire"/>
              </a:rPr>
              <a:t>РАВНОВЕСИЕ ТЕ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0" y="537372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GPresquire"/>
              </a:rPr>
              <a:t>«Дайте мне точку опоры, и я подниму Землю.»</a:t>
            </a: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odoni MT Black"/>
              </a:rPr>
              <a:t>Архим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6920" y="1125000"/>
            <a:ext cx="7067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уществует три вида равновесия: устойчивое, неустойчивое, безразлич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Устойчиво положение тела, в котором его потенциальная энергия минима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Устойчивость тел на плоской поверхности тем больше, чем больше площадь опоры и ниже центр тяж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Условия равновес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907560"/>
            <a:ext cx="7129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условие равновес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ело находится в равновесии, если геометрическая сумма внешних сил, приложенных к телу, равна нулю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∑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F=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условие равновес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умма моментов сил, действующих по часовой стрелке, должна равняться сумме моментов сил, действующих против часовой стр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    ∑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M</a:t>
            </a:r>
            <a:r>
              <a:rPr b="0" lang="ru-RU" sz="24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по час.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=∑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M</a:t>
            </a:r>
            <a:r>
              <a:rPr b="0" lang="ru-RU" sz="24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против 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М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F l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, где М – момент силы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F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 - сила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l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 – плечо силы – кратчайшее расстояние от точки опоры до линии действия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1640" y="2349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Центр тяжести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нтр тяжести тела- это точка, через которую проходит равнодействующая всех параллельных сил тяжести, действующих на отдельные элементы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3716280"/>
            <a:ext cx="244800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3500280"/>
            <a:ext cx="935280" cy="9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72360" y="3645000"/>
            <a:ext cx="1295280" cy="503280"/>
          </a:xfrm>
          <a:prstGeom prst="parallelogram">
            <a:avLst>
              <a:gd name="adj" fmla="val 6434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465300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4724280"/>
            <a:ext cx="647640" cy="10810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4653000"/>
            <a:ext cx="720720" cy="100800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4653000"/>
            <a:ext cx="914400" cy="914400"/>
          </a:xfrm>
          <a:prstGeom prst="donut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7101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йти центр тяжести данных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716280"/>
            <a:ext cx="2448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116000" y="3716280"/>
            <a:ext cx="2448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3500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364500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372360" y="3645000"/>
            <a:ext cx="1295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4724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042920" y="515772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4869000"/>
            <a:ext cx="649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59280" y="4868640"/>
            <a:ext cx="64908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465300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92720" y="465300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51577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4072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20556 L 0.00799 -0.12778 E">
                                      <p:cBhvr>
                                        <p:cTn id="8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8920" y="692280"/>
            <a:ext cx="68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ИДЫ</a:t>
            </a:r>
            <a:r>
              <a:rPr b="0" lang="en-US" sz="4400" spc="-1" strike="noStrike">
                <a:solidFill>
                  <a:srgbClr val="ffff00"/>
                </a:solidFill>
                <a:latin typeface="AGPresquire"/>
              </a:rPr>
              <a:t> РАВНОВЕ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8526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Устойчив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4653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еустойчив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78200" y="278136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ff"/>
                </a:solidFill>
                <a:latin typeface="Times New Roman"/>
              </a:rPr>
              <a:t>Безразлич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1628640"/>
            <a:ext cx="144360" cy="1224000"/>
          </a:xfrm>
          <a:prstGeom prst="downArrow">
            <a:avLst>
              <a:gd name="adj1" fmla="val 50000"/>
              <a:gd name="adj2" fmla="val 211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88000" y="1700280"/>
            <a:ext cx="144720" cy="1224000"/>
          </a:xfrm>
          <a:prstGeom prst="downArrow">
            <a:avLst>
              <a:gd name="adj1" fmla="val 50000"/>
              <a:gd name="adj2" fmla="val 2114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1628640"/>
            <a:ext cx="142920" cy="2952720"/>
          </a:xfrm>
          <a:prstGeom prst="downArrow">
            <a:avLst>
              <a:gd name="adj1" fmla="val 50000"/>
              <a:gd name="adj2" fmla="val 5164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0720" cy="5284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5670720"/>
            <a:ext cx="867564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на тело, имеющее опору, действуют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уравновешивающие сил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то тело находится в положении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4188" r="0" b="0"/>
          <a:stretch/>
        </p:blipFill>
        <p:spPr>
          <a:xfrm>
            <a:off x="179280" y="0"/>
            <a:ext cx="8582040" cy="657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708280"/>
            <a:ext cx="9144000" cy="1709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отклонении тела от положения равновесия нарушается и равновесие сил. Если тело под действием равнодействующей силы возвращается в исходное положение, то это -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устойчивое равновес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609300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05360"/>
            <a:ext cx="9144000" cy="1594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же тело под действием равнодействующей силы, ещё сильнее отклоняется от положения равновесия, то это -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еустойчивое равновесие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8424720" cy="561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5608800"/>
            <a:ext cx="8893080" cy="1252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ен случай, когда при любом положении тела, равновесие сил сохраняется. Это состояние называется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безразличным равновесие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22:11:54Z</dcterms:created>
  <dc:creator>User</dc:creator>
  <dc:description/>
  <dc:language>en-US</dc:language>
  <cp:lastModifiedBy>1</cp:lastModifiedBy>
  <dcterms:modified xsi:type="dcterms:W3CDTF">2012-12-19T14:10:18Z</dcterms:modified>
  <cp:revision>7</cp:revision>
  <dc:subject/>
  <dc:title>Слайд 1</dc:title>
</cp:coreProperties>
</file>