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gif" ContentType="image/gi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8C0A-C1E5-4896-817F-C6BFAFA5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277B-231E-44A0-8B2A-33257EF2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06697-AE5F-437B-9DB6-F2C33CD3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ED000-A9E7-423F-AA97-BDA64717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1F1F1-D96D-4D58-89AB-0E877973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1272C-2E2C-4789-AD0E-A84A37E3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5FA18-0727-4055-AF20-3CEA059B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BDD80-B4B0-4EE5-B49F-74E726F5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B645D-FD88-48CC-9073-605C3814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62805-639C-471D-99E0-BEF9BC34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6B146-43E2-4243-8900-A31C6976F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2D02-6787-4B1F-8273-19FFFEC63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AB92-F260-497B-A6D9-49B83FED6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801D-98FA-46A1-BDC6-443DB1CC3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2ABB-CA47-4C33-B692-9AA4B962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7967-A204-47B8-84BB-ADC58BDB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CD88-275D-4747-ACA9-657AB6A3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FAD3-3438-452F-B403-1BD31257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CC2F-D5BE-4FD6-9D8D-9F0252B4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D5FB-28B3-4046-A92F-AA0185C3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6D75-6974-4A7B-B1E3-A775DDDE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8DF9-113B-47E9-A62F-DADFF20F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790A-2A77-48B8-BC85-97007EC4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98FD-96F1-404D-AF34-3F1C1ED5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8741-EE6A-4D95-B77C-FB97340A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3219-3F30-4B3D-995A-CC72D2B6C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8FC9A-3AF5-49BB-8800-A37FCC823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84564-0223-49BD-B826-A3B22509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3BDB5-CA53-4A44-A249-D724E7AF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176DF-B7D0-49D8-AC11-AAA6F097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95720-9F86-49D0-B408-125B7B49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43A4-0262-4D6C-AF75-2B0A1732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62D34-6116-4568-A8B9-11DF4021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6CC78-D5F2-4C91-8362-FD0E38AB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F8467-6A54-4677-A362-B876ACA5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DB579-B5A1-474A-86AE-3B6C4730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5CE09-13F4-41AB-A4C0-DA20BE9B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2C83B-A27B-4E7E-9B38-FF12F22D6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77F33-7D8B-46CE-A576-0D2CC3F76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50996-8A53-42F4-89E7-E32A5875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31051-F181-4B27-B514-C0CF6953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BE165-D19F-4254-B91A-2C272743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B347-2DD3-455F-9B60-33B19351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495F2-D3CC-4494-998F-CB562DC4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2CE7F-A2DA-4783-AE17-98B56674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A9F95-8A4B-4944-B063-272411FB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AEF8B-E96A-47E8-AC00-E9D8ED0C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36AB0-27B6-4B5B-92D9-9EF75746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EB92A-1967-4CD0-9001-93BADC49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4EC88-0E6E-44C5-8853-5D8CED7D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B4DB1-5B64-4B03-BE7E-71EDC9736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4CA18-BACC-4056-9686-A89286F1D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F1F19-2208-4854-A818-A46D1E2F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13BB-94AE-48FA-8FF7-2199E9CF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1703E-F25A-4C92-A352-0A47D980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7E148-EB1D-4FFF-B2BD-9C845B75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B7864-46D3-41D3-83ED-D508CDAC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D995D-BD90-473C-8CC0-5C77F235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A014F-4142-4D8A-A992-176F3F81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BAD0D-F4AE-470F-91D7-D558B4EA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0669C-487C-4D95-A4E2-7F3A2889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B5CA2-19A7-4A1B-A440-E7C0329B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DBC94-C417-46A8-B864-35F62D82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EABF2-3C01-480A-B04B-FC88D85DE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4C0D-4C44-4EB8-A6F5-1A65D898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79D28-EFB0-48B7-8907-D5DC5A241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3A5B7-8A71-4B0C-9703-DC9255C2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2672C-AB85-4F93-9A86-403EEC12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158FB-ED08-43B5-9989-0657979B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C14FC-5E07-4169-9E63-516FAD1B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2FF25-C5EF-4DC0-A0A7-83432E06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15B11-AE98-4470-88B3-6A751E57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D6A08-8780-442B-886B-547D7356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B255F-A413-4999-A1A9-2E7DBD1B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70EFC-E8F4-430D-8E21-8B039EFC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9A20-E15D-4708-B0B9-6C8B5AB0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50CBA-F5EF-466D-8F8F-BC17B1A6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B3E4B-1C82-4180-9A12-965AACB3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EA24A-91FA-4F42-83E9-514766566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34422-28AA-4AD5-B516-DF7EF472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4807D-05BC-4780-B74B-1AC52A05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9BC25-9E58-47E1-8D2A-7C1DE6FB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C3D64-F730-4DD8-AD4D-0FE06786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AF892-C8DE-4A9C-AE62-BA4F2EC3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3BC37-CDA8-4527-AC0C-E6DDB2FB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5DEBE-3172-47FB-A259-4483A28A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8036-8F15-4665-AC7A-6C91E3A8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944B9-43A1-4756-BD5B-DA946E50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B5E06-0721-4AAE-B383-5D7E83D7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47515-4E15-48B9-8E6A-24E73AA0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D9768-A581-4490-9B11-98B5C9D14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EE0F9-DE97-42B5-AE82-95846EF67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FFA19-98C5-401D-BE36-9666F4241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26B32-8BAD-4BEA-83BA-B4CDA564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40845-C5C3-49F5-8729-EA95D853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21902-509C-447F-8ED8-AE27C6BC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F8DA2-6FFD-49CA-98D0-84F8F44E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654D-A742-4D9D-AB85-C8AB9696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374C4-4CF8-4E5A-BCD8-E5393583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68E29-EAF9-43DE-919A-9F20EB1F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D2221-DE13-4F3C-81AD-FF22B1A8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1CDFE-B2F5-453F-895B-8CD38D16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E8F22-A84C-4A40-AEC8-87FEA553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390D6-B1CE-4D96-A62B-3525511AE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76C78-E933-4C64-9609-7B51D68C1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4FB5E8-5263-43B0-ABA1-5E844BAF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54699-735E-4659-9B36-7871BBB8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D898A-DF5F-4394-A82F-C980AF29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44B3-6E92-4ACB-A16B-84445EC28B1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CD26-1B95-4886-A05B-361D417F7F8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AE02-6059-4285-B86A-A6AA6BDDE86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087E-E25D-46D5-A73C-6822B5F7C54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D935-5E91-4BAB-8932-B4868727EF1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9243-97F3-4CEF-A21E-A4AFA80B9F9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6D5F-7115-44FF-8F56-B31CCF41341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272B-4A8E-42FA-8984-F4D06B8DBD3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3F4B-CE7E-4896-9256-735010E95AA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AG00317_"/>
          <p:cNvPicPr/>
          <p:nvPr/>
        </p:nvPicPr>
        <p:blipFill>
          <a:blip r:embed="rId2"/>
          <a:stretch/>
        </p:blipFill>
        <p:spPr>
          <a:xfrm>
            <a:off x="3276720" y="1000080"/>
            <a:ext cx="26352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195120" y="450720"/>
            <a:ext cx="8906040" cy="1116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28760" y="1500120"/>
            <a:ext cx="810576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Важно! Нужно обязательно соблюсти требования к объему письма - 100-140 слов. Не пишите лишних подробностей. Помните, что обязательные повторяемые элементы письма - адрес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обращение (Dear Alice)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благодарность за полученное письмо (Thanks for your letter. 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It was great to hear from you),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заключительные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фразы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 (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типа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 Write soon.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Best wishes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и ваше имя в конце письма уже составляют около 20 слов. Заучите эти фразы и зрительно запомните схему расположения частей письма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195120" y="450720"/>
            <a:ext cx="8906040" cy="11160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56760" y="1599840"/>
            <a:ext cx="8286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Прочитайте отрывок из письма от вашего предполагаемого друга по переписке и задание к нему. Задание вам поможет сориентироваться, что от вас требуется написать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Подчеркните содержащиеся в отрывке вопросы, на которые вы должны ответить в первой половине вашего письма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Определите для себя тему вопросов, которые вы должны задать во второй части вашего письма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Напишите черновик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195120" y="450720"/>
            <a:ext cx="8906040" cy="11160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акончив ваше письмо, обязательно проверьте его на наличие орфографических или грамматических ошибок. Если вы не уверены, правильно ли написано какое-либо слово, замените его на другое, в написании которого вы уверены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ead the extract from your pen friend’s letter. Her name is Alic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rite a letter to Alic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 your lette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ell her about your summer holidays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sk 3 questions about the new hous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rite 100 – 140 word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emember the rules of letter writing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( отрывок из письма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…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I hope you enjoyed your autumn holidays. Do you like music? What is your favorite sort of music? Where and when do you listen to music?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By the way, we are moving house and I am sending you my new address.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56760" y="1285920"/>
            <a:ext cx="81774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7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В правом верхнем углу адрес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          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Apatity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                                      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Murmansk reg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          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Russi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В три отдельные строчк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2. От адреса отступаем 1 строчку вниз и записываем число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Например: 8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November 2010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Месяц всегда с большой буквы.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56760" y="1599840"/>
            <a:ext cx="8358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3. Обращение пишется с красной строки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Только так: 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Dear Sir/Madam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,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Dear Tom,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Franklin Gothic Book"/>
              </a:rPr>
              <a:t>ПОСЛЕ ОБРАЩЕНИЯ ВСЕГДА СТАВИТЬСЯ ЗАПЯТАЯ!!!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28760" y="1599840"/>
            <a:ext cx="8105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. Основная часть 3 абзаца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1 абзац –поблагодарить друга за письмо </a:t>
            </a:r>
            <a:r>
              <a:rPr b="1" i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2-3 </a:t>
            </a:r>
            <a:r>
              <a:rPr b="1" i="1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предложения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1913"/>
                </a:solidFill>
                <a:latin typeface="Franklin Gothic Book"/>
              </a:rPr>
              <a:t>1. </a:t>
            </a:r>
            <a:r>
              <a:rPr b="1" lang="en-US" sz="3600" spc="-1" strike="noStrike">
                <a:solidFill>
                  <a:srgbClr val="291913"/>
                </a:solidFill>
                <a:latin typeface="Franklin Gothic Book"/>
              </a:rPr>
              <a:t>- Thanks a lot for your last letter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1913"/>
                </a:solidFill>
                <a:latin typeface="Franklin Gothic Book"/>
              </a:rPr>
              <a:t> </a:t>
            </a:r>
            <a:r>
              <a:rPr b="1" lang="en-US" sz="3600" spc="-1" strike="noStrike">
                <a:solidFill>
                  <a:srgbClr val="291913"/>
                </a:solidFill>
                <a:latin typeface="Franklin Gothic Book"/>
              </a:rPr>
              <a:t>- I was glad to get your letter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1913"/>
                </a:solidFill>
                <a:latin typeface="Franklin Gothic Book"/>
              </a:rPr>
              <a:t>2. – </a:t>
            </a:r>
            <a:r>
              <a:rPr b="1" lang="en-US" sz="3600" spc="-1" strike="noStrike">
                <a:solidFill>
                  <a:srgbClr val="291913"/>
                </a:solidFill>
                <a:latin typeface="Franklin Gothic Book"/>
              </a:rPr>
              <a:t>It was great to hear from you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1913"/>
                </a:solidFill>
                <a:latin typeface="Franklin Gothic Book"/>
              </a:rPr>
              <a:t>- It was great to hear about………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56760" y="1599840"/>
            <a:ext cx="8358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4e3b30"/>
                </a:solidFill>
                <a:uFillTx/>
                <a:latin typeface="Franklin Gothic Book"/>
              </a:rPr>
              <a:t>2-3 абзацы </a:t>
            </a:r>
            <a:r>
              <a:rPr b="1" lang="ru-RU" sz="3000" spc="-1" strike="noStrike" u="sng">
                <a:solidFill>
                  <a:srgbClr val="4e3b30"/>
                </a:solidFill>
                <a:uFillTx/>
                <a:latin typeface="Franklin Gothic Book"/>
              </a:rPr>
              <a:t>Основная Часть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Раскрываются все аспекты задания. Необходимо задать 3 вопроса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4e3b30"/>
                </a:solidFill>
                <a:uFillTx/>
                <a:latin typeface="Franklin Gothic Book"/>
              </a:rPr>
              <a:t>5. Последний абзац. 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Объяснить почему вы заканчиваете письмо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- I’ve got to go now! It’s time for my favorite TV show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- I’ve got to go now! Take care and keep in touch/1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-201600" y="225360"/>
            <a:ext cx="8418600" cy="11890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500040" y="1356840"/>
            <a:ext cx="80344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6. В конце письма НА ОТДЕЛЬНОЙ СТРОКЕ завершающая фраз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Love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est wishes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Yours,   </a:t>
            </a:r>
            <a:r>
              <a:rPr b="1" lang="ru-RU" sz="3600" spc="-1" strike="noStrike" u="sng">
                <a:solidFill>
                  <a:srgbClr val="291913"/>
                </a:solidFill>
                <a:uFillTx/>
                <a:latin typeface="Franklin Gothic Book"/>
              </a:rPr>
              <a:t>После нее всегда ставиться запятая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Franklin Gothic Book"/>
              </a:rPr>
              <a:t>На следующей строке под завершающей фразой ставиться имя автора точка не ставитьс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-23760" y="212760"/>
            <a:ext cx="8223120" cy="11397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142920" y="1268280"/>
            <a:ext cx="8786880" cy="50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Dear  Alice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Thanks for your letter. It was great to hear from you. In your letter you asked me about music. I like music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Well, My favourite style of music is pop music, because it is full of energy. When I listen to pop music it makes me remember happy times and forget the problems of everyday life. It helps me to relax when I'm tired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The music I hate is heavy metal. I find it noisy and dreadful. When I listen to this style of music it presents to my mind pictures of dark days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Are you happy with your new house? Is it bigger than your old house? Have you got a room of your own? Please tell me more about it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Write soon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Love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Tanya </a:t>
            </a: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                      </a:t>
            </a: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09:01:37Z</dcterms:created>
  <dc:creator>Admin</dc:creator>
  <dc:description/>
  <dc:language>en-US</dc:language>
  <cp:lastModifiedBy>Admin</cp:lastModifiedBy>
  <dcterms:modified xsi:type="dcterms:W3CDTF">2010-11-06T09:51:59Z</dcterms:modified>
  <cp:revision>8</cp:revision>
  <dc:subject/>
  <dc:title>Письма</dc:title>
</cp:coreProperties>
</file>