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gif" ContentType="image/gif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1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162C-B9C6-48E8-8523-29BE9DD22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80AF-0CF4-42B3-A32B-BDF224A49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59F166-0113-4F31-8CD6-64D2A7935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35716A-77FB-464E-826B-BE203C847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F7B9E7-0D1E-46D9-962F-C43B312D2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BE4491-B4BA-4943-B3A5-B5AF6168C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32D5DD-53D9-48C4-A58F-0E68DAECD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6271D3-F2A6-41FE-91AE-AAA8EFA53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C57BE8-E1B1-476D-8BE6-578AB7F93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2BF4F0-8744-4664-8A50-90A95CCE7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3C490C-AE20-414B-9F55-3D377A810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A803-F7B8-40F2-AEB9-955F77566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2BD1-E2F3-4E40-91AD-0BAA24B26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A6821-BE14-49F2-AC04-6B01F2645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89703-8CDA-4DAB-9D3B-FF0CBCB3A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11C93-A0EF-4B7E-9E94-497368860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5D634-101D-4471-B995-3059E5A5A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7A666-A02B-4D26-A135-9D9F73106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5DA0E-1E31-418C-9B76-699588F34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8AE98-2F22-4277-8BCC-8585A6DAA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751C-300C-4F90-B8DE-0530D6754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F670F-693E-44C2-A24A-CA6DA16E3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882C2-0FB2-4A00-AD74-D897A4EE6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40CDF-B1F8-4DD9-8180-E77E4D7D7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60C30-6A7E-406A-835D-5D3C59E34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E2B5A-5E94-455C-9B87-BDCB0CC34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B2CE43-653B-4EE1-8499-E788B7A7B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F0BBA0-3142-42DE-A160-DFDD7A2BE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85695B-F50B-44F6-8E5B-5B0AA297B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BC7415-DD79-4293-87D1-707CA201B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978EB0-D0F9-47D6-83B2-B5A6A1205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53F1-E78D-4FF7-B84A-73B73E748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B32D44-2876-46B2-9444-314490E59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E6DFB7-0F30-40E3-8BBD-D0A0D9AC1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18DC83-1C93-46CD-95DE-6F1861C1F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0DB6DF-A650-48A1-A29A-934BDF99B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47DFD6-C11A-4910-A2C5-F6FCD9823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41CB8D-FB8E-46B6-8D08-A301290DF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F3B627-6AB6-40CE-8723-3835C0934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8541D8-4B1A-4CA8-98F6-2021BFCEF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AA001D-EE30-4E68-AA41-8712CCFDF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6CEB87-0F11-43C8-B00B-E43DBD9AB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7B74-AC66-455F-9CDD-59752A7A9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DBED42-08B5-4ABE-91F9-512FDD8DF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5E8335-FF89-45C5-9C98-1370CCBB0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E0A9D6-E86A-477E-B0E7-101F4DB4F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BA5DB2-FFF3-4607-A3DF-EA48BF426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95986C-D58C-45AC-BBBB-48819C3BE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EDE015-C09F-4FC8-A8A7-0A48AAD4F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C94D45-8677-4BA3-8891-D1125352A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F6C8D0-8D56-4049-BDF1-FED37FF04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56F6DC-4844-425B-ADB7-2A05BC319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AE2FFD-6C7D-4D00-83D2-9911F24C1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0F3A-51D9-48C1-AE53-D23DE6A07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B593A4-D8BB-4B9D-9867-3A484D1FF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CFA7E9-798D-40D6-B139-4BFAC645E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FE10DC-0836-4B46-B3CD-588CAEB90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51682B-FB16-4C86-ADA8-738CB0AAF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C46039-41CC-4CF0-AF17-A2C083550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11B97E-C7D3-4F5A-876C-6541F6556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EFF2EA-5878-475F-B7CC-0853B713B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4B8198-648C-47ED-9368-DFFC10A36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AE879D-DF8C-4F82-8103-8100D1221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4CEE55-2A27-41A8-951D-76127A739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F446-E1DB-450D-A9A4-26F5BD225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3371AD-C0D2-47D7-88BC-DEA1CC606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9919B3-3BE2-42C6-B269-F165C19ED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364667-6739-41A4-91AD-BA1C7230F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D09302-2A3B-4867-8AD5-8DE0A75AC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096CB4-1D79-4CA4-A117-2049A2CB0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5B3E0C-B1B5-446F-8DAE-CE783FAF9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8D2BF8-6F06-4586-BF7F-F231DAEC1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5CEB40-286D-4C34-9958-DD2A19B63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8DC1F2-B3C8-47B7-8C70-2805C8433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D108EE-1188-4224-9A3B-372492330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BA3B-4F98-4545-B995-0452BC857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A0D5E6-940C-4F28-8A86-3B111957C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DBC2AA-6857-4459-BD66-F01EE22E5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8D9365-0F43-486F-A86C-2A75B0A24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9B8A19-9751-4791-9D02-01A23C5E2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94E538-E8D7-4100-A60B-C4D044AAD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5772C1-701B-4976-8E6B-A6469CE0F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446031-0540-4610-8D02-97AB30D2D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93F0BD-AEEF-4E1A-BCDD-4111E1C4F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ED023E-6B71-4D25-996E-437FB7470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2CC569-2ABB-40C6-82AE-821C45CA0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572A-EBC6-49E3-87EB-5A92C61A4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98C912-101C-4883-81AB-C85FAAD1F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5FFF58-0B4E-45F3-8A86-87127BBEC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555F42-5854-4926-B1BD-40E769E93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602F8A-ED46-4D14-8621-D9C187A5E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EACC4E-7C25-4F92-B117-C6A131D6B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3FF131-ED0F-4A15-8C47-0FFD6CABC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07D7AF-FE54-47A6-A465-3D5F392ED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62A987-A1AC-42FC-88A8-EEB53928F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FD9745-87DD-4AC8-8983-FD0651D32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043014-CC02-427E-9C62-3B809B980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4891-5CDA-428A-AE85-0532CF2AD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EB3DAF-1C82-49D4-BFBF-1ACF13F86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73CBCB-57D4-46A7-B70B-948D0C1B7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A2C712-8D1B-478F-9B76-99EE16DD9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ED636D-B82A-42D6-8A2B-63FCF5365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55AAB7-DFE7-4970-B273-D04E70856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F7D465-4C0D-4958-95D3-336B94166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B03EE9-2D17-4F4D-B7CF-0F3774EB8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12F2EB-1B40-479B-AA62-682C155D0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148268-D170-44CE-8310-99ED4ACBF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1574D3-7B44-4F7A-9987-1BB5940A9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EAB81-6B5A-4925-87CF-543610A313C4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2BCFE-27BA-4188-93DA-7D87293DC12E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6EC72-EE58-44F3-BF45-4B036FBE6999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985AC-C7E4-4433-A1EB-C1E4FFF22BEE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9A217-E68A-42BF-83B3-BAC0067E962C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BF705-736D-4A67-A1AC-E7A56624AC2B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3C666-E421-4AF3-B66C-6D1D47727DBC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509E4-14CE-4AE6-AB01-D3CAE479AA6C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ED4E1-1CE6-4EBD-AC49-4302F8F45E7F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Rectangle 2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8" descr="AG00317_"/>
          <p:cNvPicPr/>
          <p:nvPr/>
        </p:nvPicPr>
        <p:blipFill>
          <a:blip r:embed="rId2"/>
          <a:stretch/>
        </p:blipFill>
        <p:spPr>
          <a:xfrm>
            <a:off x="3276720" y="1000080"/>
            <a:ext cx="263520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Rectangle 2" descr=""/>
          <p:cNvPicPr/>
          <p:nvPr/>
        </p:nvPicPr>
        <p:blipFill>
          <a:blip r:embed="rId1"/>
          <a:stretch/>
        </p:blipFill>
        <p:spPr>
          <a:xfrm>
            <a:off x="195120" y="450720"/>
            <a:ext cx="8906040" cy="111600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428760" y="1500120"/>
            <a:ext cx="8105760" cy="478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3b30"/>
                </a:solidFill>
                <a:latin typeface="Franklin Gothic Book"/>
              </a:rPr>
              <a:t>Важно! Нужно обязательно соблюсти требования к объему письма - 100-140 слов. Не пишите лишних подробностей. Помните, что обязательные повторяемые элементы письма - адрес,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1" lang="ru-RU" sz="2400" spc="-1" strike="noStrike">
                <a:solidFill>
                  <a:srgbClr val="4e3b30"/>
                </a:solidFill>
                <a:latin typeface="Franklin Gothic Book"/>
              </a:rPr>
              <a:t>обращение (Dear Alice),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1" lang="ru-RU" sz="2400" spc="-1" strike="noStrike">
                <a:solidFill>
                  <a:srgbClr val="4e3b30"/>
                </a:solidFill>
                <a:latin typeface="Franklin Gothic Book"/>
              </a:rPr>
              <a:t>благодарность за полученное письмо (Thanks for your letter. </a:t>
            </a:r>
            <a:r>
              <a:rPr b="1" lang="en-US" sz="2400" spc="-1" strike="noStrike">
                <a:solidFill>
                  <a:srgbClr val="4e3b30"/>
                </a:solidFill>
                <a:latin typeface="Franklin Gothic Book"/>
              </a:rPr>
              <a:t>It was great to hear from you),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3b30"/>
                </a:solidFill>
                <a:latin typeface="Franklin Gothic Book"/>
              </a:rPr>
              <a:t>заключительные</a:t>
            </a:r>
            <a:r>
              <a:rPr b="1" lang="en-US" sz="24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1" lang="ru-RU" sz="2400" spc="-1" strike="noStrike">
                <a:solidFill>
                  <a:srgbClr val="4e3b30"/>
                </a:solidFill>
                <a:latin typeface="Franklin Gothic Book"/>
              </a:rPr>
              <a:t>фразы</a:t>
            </a:r>
            <a:r>
              <a:rPr b="1" lang="en-US" sz="2400" spc="-1" strike="noStrike">
                <a:solidFill>
                  <a:srgbClr val="4e3b30"/>
                </a:solidFill>
                <a:latin typeface="Franklin Gothic Book"/>
              </a:rPr>
              <a:t> (</a:t>
            </a:r>
            <a:r>
              <a:rPr b="1" lang="ru-RU" sz="2400" spc="-1" strike="noStrike">
                <a:solidFill>
                  <a:srgbClr val="4e3b30"/>
                </a:solidFill>
                <a:latin typeface="Franklin Gothic Book"/>
              </a:rPr>
              <a:t>типа</a:t>
            </a:r>
            <a:r>
              <a:rPr b="1" lang="en-US" sz="2400" spc="-1" strike="noStrike">
                <a:solidFill>
                  <a:srgbClr val="4e3b30"/>
                </a:solidFill>
                <a:latin typeface="Franklin Gothic Book"/>
              </a:rPr>
              <a:t> Write soon. </a:t>
            </a:r>
            <a:r>
              <a:rPr b="1" lang="ru-RU" sz="2400" spc="-1" strike="noStrike">
                <a:solidFill>
                  <a:srgbClr val="4e3b30"/>
                </a:solidFill>
                <a:latin typeface="Franklin Gothic Book"/>
              </a:rPr>
              <a:t>Best wishes)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1" lang="ru-RU" sz="2400" spc="-1" strike="noStrike">
                <a:solidFill>
                  <a:srgbClr val="4e3b30"/>
                </a:solidFill>
                <a:latin typeface="Franklin Gothic Book"/>
              </a:rPr>
              <a:t>и ваше имя в конце письма уже составляют около 20 слов. Заучите эти фразы и зрительно запомните схему расположения частей письма.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Rectangle 2" descr=""/>
          <p:cNvPicPr/>
          <p:nvPr/>
        </p:nvPicPr>
        <p:blipFill>
          <a:blip r:embed="rId1"/>
          <a:stretch/>
        </p:blipFill>
        <p:spPr>
          <a:xfrm>
            <a:off x="195120" y="450720"/>
            <a:ext cx="8906040" cy="111600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356760" y="1599840"/>
            <a:ext cx="82868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Прочитайте отрывок из письма от вашего предполагаемого друга по переписке и задание к нему. Задание вам поможет сориентироваться, что от вас требуется написать.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Подчеркните содержащиеся в отрывке вопросы, на которые вы должны ответить в первой половине вашего письма.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Определите для себя тему вопросов, которые вы должны задать во второй части вашего письма.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Напишите черновик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Rectangle 2" descr=""/>
          <p:cNvPicPr/>
          <p:nvPr/>
        </p:nvPicPr>
        <p:blipFill>
          <a:blip r:embed="rId1"/>
          <a:stretch/>
        </p:blipFill>
        <p:spPr>
          <a:xfrm>
            <a:off x="195120" y="450720"/>
            <a:ext cx="8906040" cy="111600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Закончив ваше письмо, обязательно проверьте его на наличие орфографических или грамматических ошибок. Если вы не уверены, правильно ли написано какое-либо слово, замените его на другое, в написании которого вы уверены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Rectangle 2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Read the extract from your pen friend’s letter. Her name is Alice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Write a letter to Alice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In your letter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ell her about your summer holidays,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ask 3 questions about the new house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Write 100 – 140 words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Remember the rules of letter writing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Rectangle 2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4e3b30"/>
                </a:solidFill>
                <a:latin typeface="Franklin Gothic Book"/>
              </a:rPr>
              <a:t>( отрывок из письма)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4e3b30"/>
                </a:solidFill>
                <a:latin typeface="Franklin Gothic Book"/>
              </a:rPr>
              <a:t>… </a:t>
            </a:r>
            <a:r>
              <a:rPr b="0" i="1" lang="en-US" sz="3200" spc="-1" strike="noStrike">
                <a:solidFill>
                  <a:srgbClr val="4e3b30"/>
                </a:solidFill>
                <a:latin typeface="Franklin Gothic Book"/>
              </a:rPr>
              <a:t>I hope you enjoyed your autumn holidays. Do you like music? What is your favorite sort of music? Where and when do you listen to music?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4e3b30"/>
                </a:solidFill>
                <a:latin typeface="Franklin Gothic Book"/>
              </a:rPr>
              <a:t>   </a:t>
            </a:r>
            <a:r>
              <a:rPr b="0" i="1" lang="en-US" sz="3200" spc="-1" strike="noStrike">
                <a:solidFill>
                  <a:srgbClr val="4e3b30"/>
                </a:solidFill>
                <a:latin typeface="Franklin Gothic Book"/>
              </a:rPr>
              <a:t>By the way, we are moving house and I am sending you my new address.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Rectangle 2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356760" y="1285920"/>
            <a:ext cx="81774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lnSpc>
                <a:spcPct val="7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В правом верхнем углу адрес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                                                          </a:t>
            </a: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Apatity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                                        </a:t>
            </a: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Murmansk region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                                                          </a:t>
            </a: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Russia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В три отдельные строчки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2. От адреса отступаем 1 строчку вниз и записываем число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Например: 8 </a:t>
            </a: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November 2010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Месяц всегда с большой буквы.</a:t>
            </a: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356760" y="1599840"/>
            <a:ext cx="8358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e3b30"/>
                </a:solidFill>
                <a:latin typeface="Franklin Gothic Book"/>
              </a:rPr>
              <a:t>3. Обращение пишется с красной строки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e3b30"/>
                </a:solidFill>
                <a:latin typeface="Franklin Gothic Book"/>
              </a:rPr>
              <a:t>Только так: </a:t>
            </a:r>
            <a:r>
              <a:rPr b="1" lang="en-US" sz="3600" spc="-1" strike="noStrike">
                <a:solidFill>
                  <a:srgbClr val="4e3b30"/>
                </a:solidFill>
                <a:latin typeface="Franklin Gothic Book"/>
              </a:rPr>
              <a:t>Dear Sir/Madam</a:t>
            </a: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,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e3b30"/>
                </a:solidFill>
                <a:latin typeface="Franklin Gothic Book"/>
              </a:rPr>
              <a:t>Dear Tom,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Franklin Gothic Book"/>
              </a:rPr>
              <a:t>ПОСЛЕ ОБРАЩЕНИЯ ВСЕГДА СТАВИТЬСЯ ЗАПЯТАЯ!!!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 txBox="1"/>
          <p:nvPr/>
        </p:nvSpPr>
        <p:spPr>
          <a:xfrm>
            <a:off x="428760" y="1599840"/>
            <a:ext cx="81057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4. Основная часть 3 абзаца!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4e3b30"/>
                </a:solidFill>
                <a:uFillTx/>
                <a:latin typeface="Franklin Gothic Book"/>
              </a:rPr>
              <a:t>1 абзац –поблагодарить друга за письмо </a:t>
            </a:r>
            <a:r>
              <a:rPr b="1" i="1" lang="en-US" sz="3200" spc="-1" strike="noStrike" u="sng">
                <a:solidFill>
                  <a:srgbClr val="4e3b30"/>
                </a:solidFill>
                <a:uFillTx/>
                <a:latin typeface="Franklin Gothic Book"/>
              </a:rPr>
              <a:t>2-3 </a:t>
            </a:r>
            <a:r>
              <a:rPr b="1" i="1" lang="ru-RU" sz="3200" spc="-1" strike="noStrike" u="sng">
                <a:solidFill>
                  <a:srgbClr val="4e3b30"/>
                </a:solidFill>
                <a:uFillTx/>
                <a:latin typeface="Franklin Gothic Book"/>
              </a:rPr>
              <a:t>предложения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91913"/>
                </a:solidFill>
                <a:latin typeface="Franklin Gothic Book"/>
              </a:rPr>
              <a:t>1. </a:t>
            </a:r>
            <a:r>
              <a:rPr b="1" lang="en-US" sz="3600" spc="-1" strike="noStrike">
                <a:solidFill>
                  <a:srgbClr val="291913"/>
                </a:solidFill>
                <a:latin typeface="Franklin Gothic Book"/>
              </a:rPr>
              <a:t>- Thanks a lot for your last letter.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91913"/>
                </a:solidFill>
                <a:latin typeface="Franklin Gothic Book"/>
              </a:rPr>
              <a:t> </a:t>
            </a:r>
            <a:r>
              <a:rPr b="1" lang="en-US" sz="3600" spc="-1" strike="noStrike">
                <a:solidFill>
                  <a:srgbClr val="291913"/>
                </a:solidFill>
                <a:latin typeface="Franklin Gothic Book"/>
              </a:rPr>
              <a:t>- I was glad to get your letter.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91913"/>
                </a:solidFill>
                <a:latin typeface="Franklin Gothic Book"/>
              </a:rPr>
              <a:t>2. – </a:t>
            </a:r>
            <a:r>
              <a:rPr b="1" lang="en-US" sz="3600" spc="-1" strike="noStrike">
                <a:solidFill>
                  <a:srgbClr val="291913"/>
                </a:solidFill>
                <a:latin typeface="Franklin Gothic Book"/>
              </a:rPr>
              <a:t>It was great to hear from you.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91913"/>
                </a:solidFill>
                <a:latin typeface="Franklin Gothic Book"/>
              </a:rPr>
              <a:t>- It was great to hear about……….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 txBox="1"/>
          <p:nvPr/>
        </p:nvSpPr>
        <p:spPr>
          <a:xfrm>
            <a:off x="356760" y="1599840"/>
            <a:ext cx="8358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 u="sng">
                <a:solidFill>
                  <a:srgbClr val="4e3b30"/>
                </a:solidFill>
                <a:uFillTx/>
                <a:latin typeface="Franklin Gothic Book"/>
              </a:rPr>
              <a:t>2-3 абзацы </a:t>
            </a:r>
            <a:r>
              <a:rPr b="1" lang="ru-RU" sz="3000" spc="-1" strike="noStrike" u="sng">
                <a:solidFill>
                  <a:srgbClr val="4e3b30"/>
                </a:solidFill>
                <a:uFillTx/>
                <a:latin typeface="Franklin Gothic Book"/>
              </a:rPr>
              <a:t>Основная Часть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Раскрываются все аспекты задания. Необходимо задать 3 вопроса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 u="sng">
                <a:solidFill>
                  <a:srgbClr val="4e3b30"/>
                </a:solidFill>
                <a:uFillTx/>
                <a:latin typeface="Franklin Gothic Book"/>
              </a:rPr>
              <a:t>5. Последний абзац. </a:t>
            </a: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Объяснить почему вы заканчиваете письмо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- I’ve got to go now! It’s time for my favorite TV show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- I’ve got to go now! Take care and keep in touch/1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Заголовок 1" descr=""/>
          <p:cNvPicPr/>
          <p:nvPr/>
        </p:nvPicPr>
        <p:blipFill>
          <a:blip r:embed="rId1"/>
          <a:stretch/>
        </p:blipFill>
        <p:spPr>
          <a:xfrm>
            <a:off x="-201600" y="225360"/>
            <a:ext cx="8418600" cy="118908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 txBox="1"/>
          <p:nvPr/>
        </p:nvSpPr>
        <p:spPr>
          <a:xfrm>
            <a:off x="500040" y="1356840"/>
            <a:ext cx="80344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6. В конце письма НА ОТДЕЛЬНОЙ СТРОКЕ завершающая фраза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Love,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Best wishes,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0a22e"/>
              </a:buClr>
              <a:buSzPct val="70000"/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Yours,   </a:t>
            </a:r>
            <a:r>
              <a:rPr b="1" lang="ru-RU" sz="3600" spc="-1" strike="noStrike" u="sng">
                <a:solidFill>
                  <a:srgbClr val="291913"/>
                </a:solidFill>
                <a:uFillTx/>
                <a:latin typeface="Franklin Gothic Book"/>
              </a:rPr>
              <a:t>После нее всегда ставиться запятая.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Franklin Gothic Book"/>
              </a:rPr>
              <a:t>На следующей строке под завершающей фразой ставиться имя автора точка не ставиться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Rectangle 2" descr=""/>
          <p:cNvPicPr/>
          <p:nvPr/>
        </p:nvPicPr>
        <p:blipFill>
          <a:blip r:embed="rId1"/>
          <a:stretch/>
        </p:blipFill>
        <p:spPr>
          <a:xfrm>
            <a:off x="-23760" y="212760"/>
            <a:ext cx="8223120" cy="113976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142920" y="1268280"/>
            <a:ext cx="8786880" cy="50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e3b30"/>
                </a:solidFill>
                <a:latin typeface="Franklin Gothic Book"/>
              </a:rPr>
              <a:t>Dear  Alice,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e3b30"/>
                </a:solidFill>
                <a:latin typeface="Franklin Gothic Book"/>
              </a:rPr>
              <a:t>Thanks for your letter. It was great to hear from you. In your letter you asked me about music. I like music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e3b30"/>
                </a:solidFill>
                <a:latin typeface="Franklin Gothic Book"/>
              </a:rPr>
              <a:t>Well, My favourite style of music is pop music, because it is full of energy. When I listen to pop music it makes me remember happy times and forget the problems of everyday life. It helps me to relax when I'm tired</a:t>
            </a: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e3b30"/>
                </a:solidFill>
                <a:latin typeface="Franklin Gothic Book"/>
              </a:rPr>
              <a:t>     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e3b30"/>
                </a:solidFill>
                <a:latin typeface="Franklin Gothic Book"/>
              </a:rPr>
              <a:t>The music I hate is heavy metal. I find it noisy and dreadful. When I listen to this style of music it presents to my mind pictures of dark days.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e3b30"/>
                </a:solidFill>
                <a:latin typeface="Franklin Gothic Book"/>
              </a:rPr>
              <a:t>Are you happy with your new house? Is it bigger than your old house? Have you got a room of your own? Please tell me more about it.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Write soon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Love,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Tanya </a:t>
            </a:r>
            <a:r>
              <a:rPr b="1" lang="ru-RU" sz="18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1" lang="ru-RU" sz="1800" spc="-1" strike="noStrike">
                <a:solidFill>
                  <a:srgbClr val="4e3b30"/>
                </a:solidFill>
                <a:latin typeface="Franklin Gothic Book"/>
              </a:rPr>
              <a:t>                      </a:t>
            </a:r>
            <a:r>
              <a:rPr b="1" lang="ru-RU" sz="18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1" lang="ru-RU" sz="1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8T09:01:37Z</dcterms:created>
  <dc:creator>Admin</dc:creator>
  <dc:description/>
  <dc:language>en-US</dc:language>
  <cp:lastModifiedBy>Admin</cp:lastModifiedBy>
  <dcterms:modified xsi:type="dcterms:W3CDTF">2010-11-06T09:51:59Z</dcterms:modified>
  <cp:revision>8</cp:revision>
  <dc:subject/>
  <dc:title>Письма</dc:title>
</cp:coreProperties>
</file>