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4DB-B739-428D-B7CA-3C87672B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DC9-AA16-43C7-9282-264CF5AD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02E-7623-476A-A6B6-10E12DF8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207-8C3E-449A-8734-C02B7C9B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380-66EA-4C66-9AB5-29414BBC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22E-1947-48A0-8185-37BE1FC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B84-D3BD-4B8E-99FD-CB674B7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106-6B8D-46FB-9F0A-C5AEF2D6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F22-3351-49D2-9334-A9C51F08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741-8E16-4466-83A8-ED7CCA5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B0A-3DA9-4AAE-95D1-0D99109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185-BC8C-4A4E-8AFC-936035B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3C0C-A4C8-476F-A103-4D5951CC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19280" y="1197000"/>
            <a:ext cx="6404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ЛИКИ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МАТЕМАТИ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19640" y="4149720"/>
            <a:ext cx="230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учител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ОУ №35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Чебокса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колаевой Н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ьёрдь Пойа (1887 - 198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4200" y="1773360"/>
            <a:ext cx="3844800" cy="4032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31975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Если вы хотите научиться плавать, то смело входите в воду, а если хотите научиться решать задачи, то решайте их"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1330200"/>
            <a:ext cx="446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Чтобы переварить знания, надо поглощать их с аппетитом"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Блез Паскаль ( 1623 -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3040" y="1628640"/>
            <a:ext cx="36021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4000" y="2116440"/>
            <a:ext cx="42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Величие человека - в его способности мыслить"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Математическая истина, независимо от того, в Париже или в Тулузе, одна и та ж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ексей Иванович Маркушевич (1908-1979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2960" y="1413000"/>
            <a:ext cx="3357720" cy="4537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40360" y="1667880"/>
            <a:ext cx="43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0436600">
            <a:off x="862200" y="6901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арл Фридрих Гаусс (1777-1855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2384280" cy="345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2421000"/>
            <a:ext cx="33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Математика - царица наук, арифметика - царица математики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0254200">
            <a:off x="475200" y="974520"/>
            <a:ext cx="81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фья Васильевна Ковалевская (1850-18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87280" y="3141720"/>
            <a:ext cx="230220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3246480"/>
            <a:ext cx="466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Нельзя быть математиком, не будучи в то же время и поэтом в душ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117800">
            <a:off x="2042640" y="181908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колай Иванович Лобачевский (1792-1856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57336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Математика - это язык, на котором говорят все точные наук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2868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Хуго Штейнхаус (1887 - 1972) польский математик и педаг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Легкость математики основана на возможности чисто логического ее построения, трудность, отпугивающая многих, - на невозможности иного изложени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83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1776240"/>
            <a:ext cx="2630520" cy="381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963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15c49"/>
                </a:solidFill>
                <a:latin typeface="Arial Black"/>
                <a:ea typeface="Times New Roman"/>
              </a:rPr>
              <a:t> </a:t>
            </a:r>
            <a:r>
              <a:rPr b="1" i="1" lang="en-US" sz="2800" spc="-1" strike="noStrike" u="sng">
                <a:solidFill>
                  <a:srgbClr val="1b5997"/>
                </a:solidFill>
                <a:uFillTx/>
                <a:latin typeface="Arial Black"/>
                <a:ea typeface="Times New Roman"/>
              </a:rPr>
              <a:t>Михаил Васильевич Ломоносов (1711-17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1675440"/>
            <a:ext cx="4575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Математику уже затем учить надо, что она ум в порядок приводи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Химия - правая рука физики, математика - ее гла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Слеп физик без математик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ьберт Эйнштейн (1879 - 1955)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284720" cy="388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249840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Образование - это то, что остается, когда забываешь все, что изучал в школе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Как бы машина хорошо ни работала, она может решать все требуемые от нее задачи, но она никогда не придумает ни одно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1:30:31Z</dcterms:created>
  <dc:creator>Admin</dc:creator>
  <dc:description/>
  <dc:language>en-US</dc:language>
  <cp:lastModifiedBy>Admin</cp:lastModifiedBy>
  <dcterms:modified xsi:type="dcterms:W3CDTF">2004-07-30T00:58:36Z</dcterms:modified>
  <cp:revision>3</cp:revision>
  <dc:subject/>
  <dc:title>Слайд 1</dc:title>
</cp:coreProperties>
</file>