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40A-0E7C-414A-AF8E-B00DBD09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421-8EBC-4B44-A30B-78A839D6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60F-C149-4126-BD99-6468E096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AA2-23BD-43F1-BDD8-B8AA5840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580-71E7-4BEB-AFB0-F42A569E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03C-8419-412F-940D-960B8F74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A86-317F-4DF9-984C-461EB6C6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EBE-10EE-4CE0-9E3E-429BAB6A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603-15AA-44FE-B85A-52626CF0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96D-AAED-49AB-A76C-A3FFF6C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FDD-4AD0-4331-BC43-455CBAD7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188-1338-4A16-AB69-1ADC092D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9C06-CA46-4FCC-A2A2-9E5537CF4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19280" y="1197000"/>
            <a:ext cx="64040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ЕЛИКИЕ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МАТЕМАТИ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19640" y="4149720"/>
            <a:ext cx="230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учител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БОУ №35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Чебоксар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колаевой Н.Ю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ьёрдь Пойа (1887 - 1985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4200" y="1773360"/>
            <a:ext cx="3844800" cy="4032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27640" y="3197520"/>
            <a:ext cx="47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Если вы хотите научиться плавать, то смело входите в воду, а если хотите научиться решать задачи, то решайте их"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1330200"/>
            <a:ext cx="446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Чтобы переварить знания, надо поглощать их с аппетитом"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Блез Паскаль ( 1623 - 16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3040" y="1628640"/>
            <a:ext cx="360216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64000" y="2116440"/>
            <a:ext cx="42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Величие человека - в его способности мыслить"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Математическая истина, независимо от того, в Париже или в Тулузе, одна и та ж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ексей Иванович Маркушевич (1908-1979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72960" y="1413000"/>
            <a:ext cx="3357720" cy="4537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140360" y="1667880"/>
            <a:ext cx="439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с детских лет занимается математикой, тот развивает внимание, тренирует свой мозг, свою волю, воспитывает настойчивость и упорство в достижении цели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0436600">
            <a:off x="862200" y="69012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арл Фридрих Гаусс (1777-1855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79640" y="2205000"/>
            <a:ext cx="2384280" cy="345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2421000"/>
            <a:ext cx="3319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Математика - царица наук, арифметика - царица математики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20254200">
            <a:off x="475200" y="974520"/>
            <a:ext cx="81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фья Васильевна Ковалевская (1850-18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87280" y="3141720"/>
            <a:ext cx="230220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67280" y="3246480"/>
            <a:ext cx="466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Нельзя быть математиком, не будучи в то же время и поэтом в душ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1117800">
            <a:off x="2042640" y="181908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иколай Иванович Лобачевский (1792-1856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573360"/>
            <a:ext cx="37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Математика - это язык, на котором говорят все точные наук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2868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Хуго Штейнхаус (1887 - 1972) польский математик и педаг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Легкость математики основана на возможности чисто логического ее построения, трудность, отпугивающая многих, - на невозможности иного изложения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832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1776240"/>
            <a:ext cx="2630520" cy="3813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963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15c49"/>
                </a:solidFill>
                <a:latin typeface="Arial Black"/>
                <a:ea typeface="Times New Roman"/>
              </a:rPr>
              <a:t> </a:t>
            </a:r>
            <a:r>
              <a:rPr b="1" i="1" lang="en-US" sz="2800" spc="-1" strike="noStrike" u="sng">
                <a:solidFill>
                  <a:srgbClr val="1b5997"/>
                </a:solidFill>
                <a:uFillTx/>
                <a:latin typeface="Arial Black"/>
                <a:ea typeface="Times New Roman"/>
              </a:rPr>
              <a:t>Михаил Васильевич Ломоносов (1711-17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1675440"/>
            <a:ext cx="4575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Математику уже затем учить надо, что она ум в порядок приводи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Химия - правая рука физики, математика - ее гла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Слеп физик без математики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льберт Эйнштейн (1879 - 1955)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284720" cy="388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0720" y="2498400"/>
            <a:ext cx="464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Образование - это то, что остается, когда забываешь все, что изучал в школе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Как бы машина хорошо ни работала, она может решать все требуемые от нее задачи, но она никогда не придумает ни одно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1:30:31Z</dcterms:created>
  <dc:creator>Admin</dc:creator>
  <dc:description/>
  <dc:language>en-US</dc:language>
  <cp:lastModifiedBy>Admin</cp:lastModifiedBy>
  <dcterms:modified xsi:type="dcterms:W3CDTF">2004-07-30T00:58:36Z</dcterms:modified>
  <cp:revision>3</cp:revision>
  <dc:subject/>
  <dc:title>Слайд 1</dc:title>
</cp:coreProperties>
</file>