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2B5-660C-49F1-8279-7D1E5759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32C-0732-423C-87BF-7A904418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0B3-8A54-4F92-9206-AF01EF98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58D-9848-462E-84F2-CE8FD2D0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C17-147D-42FB-98B0-E4660E7C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083-F908-4960-B7B4-57949F1E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D18-7ED1-40BB-AE6B-AF379652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67E-7243-4F6C-9FA2-FDC187E6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EAD-B668-4DDB-A6A7-E0BBD5C7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A44-3738-4E27-9606-21BB0CD7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AB3-20F8-4587-A23C-F0A69700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63F-0552-43C2-B3CC-FA4DCF8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6803-D861-47A1-B389-E3E44F5E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Австрийская империя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XVIII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–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 Худобе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C74-0A36-4CED-A615-542A8DA815C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7528E-89D1-4528-B484-C64C847A1F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6120" y="437040"/>
            <a:ext cx="69699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Габсбург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стия, правившая в Австрии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1282-1918гг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ераторы Священной Римской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мперии (1438-1806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8040" y="1689120"/>
            <a:ext cx="342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XVI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бсбур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ют зем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ии, Чехии, Венг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входят в со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щенной Римской импе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7720" y="3776760"/>
            <a:ext cx="440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XVII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трийские земли станов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изованным государств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возникл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гроза захвата зем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цией и Тур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77280" y="5589720"/>
            <a:ext cx="47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XVIII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лкое и среднее дворянство поддерж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бсолютную монарх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D13-E000-4A8E-A3A1-5B206BBCBC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истема управления империей Габсбурго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1440" y="1900800"/>
            <a:ext cx="1581120" cy="398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м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440" y="3217320"/>
            <a:ext cx="31690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енный Сов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щательны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императ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51560" y="3216960"/>
            <a:ext cx="11379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нц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0080" y="5088960"/>
            <a:ext cx="1495800" cy="9169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дв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три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целя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70120" y="5088960"/>
            <a:ext cx="1694160" cy="9169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стр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91760" y="3217320"/>
            <a:ext cx="152784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дво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8" idx="2"/>
            <a:endCxn id="49" idx="0"/>
          </p:cNvCxnSpPr>
          <p:nvPr/>
        </p:nvCxnSpPr>
        <p:spPr>
          <a:xfrm flipH="1">
            <a:off x="2063160" y="2355480"/>
            <a:ext cx="25088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8" idx="2"/>
            <a:endCxn id="50" idx="0"/>
          </p:cNvCxnSpPr>
          <p:nvPr/>
        </p:nvCxnSpPr>
        <p:spPr>
          <a:xfrm>
            <a:off x="4572000" y="2355480"/>
            <a:ext cx="65016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2"/>
            <a:endCxn id="53" idx="0"/>
          </p:cNvCxnSpPr>
          <p:nvPr/>
        </p:nvCxnSpPr>
        <p:spPr>
          <a:xfrm>
            <a:off x="4572000" y="2355480"/>
            <a:ext cx="298512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1" idx="0"/>
          </p:cNvCxnSpPr>
          <p:nvPr/>
        </p:nvCxnSpPr>
        <p:spPr>
          <a:xfrm flipH="1">
            <a:off x="3817080" y="3589200"/>
            <a:ext cx="1404360" cy="14961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2" idx="0"/>
          </p:cNvCxnSpPr>
          <p:nvPr/>
        </p:nvCxnSpPr>
        <p:spPr>
          <a:xfrm>
            <a:off x="5221080" y="3589200"/>
            <a:ext cx="997560" cy="14961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BFC-23D5-4EBB-8C76-FC4712D9C3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нтрреформация в Авст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56080" y="1668960"/>
            <a:ext cx="38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эрцгерцог Рудольф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VII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эрцгерцог Фердинанд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6120" y="2655000"/>
            <a:ext cx="517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ы иезуит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едпринимают гонения на протестан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93680" y="3642120"/>
            <a:ext cx="695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рили поддан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ущество протест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тестант –государственный преступ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либо выселяли из Австрии, либо отдавали в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3440" y="5239440"/>
            <a:ext cx="3597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репляя абсолютиз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бсбурги нужд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ддержке катол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рк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1AA-5C0C-4B64-995B-0CEF76610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циональные проблемы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 империи Габсбур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01680" y="1413000"/>
            <a:ext cx="49388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став Австрийской империи входили различные на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637000"/>
            <a:ext cx="2469960" cy="89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оды находились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 зависимом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2200" y="2538360"/>
            <a:ext cx="2378160" cy="11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е учитывались национальные особенности и интере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4078440"/>
            <a:ext cx="37353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XVII-XVIIIв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стоянные волнения населения различных районов имп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0200" y="5445000"/>
            <a:ext cx="64818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XVIII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и прекращаются, так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тся единство феодалов по всей импе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епляются экономические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отдельными реги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2"/>
            <a:endCxn id="66" idx="0"/>
          </p:cNvCxnSpPr>
          <p:nvPr/>
        </p:nvCxnSpPr>
        <p:spPr>
          <a:xfrm flipH="1">
            <a:off x="2927160" y="2060280"/>
            <a:ext cx="16452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5" idx="2"/>
            <a:endCxn id="67" idx="0"/>
          </p:cNvCxnSpPr>
          <p:nvPr/>
        </p:nvCxnSpPr>
        <p:spPr>
          <a:xfrm>
            <a:off x="4572000" y="2060280"/>
            <a:ext cx="162000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2"/>
            <a:endCxn id="68" idx="0"/>
          </p:cNvCxnSpPr>
          <p:nvPr/>
        </p:nvCxnSpPr>
        <p:spPr>
          <a:xfrm flipH="1">
            <a:off x="4571640" y="3716280"/>
            <a:ext cx="162000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2"/>
            <a:endCxn id="68" idx="0"/>
          </p:cNvCxnSpPr>
          <p:nvPr/>
        </p:nvCxnSpPr>
        <p:spPr>
          <a:xfrm>
            <a:off x="2927520" y="3526920"/>
            <a:ext cx="164520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8" idx="2"/>
            <a:endCxn id="69" idx="0"/>
          </p:cNvCxnSpPr>
          <p:nvPr/>
        </p:nvCxnSpPr>
        <p:spPr>
          <a:xfrm>
            <a:off x="4571640" y="50130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E1D-86EB-4F66-B0E2-5ACDD2E42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304920"/>
            <a:ext cx="6934320" cy="5943600"/>
          </a:xfrm>
          <a:prstGeom prst="ellipse">
            <a:avLst/>
          </a:prstGeom>
          <a:solidFill>
            <a:srgbClr val="ffffcc">
              <a:alpha val="50000"/>
            </a:srgbClr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a50021"/>
                </a:solidFill>
                <a:latin typeface="Monotype Corsiva"/>
              </a:rPr>
              <a:t>Австри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0240" y="1125360"/>
            <a:ext cx="37515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Arial Black"/>
              </a:rPr>
              <a:t>голланд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10520" y="243000"/>
            <a:ext cx="173052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 Black"/>
              </a:rPr>
              <a:t>чех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74560" y="609480"/>
            <a:ext cx="28353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 Black"/>
              </a:rPr>
              <a:t>слова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9880" y="1600200"/>
            <a:ext cx="25275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 Black"/>
              </a:rPr>
              <a:t>поля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99800" y="3468600"/>
            <a:ext cx="252324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cc"/>
                </a:solidFill>
                <a:latin typeface="Arial Black"/>
              </a:rPr>
              <a:t>венг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4640" y="4267080"/>
            <a:ext cx="344052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украин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7200" y="5342040"/>
            <a:ext cx="286920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румы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57960" y="5989680"/>
            <a:ext cx="290412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 Black"/>
              </a:rPr>
              <a:t>хорва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9000" y="5195880"/>
            <a:ext cx="213768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Arial Black"/>
              </a:rPr>
              <a:t>сер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560" y="4005360"/>
            <a:ext cx="379548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Arial Black"/>
              </a:rPr>
              <a:t>итальян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200" y="2541600"/>
            <a:ext cx="239652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00"/>
                </a:solidFill>
                <a:latin typeface="Arial Black"/>
              </a:rPr>
              <a:t>нем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1C8-F787-4DFF-ABDA-5F3DF07DC6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2023920"/>
            <a:ext cx="8686800" cy="2808360"/>
          </a:xfrm>
          <a:prstGeom prst="ellipse">
            <a:avLst/>
          </a:prstGeom>
          <a:solidFill>
            <a:srgbClr val="ffffcc">
              <a:alpha val="50000"/>
            </a:srgbClr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a50021"/>
                </a:solidFill>
                <a:latin typeface="Monotype Corsiva"/>
              </a:rPr>
              <a:t>Австрия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uzzle3"/>
          <p:cNvSpPr/>
          <p:nvPr/>
        </p:nvSpPr>
        <p:spPr>
          <a:xfrm>
            <a:off x="2841480" y="339840"/>
            <a:ext cx="1906560" cy="2801880"/>
          </a:xfrm>
          <a:prstGeom prst="pie">
            <a:avLst/>
          </a:prstGeom>
          <a:solidFill>
            <a:srgbClr val="8000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uzzle2"/>
          <p:cNvSpPr/>
          <p:nvPr/>
        </p:nvSpPr>
        <p:spPr>
          <a:xfrm>
            <a:off x="2265480" y="2411280"/>
            <a:ext cx="3044880" cy="2552760"/>
          </a:xfrm>
          <a:prstGeom prst="pie">
            <a:avLst/>
          </a:prstGeom>
          <a:solidFill>
            <a:srgbClr val="ffcc99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uzzle4"/>
          <p:cNvSpPr/>
          <p:nvPr/>
        </p:nvSpPr>
        <p:spPr>
          <a:xfrm>
            <a:off x="1114560" y="2373480"/>
            <a:ext cx="1834920" cy="3263760"/>
          </a:xfrm>
          <a:prstGeom prst="pie">
            <a:avLst/>
          </a:prstGeom>
          <a:solidFill>
            <a:srgbClr val="ffccff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uzzle1"/>
          <p:cNvSpPr/>
          <p:nvPr/>
        </p:nvSpPr>
        <p:spPr>
          <a:xfrm>
            <a:off x="500040" y="1197000"/>
            <a:ext cx="3081240" cy="1944720"/>
          </a:xfrm>
          <a:prstGeom prst="pie">
            <a:avLst/>
          </a:prstGeom>
          <a:solidFill>
            <a:srgbClr val="33cccc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zzle3"/>
          <p:cNvSpPr/>
          <p:nvPr/>
        </p:nvSpPr>
        <p:spPr>
          <a:xfrm>
            <a:off x="6294600" y="339840"/>
            <a:ext cx="1906560" cy="2801880"/>
          </a:xfrm>
          <a:prstGeom prst="pie">
            <a:avLst/>
          </a:prstGeom>
          <a:solidFill>
            <a:srgbClr val="ffff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zzle2"/>
          <p:cNvSpPr/>
          <p:nvPr/>
        </p:nvSpPr>
        <p:spPr>
          <a:xfrm>
            <a:off x="5718240" y="2405160"/>
            <a:ext cx="3044880" cy="2552760"/>
          </a:xfrm>
          <a:prstGeom prst="pie">
            <a:avLst/>
          </a:prstGeom>
          <a:solidFill>
            <a:srgbClr val="cc00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zzle4"/>
          <p:cNvSpPr/>
          <p:nvPr/>
        </p:nvSpPr>
        <p:spPr>
          <a:xfrm>
            <a:off x="4624560" y="2373480"/>
            <a:ext cx="1834920" cy="3263760"/>
          </a:xfrm>
          <a:prstGeom prst="pie">
            <a:avLst/>
          </a:prstGeom>
          <a:solidFill>
            <a:srgbClr val="ff00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zzle1"/>
          <p:cNvSpPr/>
          <p:nvPr/>
        </p:nvSpPr>
        <p:spPr>
          <a:xfrm>
            <a:off x="3992400" y="1211400"/>
            <a:ext cx="3081600" cy="1944720"/>
          </a:xfrm>
          <a:prstGeom prst="pie">
            <a:avLst/>
          </a:prstGeom>
          <a:solidFill>
            <a:srgbClr val="ccffff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uzzle3"/>
          <p:cNvSpPr/>
          <p:nvPr/>
        </p:nvSpPr>
        <p:spPr>
          <a:xfrm>
            <a:off x="2825640" y="4011480"/>
            <a:ext cx="1906560" cy="2802240"/>
          </a:xfrm>
          <a:prstGeom prst="pie">
            <a:avLst/>
          </a:prstGeom>
          <a:solidFill>
            <a:srgbClr val="cccc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uzzle1"/>
          <p:cNvSpPr/>
          <p:nvPr/>
        </p:nvSpPr>
        <p:spPr>
          <a:xfrm>
            <a:off x="457200" y="4869000"/>
            <a:ext cx="3081240" cy="1944720"/>
          </a:xfrm>
          <a:prstGeom prst="pie">
            <a:avLst/>
          </a:prstGeom>
          <a:solidFill>
            <a:srgbClr val="cc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uzzle3"/>
          <p:cNvSpPr/>
          <p:nvPr/>
        </p:nvSpPr>
        <p:spPr>
          <a:xfrm>
            <a:off x="6280200" y="4011480"/>
            <a:ext cx="1905120" cy="2802240"/>
          </a:xfrm>
          <a:prstGeom prst="pie">
            <a:avLst/>
          </a:prstGeom>
          <a:solidFill>
            <a:srgbClr val="00ffcc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uzzle1"/>
          <p:cNvSpPr/>
          <p:nvPr/>
        </p:nvSpPr>
        <p:spPr>
          <a:xfrm>
            <a:off x="3952800" y="4861080"/>
            <a:ext cx="3081240" cy="1944360"/>
          </a:xfrm>
          <a:prstGeom prst="pie">
            <a:avLst/>
          </a:prstGeom>
          <a:solidFill>
            <a:srgbClr val="9999ff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378160"/>
            <a:ext cx="914400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«ИМПЕРИ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КОТОРАЯ ПОХОЖ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НА ЛОСКУТНОЕ ОДЕАЛ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678-E8A3-4C65-B429-641A0069D1B6}" type="slidenum">
              <a:t>7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500"/>
                            </p:stCondLst>
                            <p:childTnLst>
                              <p:par>
                                <p:cTn id="3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формы Марии-Терезии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Иосифа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9440" y="19152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ария-Терез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1740-1780гг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ё 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осиф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1780-1790г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1765-1780г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рия-Терезия и Иоси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авили совмес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24040" y="3353400"/>
            <a:ext cx="569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формы в пользу дворян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деланы ряд уступок требованиям буржу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лавная 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квидировать пережитки феодализ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шавшие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C21-19B1-4EA7-AA4C-E7CB11B0CE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формы Марии-Терезии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Иосифа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557360"/>
          <a:ext cx="8424720" cy="5043240"/>
        </p:xfrm>
        <a:graphic>
          <a:graphicData uri="http://schemas.openxmlformats.org/drawingml/2006/table">
            <a:tbl>
              <a:tblPr/>
              <a:tblGrid>
                <a:gridCol w="2160360"/>
                <a:gridCol w="6264360"/>
              </a:tblGrid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ен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изненная служба рекрутов. Увеличена численность арм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а военная академия. Увеличено число офиц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деб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 новые гражданский и уголовный кодекс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ые функции – только у государ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нанс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 всеобщий подоходный налог и для дворян и для церк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коном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на внутренних торговых пошл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ы пошлины на ввозимые това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ка протекционизма, меркантилизм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форма обра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начальное и среднее образо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 технические и ремесленные школы, сельскохозяйственные училищ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ский университет освобожден от влияния католической церкв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лигиозная рефор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ыты монастыри. Секуляризация земе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наны иезуиты. Разрешено протестант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208-2D52-4327-ADFB-86161FEB9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0:08:37Z</dcterms:created>
  <dc:creator>Freeman</dc:creator>
  <dc:description/>
  <dc:language>en-US</dc:language>
  <cp:lastModifiedBy>Админ</cp:lastModifiedBy>
  <dcterms:modified xsi:type="dcterms:W3CDTF">2010-01-20T16:41:57Z</dcterms:modified>
  <cp:revision>17</cp:revision>
  <dc:subject/>
  <dc:title>Английская буржуазная революция 1640-1660гг. и её последствия</dc:title>
</cp:coreProperties>
</file>