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3BD-062C-4A9B-822D-95A19C3B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330-421E-45FF-985D-B0E57C40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953-D65F-495F-9DBD-6EF7D398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0AE-F7D9-412D-A273-5F9CEC25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B6C-5F7B-4F01-B394-07E8F10E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DDA-FBA7-499B-978C-086A6DE7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3726-14E7-4684-BC34-75F9B90B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9BDB-139E-4F39-A0CE-323FADDF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6B7-E966-425E-9FB5-83832727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C29-E957-4D09-974D-45D2E347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1331-F4F5-4C84-96F1-91C9DDE1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E2E-31B0-40C6-89B2-BC8189E1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84F9-548F-495D-A794-F80B99E74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Австрийская империя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в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XVIII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в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–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андр Худобе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C3A-25A0-4293-8CA7-C86217AE8A6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41576-E89B-4E74-9EB2-E852FA86EA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6120" y="437040"/>
            <a:ext cx="69699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Габсбург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настия, правившая в Австрии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(1282-1918гг.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ператоры Священной Римской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империи (1438-1806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58040" y="1689120"/>
            <a:ext cx="342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XVI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бсбур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ют зем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стрии, Чехии, Венгр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входят в сост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щенной Римской импе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67720" y="3776760"/>
            <a:ext cx="440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XVII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стрийские земли становя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ализованным государств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возникл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гроза захвата зем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нцией и Турц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77280" y="5589720"/>
            <a:ext cx="47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XVIII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елкое и среднее дворянство поддерж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бсолютную монарх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CDF3-8E04-4255-A341-AEFD7470D7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Система управления империей Габсбургов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1440" y="1900800"/>
            <a:ext cx="1581120" cy="3988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мпе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440" y="3217320"/>
            <a:ext cx="316908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сударственный Сове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ещательный о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императо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51560" y="3216960"/>
            <a:ext cx="11379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нц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70080" y="5088960"/>
            <a:ext cx="1495800" cy="91692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дво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трий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нцеля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70120" y="5088960"/>
            <a:ext cx="1694160" cy="91692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сте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остр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91760" y="3217320"/>
            <a:ext cx="152784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дво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8" idx="2"/>
            <a:endCxn id="49" idx="0"/>
          </p:cNvCxnSpPr>
          <p:nvPr/>
        </p:nvCxnSpPr>
        <p:spPr>
          <a:xfrm flipH="1">
            <a:off x="2063160" y="2355480"/>
            <a:ext cx="25088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8" idx="2"/>
            <a:endCxn id="50" idx="0"/>
          </p:cNvCxnSpPr>
          <p:nvPr/>
        </p:nvCxnSpPr>
        <p:spPr>
          <a:xfrm>
            <a:off x="4572000" y="2355480"/>
            <a:ext cx="65016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2"/>
            <a:endCxn id="53" idx="0"/>
          </p:cNvCxnSpPr>
          <p:nvPr/>
        </p:nvCxnSpPr>
        <p:spPr>
          <a:xfrm>
            <a:off x="4572000" y="2355480"/>
            <a:ext cx="298512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0" idx="2"/>
            <a:endCxn id="51" idx="0"/>
          </p:cNvCxnSpPr>
          <p:nvPr/>
        </p:nvCxnSpPr>
        <p:spPr>
          <a:xfrm flipH="1">
            <a:off x="3817080" y="3589200"/>
            <a:ext cx="1404360" cy="149616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8" name=""/>
          <p:cNvCxnSpPr>
            <a:stCxn id="50" idx="2"/>
            <a:endCxn id="52" idx="0"/>
          </p:cNvCxnSpPr>
          <p:nvPr/>
        </p:nvCxnSpPr>
        <p:spPr>
          <a:xfrm>
            <a:off x="5221080" y="3589200"/>
            <a:ext cx="997560" cy="149616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B1F9-ABA0-4955-B802-5636C31802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нтрреформация в Авст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56080" y="1668960"/>
            <a:ext cx="383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XVI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эрцгерцог Рудольф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XVII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эрцгерцог Фердинанд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6120" y="2655000"/>
            <a:ext cx="517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аны иезуит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едпринимают гонения на протестан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93680" y="3642120"/>
            <a:ext cx="6958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рили поддан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ущество протеста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XVIII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тестант –государственный преступни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х либо выселяли из Австрии, либо отдавали в солд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73440" y="5239440"/>
            <a:ext cx="35974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крепляя абсолютиз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бсбурги нужда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ддержке катол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еркв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DB46-89A5-48FB-91E3-006303B1A4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Национальные проблемы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 империи Габсбур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01680" y="1413000"/>
            <a:ext cx="49388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остав Австрийской империи входили различные на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2637000"/>
            <a:ext cx="2469960" cy="89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оды находились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 зависимом полож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2200" y="2538360"/>
            <a:ext cx="2378160" cy="11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е учитывались национальные особенности и интере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3600" y="4078440"/>
            <a:ext cx="373536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XVII-XVIIIв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остоянные волнения населения различных районов имп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0200" y="5445000"/>
            <a:ext cx="648180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XVIII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ни прекращаются, так к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ывается единство феодалов по всей импер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епляются экономические св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отдельными регио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5" idx="2"/>
            <a:endCxn id="66" idx="0"/>
          </p:cNvCxnSpPr>
          <p:nvPr/>
        </p:nvCxnSpPr>
        <p:spPr>
          <a:xfrm flipH="1">
            <a:off x="2927160" y="2060280"/>
            <a:ext cx="164520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5" idx="2"/>
            <a:endCxn id="67" idx="0"/>
          </p:cNvCxnSpPr>
          <p:nvPr/>
        </p:nvCxnSpPr>
        <p:spPr>
          <a:xfrm>
            <a:off x="4572000" y="2060280"/>
            <a:ext cx="1620000" cy="47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7" idx="2"/>
            <a:endCxn id="68" idx="0"/>
          </p:cNvCxnSpPr>
          <p:nvPr/>
        </p:nvCxnSpPr>
        <p:spPr>
          <a:xfrm flipH="1">
            <a:off x="4571640" y="3716280"/>
            <a:ext cx="162000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2"/>
            <a:endCxn id="68" idx="0"/>
          </p:cNvCxnSpPr>
          <p:nvPr/>
        </p:nvCxnSpPr>
        <p:spPr>
          <a:xfrm>
            <a:off x="2927520" y="3526920"/>
            <a:ext cx="164520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8" idx="2"/>
            <a:endCxn id="69" idx="0"/>
          </p:cNvCxnSpPr>
          <p:nvPr/>
        </p:nvCxnSpPr>
        <p:spPr>
          <a:xfrm>
            <a:off x="4571640" y="50130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BE5-6ABA-4A15-8944-541EC0E96E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3000" y="304920"/>
            <a:ext cx="6934320" cy="5943600"/>
          </a:xfrm>
          <a:prstGeom prst="ellipse">
            <a:avLst/>
          </a:prstGeom>
          <a:solidFill>
            <a:srgbClr val="ffffcc">
              <a:alpha val="50000"/>
            </a:srgbClr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a50021"/>
                </a:solidFill>
                <a:latin typeface="Monotype Corsiva"/>
              </a:rPr>
              <a:t>Австри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0240" y="1125360"/>
            <a:ext cx="375156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ff"/>
                </a:solidFill>
                <a:latin typeface="Arial Black"/>
              </a:rPr>
              <a:t>голланд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10520" y="243000"/>
            <a:ext cx="173052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Arial Black"/>
              </a:rPr>
              <a:t>чех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74560" y="609480"/>
            <a:ext cx="283536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 Black"/>
              </a:rPr>
              <a:t>слова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9880" y="1600200"/>
            <a:ext cx="252756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Arial Black"/>
              </a:rPr>
              <a:t>поля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99800" y="3468600"/>
            <a:ext cx="252324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cc"/>
                </a:solidFill>
                <a:latin typeface="Arial Black"/>
              </a:rPr>
              <a:t>венг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44640" y="4267080"/>
            <a:ext cx="344052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украин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47200" y="5342040"/>
            <a:ext cx="286920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румы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57960" y="5989680"/>
            <a:ext cx="290412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 Black"/>
              </a:rPr>
              <a:t>хорва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9000" y="5195880"/>
            <a:ext cx="213768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Arial Black"/>
              </a:rPr>
              <a:t>серб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560" y="4005360"/>
            <a:ext cx="379548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00"/>
                </a:solidFill>
                <a:latin typeface="Arial Black"/>
              </a:rPr>
              <a:t>итальян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8200" y="2541600"/>
            <a:ext cx="239652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6600"/>
                </a:solidFill>
                <a:latin typeface="Arial Black"/>
              </a:rPr>
              <a:t>нем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937-7247-49E3-A50E-B5D9539160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50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2023920"/>
            <a:ext cx="8686800" cy="2808360"/>
          </a:xfrm>
          <a:prstGeom prst="ellipse">
            <a:avLst/>
          </a:prstGeom>
          <a:solidFill>
            <a:srgbClr val="ffffcc">
              <a:alpha val="50000"/>
            </a:srgbClr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a50021"/>
                </a:solidFill>
                <a:latin typeface="Monotype Corsiva"/>
              </a:rPr>
              <a:t>Австрия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uzzle3"/>
          <p:cNvSpPr/>
          <p:nvPr/>
        </p:nvSpPr>
        <p:spPr>
          <a:xfrm>
            <a:off x="2841480" y="339840"/>
            <a:ext cx="1906560" cy="2801880"/>
          </a:xfrm>
          <a:prstGeom prst="pie">
            <a:avLst/>
          </a:prstGeom>
          <a:solidFill>
            <a:srgbClr val="8000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uzzle2"/>
          <p:cNvSpPr/>
          <p:nvPr/>
        </p:nvSpPr>
        <p:spPr>
          <a:xfrm>
            <a:off x="2265480" y="2411280"/>
            <a:ext cx="3044880" cy="2552760"/>
          </a:xfrm>
          <a:prstGeom prst="pie">
            <a:avLst/>
          </a:prstGeom>
          <a:solidFill>
            <a:srgbClr val="ffcc99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uzzle4"/>
          <p:cNvSpPr/>
          <p:nvPr/>
        </p:nvSpPr>
        <p:spPr>
          <a:xfrm>
            <a:off x="1114560" y="2373480"/>
            <a:ext cx="1834920" cy="3263760"/>
          </a:xfrm>
          <a:prstGeom prst="pie">
            <a:avLst/>
          </a:prstGeom>
          <a:solidFill>
            <a:srgbClr val="ffccff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uzzle1"/>
          <p:cNvSpPr/>
          <p:nvPr/>
        </p:nvSpPr>
        <p:spPr>
          <a:xfrm>
            <a:off x="500040" y="1197000"/>
            <a:ext cx="3081240" cy="1944720"/>
          </a:xfrm>
          <a:prstGeom prst="pie">
            <a:avLst/>
          </a:prstGeom>
          <a:solidFill>
            <a:srgbClr val="33cccc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uzzle3"/>
          <p:cNvSpPr/>
          <p:nvPr/>
        </p:nvSpPr>
        <p:spPr>
          <a:xfrm>
            <a:off x="6294600" y="339840"/>
            <a:ext cx="1906560" cy="2801880"/>
          </a:xfrm>
          <a:prstGeom prst="pie">
            <a:avLst/>
          </a:prstGeom>
          <a:solidFill>
            <a:srgbClr val="ffff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uzzle2"/>
          <p:cNvSpPr/>
          <p:nvPr/>
        </p:nvSpPr>
        <p:spPr>
          <a:xfrm>
            <a:off x="5718240" y="2405160"/>
            <a:ext cx="3044880" cy="2552760"/>
          </a:xfrm>
          <a:prstGeom prst="pie">
            <a:avLst/>
          </a:prstGeom>
          <a:solidFill>
            <a:srgbClr val="cc0066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uzzle4"/>
          <p:cNvSpPr/>
          <p:nvPr/>
        </p:nvSpPr>
        <p:spPr>
          <a:xfrm>
            <a:off x="4624560" y="2373480"/>
            <a:ext cx="1834920" cy="3263760"/>
          </a:xfrm>
          <a:prstGeom prst="pie">
            <a:avLst/>
          </a:prstGeom>
          <a:solidFill>
            <a:srgbClr val="ff00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uzzle1"/>
          <p:cNvSpPr/>
          <p:nvPr/>
        </p:nvSpPr>
        <p:spPr>
          <a:xfrm>
            <a:off x="3992400" y="1211400"/>
            <a:ext cx="3081600" cy="1944720"/>
          </a:xfrm>
          <a:prstGeom prst="pie">
            <a:avLst/>
          </a:prstGeom>
          <a:solidFill>
            <a:srgbClr val="ccffff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uzzle3"/>
          <p:cNvSpPr/>
          <p:nvPr/>
        </p:nvSpPr>
        <p:spPr>
          <a:xfrm>
            <a:off x="2825640" y="4011480"/>
            <a:ext cx="1906560" cy="2802240"/>
          </a:xfrm>
          <a:prstGeom prst="pie">
            <a:avLst/>
          </a:prstGeom>
          <a:solidFill>
            <a:srgbClr val="cccc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uzzle1"/>
          <p:cNvSpPr/>
          <p:nvPr/>
        </p:nvSpPr>
        <p:spPr>
          <a:xfrm>
            <a:off x="457200" y="4869000"/>
            <a:ext cx="3081240" cy="1944720"/>
          </a:xfrm>
          <a:prstGeom prst="pie">
            <a:avLst/>
          </a:prstGeom>
          <a:solidFill>
            <a:srgbClr val="cc33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uzzle3"/>
          <p:cNvSpPr/>
          <p:nvPr/>
        </p:nvSpPr>
        <p:spPr>
          <a:xfrm>
            <a:off x="6280200" y="4011480"/>
            <a:ext cx="1905120" cy="2802240"/>
          </a:xfrm>
          <a:prstGeom prst="pie">
            <a:avLst/>
          </a:prstGeom>
          <a:solidFill>
            <a:srgbClr val="00ffcc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uzzle1"/>
          <p:cNvSpPr/>
          <p:nvPr/>
        </p:nvSpPr>
        <p:spPr>
          <a:xfrm>
            <a:off x="3952800" y="4861080"/>
            <a:ext cx="3081240" cy="1944360"/>
          </a:xfrm>
          <a:prstGeom prst="pie">
            <a:avLst/>
          </a:prstGeom>
          <a:solidFill>
            <a:srgbClr val="9999ff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378160"/>
            <a:ext cx="914400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Black"/>
              </a:rPr>
              <a:t>«ИМПЕРИЯ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Black"/>
              </a:rPr>
              <a:t>КОТОРАЯ ПОХОЖ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Black"/>
              </a:rPr>
              <a:t>НА ЛОСКУТНОЕ ОДЕАЛО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739-1B1F-4FC6-B521-DEC9EC729F64}" type="slidenum">
              <a:t>7</a:t>
            </a:fld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9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0"/>
                            </p:stCondLst>
                            <p:childTnLst>
                              <p:par>
                                <p:cTn id="31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500"/>
                            </p:stCondLst>
                            <p:childTnLst>
                              <p:par>
                                <p:cTn id="32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9000"/>
                            </p:stCondLst>
                            <p:childTnLst>
                              <p:par>
                                <p:cTn id="35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формы Марии-Терезии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и Иосифа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9440" y="1915200"/>
            <a:ext cx="730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ария-Терез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(1740-1780гг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ё сы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осиф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(1780-1790г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1765-1780г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ария-Терезия и Иоси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авили совмест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24040" y="3353400"/>
            <a:ext cx="569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формы в пользу дворян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деланы ряд уступок требованиям буржу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лавная це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квидировать пережитки феодализ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шавшие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AB3-0BAF-4336-9360-68ED30F413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формы Марии-Терезии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и Иосифа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557360"/>
          <a:ext cx="8424720" cy="5043240"/>
        </p:xfrm>
        <a:graphic>
          <a:graphicData uri="http://schemas.openxmlformats.org/drawingml/2006/table">
            <a:tbl>
              <a:tblPr/>
              <a:tblGrid>
                <a:gridCol w="2160360"/>
                <a:gridCol w="6264360"/>
              </a:tblGrid>
              <a:tr h="67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ен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жизненная служба рекрутов. Увеличена численность арм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а военная академия. Увеличено число офиц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удеб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ы новые гражданский и уголовный кодекс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ебные функции – только у государст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нансов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ден всеобщий подоходный налог и для дворян и для церк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кономиче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на внутренних торговых пошл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дены пошлины на ввозимые товар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тика протекционизма, меркантилизм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еформа образ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е начальное и среднее образова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ы технические и ремесленные школы, сельскохозяйственные училищ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ский университет освобожден от влияния католической церкв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елигиозная рефор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ыты монастыри. Секуляризация земел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наны иезуиты. Разрешено протестант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D98-7C4B-4A51-B837-FFE6C4B19A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0:08:37Z</dcterms:created>
  <dc:creator>Freeman</dc:creator>
  <dc:description/>
  <dc:language>en-US</dc:language>
  <cp:lastModifiedBy>Админ</cp:lastModifiedBy>
  <dcterms:modified xsi:type="dcterms:W3CDTF">2010-01-20T16:41:57Z</dcterms:modified>
  <cp:revision>17</cp:revision>
  <dc:subject/>
  <dc:title>Английская буржуазная революция 1640-1660гг. и её последствия</dc:title>
</cp:coreProperties>
</file>