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95C-9321-47EB-9E4B-390CB7B4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1EE-110A-4393-B43A-70EF58BF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4A17-27E4-42F4-A8CB-4C4AEFD4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816-74C4-4CC5-878F-97D19384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4872-7785-4025-BEBF-441CF0A7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464-F28F-4445-9EE4-DD08B8FE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EAB-3B7A-41F1-92DC-390E3D04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F53F-95B8-45F0-9C38-C1373200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359F-6FE5-4A8E-9C9D-8B1AD2B8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AA9-A23B-43D3-9569-C396E175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FCF-65B8-4067-A93D-DBBF5D96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CBD-5108-4F15-86B4-E6C651CD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E0F9-E34B-410E-86C7-0F4968080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www.malvina-group.com/img/1051/~935_112x0_mc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malvina-group.com/img/1051/~934_112x0_mc.jpg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rimedvedia.narod.ru/sosedi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nn-photo.ru/images/fdf3bebb2d21544b2f2685a0ff98f94d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d52.ru/images/galer/20071130172632_small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4581000"/>
            <a:ext cx="7417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с текстом упр. 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6 клас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71640" y="1341360"/>
            <a:ext cx="71294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а общения</a:t>
            </a:r>
            <a:endParaRPr b="0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Поразмышляе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3235320" cy="3456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76720" y="1599840"/>
            <a:ext cx="56880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фера обще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рофессиона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беседник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специалист в данной области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ситуация требует профессионального диал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558972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фессиональная лексика необходим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20"/>
                            </p:stCondLst>
                            <p:childTnLst>
                              <p:par>
                                <p:cTn id="3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80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Поразмышляе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2219400"/>
            <a:ext cx="3056040" cy="2500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47624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фера обще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бытовая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беседник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ециалист в той же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рофессионально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бла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9560" y="5516640"/>
            <a:ext cx="73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фессиональная лексика допустим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100"/>
                            </p:stCondLst>
                            <p:childTnLst>
                              <p:par>
                                <p:cTn id="4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100"/>
                            </p:stCondLst>
                            <p:childTnLst>
                              <p:par>
                                <p:cTn id="4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60"/>
                            </p:stCondLst>
                            <p:childTnLst>
                              <p:par>
                                <p:cTn id="4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360"/>
                            </p:stCondLst>
                            <p:childTnLst>
                              <p:par>
                                <p:cTn id="4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360"/>
                            </p:stCondLst>
                            <p:childTnLst>
                              <p:par>
                                <p:cTn id="4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640"/>
                            </p:stCondLst>
                            <p:childTnLst>
                              <p:par>
                                <p:cTn id="4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Общий 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ать, какую лексику использовать, необходимо в каждой конкретной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512720" cy="1136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905800" y="170028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Киян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деревянный молото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Картинка 15 из 1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2997360"/>
            <a:ext cx="1066680" cy="1419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Картинка 15 из 12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19640" y="3429000"/>
            <a:ext cx="1225440" cy="919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95960" y="4581360"/>
            <a:ext cx="24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ритач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приши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лову к туловищ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Картинка 68 из 458"/>
          <p:cNvPicPr/>
          <p:nvPr/>
        </p:nvPicPr>
        <p:blipFill>
          <a:blip r:embed="rId7"/>
          <a:stretch/>
        </p:blipFill>
        <p:spPr>
          <a:xfrm>
            <a:off x="900000" y="551664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131200" y="6093000"/>
            <a:ext cx="57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Ультрамариновы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цвет или просто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ярко-син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50"/>
                            </p:stCondLst>
                            <p:childTnLst>
                              <p:par>
                                <p:cTn id="4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95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23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39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150"/>
                            </p:stCondLst>
                            <p:childTnLst>
                              <p:par>
                                <p:cTn id="5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15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550"/>
                            </p:stCondLst>
                            <p:childTnLst>
                              <p:par>
                                <p:cTn id="5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990"/>
                            </p:stCondLst>
                            <p:childTnLst>
                              <p:par>
                                <p:cTn id="5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670"/>
                            </p:stCondLst>
                            <p:childTnLst>
                              <p:par>
                                <p:cTn id="5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670"/>
                            </p:stCondLst>
                            <p:childTnLst>
                              <p:par>
                                <p:cTn id="5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Полезный со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итесь культуре общения: говорите понятно - и вы избавите себя от лишних недоразумений и конфликтов, будете всегда приятными и желанными собеседниками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320"/>
                            </p:stCondLst>
                            <p:childTnLst>
                              <p:par>
                                <p:cTn id="58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3370"/>
                            </p:stCondLst>
                            <p:childTnLst>
                              <p:par>
                                <p:cTn id="596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9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5219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отрывок из повести М.Фоминой «Летопись нашего дво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20 из 208"/>
          <p:cNvPicPr/>
          <p:nvPr/>
        </p:nvPicPr>
        <p:blipFill>
          <a:blip r:embed="rId2"/>
          <a:stretch/>
        </p:blipFill>
        <p:spPr>
          <a:xfrm>
            <a:off x="5292720" y="189000"/>
            <a:ext cx="3720960" cy="302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Картинка 3 из 59343"/>
          <p:cNvPicPr/>
          <p:nvPr/>
        </p:nvPicPr>
        <p:blipFill>
          <a:blip r:embed="rId3"/>
          <a:stretch/>
        </p:blipFill>
        <p:spPr>
          <a:xfrm>
            <a:off x="108000" y="4795920"/>
            <a:ext cx="2879640" cy="193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6200" y="236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240" y="2316240"/>
            <a:ext cx="8600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ётя Поля – хирург, а мо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 – заведующ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одской амбулатор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 им встретиться – и между ними начин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говор, в котором обычные слова заменя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спел я войти, как тёт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я спрашив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у, Алик, что твой карие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7640" y="333000"/>
            <a:ext cx="8785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 только плечами пож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Никакого кариеса у меня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Как, а твой зуб? Тебе уже наложили пломб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ут только я понял, в чём дело: неделю назад у меня заболел зуб и мне его лечили в поликлин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-моему, гораздо проще вместо слов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рие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ложили пломб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сто спросить: «Ты  вылечил зуб?» Но я                                      не стал спорить: бесполезное                        дело! Их не переубед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3 из 59343"/>
          <p:cNvPicPr/>
          <p:nvPr/>
        </p:nvPicPr>
        <p:blipFill>
          <a:blip r:embed="rId2"/>
          <a:stretch/>
        </p:blipFill>
        <p:spPr>
          <a:xfrm>
            <a:off x="6084720" y="4780080"/>
            <a:ext cx="288612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4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88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36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48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521964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Какое профессиональное слово не понял Ал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43280" y="4220640"/>
            <a:ext cx="6121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 ли он, что вообще не надо употреблять профессиональные с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артинка 20 из 2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89000"/>
            <a:ext cx="3720960" cy="3025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Картинка 3 из 5934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8000" y="4843440"/>
            <a:ext cx="280836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Умение говорить предполага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28920"/>
            <a:ext cx="8497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ение точно формулировать свои мы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лагать их доступным языком для собеседни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риентироваться в общении на реакцию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??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кое правило культуры общения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арушила тётя Поля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Принцип отбора с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чём заключается принцип отбора слов? На что надо ориентироваться, подбирая слова в разгово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и выборе лексических средств надо ориентироваться прежде всего на собеседника и на сферу 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делайте выво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когда можно обойтись без профессиональных слов, а когда они необходи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394600">
            <a:off x="6084360" y="5950080"/>
            <a:ext cx="216000" cy="792000"/>
          </a:xfrm>
          <a:prstGeom prst="downArrow">
            <a:avLst>
              <a:gd name="adj1" fmla="val 50000"/>
              <a:gd name="adj2" fmla="val 91667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35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Поразмышляе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7280" y="1413000"/>
            <a:ext cx="46908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фера общения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рофессиональная, на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беседни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леги, свободно владеющие терминологией данной научн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фессиональная лексика необходим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артинка 5 из 17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844640"/>
            <a:ext cx="2952720" cy="2200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273672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6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6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60"/>
                            </p:stCondLst>
                            <p:childTnLst>
                              <p:par>
                                <p:cTn id="1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750"/>
                            </p:stCondLst>
                            <p:childTnLst>
                              <p:par>
                                <p:cTn id="1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400"/>
                            </p:stCondLst>
                            <p:childTnLst>
                              <p:par>
                                <p:cTn id="2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Поразмышляе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3382920" cy="2252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3644640"/>
            <a:ext cx="878544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фера обще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бытов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беседни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члены семьи, друз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фессиональная лексика неумест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435640" y="1268280"/>
            <a:ext cx="3132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6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76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Поразмышляе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3816360" cy="28749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0" y="1125000"/>
            <a:ext cx="4824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фера обще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рофессиональная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беседник 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ациент, ребён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е владеющи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ециально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ерминолог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560" y="5373720"/>
            <a:ext cx="771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фессиональная лексика недопустим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6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60"/>
                            </p:stCondLst>
                            <p:childTnLst>
                              <p:par>
                                <p:cTn id="3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20"/>
                            </p:stCondLst>
                            <p:childTnLst>
                              <p:par>
                                <p:cTn id="3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720"/>
                            </p:stCondLst>
                            <p:childTnLst>
                              <p:par>
                                <p:cTn id="3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72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8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16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5:48:39Z</dcterms:created>
  <dc:creator>Галина</dc:creator>
  <dc:description/>
  <dc:language>en-US</dc:language>
  <cp:lastModifiedBy>Галина</cp:lastModifiedBy>
  <dcterms:modified xsi:type="dcterms:W3CDTF">2008-10-16T09:35:51Z</dcterms:modified>
  <cp:revision>7</cp:revision>
  <dc:subject/>
  <dc:title>Слайд 1</dc:title>
</cp:coreProperties>
</file>