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8AE2-BE2F-44FE-B387-399E99EF7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8323-711D-4BFE-9EDA-4EAA03A9C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7CAC-F049-4900-ADE7-69B684E43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9445-E252-4763-AA23-A32E2E400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8336-80DF-461F-8D13-2D2EC6CA3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6A23-6B0A-4157-A860-530259DC4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9B59-7FCB-450B-BA15-0E2B7A7A2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121E-7B79-4A74-9C6D-B785A2D3F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3AFB-0C74-4A58-B54E-48A6620EA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C853-6589-4BF6-A89B-F942F994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41AF-1B28-488F-A509-027E6451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5E29-BE42-4129-A4D9-0DC691627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5411B-85C4-4DAE-98EB-E467EA1E8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hyperlink" Target="http://www.malvina-group.com/img/1051/~935_112x0_mc.jpg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www.malvina-group.com/img/1051/~934_112x0_mc.jpg" TargetMode="External"/><Relationship Id="rId6" Type="http://schemas.openxmlformats.org/officeDocument/2006/relationships/image" Target="../media/image13.jpe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rimedvedia.narod.ru/sosedi.jpg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nn-photo.ru/images/fdf3bebb2d21544b2f2685a0ff98f94d.jpg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ed52.ru/images/galer/20071130172632_small.jpg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4581000"/>
            <a:ext cx="7417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 с текстом упр. 7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6 клас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71640" y="1341360"/>
            <a:ext cx="7129440" cy="23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33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ультура общения</a:t>
            </a:r>
            <a:endParaRPr b="0" lang="en-US" sz="1800" spc="1" strike="noStrike">
              <a:ln w="19080">
                <a:solidFill>
                  <a:srgbClr val="0033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Поразмышляем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24000" y="1773360"/>
            <a:ext cx="3235320" cy="3456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76720" y="1599840"/>
            <a:ext cx="56880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фера общения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профессиональн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обеседник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не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специалист в данной области,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но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ситуация требует профессионального диало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4360" y="5589720"/>
            <a:ext cx="7940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Профессиональная лексика необходима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9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500"/>
                            </p:stCondLst>
                            <p:childTnLst>
                              <p:par>
                                <p:cTn id="37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8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720"/>
                            </p:stCondLst>
                            <p:childTnLst>
                              <p:par>
                                <p:cTn id="39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8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2800"/>
                            </p:stCondLst>
                            <p:childTnLst>
                              <p:par>
                                <p:cTn id="404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8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Поразмышляем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68360" y="2219400"/>
            <a:ext cx="3056040" cy="25002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24000" y="1484280"/>
            <a:ext cx="476244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фера общения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бытовая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обеседник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специалист в той же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профессиональной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области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79560" y="5516640"/>
            <a:ext cx="73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Профессиональная лексика допустим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100"/>
                            </p:stCondLst>
                            <p:childTnLst>
                              <p:par>
                                <p:cTn id="4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100"/>
                            </p:stCondLst>
                            <p:childTnLst>
                              <p:par>
                                <p:cTn id="43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8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60"/>
                            </p:stCondLst>
                            <p:childTnLst>
                              <p:par>
                                <p:cTn id="44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360"/>
                            </p:stCondLst>
                            <p:childTnLst>
                              <p:par>
                                <p:cTn id="45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7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360"/>
                            </p:stCondLst>
                            <p:childTnLst>
                              <p:par>
                                <p:cTn id="4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8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640"/>
                            </p:stCondLst>
                            <p:childTnLst>
                              <p:par>
                                <p:cTn id="4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3" dur="8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5" dur="8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Общий выв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36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шать, какую лексику использовать, необходимо в каждой конкретной ситу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427640" y="1628640"/>
            <a:ext cx="1512720" cy="11368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905800" y="1700280"/>
            <a:ext cx="276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Киянк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деревянный молоток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Картинка 15 из 12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59640" y="2997360"/>
            <a:ext cx="1066680" cy="1419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Картинка 15 из 12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219640" y="3429000"/>
            <a:ext cx="1225440" cy="919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295960" y="4581360"/>
            <a:ext cx="247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Притач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пришит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олову к туловищ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Картинка 68 из 458"/>
          <p:cNvPicPr/>
          <p:nvPr/>
        </p:nvPicPr>
        <p:blipFill>
          <a:blip r:embed="rId7"/>
          <a:stretch/>
        </p:blipFill>
        <p:spPr>
          <a:xfrm>
            <a:off x="900000" y="5516640"/>
            <a:ext cx="936720" cy="936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131200" y="6093000"/>
            <a:ext cx="574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Ультрамариновы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цвет или просто 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ярко-сини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950"/>
                            </p:stCondLst>
                            <p:childTnLst>
                              <p:par>
                                <p:cTn id="49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950"/>
                            </p:stCondLst>
                            <p:childTnLst>
                              <p:par>
                                <p:cTn id="5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230"/>
                            </p:stCondLst>
                            <p:childTnLst>
                              <p:par>
                                <p:cTn id="5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3" dur="8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4" dur="8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5" dur="8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2390"/>
                            </p:stCondLst>
                            <p:childTnLst>
                              <p:par>
                                <p:cTn id="5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9" dur="8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0" dur="8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1" dur="8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3150"/>
                            </p:stCondLst>
                            <p:childTnLst>
                              <p:par>
                                <p:cTn id="5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4150"/>
                            </p:stCondLst>
                            <p:childTnLst>
                              <p:par>
                                <p:cTn id="5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9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4550"/>
                            </p:stCondLst>
                            <p:childTnLst>
                              <p:par>
                                <p:cTn id="5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5" dur="8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8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4990"/>
                            </p:stCondLst>
                            <p:childTnLst>
                              <p:par>
                                <p:cTn id="5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0" dur="8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1" dur="8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2" dur="8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5670"/>
                            </p:stCondLst>
                            <p:childTnLst>
                              <p:par>
                                <p:cTn id="55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9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6670"/>
                            </p:stCondLst>
                            <p:childTnLst>
                              <p:par>
                                <p:cTn id="5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3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4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5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0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1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2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Полезный сов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Учитесь культуре общения: говорите понятно - и вы избавите себя от лишних недоразумений и конфликтов, будете всегда приятными и желанными собеседниками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0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0"/>
                            </p:stCondLst>
                            <p:childTnLst>
                              <p:par>
                                <p:cTn id="5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5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6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7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6320"/>
                            </p:stCondLst>
                            <p:childTnLst>
                              <p:par>
                                <p:cTn id="58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9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9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9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9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13370"/>
                            </p:stCondLst>
                            <p:childTnLst>
                              <p:par>
                                <p:cTn id="596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9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59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59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-360" y="259920"/>
            <a:ext cx="52196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очитайте отрывок из повести М.Фоминой «Летопись нашего двор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Картинка 20 из 208"/>
          <p:cNvPicPr/>
          <p:nvPr/>
        </p:nvPicPr>
        <p:blipFill>
          <a:blip r:embed="rId2"/>
          <a:stretch/>
        </p:blipFill>
        <p:spPr>
          <a:xfrm>
            <a:off x="5292720" y="189000"/>
            <a:ext cx="3720960" cy="3025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Картинка 3 из 59343"/>
          <p:cNvPicPr/>
          <p:nvPr/>
        </p:nvPicPr>
        <p:blipFill>
          <a:blip r:embed="rId3"/>
          <a:stretch/>
        </p:blipFill>
        <p:spPr>
          <a:xfrm>
            <a:off x="108000" y="4795920"/>
            <a:ext cx="2879640" cy="1935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76200" y="2368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3240" y="2316240"/>
            <a:ext cx="86007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ётя Поля – хирург, а мо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ь – заведующ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водской амбулатори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т им встретиться – и между ними начина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говор, в котором обычные слова заменяю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дицински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успел я войти, как тёт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я спрашива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Ну, Алик, что твой кариес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07640" y="333000"/>
            <a:ext cx="878508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Я только плечами пожа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 Никакого кариеса у меня н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 Как, а твой зуб? Тебе уже наложили пломб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ут только я понял, в чём дело: неделю назад у меня заболел зуб и мне его лечили в поликлини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-моему, гораздо проще вместо слов   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риес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ложили пломбу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сто спросить: «Ты  вылечил зуб?» Но я                                      не стал спорить: бесполезное                        дело! Их не переубедиш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Картинка 3 из 59343"/>
          <p:cNvPicPr/>
          <p:nvPr/>
        </p:nvPicPr>
        <p:blipFill>
          <a:blip r:embed="rId2"/>
          <a:stretch/>
        </p:blipFill>
        <p:spPr>
          <a:xfrm>
            <a:off x="6084720" y="4780080"/>
            <a:ext cx="288612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840"/>
                            </p:stCondLst>
                            <p:childTnLst>
                              <p:par>
                                <p:cTn id="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880"/>
                            </p:stCondLst>
                            <p:childTnLst>
                              <p:par>
                                <p:cTn id="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360"/>
                            </p:stCondLst>
                            <p:childTnLst>
                              <p:par>
                                <p:cTn id="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480"/>
                            </p:stCondLst>
                            <p:childTnLst>
                              <p:par>
                                <p:cTn id="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-360" y="1125360"/>
            <a:ext cx="521964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Какое профессиональное слово не понял Али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43280" y="4220640"/>
            <a:ext cx="612144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ав ли он, что вообще не надо употреблять профессиональные сло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Картинка 20 из 20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92720" y="189000"/>
            <a:ext cx="3720960" cy="3025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Картинка 3 из 59343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08000" y="4843440"/>
            <a:ext cx="2808360" cy="18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Умение говорить предполагае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4920" y="1528920"/>
            <a:ext cx="8497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мение точно формулировать свои мыс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злагать их доступным языком для собеседник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риентироваться в общении на реакцию собесед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???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Какое правило культуры общения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нарушила тётя Поля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Принцип отбора сл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чём заключается принцип отбора слов? На что надо ориентироваться, подбирая слова в разговор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При выборе лексических средств надо ориентироваться прежде всего на собеседника и на сферу общ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Сделайте выво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когда можно обойтись без профессиональных слов, а когда они необходи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20394600">
            <a:off x="6084360" y="5950080"/>
            <a:ext cx="216000" cy="792000"/>
          </a:xfrm>
          <a:prstGeom prst="downArrow">
            <a:avLst>
              <a:gd name="adj1" fmla="val 50000"/>
              <a:gd name="adj2" fmla="val 91667"/>
            </a:avLst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350"/>
                            </p:stCondLst>
                            <p:childTnLst>
                              <p:par>
                                <p:cTn id="1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Поразмышляем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067280" y="1413000"/>
            <a:ext cx="469080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фера общения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профессиональная, на рабо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обеседники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коллеги, свободно владеющие терминологией данной научной обла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Профессиональная лексика необходим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Картинка 5 из 17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1844640"/>
            <a:ext cx="2952720" cy="2200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971640" y="4076640"/>
            <a:ext cx="2736720" cy="26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60"/>
                            </p:stCondLst>
                            <p:childTnLst>
                              <p:par>
                                <p:cTn id="16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60"/>
                            </p:stCondLst>
                            <p:childTnLst>
                              <p:par>
                                <p:cTn id="16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560"/>
                            </p:stCondLst>
                            <p:childTnLst>
                              <p:par>
                                <p:cTn id="17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750"/>
                            </p:stCondLst>
                            <p:childTnLst>
                              <p:par>
                                <p:cTn id="19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8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400"/>
                            </p:stCondLst>
                            <p:childTnLst>
                              <p:par>
                                <p:cTn id="20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Поразмышляем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68360" y="1268280"/>
            <a:ext cx="3382920" cy="22528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9280" y="3644640"/>
            <a:ext cx="8785440" cy="32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фера общения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бытов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обеседники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члены семьи, друз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вод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Профессиональная лексика неумест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5435640" y="1268280"/>
            <a:ext cx="313200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000"/>
                            </p:stCondLst>
                            <p:childTnLst>
                              <p:par>
                                <p:cTn id="2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8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360"/>
                            </p:stCondLst>
                            <p:childTnLst>
                              <p:par>
                                <p:cTn id="2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8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760"/>
                            </p:stCondLst>
                            <p:childTnLst>
                              <p:par>
                                <p:cTn id="2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Поразмышляем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50920" y="1773360"/>
            <a:ext cx="3816360" cy="287496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40000" y="1125000"/>
            <a:ext cx="48243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фера общения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профессиональная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обеседник –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пациент, ребёно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не владеющий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специальной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терминологи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3560" y="5373720"/>
            <a:ext cx="771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Профессиональная лексика недопустим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60"/>
                            </p:stCondLst>
                            <p:childTnLst>
                              <p:par>
                                <p:cTn id="2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9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560"/>
                            </p:stCondLst>
                            <p:childTnLst>
                              <p:par>
                                <p:cTn id="30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8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720"/>
                            </p:stCondLst>
                            <p:childTnLst>
                              <p:par>
                                <p:cTn id="31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720"/>
                            </p:stCondLst>
                            <p:childTnLst>
                              <p:par>
                                <p:cTn id="32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5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720"/>
                            </p:stCondLst>
                            <p:childTnLst>
                              <p:par>
                                <p:cTn id="3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8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680"/>
                            </p:stCondLst>
                            <p:childTnLst>
                              <p:par>
                                <p:cTn id="3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8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160"/>
                            </p:stCondLst>
                            <p:childTnLst>
                              <p:par>
                                <p:cTn id="3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4T15:48:39Z</dcterms:created>
  <dc:creator>Галина</dc:creator>
  <dc:description/>
  <dc:language>en-US</dc:language>
  <cp:lastModifiedBy>Галина</cp:lastModifiedBy>
  <dcterms:modified xsi:type="dcterms:W3CDTF">2008-10-16T09:35:51Z</dcterms:modified>
  <cp:revision>7</cp:revision>
  <dc:subject/>
  <dc:title>Слайд 1</dc:title>
</cp:coreProperties>
</file>