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D40-F930-4638-B096-763B685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D67-D9AB-4E78-BD65-E2C4574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EF8-E5E0-49D7-A22B-968C63FF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D16-146C-45FA-B455-97DE74D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FE31-9E01-4E60-B0DA-242BD681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65C1-8E9D-4BB7-AC77-4FC08C4E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6FBA-B4CD-4696-AFA8-8B97E3D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D51C-4436-49EF-93A9-F935CC52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C30-8BCD-4A3B-854A-4B2F905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8E6-D500-48D0-B8A8-C355AB2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95C-3911-425F-BB74-49A5BE0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5D5-721B-456D-9166-B9E25EFB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52E-D9AD-4AA8-B129-07A15D5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7AC3-0258-4697-98E5-C071A5D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67DF-E68E-4891-972C-F94114E1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2730-6E72-41C4-ABA1-92E150A8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7236-E18B-4317-8DAE-EA3F0DC8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D954-204F-4D5C-8B0C-C4685023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B1F7-6DBA-4723-B688-68085C2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D03B-AAB3-43B4-BDF0-DDEA14C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B907-5914-40F8-A656-DCF75489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75DC-281D-47ED-A7C0-636B5EBB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517-A00B-4BF9-B246-8227D4D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D52B-2E7F-4B25-8A8E-555238E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E465-DAD8-4BB9-919A-EA99FDF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EEDD-11D5-4AD0-A0B8-63A9A7A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A71F-740B-46EB-9E1C-E5E75FC3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D1DF-20ED-42BD-9610-43A2CE93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A514-3859-46B2-A487-22D0941C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3370-8D4D-4FC4-A2FD-23C669C1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B10A-8BF8-4E5D-A1B7-EB041D1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1089-1325-46DA-81BB-5DFC748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1259-EC50-425B-AA4D-3B484D37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4D2-4445-4127-A841-C49A186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9435-423D-424B-BEC0-58F1F071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D616-E0CE-4AE3-A03F-3090925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55AA-1AEF-404A-BED7-81E687E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1480-A499-4B73-B8F8-FBF7AF6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77FE-5221-43C3-96F3-CEA6996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1EDE-9C9A-4DE2-B35F-EFF4736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4DBB-48E4-4CAC-A12D-97C1757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F9ED-99B1-4D41-BCA2-52691B90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90C1-2B07-48BC-85B2-80A48B03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C25C-2A2D-498F-9DDD-A0107645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CFC-D759-490C-99D9-8FF8B0D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02C9-22D5-43D6-9E67-9078B38C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F55B-3B40-4BA8-9A9B-8649E8DF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72EF-2EDB-49DC-9032-3B75AFB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E799-5856-410C-AE81-CFDBD56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0FEB-9BC8-4B05-84B3-CE571FC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611C7-3701-4FB5-ADD3-89E3260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ED49-DA00-4198-A760-9E267EA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32E8-7DA5-49D3-92C8-0C64CF4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7D4CE-4A6D-4E63-93C8-B37B7DC0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DAF1-92F7-4CB7-80AA-D2CCBF5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FE6-B455-4560-9837-36BDC01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E5C4-34C6-4A56-8EBF-10019812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544-1F5E-4165-82D0-501CED2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012-568D-453F-9C26-892FA5E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3B7-1713-429E-975E-3C005D9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74A-F696-43F9-B157-2A0EBA4E3BC8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476-7E54-4399-AECB-2783BE68ED3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AFF-56E1-44D5-BDF3-D16BDC826A68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F066-1839-4110-83EB-4BDE5E0ABDA1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74E0-0EAE-41C8-92F9-E9B34B989703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Достопримечательности КАНАЛА Грибоедова</a:t>
            </a:r>
            <a:r>
              <a:rPr b="1" lang="ru-RU" sz="4800" spc="-1" strike="noStrike">
                <a:solidFill>
                  <a:srgbClr val="ff8e49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Презентация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Ученика 3 В клас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Школы № 64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Данилкина Миха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Казанский кафедральный собор 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(собор Казанской Божией Матери) в Санкт-Петербурге (Невский проспект, 25) — православный кафедральный храм</a:t>
            </a:r>
            <a:r>
              <a:rPr b="0" lang="en-US" sz="1800" spc="-1" strike="noStrike">
                <a:solidFill>
                  <a:srgbClr val="3668c4"/>
                </a:solidFill>
                <a:latin typeface="Verdana"/>
              </a:rPr>
              <a:t>. (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Архитектор Андрей Никифорович </a:t>
            </a: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Воронихин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). 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5" name="Содержимое 4" descr="03-04-11_1814.jpg"/>
          <p:cNvPicPr/>
          <p:nvPr/>
        </p:nvPicPr>
        <p:blipFill>
          <a:blip r:embed="rId1"/>
          <a:stretch/>
        </p:blipFill>
        <p:spPr>
          <a:xfrm>
            <a:off x="514440" y="1251000"/>
            <a:ext cx="4273560" cy="325764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03-04-11_1821.jpg"/>
          <p:cNvPicPr/>
          <p:nvPr/>
        </p:nvPicPr>
        <p:blipFill>
          <a:blip r:embed="rId2"/>
          <a:stretch/>
        </p:blipFill>
        <p:spPr>
          <a:xfrm>
            <a:off x="5075280" y="530280"/>
            <a:ext cx="32925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41720"/>
            <a:ext cx="818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Казанский собор — храм русской воинской славы. Летом 1812 года, перед выездом в действующую армию, собор посетил  русской армией Михаил Илларионович Кутузов. . Прославленный фельдмаршал нашёл здесь свой последний  приют. А в 1837 году, в честь двадцать пятой годовщины разгрома Наполеона, на площади перед Казанским собором были торжественно открыты бронзовые памятники прославленным русским полководцам </a:t>
            </a: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М. И. Кутузову и М. Б. Барклаю-де-Толли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8" name="Содержимое 4" descr="03-04-11_1816.jpg"/>
          <p:cNvPicPr/>
          <p:nvPr/>
        </p:nvPicPr>
        <p:blipFill>
          <a:blip r:embed="rId1"/>
          <a:stretch/>
        </p:blipFill>
        <p:spPr>
          <a:xfrm>
            <a:off x="835200" y="530280"/>
            <a:ext cx="3290760" cy="43894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5" descr="03-04-11_1820.jpg"/>
          <p:cNvPicPr/>
          <p:nvPr/>
        </p:nvPicPr>
        <p:blipFill>
          <a:blip r:embed="rId2"/>
          <a:stretch/>
        </p:blipFill>
        <p:spPr>
          <a:xfrm>
            <a:off x="5075280" y="530280"/>
            <a:ext cx="3292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583"/>
                </a:solidFill>
                <a:latin typeface="Verdana"/>
              </a:rPr>
              <a:t>У станции метро «Гостиный двор» есть несколько выходов на улицу. Один из них выход на Канал Грибоедова. Дом, который  располагается над станцией метро ,под номером 30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3" name="Содержимое 3" descr="Nevsky_30_-_autumn_2007.jpg"/>
          <p:cNvPicPr/>
          <p:nvPr/>
        </p:nvPicPr>
        <p:blipFill>
          <a:blip r:embed="rId1"/>
          <a:stretch/>
        </p:blipFill>
        <p:spPr>
          <a:xfrm>
            <a:off x="1187280" y="530280"/>
            <a:ext cx="6769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44583"/>
                </a:solidFill>
                <a:latin typeface="Verdana"/>
              </a:rPr>
              <a:t>Малый зал имени М.И.Глинки </a:t>
            </a:r>
            <a:r>
              <a:rPr b="0" lang="ru-RU" sz="1600" spc="-1" strike="noStrike">
                <a:solidFill>
                  <a:srgbClr val="244583"/>
                </a:solidFill>
                <a:latin typeface="Verdana"/>
              </a:rPr>
              <a:t>Санкт-Петербургской филармонии располагается по адресу Невский проспект дом 30. История прекрасного особняка на Невском проспекте , возведенного по проекту архитектора  Б. Растрелли, восходит в середине XVIII века. Здесь устраивались балы и маскарады, с 1802 года проводились концерты первого в России Филармонического общества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5" name="Содержимое 4" descr="okna_1_009.jpg"/>
          <p:cNvPicPr/>
          <p:nvPr/>
        </p:nvPicPr>
        <p:blipFill>
          <a:blip r:embed="rId1"/>
          <a:stretch/>
        </p:blipFill>
        <p:spPr>
          <a:xfrm>
            <a:off x="514440" y="765000"/>
            <a:ext cx="4128840" cy="343404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5" descr="03-04-11_1833.jpg"/>
          <p:cNvPicPr/>
          <p:nvPr/>
        </p:nvPicPr>
        <p:blipFill>
          <a:blip r:embed="rId2"/>
          <a:stretch/>
        </p:blipFill>
        <p:spPr>
          <a:xfrm>
            <a:off x="4756320" y="765000"/>
            <a:ext cx="393048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Канал Грибоедова  </a:t>
            </a: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(до 1923 года — Екатерининский канал) — канал в Санкт-Петербурге</a:t>
            </a:r>
            <a:r>
              <a:rPr b="0" lang="en-US" sz="1600" spc="-1" strike="noStrike">
                <a:solidFill>
                  <a:srgbClr val="9a3d01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Длина всего канала составляет 5 км, ширина — 32 м. От других протоков Петербурга канал отличается своим узким и очень извилистым  руслом. Изначально носил название Екатерининского — в честь императрицы Екатерины II, в царствование которой он был обустроен. 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8" name="Содержимое 4" descr="03-04-11_1824.jpg"/>
          <p:cNvPicPr/>
          <p:nvPr/>
        </p:nvPicPr>
        <p:blipFill>
          <a:blip r:embed="rId1"/>
          <a:stretch/>
        </p:blipFill>
        <p:spPr>
          <a:xfrm>
            <a:off x="835200" y="530280"/>
            <a:ext cx="3290760" cy="419400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5" descr="kazanskiy-m1.jpg"/>
          <p:cNvPicPr/>
          <p:nvPr/>
        </p:nvPicPr>
        <p:blipFill>
          <a:blip r:embed="rId2"/>
          <a:stretch/>
        </p:blipFill>
        <p:spPr>
          <a:xfrm>
            <a:off x="4356000" y="836640"/>
            <a:ext cx="4330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508640"/>
            <a:ext cx="81835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Казанский мост 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расположен рядом с Казанским собором, который дал название мосту. Год постройки </a:t>
            </a: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1766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. Является одним из самых широких мостов в Санкт-Петербурге (третий по ширине) - 95 метров. Казанский мост является самым низким в Санкт-Петербурге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1" name="Содержимое 4" descr="kazansky1.jpg"/>
          <p:cNvPicPr/>
          <p:nvPr/>
        </p:nvPicPr>
        <p:blipFill>
          <a:blip r:embed="rId1"/>
          <a:stretch/>
        </p:blipFill>
        <p:spPr>
          <a:xfrm>
            <a:off x="514440" y="1268280"/>
            <a:ext cx="3932280" cy="302436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5" descr="kazanskiy_most.jpg"/>
          <p:cNvPicPr/>
          <p:nvPr/>
        </p:nvPicPr>
        <p:blipFill>
          <a:blip r:embed="rId2"/>
          <a:stretch/>
        </p:blipFill>
        <p:spPr>
          <a:xfrm>
            <a:off x="4756320" y="1251000"/>
            <a:ext cx="3930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97360"/>
            <a:ext cx="818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d01"/>
                </a:solidFill>
                <a:latin typeface="Verdana"/>
              </a:rPr>
              <a:t>Собор Воскресения Христова на Крови́ ,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Храм Спаса–на-Крови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сооружён в память того, что на этом месте 1 марта 1881 года в результате покушения был смертельно ранен император Александр II 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 Храм был сооружен как памятник Царю-Мученику на средства, собранные по всей России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Архитектор Альфред Парланд 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4" name="Содержимое 4" descr="03-04-11_1825.jpg"/>
          <p:cNvPicPr/>
          <p:nvPr/>
        </p:nvPicPr>
        <p:blipFill>
          <a:blip r:embed="rId1"/>
          <a:stretch/>
        </p:blipFill>
        <p:spPr>
          <a:xfrm>
            <a:off x="1187280" y="69228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5" descr="St._Petersburg_church.jpg"/>
          <p:cNvPicPr/>
          <p:nvPr/>
        </p:nvPicPr>
        <p:blipFill>
          <a:blip r:embed="rId2"/>
          <a:stretch/>
        </p:blipFill>
        <p:spPr>
          <a:xfrm>
            <a:off x="5073480" y="692280"/>
            <a:ext cx="3295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Дом комп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ан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ии 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«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Зи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н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гер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» (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известный также как </a:t>
            </a:r>
            <a:r>
              <a:rPr b="1" lang="en-US" sz="2000" spc="-1" strike="noStrike">
                <a:solidFill>
                  <a:srgbClr val="595d63"/>
                </a:solidFill>
                <a:latin typeface="Verdana"/>
              </a:rPr>
              <a:t>«</a:t>
            </a:r>
            <a:r>
              <a:rPr b="1" lang="vi-VN" sz="2000" spc="-1" strike="noStrike">
                <a:solidFill>
                  <a:srgbClr val="595d63"/>
                </a:solidFill>
                <a:latin typeface="Verdana"/>
              </a:rPr>
              <a:t>Дом кни</a:t>
            </a:r>
            <a:r>
              <a:rPr b="1" lang="ru-RU" sz="2000" spc="-1" strike="noStrike">
                <a:solidFill>
                  <a:srgbClr val="595d63"/>
                </a:solidFill>
                <a:latin typeface="Verdana"/>
              </a:rPr>
              <a:t>г</a:t>
            </a:r>
            <a:r>
              <a:rPr b="1" lang="vi-VN" sz="2000" spc="-1" strike="noStrike">
                <a:solidFill>
                  <a:srgbClr val="595d63"/>
                </a:solidFill>
                <a:latin typeface="Verdana"/>
              </a:rPr>
              <a:t>и</a:t>
            </a:r>
            <a:r>
              <a:rPr b="1" lang="en-US" sz="2000" spc="-1" strike="noStrike">
                <a:solidFill>
                  <a:srgbClr val="595d63"/>
                </a:solidFill>
                <a:latin typeface="Verdana"/>
              </a:rPr>
              <a:t>») 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здание в Санкт-Петербурге, расположенное по адресу: Невский проспект, дом 28, памятник архитектуры.</a:t>
            </a:r>
            <a:endParaRPr b="1" lang="en-US" sz="20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7" name="Содержимое 3" descr="03-04-11_1817.jpg"/>
          <p:cNvPicPr/>
          <p:nvPr/>
        </p:nvPicPr>
        <p:blipFill>
          <a:blip r:embed="rId1"/>
          <a:stretch/>
        </p:blipFill>
        <p:spPr>
          <a:xfrm>
            <a:off x="2700360" y="530280"/>
            <a:ext cx="3743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Шестиэтажное с мансардой здание , площадью около 7000 м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²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было построено в 1902—1904 по проекту архитектора Павла Сюзора  для 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«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Акционерной компании Зингер в России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»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, производящей швейные машины. Здание венчает  изящная  башня, увенчанная стеклянным глобусом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9" name="Содержимое 4" descr="dom_knigi_spb.jpg"/>
          <p:cNvPicPr/>
          <p:nvPr/>
        </p:nvPicPr>
        <p:blipFill>
          <a:blip r:embed="rId1"/>
          <a:stretch/>
        </p:blipFill>
        <p:spPr>
          <a:xfrm>
            <a:off x="835200" y="836640"/>
            <a:ext cx="3290760" cy="40831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5" descr="Дом-книги.jpg"/>
          <p:cNvPicPr/>
          <p:nvPr/>
        </p:nvPicPr>
        <p:blipFill>
          <a:blip r:embed="rId2"/>
          <a:stretch/>
        </p:blipFill>
        <p:spPr>
          <a:xfrm>
            <a:off x="4356000" y="1214280"/>
            <a:ext cx="4330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508280"/>
            <a:ext cx="81835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Здание Городской думы с башней </a:t>
            </a:r>
            <a:r>
              <a:rPr b="0" lang="ru-RU" sz="1600" spc="-1" strike="noStrike">
                <a:solidFill>
                  <a:srgbClr val="3668c4"/>
                </a:solidFill>
                <a:latin typeface="Verdana"/>
              </a:rPr>
              <a:t>—на углу Думской улицы и Невского проспекта в Санкт. Построено  в 1847—1852 году по проекту архитектора Николая Ефимовича  Ефимова трёхэтажное здание. Башня Думы изначально возводилась как сигнальная башня на случай пожара. Внутри башни постоянно дежурили десять пожарных. Потом , до революции, в этом здании проводила заседания Городская Дума. Сейчас в здании размещаются Детская филармония, музыкальная школа им. Н. А. Римского-Корсакова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2" name="Содержимое 4" descr="03-04-11_1831.jpg"/>
          <p:cNvPicPr/>
          <p:nvPr/>
        </p:nvPicPr>
        <p:blipFill>
          <a:blip r:embed="rId1"/>
          <a:stretch/>
        </p:blipFill>
        <p:spPr>
          <a:xfrm>
            <a:off x="716040" y="530280"/>
            <a:ext cx="3529080" cy="397836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башня думы.jpg"/>
          <p:cNvPicPr/>
          <p:nvPr/>
        </p:nvPicPr>
        <p:blipFill>
          <a:blip r:embed="rId2"/>
          <a:stretch/>
        </p:blipFill>
        <p:spPr>
          <a:xfrm>
            <a:off x="4756320" y="125100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14:06Z</dcterms:created>
  <dc:creator>-</dc:creator>
  <dc:description/>
  <dc:language>en-US</dc:language>
  <cp:lastModifiedBy>-</cp:lastModifiedBy>
  <dcterms:modified xsi:type="dcterms:W3CDTF">2011-04-06T19:36:24Z</dcterms:modified>
  <cp:revision>14</cp:revision>
  <dc:subject/>
  <dc:title>Достопримечательности КАНАЛА Грибоедовых </dc:title>
</cp:coreProperties>
</file>