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DDB-0C53-4FFB-8F88-DF0E76D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23B-A885-483F-AA6D-419FE75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F32-9ACE-4D50-9C69-E40810EF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4B6-C6CF-4C14-A4E4-E5DC481E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D1A1-A7D2-484A-8C8E-8004584B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1DC-007A-4AFF-A553-24F96257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A45-44DC-4792-B71F-56C0EDA6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89C1-701E-4051-943C-0BF10DFE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1EA4-4F25-4CFA-BB3C-F7592F7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BC27-6FCA-4D69-841B-E2D48FC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DCD5-7FFD-4EAA-86CE-FD54FD0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783-4029-4A8C-A619-C076296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B09-A2F4-4095-93BD-904866B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A479-1C4C-4893-B411-9A2567DE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75D1-4CDE-43ED-8480-944B477A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CA7F-7B43-4207-AF18-D3508153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5B5-C239-475D-91F3-B67388DB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D4FF-DE5A-45A9-88F6-98D2C865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72DF-FD7D-40DC-BE2C-E8F43C5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A2A1-7367-4570-B981-2CE3434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00B0-5795-4B2B-9295-38A73252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05A8-3592-47B6-B089-DE424348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4B7-8F79-4C2A-AEB9-BC8824D3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0578-CB09-4EE4-BC3F-F7C4175A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27BD-9091-4031-A781-03CE117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040B-58E1-4FC2-B1BE-B03BB0C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B7B7-11DD-441D-823A-A144665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AAC0-AC8E-42B6-89F1-6F0AAA68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4D3B-491D-4E80-9782-4D4804DB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ED37-9C06-4238-B5DF-7F6471F2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DA33-46A4-4B0F-9C3C-65CBB632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2A045-C03D-4C70-A3BE-67C5796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3F7D-BD23-4FFD-99E3-461795CC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E84-8DFB-42DE-8828-19D4E06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A0F4-D0BD-405E-B21F-A4779556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37FA-611D-4F8B-B3E2-22B8E7D7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1227-E870-4C29-AAB8-5CA4E1D5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459F-2036-44CC-9307-71E3C81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E011-517F-4565-8666-C246980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E1B5-6E1B-4B34-B921-5315479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9AEE-16D3-44B4-AA56-09D43CED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335A-91B1-425C-A454-1195D508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9C37-03EB-41DF-991F-196BA3FC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40F7A-A59E-4952-B189-4DF80ECC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519-4A90-4A14-8FDD-9100306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6CDF-87C7-44FE-9943-822670F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808C-E4D3-4099-9617-6ABC3841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68E8-C198-479D-BF6D-D9E708C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B891-24CA-469A-85BF-E5388A9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21824-375D-4B46-948E-520E7BA6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99A0-FDF4-4005-A4F2-6611A55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4703-0F77-49B1-9F7B-FFF3BB5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6735-64EA-48AC-8A27-8C6FBAAE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F55C-3ED7-48D7-B6B5-B71556C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E00C-3813-482D-B894-1899E06E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6D4-A80A-4E6B-A423-FBACBFC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6EAD-74D0-40C1-A8D2-E5BEB1B7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505-08C0-4EB4-B9CA-2FEDBA2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C85-D40E-4C49-8B1C-9D0FF08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478-87CD-42A1-802C-1BE311F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86E-291E-459C-BF20-6CDF84BB4926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15BA-3DE6-45C9-A25B-0F742F2CF33B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45B-5154-409C-BB42-6237481F9AFB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9DBA-CF97-4688-8F8E-506321FBCAC9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14A2-755C-4E3C-B436-450F20C5EB0E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e49"/>
                </a:solidFill>
                <a:latin typeface="Verdana"/>
              </a:rPr>
              <a:t>Достопримечательности КАНАЛА Грибоедова</a:t>
            </a:r>
            <a:r>
              <a:rPr b="1" lang="ru-RU" sz="4800" spc="-1" strike="noStrike">
                <a:solidFill>
                  <a:srgbClr val="ff8e49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Презентация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Ученика 3 В клас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Школы № 64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668c4"/>
                </a:solidFill>
                <a:latin typeface="Verdana"/>
              </a:rPr>
              <a:t>Данилкина Михаи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Казанский кафедральный собор 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(собор Казанской Божией Матери) в Санкт-Петербурге (Невский проспект, 25) — православный кафедральный храм</a:t>
            </a:r>
            <a:r>
              <a:rPr b="0" lang="en-US" sz="1800" spc="-1" strike="noStrike">
                <a:solidFill>
                  <a:srgbClr val="3668c4"/>
                </a:solidFill>
                <a:latin typeface="Verdana"/>
              </a:rPr>
              <a:t>. (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Архитектор Андрей Никифорович </a:t>
            </a: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Воронихин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). 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5" name="Содержимое 4" descr="03-04-11_1814.jpg"/>
          <p:cNvPicPr/>
          <p:nvPr/>
        </p:nvPicPr>
        <p:blipFill>
          <a:blip r:embed="rId1"/>
          <a:stretch/>
        </p:blipFill>
        <p:spPr>
          <a:xfrm>
            <a:off x="514440" y="1251000"/>
            <a:ext cx="4273560" cy="325764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03-04-11_1821.jpg"/>
          <p:cNvPicPr/>
          <p:nvPr/>
        </p:nvPicPr>
        <p:blipFill>
          <a:blip r:embed="rId2"/>
          <a:stretch/>
        </p:blipFill>
        <p:spPr>
          <a:xfrm>
            <a:off x="5075280" y="530280"/>
            <a:ext cx="32925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41720"/>
            <a:ext cx="8183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a3d01"/>
                </a:solidFill>
                <a:latin typeface="Verdana"/>
              </a:rPr>
              <a:t>Казанский собор — храм русской воинской славы. Летом 1812 года, перед выездом в действующую армию, собор посетил  русской армией Михаил Илларионович Кутузов. . Прославленный фельдмаршал нашёл здесь свой последний  приют. А в 1837 году, в честь двадцать пятой годовщины разгрома Наполеона, на площади перед Казанским собором были торжественно открыты бронзовые памятники прославленным русским полководцам </a:t>
            </a:r>
            <a:r>
              <a:rPr b="1" lang="ru-RU" sz="1600" spc="-1" strike="noStrike">
                <a:solidFill>
                  <a:srgbClr val="9a3d01"/>
                </a:solidFill>
                <a:latin typeface="Verdana"/>
              </a:rPr>
              <a:t>М. И. Кутузову и М. Б. Барклаю-де-Толли.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8" name="Содержимое 4" descr="03-04-11_1816.jpg"/>
          <p:cNvPicPr/>
          <p:nvPr/>
        </p:nvPicPr>
        <p:blipFill>
          <a:blip r:embed="rId1"/>
          <a:stretch/>
        </p:blipFill>
        <p:spPr>
          <a:xfrm>
            <a:off x="835200" y="530280"/>
            <a:ext cx="3290760" cy="43894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5" descr="03-04-11_1820.jpg"/>
          <p:cNvPicPr/>
          <p:nvPr/>
        </p:nvPicPr>
        <p:blipFill>
          <a:blip r:embed="rId2"/>
          <a:stretch/>
        </p:blipFill>
        <p:spPr>
          <a:xfrm>
            <a:off x="5075280" y="530280"/>
            <a:ext cx="3292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583"/>
                </a:solidFill>
                <a:latin typeface="Verdana"/>
              </a:rPr>
              <a:t>У станции метро «Гостиный двор» есть несколько выходов на улицу. Один из них выход на Канал Грибоедова. Дом, который  располагается над станцией метро ,под номером 30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3" name="Содержимое 3" descr="Nevsky_30_-_autumn_2007.jpg"/>
          <p:cNvPicPr/>
          <p:nvPr/>
        </p:nvPicPr>
        <p:blipFill>
          <a:blip r:embed="rId1"/>
          <a:stretch/>
        </p:blipFill>
        <p:spPr>
          <a:xfrm>
            <a:off x="1187280" y="530280"/>
            <a:ext cx="6769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44583"/>
                </a:solidFill>
                <a:latin typeface="Verdana"/>
              </a:rPr>
              <a:t>Малый зал имени М.И.Глинки </a:t>
            </a:r>
            <a:r>
              <a:rPr b="0" lang="ru-RU" sz="1600" spc="-1" strike="noStrike">
                <a:solidFill>
                  <a:srgbClr val="244583"/>
                </a:solidFill>
                <a:latin typeface="Verdana"/>
              </a:rPr>
              <a:t>Санкт-Петербургской филармонии располагается по адресу Невский проспект дом 30. История прекрасного особняка на Невском проспекте , возведенного по проекту архитектора  Б. Растрелли, восходит в середине XVIII века. Здесь устраивались балы и маскарады, с 1802 года проводились концерты первого в России Филармонического общества.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5" name="Содержимое 4" descr="okna_1_009.jpg"/>
          <p:cNvPicPr/>
          <p:nvPr/>
        </p:nvPicPr>
        <p:blipFill>
          <a:blip r:embed="rId1"/>
          <a:stretch/>
        </p:blipFill>
        <p:spPr>
          <a:xfrm>
            <a:off x="514440" y="765000"/>
            <a:ext cx="4128840" cy="343404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5" descr="03-04-11_1833.jpg"/>
          <p:cNvPicPr/>
          <p:nvPr/>
        </p:nvPicPr>
        <p:blipFill>
          <a:blip r:embed="rId2"/>
          <a:stretch/>
        </p:blipFill>
        <p:spPr>
          <a:xfrm>
            <a:off x="4756320" y="765000"/>
            <a:ext cx="393048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3d01"/>
                </a:solidFill>
                <a:latin typeface="Verdana"/>
              </a:rPr>
              <a:t>Канал Грибоедова  </a:t>
            </a:r>
            <a:r>
              <a:rPr b="0" lang="ru-RU" sz="1600" spc="-1" strike="noStrike">
                <a:solidFill>
                  <a:srgbClr val="9a3d01"/>
                </a:solidFill>
                <a:latin typeface="Verdana"/>
              </a:rPr>
              <a:t>(до 1923 года — Екатерининский канал) — канал в Санкт-Петербурге</a:t>
            </a:r>
            <a:r>
              <a:rPr b="0" lang="en-US" sz="1600" spc="-1" strike="noStrike">
                <a:solidFill>
                  <a:srgbClr val="9a3d01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9a3d01"/>
                </a:solidFill>
                <a:latin typeface="Verdana"/>
              </a:rPr>
              <a:t>Длина всего канала составляет 5 км, ширина — 32 м. От других протоков Петербурга канал отличается своим узким и очень извилистым  руслом. Изначально носил название Екатерининского — в честь императрицы Екатерины II, в царствование которой он был обустроен. 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8" name="Содержимое 4" descr="03-04-11_1824.jpg"/>
          <p:cNvPicPr/>
          <p:nvPr/>
        </p:nvPicPr>
        <p:blipFill>
          <a:blip r:embed="rId1"/>
          <a:stretch/>
        </p:blipFill>
        <p:spPr>
          <a:xfrm>
            <a:off x="835200" y="530280"/>
            <a:ext cx="3290760" cy="419400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5" descr="kazanskiy-m1.jpg"/>
          <p:cNvPicPr/>
          <p:nvPr/>
        </p:nvPicPr>
        <p:blipFill>
          <a:blip r:embed="rId2"/>
          <a:stretch/>
        </p:blipFill>
        <p:spPr>
          <a:xfrm>
            <a:off x="4356000" y="836640"/>
            <a:ext cx="4330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508640"/>
            <a:ext cx="81835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Казанский мост 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расположен рядом с Казанским собором, который дал название мосту. Год постройки </a:t>
            </a:r>
            <a:r>
              <a:rPr b="1" lang="ru-RU" sz="1800" spc="-1" strike="noStrike">
                <a:solidFill>
                  <a:srgbClr val="3668c4"/>
                </a:solidFill>
                <a:latin typeface="Verdana"/>
              </a:rPr>
              <a:t>1766</a:t>
            </a:r>
            <a:r>
              <a:rPr b="0" lang="ru-RU" sz="1800" spc="-1" strike="noStrike">
                <a:solidFill>
                  <a:srgbClr val="3668c4"/>
                </a:solidFill>
                <a:latin typeface="Verdana"/>
              </a:rPr>
              <a:t>. Является одним из самых широких мостов в Санкт-Петербурге (третий по ширине) - 95 метров. Казанский мост является самым низким в Санкт-Петербурге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1" name="Содержимое 4" descr="kazansky1.jpg"/>
          <p:cNvPicPr/>
          <p:nvPr/>
        </p:nvPicPr>
        <p:blipFill>
          <a:blip r:embed="rId1"/>
          <a:stretch/>
        </p:blipFill>
        <p:spPr>
          <a:xfrm>
            <a:off x="514440" y="1268280"/>
            <a:ext cx="3932280" cy="302436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5" descr="kazanskiy_most.jpg"/>
          <p:cNvPicPr/>
          <p:nvPr/>
        </p:nvPicPr>
        <p:blipFill>
          <a:blip r:embed="rId2"/>
          <a:stretch/>
        </p:blipFill>
        <p:spPr>
          <a:xfrm>
            <a:off x="4756320" y="1251000"/>
            <a:ext cx="3930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97360"/>
            <a:ext cx="8183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d01"/>
                </a:solidFill>
                <a:latin typeface="Verdana"/>
              </a:rPr>
              <a:t>Собор Воскресения Христова на Крови́ , 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Храм Спаса–на-Крови</a:t>
            </a:r>
            <a:r>
              <a:rPr b="0" lang="en-US" sz="1800" spc="-1" strike="noStrike">
                <a:solidFill>
                  <a:srgbClr val="9a3d0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сооружён в память того, что на этом месте 1 марта 1881 года в результате покушения был смертельно ранен император Александр II </a:t>
            </a:r>
            <a:r>
              <a:rPr b="0" lang="en-US" sz="1800" spc="-1" strike="noStrike">
                <a:solidFill>
                  <a:srgbClr val="9a3d01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 Храм был сооружен как памятник Царю-Мученику на средства, собранные по всей России</a:t>
            </a:r>
            <a:r>
              <a:rPr b="0" lang="en-US" sz="1800" spc="-1" strike="noStrike">
                <a:solidFill>
                  <a:srgbClr val="9a3d01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9a3d01"/>
                </a:solidFill>
                <a:latin typeface="Verdana"/>
              </a:rPr>
              <a:t>Архитектор Альфред Парланд 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4" name="Содержимое 4" descr="03-04-11_1825.jpg"/>
          <p:cNvPicPr/>
          <p:nvPr/>
        </p:nvPicPr>
        <p:blipFill>
          <a:blip r:embed="rId1"/>
          <a:stretch/>
        </p:blipFill>
        <p:spPr>
          <a:xfrm>
            <a:off x="1187280" y="69228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5" descr="St._Petersburg_church.jpg"/>
          <p:cNvPicPr/>
          <p:nvPr/>
        </p:nvPicPr>
        <p:blipFill>
          <a:blip r:embed="rId2"/>
          <a:stretch/>
        </p:blipFill>
        <p:spPr>
          <a:xfrm>
            <a:off x="5073480" y="692280"/>
            <a:ext cx="3295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Дом комп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ан</a:t>
            </a: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ии </a:t>
            </a:r>
            <a:r>
              <a:rPr b="0" lang="en-US" sz="2000" spc="-1" strike="noStrike">
                <a:solidFill>
                  <a:srgbClr val="595d63"/>
                </a:solidFill>
                <a:latin typeface="Verdana"/>
              </a:rPr>
              <a:t>«</a:t>
            </a: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Зи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н</a:t>
            </a:r>
            <a:r>
              <a:rPr b="0" lang="vi-VN" sz="2000" spc="-1" strike="noStrike">
                <a:solidFill>
                  <a:srgbClr val="595d63"/>
                </a:solidFill>
                <a:latin typeface="Verdana"/>
              </a:rPr>
              <a:t>гер</a:t>
            </a:r>
            <a:r>
              <a:rPr b="0" lang="en-US" sz="2000" spc="-1" strike="noStrike">
                <a:solidFill>
                  <a:srgbClr val="595d63"/>
                </a:solidFill>
                <a:latin typeface="Verdana"/>
              </a:rPr>
              <a:t>» (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известный также как </a:t>
            </a:r>
            <a:r>
              <a:rPr b="1" lang="en-US" sz="2000" spc="-1" strike="noStrike">
                <a:solidFill>
                  <a:srgbClr val="595d63"/>
                </a:solidFill>
                <a:latin typeface="Verdana"/>
              </a:rPr>
              <a:t>«</a:t>
            </a:r>
            <a:r>
              <a:rPr b="1" lang="vi-VN" sz="2000" spc="-1" strike="noStrike">
                <a:solidFill>
                  <a:srgbClr val="595d63"/>
                </a:solidFill>
                <a:latin typeface="Verdana"/>
              </a:rPr>
              <a:t>Дом кни</a:t>
            </a:r>
            <a:r>
              <a:rPr b="1" lang="ru-RU" sz="2000" spc="-1" strike="noStrike">
                <a:solidFill>
                  <a:srgbClr val="595d63"/>
                </a:solidFill>
                <a:latin typeface="Verdana"/>
              </a:rPr>
              <a:t>г</a:t>
            </a:r>
            <a:r>
              <a:rPr b="1" lang="vi-VN" sz="2000" spc="-1" strike="noStrike">
                <a:solidFill>
                  <a:srgbClr val="595d63"/>
                </a:solidFill>
                <a:latin typeface="Verdana"/>
              </a:rPr>
              <a:t>и</a:t>
            </a:r>
            <a:r>
              <a:rPr b="1" lang="en-US" sz="2000" spc="-1" strike="noStrike">
                <a:solidFill>
                  <a:srgbClr val="595d63"/>
                </a:solidFill>
                <a:latin typeface="Verdana"/>
              </a:rPr>
              <a:t>») </a:t>
            </a:r>
            <a:r>
              <a:rPr b="0" lang="en-US" sz="2000" spc="-1" strike="noStrike">
                <a:solidFill>
                  <a:srgbClr val="595d63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595d63"/>
                </a:solidFill>
                <a:latin typeface="Verdana"/>
              </a:rPr>
              <a:t>здание в Санкт-Петербурге, расположенное по адресу: Невский проспект, дом 28, памятник архитектуры.</a:t>
            </a:r>
            <a:endParaRPr b="1" lang="en-US" sz="20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7" name="Содержимое 3" descr="03-04-11_1817.jpg"/>
          <p:cNvPicPr/>
          <p:nvPr/>
        </p:nvPicPr>
        <p:blipFill>
          <a:blip r:embed="rId1"/>
          <a:stretch/>
        </p:blipFill>
        <p:spPr>
          <a:xfrm>
            <a:off x="2700360" y="530280"/>
            <a:ext cx="3743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Шестиэтажное с мансардой здание , площадью около 7000 м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²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было построено в 1902—1904 по проекту архитектора Павла Сюзора  для 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«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Акционерной компании Зингер в России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»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, производящей швейные машины. Здание венчает  изящная  башня, увенчанная стеклянным глобусом.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9" name="Содержимое 4" descr="dom_knigi_spb.jpg"/>
          <p:cNvPicPr/>
          <p:nvPr/>
        </p:nvPicPr>
        <p:blipFill>
          <a:blip r:embed="rId1"/>
          <a:stretch/>
        </p:blipFill>
        <p:spPr>
          <a:xfrm>
            <a:off x="835200" y="836640"/>
            <a:ext cx="3290760" cy="408312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5" descr="Дом-книги.jpg"/>
          <p:cNvPicPr/>
          <p:nvPr/>
        </p:nvPicPr>
        <p:blipFill>
          <a:blip r:embed="rId2"/>
          <a:stretch/>
        </p:blipFill>
        <p:spPr>
          <a:xfrm>
            <a:off x="4356000" y="1214280"/>
            <a:ext cx="4330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508280"/>
            <a:ext cx="81835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3d01"/>
                </a:solidFill>
                <a:latin typeface="Verdana"/>
              </a:rPr>
              <a:t>Здание Городской думы с башней </a:t>
            </a:r>
            <a:r>
              <a:rPr b="0" lang="ru-RU" sz="1600" spc="-1" strike="noStrike">
                <a:solidFill>
                  <a:srgbClr val="3668c4"/>
                </a:solidFill>
                <a:latin typeface="Verdana"/>
              </a:rPr>
              <a:t>—на углу Думской улицы и Невского проспекта в Санкт. Построено  в 1847—1852 году по проекту архитектора Николая Ефимовича  Ефимова трёхэтажное здание. Башня Думы изначально возводилась как сигнальная башня на случай пожара. Внутри башни постоянно дежурили десять пожарных. Потом , до революции, в этом здании проводила заседания Городская Дума. Сейчас в здании размещаются Детская филармония, музыкальная школа им. Н. А. Римского-Корсакова.</a:t>
            </a: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42" name="Содержимое 4" descr="03-04-11_1831.jpg"/>
          <p:cNvPicPr/>
          <p:nvPr/>
        </p:nvPicPr>
        <p:blipFill>
          <a:blip r:embed="rId1"/>
          <a:stretch/>
        </p:blipFill>
        <p:spPr>
          <a:xfrm>
            <a:off x="716040" y="530280"/>
            <a:ext cx="3529080" cy="397836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башня думы.jpg"/>
          <p:cNvPicPr/>
          <p:nvPr/>
        </p:nvPicPr>
        <p:blipFill>
          <a:blip r:embed="rId2"/>
          <a:stretch/>
        </p:blipFill>
        <p:spPr>
          <a:xfrm>
            <a:off x="4756320" y="1251000"/>
            <a:ext cx="3930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14:06Z</dcterms:created>
  <dc:creator>-</dc:creator>
  <dc:description/>
  <dc:language>en-US</dc:language>
  <cp:lastModifiedBy>-</cp:lastModifiedBy>
  <dcterms:modified xsi:type="dcterms:W3CDTF">2011-04-06T19:36:24Z</dcterms:modified>
  <cp:revision>14</cp:revision>
  <dc:subject/>
  <dc:title>Достопримечательности КАНАЛА Грибоедовых </dc:title>
</cp:coreProperties>
</file>