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D9E-3BFA-4AB1-B448-3D520659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1CF-1E95-4B4C-9E54-FAFCC6F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582-7E88-4E2B-A248-14B01746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3BC-853D-4381-9526-DBC9D542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A33-DEF1-4B36-B4B9-28FA5D92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F07-87F4-4305-8001-B66FCFDB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9CC-4EC0-4579-82A7-BCEECAF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3B9-6A1B-47A6-820C-92EBB1C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CFF-A702-46F4-8A1C-3C8BADB3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6B5-9223-47D5-BCC3-57E868B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8D6-813E-43B0-A38F-1EC0EDEE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EA2-196C-40D4-A912-308554B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EB5-9410-4F79-831C-3BBAF66C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ец характеристики уча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учащегося ГБОУ СОШ № 512  ФИО, 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-ся ___ класса, ______ года  рождения,   проживающего по адресу :_____________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дрес регистрации, если нет постоянной прописки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О уч-ся обучается в данной школе с _____ класса, за время обучения проявил себя как ученик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характерис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 развитая учебная мотив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ая эрудиция, грамотность, умение чётко и системно излаг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ет большим объёмом информации и свободно рассуждает на различные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ет смысл и причины действий людей и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живым наблюдателем: «видит больше» или «берёт больше» из рассказа, фильма или какой-то деятельности, чем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ил в данный класс, имея хорошие способности по следующим предметам: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ки, полученные в начальной школе, подтвердил и учится 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ости в обучении (если есть)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ая активность на уроках носит кратковременный характер, часто отвлекается, не слышит вопро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сивен на занятиях, быстро устаёт, даёт не правиль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ключается в учебный процесс, большую часть времени занимается посторонними делами, преобладают игровые интере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рудом овладевает навыками чтения, письма, счё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хо запоминает даже простое стих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ограниченный (бедный) словарный зап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тивационные характеристик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йчив в поиске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 становится рассеянным во время скучного задания или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прерывае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агает усилия для закрепления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ждается в минимуме указаний со стороны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рный в отстаивании своего м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ствителен к мнении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езразличен к правильному или неправильному, хорошему и плохому, к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обсуждать людей, события,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разрешать конфликтн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радоваться успехам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ности в усвоении норм поведе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Очень вспыльчив, часто непослушен, спорит со взросл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ешает другим детям на уро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Не слышит обращённую к нему речь, не меняет своего поведения когда делают замеч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Безынициативен, замкнут, погружен в свои мысли, может не отвечать на вопросы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Отсутствует эмоциональная заинтересованность в окружающе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Другие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орческие характеристик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пытен и любознателен, задаёт много вопросов (не только на реальные 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являет интерес к интеллектуальным играм, фантазиям (интересно, что случилось бы, если бы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предлагает необычные ответы, рассказывает с богатым воображением истории, склонен к преувели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увлечением стремится рассказать другим обо всём, что знает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шутить и понимает шутки, всегда находится в центре своих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удовольствием участвует в различных видах исследовательской деятельности в классе и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ажется взволнованным, когда нарушен нормальный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ет дружить и сам является хороши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эмоциональных конта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ы взаимоотношения со сверстниками (мешает одноклассникам, подсмеивается над ними, запугивает, паясничает, играет роль «клоуна», часто ссорится со сверстниками, находится в плохих отношениях с некоторыми их них, нелюбим другими детьми, над ним часто подсмеиваются, в классе является «козлом отпущения», замкнут, любит наохотиться один, другие нару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ы взаимоотношения со взрослыми (при взаимоотношениях со взрослыми теряется, смущается, плачет без веских причин, при ответах говорит тихим голосом, опустив голову, не смотрит в глаза, запинается, избегает контакта с учителем, не заинтересован в общении с ним, старается быть незаметным, не выполняет его требований, отвечает дерзко, порой-грубо, выражается нецензурно, даже в присутствии взрослых, другие нару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истики ученика как лидер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ёт на себя ответственность в различных делах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ется авторитетом среди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н по отношению к себе и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оится признать свою неправ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 и порядочен, способен к совершению нравственных поступ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 участвует в делах класса,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ен защитить честь класса и школы в различных меро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дер в нескольких видах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стоятельства, отрицательно влияющие на процесс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матическая ослабленность (частые простуды, головные боли, жалобы на боли в желудке и тошноту, наличие хронических заболе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ческие нарушения и физические дефекты (плохое зрение, слабый слух, заикание, плохая координация движений, неловкий, неуклюжий, чрезмерная полнота, маленький рост, друг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дагогическая некомпетентность родителей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емьи : ФИО родителей, где работают, социальный статус (полноценная, многодетная, в разводе, одинокая мать/отец, малообеспеченная, вынужденные переселен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родителей в жизни класса 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надзорность родители игнорируют не только духовный мир ребёнка, но не выполняют самых элементарных требований по уходу за ним (ребёнок часто неряшливо одет, выглядит так, как будто плохо питае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ое обращение (изби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лагополучная среда проживания (родители не работают, алкоголики, частые скандалы, ссоры, драки в присутствии ребё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ая опека (чрезмерная защита от мнимых и истинных опас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увеличенное представление родителей о хрупкости ребёнка, его болезн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ечивое воспитание (каждый член семьи предъявляет к ребёнку свои треб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метьте положительные черты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школы:______________/_______________________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:__________/_____________________/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_________»_______________20_____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18:29Z</dcterms:created>
  <dc:creator>soc_sluzhba</dc:creator>
  <dc:description/>
  <dc:language>en-US</dc:language>
  <cp:lastModifiedBy>USER</cp:lastModifiedBy>
  <dcterms:modified xsi:type="dcterms:W3CDTF">2002-01-01T03:17:57Z</dcterms:modified>
  <cp:revision>3</cp:revision>
  <dc:subject/>
  <dc:title>Образец характеристики учащегося</dc:title>
</cp:coreProperties>
</file>