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144C-CC09-4497-A05E-6B647735D8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B500-A95D-43C1-A54A-91D0878DF9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292-21B5-44C8-BC99-8463B74BBB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6911-010A-4176-B0BB-87902E7CA3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DF3-EFE8-494C-87BD-0336606A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9F4-DC15-49BB-B73D-54E5D39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553-6E67-478D-BAB6-CEDA6052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B65-4383-4FB9-ACEA-E72169F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D939-7345-4901-9514-F8E34EAA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88C1-6D5B-4B1B-8972-AF59EDE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FD8C-F0C4-4158-AE40-97979FF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E3DE-0542-4FCC-927A-4ECF2A8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F622-A20B-487A-BBE2-98F5ACB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F903-3179-4566-8738-97E1FAF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955-79FC-4357-8A98-F297904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7A0-7084-475E-9D9F-ADA5654F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29DD-59EE-4DAC-B829-365ABBC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5A1-C0D3-488A-AC00-D136115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0AA-B5A6-407A-94E3-3254FD98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40B6-2E6D-49E9-90AC-205A337A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19B6-39F9-43D8-86C2-BC5FBA42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BAE6-F3CA-43DD-8002-2EAF0EA2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A3E3-8784-4B86-8ABE-546FC04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B7EB-61C2-4C29-83F8-7A9E06A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03FF-8CEF-460E-A3B8-46FA6F36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2ABA-FF29-47A8-8BAD-56337919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7D3-9EDD-4378-911A-8FA2C3BE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992C7-1F7A-4AC4-A8CD-8B5F8895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04B1-52EF-42AA-8834-508AB19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EFC7-F7CE-4E94-B94A-E5A022B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53D2-B447-458B-9C5F-C86ED01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E9B6-F8CC-4294-8E04-88825651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9814-20FE-4ACB-B9D3-9F89D4B2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D373-955F-4D12-9D8A-D29B1D35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BD60-BF9E-486C-8F02-07427F3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B93F1-830E-4798-8963-1E40834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495B-29C6-405A-A99A-2B00664D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63C-FB11-4FBD-8B9E-6055F322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E2EF-BBEC-404D-8A04-7D61C5A6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53EE-A447-46F6-B6F9-691F630A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ABDC-992F-45E6-A1C5-AD6A0E5F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2FD2-C26E-443C-AB45-AED9C39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7481-DB6C-4BE6-A75D-89A7F2CE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F4FC-B5BD-4920-97A8-B14CF0C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7AD1-4899-460A-87C8-B5AC3B04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1410-9695-4738-956B-C570F25B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7289-C81D-4769-85A4-C367602D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8018-B05F-4764-B79B-63435AEE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0BF-E931-4C39-BE4E-79E5F0A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46DC3-E1FC-4ACF-8261-123286C1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1D79-5C5E-402A-AE40-41163909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B271-0B0A-4180-AC40-7B8527C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A991-8B54-4A94-AEF1-EF24B392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F77F-B557-4D08-9DE6-8005BBD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89AD-99A7-40FF-A005-CE25AF0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557B-CB2B-4058-B946-B28EC83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C92F-0333-447E-9D88-1838056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8C59B-EDC5-41F4-BE3A-DEA9BC38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2B63-C930-43CC-9A34-BFDC618A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A87-9894-4942-BF35-66B8021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3195-61E4-42B4-8D25-F1A2063F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A88E-569B-43D1-807D-16A3B75E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E5272-C941-4EA6-8E09-AE8463C6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D9656-5891-43BE-8F3E-8609500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6C94-CBD0-49E2-AABB-87E13EC1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CC6B-A833-40C2-8449-0985F0B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242F-227D-4065-91A6-E4C0BC8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8081-4229-4F9C-886A-7108B7C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24439-F543-4FE0-8CC3-81E0D10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1A14-B327-4699-8FEA-08F4467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903-F49B-4F2F-9FFC-3651A6F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8EBA-3C2C-4538-974A-F448457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8CF5-264B-4D3E-88DC-580B70C7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9065-05F3-4A84-9B63-74A1F70E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C836B-7F17-4A90-A949-318E137F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5A35-A3B2-4DCB-941F-0311E86F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1EBDF-3FEC-4D51-8326-8900672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FEE7-9676-4471-BA73-BC8AC9A9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BE3BA-7EF8-4126-A1AA-1B0C5EE1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153A-37FA-4721-857B-8B0B334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244A-4E59-48C1-881F-142C629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08E-748F-447F-9772-25B9757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89A5F-4481-412A-A585-0724DD40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8344-9530-4AE1-AA97-22B54B8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8666E-62F5-4296-861A-FA560578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3959-8C3B-44CA-BC52-EFAFD80C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A774A-260D-4FC1-B652-AC6CB61B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CB1-CA6F-4EAE-A53E-CEE98840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78B4-E793-4859-B58A-431BC25E207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D8A-251C-4215-829F-F15949A32BA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5BD-4D2E-47EA-BFD0-4546D5F92FC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1EAF-C1B6-4D0F-B3B9-074C9A59752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88A-F2B3-4404-861E-7F4815DFA25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F0B-4A9A-482C-B285-49E98E394A4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96A-66BE-47DF-A491-723996FC1BC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нформация получе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images.yandex.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bcetyt.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ru.wikipedia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нтральная симмет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1" action="ppaction://hlinksldjump"/>
              </a:rPr>
              <a:t>Что такое центральная симметрия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 action="ppaction://hlinksldjump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3" action="ppaction://hlinksldjump"/>
              </a:rPr>
              <a:t>Доказательство центральной симметр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Arial"/>
                <a:hlinkClick r:id="rId4" action="ppaction://hlinksldjump"/>
              </a:rPr>
              <a:t>О симметрии фигур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5" action="ppaction://hlinksldjump"/>
              </a:rPr>
              <a:t>Центральная симметрия на график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6" action="ppaction://hlinksldjump"/>
              </a:rPr>
              <a:t>Применение центральной симметрии в жизн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Управляющая кнопка: сведения 3">
            <a:hlinkClick r:id="rId7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нтральная симметр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пределение центральной симметрии: поворот на угол 180 градусов называется центральной симметри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ще можно дать такое определени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Центральная симметрия с центром в точке O это такое отображение плоскости, при котором любой точке X сопоставляется такая точка X', что точка O является серединой отрезка XX'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5-конечная звезда 4">
            <a:hlinkClick r:id="rId1" action="ppaction://hlinksldjump"/>
          </p:cNvPr>
          <p:cNvSpPr/>
          <p:nvPr/>
        </p:nvSpPr>
        <p:spPr>
          <a:xfrm>
            <a:off x="7620120" y="6248520"/>
            <a:ext cx="609480" cy="60948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Управляющая кнопка: домой 5">
            <a:hlinkClick r:id="rId2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казательство центральной симметрии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1760" y="205704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водим отрезки АА’ и ВВ’, они проходят через т.О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змеряем и убеждаемся, что АС=AC’, АВ=АВ’,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орядок построения точки, центрально симметричной точке В на бумаге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1.Проводим луч В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2.Откладываем на нем от т А в другую сторону отрезок АВ’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3" descr="D:\Илкин\Pretender\Разное\img022.gif"/>
          <p:cNvPicPr/>
          <p:nvPr/>
        </p:nvPicPr>
        <p:blipFill>
          <a:blip r:embed="rId1"/>
          <a:stretch/>
        </p:blipFill>
        <p:spPr>
          <a:xfrm>
            <a:off x="6781680" y="2133720"/>
            <a:ext cx="1619280" cy="2152440"/>
          </a:xfrm>
          <a:prstGeom prst="rect">
            <a:avLst/>
          </a:prstGeom>
          <a:ln w="0">
            <a:noFill/>
          </a:ln>
        </p:spPr>
      </p:pic>
      <p:sp>
        <p:nvSpPr>
          <p:cNvPr id="387" name="5-конечная звезда 6">
            <a:hlinkClick r:id="rId2" action="ppaction://hlinksldjump"/>
          </p:cNvPr>
          <p:cNvSpPr/>
          <p:nvPr/>
        </p:nvSpPr>
        <p:spPr>
          <a:xfrm>
            <a:off x="7620120" y="6248520"/>
            <a:ext cx="609480" cy="60948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7">
            <a:hlinkClick r:id="rId3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О симметрии фигу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840" y="499680"/>
            <a:ext cx="8858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Говорят, что фигура обладает симметрией (симметрична) , если существует такое движение (не тождественное), переводящее эту фигуру в себя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Например, фигура обладает поворотной симметрией , если она переходит в себя некоторым поворотом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ассмотрим симметрию некоторых фигур: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1. 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трезок имеет две оси симметрии (серединный перпендикуляр и прямая, содержащая этот отрезок) и центр симметрии (середина)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2. Треугольник общего вида не имеет осей или центров симметрии, он несимметричен. Равнобедренный (но не равносторонний) треугольник имеет одну ось симметрии: серединный перпендикуляр к основанию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3. Равносторонний треугольник имеет три оси симметрии (серединные перпендикуляры к сторонам) и поворотную симметрию относительно центра с углом поворота 120 ° 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4.У любого правильного n-угольника есть n осей симметрии, все они проходят через его центр. Он также имеет поворотную симметрию относительно центра с углом поворота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При четном n одни оси симметрии проходят через противоположные вершины, другие - через середины противоположных сторон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При нечетном n каждая ось проходит через вершину и середину противополжной стороны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Центр правильного многоугольника с четным числом сторон является его центром симметрии. У правильного многоугольника с нечетным числом сторон центра симметрии нет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74520" indent="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Любая прямая, проходящая через центр окружности является ее осью симметрии, окружность также обладает поворотной симметрией, причем угол поворота может быть любым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3" descr="D:\Илкин\Pretender\Разное\Image14604.gif"/>
          <p:cNvPicPr/>
          <p:nvPr/>
        </p:nvPicPr>
        <p:blipFill>
          <a:blip r:embed="rId1"/>
          <a:stretch/>
        </p:blipFill>
        <p:spPr>
          <a:xfrm>
            <a:off x="2133720" y="4572000"/>
            <a:ext cx="228600" cy="25416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назад 5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нтральная симметрия на графиках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Центральной симметрией относительно начала координат обладают графики нечётных функци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4" descr="01030202"/>
          <p:cNvPicPr/>
          <p:nvPr/>
        </p:nvPicPr>
        <p:blipFill>
          <a:blip r:embed="rId1"/>
          <a:stretch/>
        </p:blipFill>
        <p:spPr>
          <a:xfrm>
            <a:off x="1905120" y="3429000"/>
            <a:ext cx="5916600" cy="2819520"/>
          </a:xfrm>
          <a:prstGeom prst="rect">
            <a:avLst/>
          </a:prstGeom>
          <a:ln w="0">
            <a:noFill/>
          </a:ln>
        </p:spPr>
      </p:pic>
      <p:sp>
        <p:nvSpPr>
          <p:cNvPr id="396" name="Управляющая кнопка: назад 4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менение центральной симметрии в жизни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Центральная симметрия  применяется во многих  отраслях,  например в моделировании автомобиля , архитектуре , инструментах (сверло) ,  строй материалах (пружина)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Управляющая кнопка: домой 6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рование автомобил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1" name="Picture 2" descr="D:\Илкин\Pretender\Разное\img_01.png"/>
          <p:cNvPicPr/>
          <p:nvPr/>
        </p:nvPicPr>
        <p:blipFill>
          <a:blip r:embed="rId1"/>
          <a:stretch/>
        </p:blipFill>
        <p:spPr>
          <a:xfrm>
            <a:off x="1905120" y="1752480"/>
            <a:ext cx="5162400" cy="3143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D:\Илкин\Pretender\Разное\i.jpeg"/>
          <p:cNvPicPr/>
          <p:nvPr/>
        </p:nvPicPr>
        <p:blipFill>
          <a:blip r:embed="rId2"/>
          <a:stretch/>
        </p:blipFill>
        <p:spPr>
          <a:xfrm>
            <a:off x="3657600" y="5486400"/>
            <a:ext cx="1803240" cy="749160"/>
          </a:xfrm>
          <a:prstGeom prst="rect">
            <a:avLst/>
          </a:prstGeom>
          <a:ln w="0">
            <a:noFill/>
          </a:ln>
        </p:spPr>
      </p:pic>
      <p:sp>
        <p:nvSpPr>
          <p:cNvPr id="403" name="Управляющая кнопка: назад 6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рхитектур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Picture 3" descr="D:\Илкин\Pretender\Разное\post-814-1173877301_thumb.jpg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3333600"/>
          </a:xfrm>
          <a:prstGeom prst="rect">
            <a:avLst/>
          </a:prstGeom>
          <a:ln w="0">
            <a:noFill/>
          </a:ln>
        </p:spPr>
      </p:pic>
      <p:sp>
        <p:nvSpPr>
          <p:cNvPr id="406" name="Управляющая кнопка: назад 5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01:15Z</dcterms:created>
  <dc:creator>user</dc:creator>
  <dc:description/>
  <dc:language>en-US</dc:language>
  <cp:lastModifiedBy>1</cp:lastModifiedBy>
  <dcterms:modified xsi:type="dcterms:W3CDTF">2009-01-23T12:22:58Z</dcterms:modified>
  <cp:revision>32</cp:revision>
  <dc:subject/>
  <dc:title>Центральная симметрия</dc:title>
</cp:coreProperties>
</file>