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8B0C-0DD5-4ABE-8FA3-6DFBE38EB5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072A-F659-497C-B211-9FFEE703E81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565B-2202-438C-94D8-592C0E415EC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EAD9-8A5E-43B5-AE8F-DF21AED0337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D01-9784-42AF-9D0C-87A552E3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3FBA-BA0F-4225-A9BE-DE6A6AAB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DF5-601F-4DC4-88DA-36C87A25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12D-79FB-4569-8914-55326378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23CF-DA12-4F3F-A5DF-072055A1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E86F-4376-4B3C-9A73-EEEE4D2E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6274-9C4B-44CB-8EAD-252CD611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9615-D647-49DC-A145-2E6129FA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E476-893D-4F38-B85B-044E19BD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DFA5-C7B3-4110-9951-58086CD4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8FA7-CF60-45A7-BD71-BF3F18F0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49A-A29B-4436-924A-9ABDAD9C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2122-8D1A-452E-9239-E5B92D74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1EAE-42B3-4361-9AEC-7DE81033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2AD1-EE2E-4B8B-A519-4E7C840C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441A-8139-4C4C-8DB7-C618215E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EFBC-84C1-4948-9AFD-2C040DCC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F5A76-D836-49D3-B8D2-9F6C8356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F1440-5407-4793-A57B-66855B3B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FF13A-0E12-4033-BFCA-24D6D715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E0D63-CC8D-4553-B0C7-518C20C4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7F939-FEBD-4C47-ACC6-3BC08298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218-7A2F-4CB1-BE3B-77BBD450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4F3EB-2532-495D-9E13-ABFFC57E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D4676-490D-4A23-B717-52E78666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BAA5C-705A-4283-A1E1-1B1F806A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08A9F-D1AB-4E57-824D-B5FAA90E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44360-8F28-41AC-BA0D-830C06CB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9008B-8142-44FC-A4F0-6DF111F8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EDB24-28CD-4907-B8D7-CB4F52D0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7981F-E92D-4577-9220-AC5AC742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16C43-1141-49C0-B7E1-AE124169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095A6-BC4B-4B1F-BCBC-76B15C8C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414A-2C8F-4A23-8AB2-D05D84E7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8E646-3900-4651-B5A8-9DD37964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405AB-8575-486E-B4AD-DC9B0427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2026D-9A8D-4EB9-B3E9-D6B5E105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C3DEE-5827-40D8-A814-CC69B986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F39BA-373C-49D5-8F42-C4EE1F5D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35B3D-F792-42B2-81FD-AA624AF5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8DD98-FFD2-4EF4-946C-4E822BEF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5F37A-7C1B-48B6-83EF-84FD5969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36A41-A767-4D7B-88B2-252248D5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F2B5C-8989-4553-922D-242D59E8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D16-E91C-49E0-A1A2-F9B98627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DB102-A664-48AB-8750-5D7EB4B9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8043D-3257-4D22-ACB9-E3CF18D6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9146F-681E-48AF-BBAF-FB92A310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84A60-0D77-42F8-AA28-3632C0E2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D9B58-BF40-4D37-A31E-C2AE082E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EB3D8-7E93-4B36-A965-B2C8BD89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4920E-4DA4-4D9F-AA8D-262F4445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168A1-EBFE-411C-B678-50984730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D8D81-03C5-48F5-A889-037D8D6A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1C596-D472-4B0A-B633-9B18B472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3D9B-F1FF-454F-A866-7ECFAEA4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FEDF7-04A2-4FBF-8DA9-1F301138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2010D-F82D-4A4A-8D15-B1B79075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8939A-3A84-452D-9F9A-306449E8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9B22A-60BC-4D51-92DC-B0CA09FA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84B95-1BE3-475E-A168-57EAF85F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8213F-D125-4E84-B6F5-DA3FBD53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12E41-A7C9-4B73-B260-5A0BD3A8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6CF3B-58EB-4D51-B5C7-8514B002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01887-2BAF-4F21-A6AD-880473F7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6B772-93A9-4206-80ED-3DFD14F7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B5E-91F0-4C16-8132-C01F88A1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7B620-BB5B-4CBA-85AF-B1794EB0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43763-32DC-4F1A-AD5E-5CA866AC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369DD-CF74-4E02-A07F-C016D177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651C2-90ED-4EA5-BF5D-57CE8568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0C6E1-443C-4779-A827-EAA62A5A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B172C-6F14-4DF6-822B-643969C9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CB06E-6577-4626-91FD-B3173EC8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0C3EA-EF86-4B2A-A4D1-26664E40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C0BA2-9717-4AA6-B7C9-57AD3EAB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4F51F-5AB4-4E5E-AF12-C919F67D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0D51-3174-4D44-9313-5A007862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605E0-489D-466E-B92C-A62FE54F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DCEDA-7ED6-410F-9F7F-D92A7E15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2214D-A346-4639-A9D6-3F7BB675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1A7A4-5638-4C1A-9E51-0BE0A996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32A2A-EF5E-4382-AB70-A8198770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D65E-91D1-4377-B1D0-CC65E2D5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6E62-C470-401C-8D96-CD7F3E310E1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6610-6F33-4442-8CA1-22EC4551028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91F7-0C4E-44B3-AE74-70C5D958506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A2DE-DD58-46CE-9A87-50B53C9CFF0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A7FD-868E-43F8-B457-C6DDD085B6F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957D-6CD9-4FB1-A544-43B3D4A4A80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70BA-A715-41CE-9C6B-675426E4A6B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Информация получе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images.yandex.r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www.bcetyt.r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ru.wikipedia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Центральная симметр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eb8803"/>
                </a:solidFill>
                <a:uFillTx/>
                <a:latin typeface="Corbel"/>
                <a:hlinkClick r:id="rId1" action="ppaction://hlinksldjump"/>
              </a:rPr>
              <a:t>Что такое центральная симметрия </a:t>
            </a: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2" action="ppaction://hlinksldjump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eb8803"/>
                </a:solidFill>
                <a:uFillTx/>
                <a:latin typeface="Corbel"/>
                <a:hlinkClick r:id="rId3" action="ppaction://hlinksldjump"/>
              </a:rPr>
              <a:t>Доказательство центральной симметр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eb8803"/>
                </a:solidFill>
                <a:uFillTx/>
                <a:latin typeface="Arial"/>
                <a:hlinkClick r:id="rId4" action="ppaction://hlinksldjump"/>
              </a:rPr>
              <a:t>О симметрии фигур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eb8803"/>
                </a:solidFill>
                <a:uFillTx/>
                <a:latin typeface="Corbel"/>
                <a:hlinkClick r:id="rId5" action="ppaction://hlinksldjump"/>
              </a:rPr>
              <a:t>Центральная симметрия на графиках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eb8803"/>
                </a:solidFill>
                <a:uFillTx/>
                <a:latin typeface="Corbel"/>
                <a:hlinkClick r:id="rId6" action="ppaction://hlinksldjump"/>
              </a:rPr>
              <a:t>Применение центральной симметрии в жизн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Управляющая кнопка: сведения 3">
            <a:hlinkClick r:id="rId7" action="ppaction://hlinksldjump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Центральная симметр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пределение центральной симметрии: поворот на угол 180 градусов называется центральной симметрие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Еще можно дать такое определение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Центральная симметрия с центром в точке O это такое отображение плоскости, при котором любой точке X сопоставляется такая точка X', что точка O является серединой отрезка XX'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5-конечная звезда 4">
            <a:hlinkClick r:id="rId1" action="ppaction://hlinksldjump"/>
          </p:cNvPr>
          <p:cNvSpPr/>
          <p:nvPr/>
        </p:nvSpPr>
        <p:spPr>
          <a:xfrm>
            <a:off x="7620120" y="6248520"/>
            <a:ext cx="609480" cy="609480"/>
          </a:xfrm>
          <a:prstGeom prst="pi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Управляющая кнопка: домой 5">
            <a:hlinkClick r:id="rId2" action="ppaction://hlinksldjump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казательство центральной симметрии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61760" y="205704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Проводим отрезки АА’ и ВВ’, они проходят через т.О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Измеряем и убеждаемся, что АС=AC’, АВ=АВ’,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Порядок построения точки, центрально симметричной точке В на бумаге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1.Проводим луч ВА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2.Откладываем на нем от т А в другую сторону отрезок АВ’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Picture 3" descr="D:\Илкин\Pretender\Разное\img022.gif"/>
          <p:cNvPicPr/>
          <p:nvPr/>
        </p:nvPicPr>
        <p:blipFill>
          <a:blip r:embed="rId1"/>
          <a:stretch/>
        </p:blipFill>
        <p:spPr>
          <a:xfrm>
            <a:off x="6781680" y="2133720"/>
            <a:ext cx="1619280" cy="2152440"/>
          </a:xfrm>
          <a:prstGeom prst="rect">
            <a:avLst/>
          </a:prstGeom>
          <a:ln w="0">
            <a:noFill/>
          </a:ln>
        </p:spPr>
      </p:pic>
      <p:sp>
        <p:nvSpPr>
          <p:cNvPr id="387" name="5-конечная звезда 6">
            <a:hlinkClick r:id="rId2" action="ppaction://hlinksldjump"/>
          </p:cNvPr>
          <p:cNvSpPr/>
          <p:nvPr/>
        </p:nvSpPr>
        <p:spPr>
          <a:xfrm>
            <a:off x="7620120" y="6248520"/>
            <a:ext cx="609480" cy="609480"/>
          </a:xfrm>
          <a:prstGeom prst="pi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Управляющая кнопка: домой 7">
            <a:hlinkClick r:id="rId3" action="ppaction://hlinksldjump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О симметрии фигур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85840" y="499680"/>
            <a:ext cx="8858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74520" indent="240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Говорят, что фигура обладает симметрией (симметрична) , если существует такое движение (не тождественное), переводящее эту фигуру в себя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Например, фигура обладает поворотной симметрией , если она переходит в себя некоторым поворотом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74520" indent="240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Рассмотрим симметрию некоторых фигур: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74520" indent="240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1. 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Отрезок имеет две оси симметрии (серединный перпендикуляр и прямая, содержащая этот отрезок) и центр симметрии (середина)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74520" indent="240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2. Треугольник общего вида не имеет осей или центров симметрии, он несимметричен. Равнобедренный (но не равносторонний) треугольник имеет одну ось симметрии: серединный перпендикуляр к основанию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74520" indent="240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3. Равносторонний треугольник имеет три оси симметрии (серединные перпендикуляры к сторонам) и поворотную симметрию относительно центра с углом поворота 120 ° 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74520" indent="240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4.У любого правильного n-угольника есть n осей симметрии, все они проходят через его центр. Он также имеет поворотную симметрию относительно центра с углом поворота 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74520" indent="240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При четном n одни оси симметрии проходят через противоположные вершины, другие - через середины противоположных сторон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74520" indent="240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При нечетном n каждая ось проходит через вершину и середину противополжной стороны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74520" indent="240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Центр правильного многоугольника с четным числом сторон является его центром симметрии. У правильного многоугольника с нечетным числом сторон центра симметрии нет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74520" indent="240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Любая прямая, проходящая через центр окружности является ее осью симметрии, окружность также обладает поворотной симметрией, причем угол поворота может быть любым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1" name="Picture 3" descr="D:\Илкин\Pretender\Разное\Image14604.gif"/>
          <p:cNvPicPr/>
          <p:nvPr/>
        </p:nvPicPr>
        <p:blipFill>
          <a:blip r:embed="rId1"/>
          <a:stretch/>
        </p:blipFill>
        <p:spPr>
          <a:xfrm>
            <a:off x="2133720" y="4572000"/>
            <a:ext cx="228600" cy="254160"/>
          </a:xfrm>
          <a:prstGeom prst="rect">
            <a:avLst/>
          </a:prstGeom>
          <a:ln w="0">
            <a:noFill/>
          </a:ln>
        </p:spPr>
      </p:pic>
      <p:sp>
        <p:nvSpPr>
          <p:cNvPr id="392" name="Управляющая кнопка: назад 5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Центральная симметрия на графиках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Центральной симметрией относительно начала координат обладают графики нечётных функци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5" name="Picture 4" descr="01030202"/>
          <p:cNvPicPr/>
          <p:nvPr/>
        </p:nvPicPr>
        <p:blipFill>
          <a:blip r:embed="rId1"/>
          <a:stretch/>
        </p:blipFill>
        <p:spPr>
          <a:xfrm>
            <a:off x="1905120" y="3429000"/>
            <a:ext cx="5916600" cy="2819520"/>
          </a:xfrm>
          <a:prstGeom prst="rect">
            <a:avLst/>
          </a:prstGeom>
          <a:ln w="0">
            <a:noFill/>
          </a:ln>
        </p:spPr>
      </p:pic>
      <p:sp>
        <p:nvSpPr>
          <p:cNvPr id="396" name="Управляющая кнопка: назад 4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именение центральной симметрии в жизни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Центральная симметрия  применяется во многих  отраслях,  например в моделировании автомобиля , архитектуре , инструментах (сверло) ,  строй материалах (пружина) и т.д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Управляющая кнопка: домой 6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оделирование автомобил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1" name="Picture 2" descr="D:\Илкин\Pretender\Разное\img_01.png"/>
          <p:cNvPicPr/>
          <p:nvPr/>
        </p:nvPicPr>
        <p:blipFill>
          <a:blip r:embed="rId1"/>
          <a:stretch/>
        </p:blipFill>
        <p:spPr>
          <a:xfrm>
            <a:off x="1905120" y="1752480"/>
            <a:ext cx="5162400" cy="3143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D:\Илкин\Pretender\Разное\i.jpeg"/>
          <p:cNvPicPr/>
          <p:nvPr/>
        </p:nvPicPr>
        <p:blipFill>
          <a:blip r:embed="rId2"/>
          <a:stretch/>
        </p:blipFill>
        <p:spPr>
          <a:xfrm>
            <a:off x="3657600" y="5486400"/>
            <a:ext cx="1803240" cy="749160"/>
          </a:xfrm>
          <a:prstGeom prst="rect">
            <a:avLst/>
          </a:prstGeom>
          <a:ln w="0">
            <a:noFill/>
          </a:ln>
        </p:spPr>
      </p:pic>
      <p:sp>
        <p:nvSpPr>
          <p:cNvPr id="403" name="Управляющая кнопка: назад 6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рхитектур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5" name="Picture 3" descr="D:\Илкин\Pretender\Разное\post-814-1173877301_thumb.jpg"/>
          <p:cNvPicPr/>
          <p:nvPr/>
        </p:nvPicPr>
        <p:blipFill>
          <a:blip r:embed="rId1"/>
          <a:stretch/>
        </p:blipFill>
        <p:spPr>
          <a:xfrm>
            <a:off x="1981080" y="2133720"/>
            <a:ext cx="4876920" cy="3333600"/>
          </a:xfrm>
          <a:prstGeom prst="rect">
            <a:avLst/>
          </a:prstGeom>
          <a:ln w="0">
            <a:noFill/>
          </a:ln>
        </p:spPr>
      </p:pic>
      <p:sp>
        <p:nvSpPr>
          <p:cNvPr id="406" name="Управляющая кнопка: назад 5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0:01:15Z</dcterms:created>
  <dc:creator>user</dc:creator>
  <dc:description/>
  <dc:language>en-US</dc:language>
  <cp:lastModifiedBy>1</cp:lastModifiedBy>
  <dcterms:modified xsi:type="dcterms:W3CDTF">2009-01-23T12:22:58Z</dcterms:modified>
  <cp:revision>32</cp:revision>
  <dc:subject/>
  <dc:title>Центральная симметрия</dc:title>
</cp:coreProperties>
</file>