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F7F-ACBC-4641-AB6B-62EE3FD1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429-C81C-41D2-A8EE-C1031FE3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83D-2627-491A-8E64-DC394FFE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A5D-30B1-4EA7-AA3A-B6F1616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9A4-7690-448E-B525-374ED033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00A-B6CD-4D72-82A3-F1ADB629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7A9-D385-4357-B5DC-5098E6FA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67B-D600-4449-8846-FFB000BB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69E-19BB-4536-8946-B8E0654C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4BF-D765-4E9B-98E7-0CADC5A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802-8790-4994-BFFF-435E3A2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A6E-A89D-465C-922F-B1778D7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F82A-A30B-4568-ADFF-AC5DF2EA6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околение КОМ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аем компьютер из врага в сорат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G:\собрания\28jpg.gif"/>
          <p:cNvPicPr/>
          <p:nvPr/>
        </p:nvPicPr>
        <p:blipFill>
          <a:blip r:embed="rId2"/>
          <a:stretch/>
        </p:blipFill>
        <p:spPr>
          <a:xfrm>
            <a:off x="1187280" y="2492280"/>
            <a:ext cx="6769440" cy="39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Чтобы не засоса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пустим, глаза, руки, ноги ребенка мы уберегли. Но остается еще и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психика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сделать так, чтобы ребенок не ушел с головой в киберпространство и не променял родителей на виртуальных монст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К сожалению, это – реальная опасность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G:\собрания\remont_kompyuterov_i_noutbukov_23169135_1_F.jpg"/>
          <p:cNvPicPr/>
          <p:nvPr/>
        </p:nvPicPr>
        <p:blipFill>
          <a:blip r:embed="rId2"/>
          <a:stretch/>
        </p:blipFill>
        <p:spPr>
          <a:xfrm>
            <a:off x="1908000" y="1600200"/>
            <a:ext cx="5328000" cy="49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емь шагов к спасению от компьютерома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амим ориентироваться в том, что интересно ребе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Как можно больше времени проводить вмес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ервое время сидеть за компьютером вместе, тогда машина не станет для него большим авторит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ьше разговаривайте с ребен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вивайте ребенку «компьютерный вкус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е покупайте жестокие 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е забывайте, что дети по-прежнему с удовольствием рисуют, раскрашивают, играют с друзьями, лепят, занимаются спор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ста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25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сихологи, к которым обращаются родители компьютерных маньяков, часто советуют приобрести ребенку собаку – она как ничто другое помогает вырвать малыша из компьютер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User\Desktop\200400806-001-410x230.jpg"/>
          <p:cNvPicPr/>
          <p:nvPr/>
        </p:nvPicPr>
        <p:blipFill>
          <a:blip r:embed="rId2"/>
          <a:stretch/>
        </p:blipFill>
        <p:spPr>
          <a:xfrm>
            <a:off x="2987640" y="3716280"/>
            <a:ext cx="568800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Реальные мину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Diagram 5"/>
          <p:cNvGrpSpPr/>
          <p:nvPr/>
        </p:nvGrpSpPr>
        <p:grpSpPr>
          <a:xfrm>
            <a:off x="739800" y="1712880"/>
            <a:ext cx="7670160" cy="4140720"/>
            <a:chOff x="739800" y="1712880"/>
            <a:chExt cx="7670160" cy="414072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042720" y="3191760"/>
              <a:ext cx="76896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29"/>
            <p:cNvSpPr/>
            <p:nvPr/>
          </p:nvSpPr>
          <p:spPr>
            <a:xfrm>
              <a:off x="1303920" y="2320920"/>
              <a:ext cx="1954800" cy="1074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есконтрольная работа 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ухудшает зр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0"/>
            <p:cNvSpPr/>
            <p:nvPr/>
          </p:nvSpPr>
          <p:spPr>
            <a:xfrm flipH="1">
              <a:off x="2665800" y="3980160"/>
              <a:ext cx="955800" cy="1220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739800" y="3685680"/>
              <a:ext cx="1954800" cy="1074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Человек ведё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малоподвижный образ жизн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 flipH="1">
              <a:off x="3725280" y="4344480"/>
              <a:ext cx="42300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2329200" y="4778640"/>
              <a:ext cx="1954800" cy="1074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Отрицатель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оздейств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 нервную систему челове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4995000" y="4344480"/>
              <a:ext cx="42624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5"/>
            <p:cNvSpPr/>
            <p:nvPr/>
          </p:nvSpPr>
          <p:spPr>
            <a:xfrm>
              <a:off x="4871880" y="4776840"/>
              <a:ext cx="1954800" cy="1075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ольшой процент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сёт в себе неэт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или аморальное  содержани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6"/>
            <p:cNvSpPr/>
            <p:nvPr/>
          </p:nvSpPr>
          <p:spPr>
            <a:xfrm>
              <a:off x="5522040" y="3981960"/>
              <a:ext cx="955800" cy="1184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7"/>
            <p:cNvSpPr/>
            <p:nvPr/>
          </p:nvSpPr>
          <p:spPr>
            <a:xfrm>
              <a:off x="6455160" y="3682440"/>
              <a:ext cx="1954800" cy="10749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уществуют вирус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портящие компьютер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8"/>
            <p:cNvSpPr/>
            <p:nvPr/>
          </p:nvSpPr>
          <p:spPr>
            <a:xfrm flipV="1">
              <a:off x="5335200" y="3191760"/>
              <a:ext cx="76572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9"/>
            <p:cNvSpPr/>
            <p:nvPr/>
          </p:nvSpPr>
          <p:spPr>
            <a:xfrm>
              <a:off x="5887800" y="2319120"/>
              <a:ext cx="1954800" cy="10753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Есть игры пропагандиру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силие. Игры поглоща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 себя играющего человека.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0"/>
            <p:cNvSpPr/>
            <p:nvPr/>
          </p:nvSpPr>
          <p:spPr>
            <a:xfrm flipV="1">
              <a:off x="4572000" y="2786040"/>
              <a:ext cx="0" cy="540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41"/>
            <p:cNvSpPr/>
            <p:nvPr/>
          </p:nvSpPr>
          <p:spPr>
            <a:xfrm>
              <a:off x="3595680" y="1712880"/>
              <a:ext cx="1954800" cy="10749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Желание общаться больше 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иртуальными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знакомыми людьми, ч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 живущими ряд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2"/>
            <p:cNvSpPr/>
            <p:nvPr/>
          </p:nvSpPr>
          <p:spPr>
            <a:xfrm>
              <a:off x="3595680" y="3326400"/>
              <a:ext cx="1954800" cy="1074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в современном ми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емительное развитие новых информационных технологий оказывает многогранное воздействие на культурный уровень человека. Поэтому знание ПК имеет очень большое значение в современной жизни, т. к. компьютерная грамотность стала частью общей культуры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– д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ый помощник в учебе, работе и отды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егчает поиск и получение необходимой и своевременной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в общении между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плю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Diagram 5"/>
          <p:cNvGrpSpPr/>
          <p:nvPr/>
        </p:nvGrpSpPr>
        <p:grpSpPr>
          <a:xfrm>
            <a:off x="541440" y="1726200"/>
            <a:ext cx="8069040" cy="4116240"/>
            <a:chOff x="541440" y="1726200"/>
            <a:chExt cx="8069040" cy="411624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2964240" y="3196080"/>
              <a:ext cx="80820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1135080" y="2330640"/>
              <a:ext cx="2057040" cy="1068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оступ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олез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2567520" y="3980520"/>
              <a:ext cx="1005480" cy="120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541440" y="3687840"/>
              <a:ext cx="2056320" cy="1068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Е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разв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обуч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г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 flipH="1">
              <a:off x="3682440" y="4342320"/>
              <a:ext cx="44496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2213280" y="4773600"/>
              <a:ext cx="2056320" cy="1068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омощ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ри стихий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бедств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>
              <a:off x="5018400" y="4342320"/>
              <a:ext cx="44748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4888080" y="4772160"/>
              <a:ext cx="2056320" cy="1068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ака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покуп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через Интерн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>
              <a:off x="5572800" y="3981960"/>
              <a:ext cx="1005480" cy="1180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6553440" y="3684600"/>
              <a:ext cx="2057040" cy="1068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уществу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улучш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р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 flipV="1">
              <a:off x="5375520" y="3196080"/>
              <a:ext cx="80568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3"/>
            <p:cNvSpPr/>
            <p:nvPr/>
          </p:nvSpPr>
          <p:spPr>
            <a:xfrm>
              <a:off x="5957280" y="2328840"/>
              <a:ext cx="2056320" cy="10684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ожно хран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ного 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4"/>
            <p:cNvSpPr/>
            <p:nvPr/>
          </p:nvSpPr>
          <p:spPr>
            <a:xfrm flipV="1">
              <a:off x="4572720" y="2793240"/>
              <a:ext cx="0" cy="536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5"/>
            <p:cNvSpPr/>
            <p:nvPr/>
          </p:nvSpPr>
          <p:spPr>
            <a:xfrm>
              <a:off x="3546360" y="1726200"/>
              <a:ext cx="2056320" cy="10684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Быстрая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ешёвая отправ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ообщ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66"/>
            <p:cNvSpPr/>
            <p:nvPr/>
          </p:nvSpPr>
          <p:spPr>
            <a:xfrm>
              <a:off x="3546360" y="3330360"/>
              <a:ext cx="2056320" cy="10684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ение ПК в образовательных учреждениях дает возможность формировать у детей стиль мышления, адекватный требованиям современного информационного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направить интерес к освоению компьютера детьми в нужное русло, сделать его орудием для познания и творчества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овые образовательные стандар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е стандарты обучения предполагают совершенствование образовательных программ, а также использование новых информационных средств обучения (средства ИКТ).  Эти средства необходимы для развития познавательной деятельности,  в современных условиях играют важную роль и в подготовке учащихся к продолжению образования в профессиона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Человек будет преобразовывать не только Землю, но и существо, не исключая самого себя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И человека неизбежно ждет эта судьба, это преобразование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втоэволюция (саморазвитие), вплоть до превращения в космическое существо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.Э. Циолко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может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открыток, приглашений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и дизайн печатной прод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и оформление фотоальбо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видеоотчетов, видеофиль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езентаций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User\Desktop\Оформление фотоальбома.jpg"/>
          <p:cNvPicPr/>
          <p:nvPr/>
        </p:nvPicPr>
        <p:blipFill>
          <a:blip r:embed="rId2"/>
          <a:stretch/>
        </p:blipFill>
        <p:spPr>
          <a:xfrm>
            <a:off x="2340000" y="3645000"/>
            <a:ext cx="619272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-ребенок-род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местная работа поможет не только сплотить детей и родителей, но и стать новой семейной традицией. Даст возможность почувствовать себя единым целым, что очень важно при воспитании ребенка. Поможет лучше узнать друг друга, так как сотворчество и сотрудничество – идеальный стиль взаимоотношений в семье, которые помогут воспитать самодостаточного, духовно богатого, творческого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Вывод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льзя забывать о том, что все хорошо в меру. Добрые замечательные игры, столь полезные для людей, могут стать и вредными для них. Слишком длительное нахождение перед компьютером может привести к ухудшению зрения, а также к психологической зависимости от виртуального мира. Но те, кто не пренебрегает правилом золотой середины во всем, таких проблем никогда не испытает. И компьютер для них будет только друг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ё в ваших ру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G:\собрания\8f63368f6d1b.jpg"/>
          <p:cNvPicPr/>
          <p:nvPr/>
        </p:nvPicPr>
        <p:blipFill>
          <a:blip r:embed="rId2"/>
          <a:stretch/>
        </p:blipFill>
        <p:spPr>
          <a:xfrm>
            <a:off x="684360" y="1773360"/>
            <a:ext cx="7775280" cy="48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Презентация подготовлена учителем начальных классов ГОУ СОШ №534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Макаровой Ириной Валерье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2011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Вреден ли ребенку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вет на этот вопрос очевиден: компьютер ребенку вреден. Но поскольку жизнь сложилась так, что мы с вами уже не умеем обходиться без компьютера, давайте обсудим возможности сократить вред, причиняемый ребенку компьютером, и попытаемся научить своих детей помимо вреда извлекать из дружественной машины пользу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Здоровье ребенка и компьют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удно представить современный обучающий процесс и досуг ребенка без этой чудо – маш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bandb.ru/news-foto-2008/Trigem-Lluon-B2.jpg"/>
          <p:cNvPicPr/>
          <p:nvPr/>
        </p:nvPicPr>
        <p:blipFill>
          <a:blip r:embed="rId2"/>
          <a:stretch/>
        </p:blipFill>
        <p:spPr>
          <a:xfrm>
            <a:off x="1547640" y="3141720"/>
            <a:ext cx="590580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Родителей волнует безопасность ребенка у монитора, влияние излучения на здоровье и развит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G:\собрания\i_001.png"/>
          <p:cNvPicPr/>
          <p:nvPr/>
        </p:nvPicPr>
        <p:blipFill>
          <a:blip r:embed="rId2"/>
          <a:stretch/>
        </p:blipFill>
        <p:spPr>
          <a:xfrm>
            <a:off x="971640" y="2330280"/>
            <a:ext cx="720072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Монитор и 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 изучении влияния электромагнитного излучения на орган зрения оператора, исследователи не обнаружили вредного воздействия этого излучения на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реден не столько монитор и его мифические излучения, сколько зрительное утомление, вызываемое работой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и позвоноч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аще всего страдают спины пользователей и их руки (ки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 пятому классу 60 – 70% школьников имеют сколио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Поможет правильная посадка при работе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:\собрания\36_31_02.jpg"/>
          <p:cNvPicPr/>
          <p:nvPr/>
        </p:nvPicPr>
        <p:blipFill>
          <a:blip r:embed="rId2"/>
          <a:stretch/>
        </p:blipFill>
        <p:spPr>
          <a:xfrm>
            <a:off x="1116000" y="1484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Правила, которые обезопасят здоровье вашего юного г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чувство 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айте не от ребенка, а с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должно быть сторого регламентирова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 пау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альные настройки мони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ая частота обновления экр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0:31Z</dcterms:created>
  <dc:creator>User</dc:creator>
  <dc:description/>
  <dc:language>en-US</dc:language>
  <cp:lastModifiedBy>Admin</cp:lastModifiedBy>
  <dcterms:modified xsi:type="dcterms:W3CDTF">2011-05-02T08:28:50Z</dcterms:modified>
  <cp:revision>40</cp:revision>
  <dc:subject/>
  <dc:title>Слайд 1</dc:title>
</cp:coreProperties>
</file>