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3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B50-F0EC-4C5F-8C2F-177B1943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43B-4E7A-4311-B25A-0482130C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C05-2E40-469C-8096-F24EE5FD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C82-510D-4285-A23D-7300B6E0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A2E8-95D4-405F-ABFB-318B21F6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9E35-AF0F-4F1F-AE2F-6BC2262E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64D5-CB4E-4E68-8AD0-C3E4F3F9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7B66-D6A8-4874-BC78-A8F8C7BE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A47D-C00E-482B-B5AC-3D4203CE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4406-84F9-4510-86AE-EF3B0833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BE24-D94D-4AE6-9089-3B15870E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029-B96C-418F-9995-351C03A5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058D-4C06-4E7A-8E7B-8A6027B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E96D-1EB3-43D3-925E-30DA76F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ACED-15FA-49E7-BE6A-A62DB960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0F08-5BDC-4086-9949-F04E1546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92CF-43E8-45B3-B29D-A55DD950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F780-38F9-44BD-8C70-D0A316B9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7BE4-3827-4BF9-AC56-4E08106A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6EA9-8DA9-4BEB-91C8-9D33AA57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9446-8E75-4638-B9C1-5BF01335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1633-B9BC-4500-9A26-12BE6A0A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9CF-E632-4707-A758-28263B46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83A0-8BEA-46F3-BBCB-F2E9FF73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EF0F7-67C7-4F67-8A93-D5E639A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BCB4-3895-42D5-9F93-37AE3479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753F-B7E0-4535-9234-D2C1EF66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134F-ABB1-45A0-AFB6-E1D1778F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0B89-A299-432B-823C-CF3084D2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0C83-B9F3-4F84-862A-6637AD32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4C96-6AAB-4938-8327-B91E1C91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536A-3E11-4A59-BECB-CF550666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00E1-7BA5-4462-BA5A-B715E67B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579-559F-49D7-A649-608C41F3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93BA9-333A-41C8-8CFE-B79BDA74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FBCFC-6BDA-4E8E-A69C-E868619E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9FDF-ECE9-4A15-BB02-71445311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37AE-3491-44CC-B3D4-B3FF49B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F1B9-E6D9-4B99-8971-AD6A8CD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B7026-B569-4218-9B63-3F3C4D8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A804-93B1-4AAB-9CD4-9406784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F25A-BF0E-4A17-A01E-341233FF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3CBA9-D21C-4949-9B04-3DCFC747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34261-0276-48F2-B484-D9422F9D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C1A-38DB-476F-A81B-B59931AE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2420-8473-4D59-B29C-2D0039B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7F712-4AD2-4DBA-9150-89186289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EF47B-FAF9-41B8-A31A-E429097F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C62E-503B-4A17-9F41-59C70D3E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49DF9-0962-4E48-961A-040563E8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85A3E-E255-4CEC-A00E-1B97A48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BB966-A549-492C-A586-5B9F968F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F0741-56BB-4F69-B38F-B011DDE2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2B07F-502D-484F-BCAA-317762A8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88471-4062-42B1-BFE5-D49F3992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926-3621-4580-9347-0C0CFB29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968A8-5807-4E0B-A5B3-5DADB6DE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9C4A-2B8E-4E6D-8199-CF801907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369F6-F633-49C9-9674-70CD44A6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0A62-7384-49B1-915E-5A2CD299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D9AF-EFE4-4A0C-BB27-C7478E94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0CC39-3EB4-47B2-89C3-904F2433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E7715-6BC6-452C-AE35-5AADBD2E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71D6D-F0B8-4504-B9B9-A2AEE6D3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07AC5-162E-4D36-9C97-491C95EF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73A15-5185-4B64-A9D0-F0ECD57C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B59-1526-473A-B083-050D60B5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0FD2-A095-41BC-9AB5-09793042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A8AF-258D-45B5-B480-77AC41E3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A63C-5FB7-4968-87E3-8BAA4EC2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708-4F9D-4E54-8363-34F17D81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4ED-EE41-4FA7-80E2-6E685B6C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2042-F3DF-4637-9BE0-16DA4AF14E3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0F48-0074-4379-83F8-EB32377D9F3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C2C4-F6DD-48D8-B25E-8538D6452BA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03D9-1414-44F3-8120-56507A6A78F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88D8-9657-48C5-B08E-EF22540502C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E0FF-3470-41A4-8AFE-9ED062D3158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6" descr=",.jpeg"/>
          <p:cNvPicPr/>
          <p:nvPr/>
        </p:nvPicPr>
        <p:blipFill>
          <a:blip r:embed="rId1"/>
          <a:stretch/>
        </p:blipFill>
        <p:spPr>
          <a:xfrm>
            <a:off x="276120" y="214200"/>
            <a:ext cx="886788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33368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6" name="Подзаголовок 2" descr=""/>
          <p:cNvPicPr/>
          <p:nvPr/>
        </p:nvPicPr>
        <p:blipFill>
          <a:blip r:embed="rId2"/>
          <a:stretch/>
        </p:blipFill>
        <p:spPr>
          <a:xfrm>
            <a:off x="676440" y="706320"/>
            <a:ext cx="6522840" cy="1811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304920" y="-139680"/>
            <a:ext cx="7113600" cy="1785960"/>
          </a:xfrm>
          <a:prstGeom prst="rect">
            <a:avLst/>
          </a:prstGeom>
          <a:ln w="0">
            <a:noFill/>
          </a:ln>
        </p:spPr>
      </p:pic>
      <p:pic>
        <p:nvPicPr>
          <p:cNvPr id="274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04800"/>
            <a:ext cx="7480440" cy="465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400" y="1928520"/>
            <a:ext cx="842940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28800" y="0"/>
            <a:ext cx="6480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LEGISLA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Содержимое 4" descr=""/>
          <p:cNvPicPr/>
          <p:nvPr/>
        </p:nvPicPr>
        <p:blipFill>
          <a:blip r:embed="rId1"/>
          <a:stretch/>
        </p:blipFill>
        <p:spPr>
          <a:xfrm>
            <a:off x="549360" y="1494000"/>
            <a:ext cx="8234280" cy="4541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Capitol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the residence of the Congress)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Содержимое 3" descr="tour_photo_75_6160.jpg"/>
          <p:cNvPicPr/>
          <p:nvPr/>
        </p:nvPicPr>
        <p:blipFill>
          <a:blip r:embed="rId1"/>
          <a:stretch/>
        </p:blipFill>
        <p:spPr>
          <a:xfrm>
            <a:off x="285840" y="1719360"/>
            <a:ext cx="71438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House of Representatives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Содержимое 9" descr="congress.jpg"/>
          <p:cNvPicPr/>
          <p:nvPr/>
        </p:nvPicPr>
        <p:blipFill>
          <a:blip r:embed="rId1"/>
          <a:stretch/>
        </p:blipFill>
        <p:spPr>
          <a:xfrm>
            <a:off x="642960" y="1428840"/>
            <a:ext cx="807228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nate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Содержимое 5" descr="tumblr_kw3lsytxp11qzpxv2o1_400.jpg"/>
          <p:cNvPicPr/>
          <p:nvPr/>
        </p:nvPicPr>
        <p:blipFill>
          <a:blip r:embed="rId1"/>
          <a:stretch/>
        </p:blipFill>
        <p:spPr>
          <a:xfrm>
            <a:off x="214200" y="1285920"/>
            <a:ext cx="728676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JUDICIAL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31960"/>
            <a:ext cx="8412120" cy="513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S Supreme Court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Содержимое 3" descr="6a00d834515c6d69e200e54f4031aa8833-640wi.jpg"/>
          <p:cNvPicPr/>
          <p:nvPr/>
        </p:nvPicPr>
        <p:blipFill>
          <a:blip r:embed="rId1"/>
          <a:stretch/>
        </p:blipFill>
        <p:spPr>
          <a:xfrm>
            <a:off x="357120" y="1719360"/>
            <a:ext cx="742968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3584160"/>
            <a:ext cx="6629400" cy="182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9" name="Содержимое 3" descr="i.jpeg р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Текст 4" descr=""/>
          <p:cNvPicPr/>
          <p:nvPr/>
        </p:nvPicPr>
        <p:blipFill>
          <a:blip r:embed="rId2"/>
          <a:stretch/>
        </p:blipFill>
        <p:spPr>
          <a:xfrm>
            <a:off x="1231920" y="1560600"/>
            <a:ext cx="6742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esident  </a:t>
            </a:r>
            <a:br>
              <a:rPr sz="4300"/>
            </a:b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the head of the Russian Federation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2" name="Содержимое 3" descr="Medvedev_DA.jpg"/>
          <p:cNvPicPr/>
          <p:nvPr/>
        </p:nvPicPr>
        <p:blipFill>
          <a:blip r:embed="rId1"/>
          <a:stretch/>
        </p:blipFill>
        <p:spPr>
          <a:xfrm>
            <a:off x="500040" y="1500120"/>
            <a:ext cx="407196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EXECUTIVE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4" name="Содержимое 13" descr=""/>
          <p:cNvPicPr/>
          <p:nvPr/>
        </p:nvPicPr>
        <p:blipFill>
          <a:blip r:embed="rId1"/>
          <a:stretch/>
        </p:blipFill>
        <p:spPr>
          <a:xfrm>
            <a:off x="450720" y="1298520"/>
            <a:ext cx="8339400" cy="535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izabeth II -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fficial head of the state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Содержимое 5" descr="187841_l.jpg"/>
          <p:cNvPicPr/>
          <p:nvPr/>
        </p:nvPicPr>
        <p:blipFill>
          <a:blip r:embed="rId1"/>
          <a:stretch/>
        </p:blipFill>
        <p:spPr>
          <a:xfrm>
            <a:off x="500040" y="1643040"/>
            <a:ext cx="785808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LEGISLATIVE</a:t>
            </a:r>
            <a:br>
              <a:rPr sz="4300"/>
            </a:b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6" name="Содержимое 4" descr=""/>
          <p:cNvPicPr/>
          <p:nvPr/>
        </p:nvPicPr>
        <p:blipFill>
          <a:blip r:embed="rId1"/>
          <a:stretch/>
        </p:blipFill>
        <p:spPr>
          <a:xfrm>
            <a:off x="433440" y="1566720"/>
            <a:ext cx="86439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Duma ( lower house)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Содержимое 3" descr="dyma.jpg"/>
          <p:cNvPicPr/>
          <p:nvPr/>
        </p:nvPicPr>
        <p:blipFill>
          <a:blip r:embed="rId1"/>
          <a:stretch/>
        </p:blipFill>
        <p:spPr>
          <a:xfrm>
            <a:off x="1173240" y="1600200"/>
            <a:ext cx="7613640" cy="49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Federation Council (upper house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0" name="Содержимое 3" descr="image_big_7592.jpg"/>
          <p:cNvPicPr/>
          <p:nvPr/>
        </p:nvPicPr>
        <p:blipFill>
          <a:blip r:embed="rId1"/>
          <a:stretch/>
        </p:blipFill>
        <p:spPr>
          <a:xfrm>
            <a:off x="357120" y="1747800"/>
            <a:ext cx="80726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Содержимое 3" descr="48109212_0_1754_2352124f_L.jpg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700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reme Court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EXECUTIVE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0" name="Содержимое 13" descr=""/>
          <p:cNvPicPr/>
          <p:nvPr/>
        </p:nvPicPr>
        <p:blipFill>
          <a:blip r:embed="rId1"/>
          <a:stretch/>
        </p:blipFill>
        <p:spPr>
          <a:xfrm>
            <a:off x="-6480" y="1633680"/>
            <a:ext cx="8961480" cy="5248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LEGISLATIVE branch of power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Содержимое 6" descr=""/>
          <p:cNvPicPr/>
          <p:nvPr/>
        </p:nvPicPr>
        <p:blipFill>
          <a:blip r:embed="rId1"/>
          <a:stretch/>
        </p:blipFill>
        <p:spPr>
          <a:xfrm>
            <a:off x="122400" y="1596960"/>
            <a:ext cx="8905680" cy="505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he House of Commons</a:t>
            </a:r>
            <a:br>
              <a:rPr sz="4100"/>
            </a:b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(</a:t>
            </a:r>
            <a:r>
              <a:rPr b="0" lang="ru-RU" sz="4100" spc="-1" strike="noStrike">
                <a:solidFill>
                  <a:srgbClr val="ff0000"/>
                </a:solidFill>
                <a:latin typeface="Franklin Gothic Book"/>
              </a:rPr>
              <a:t>Палата Общин</a:t>
            </a: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Содержимое 3" descr="new_pa4.jpg"/>
          <p:cNvPicPr/>
          <p:nvPr/>
        </p:nvPicPr>
        <p:blipFill>
          <a:blip r:embed="rId1"/>
          <a:stretch/>
        </p:blipFill>
        <p:spPr>
          <a:xfrm>
            <a:off x="571680" y="1714680"/>
            <a:ext cx="8396280" cy="4840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he House of Lords</a:t>
            </a:r>
            <a:br>
              <a:rPr sz="4100"/>
            </a:b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(</a:t>
            </a:r>
            <a:r>
              <a:rPr b="0" lang="ru-RU" sz="4100" spc="-1" strike="noStrike">
                <a:solidFill>
                  <a:srgbClr val="ff0000"/>
                </a:solidFill>
                <a:latin typeface="Franklin Gothic Book"/>
              </a:rPr>
              <a:t>Палата Лордов</a:t>
            </a: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Содержимое 3" descr="parlopenquee12.jpg"/>
          <p:cNvPicPr/>
          <p:nvPr/>
        </p:nvPicPr>
        <p:blipFill>
          <a:blip r:embed="rId1"/>
          <a:stretch/>
        </p:blipFill>
        <p:spPr>
          <a:xfrm>
            <a:off x="500040" y="1571760"/>
            <a:ext cx="7778880" cy="47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70676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3" descr="e52ad8c665e5f517228e9a63148.jpg"/>
          <p:cNvPicPr/>
          <p:nvPr/>
        </p:nvPicPr>
        <p:blipFill>
          <a:blip r:embed="rId2"/>
          <a:stretch/>
        </p:blipFill>
        <p:spPr>
          <a:xfrm>
            <a:off x="0" y="1571760"/>
            <a:ext cx="6310440" cy="49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esident  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the head of the USA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Содержимое 5" descr="barack-obama-300.jpg"/>
          <p:cNvPicPr/>
          <p:nvPr/>
        </p:nvPicPr>
        <p:blipFill>
          <a:blip r:embed="rId1"/>
          <a:stretch/>
        </p:blipFill>
        <p:spPr>
          <a:xfrm>
            <a:off x="714240" y="1857240"/>
            <a:ext cx="457200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White House – the official residence of the US President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Содержимое 3" descr="whitehousesouthfacade.jpg"/>
          <p:cNvPicPr/>
          <p:nvPr/>
        </p:nvPicPr>
        <p:blipFill>
          <a:blip r:embed="rId1"/>
          <a:stretch/>
        </p:blipFill>
        <p:spPr>
          <a:xfrm>
            <a:off x="785880" y="1785960"/>
            <a:ext cx="77868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40:34Z</dcterms:created>
  <dc:creator>Пользователь</dc:creator>
  <dc:description/>
  <dc:language>en-US</dc:language>
  <cp:lastModifiedBy>Губайдулин</cp:lastModifiedBy>
  <dcterms:modified xsi:type="dcterms:W3CDTF">2011-05-13T06:16:10Z</dcterms:modified>
  <cp:revision>28</cp:revision>
  <dc:subject/>
  <dc:title>Слайд 1</dc:title>
</cp:coreProperties>
</file>