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8AE-B279-4D9F-9311-63D8FFB0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E57-9B4F-44E3-B3C0-EAA5CCC9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9AB-AB69-4165-99AD-DB44D0B1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8C7-C015-40AB-B535-95348C33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2C6E-4E2B-4981-AE50-19CD18B3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105-FB00-4B9E-B70E-847BAA9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A105-9AE5-4327-B57D-00B435C7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8CA-E52D-485D-9791-58A1E9B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247F-D9DE-49CC-8A44-C824EFA1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719A-5199-4D55-93FA-DEFAFAC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5C63-83A4-493D-8370-12D6DB1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8BA-D1C1-4975-9347-2A0F94C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040B-0835-4CDC-8942-BD594EC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58BC-05E9-4041-AAF7-AF5B94C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C8E8-7045-4D42-B78F-2A7A17A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61B1-31F7-43F4-9486-F3645CF2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0A7D-9EE5-4958-98ED-244D405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6193-4371-4147-94A1-71BE7582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D4C8-3D32-4004-9F17-474E543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C710-3C0A-4CA7-B1B8-571F16C2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F68D-E9B0-45AA-B781-AF79F450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AD17-7492-4080-A57C-FCBB2D2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E23-1BCA-49F5-95C3-E1C8BCF8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F5AA-4C86-44DB-B152-ABD4E10D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244B-207F-494B-9354-10DF7972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E82A-9B41-4A8F-A7D7-95B93A3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BE58-1453-4A60-AA35-6D0F121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32FD-B828-42CF-9F35-DF32500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2F2D-6CA6-4ED7-A6C1-1E2746F2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017B-9042-4360-BD2F-742F2BB6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704F-9546-4449-9415-752D70CE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6071-818A-45DF-990A-A1822EC9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9326-0537-416C-A30B-C429304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3C5-3F87-47D0-AF02-9CD14A6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C523-D953-4F23-9D40-27BCEF8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AA21-549F-44E7-B2FD-AEDBB075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5023-207F-44E4-A95B-6C2B280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D258-3C1B-460F-A1ED-4000066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23BE-4091-46C0-AAA3-3E7270B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43D2-5BD5-425B-949E-E6E7675D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9347-F6AD-4512-BE00-9304A27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4AFF-451C-4206-AD23-5A6F109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81C3-647A-4B87-8EBF-B16751ED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0D0D-0D38-42FC-B30C-2AE9B2FF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0FB-A148-46B1-8A7C-57E65B6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355D-9D2C-46CD-8301-23F84A6B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7546-DF88-44D6-8108-B270622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42F0-510D-4A2B-9600-22D63644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D868-193A-412E-9A70-E83A7F8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11CD-450D-4AC4-A5E8-2115804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6736-F8FD-4D5C-AC1F-B8651EF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1A3E-61A0-4BA0-BFD4-90E642A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F8F1-F4F5-4D0E-B0B1-066CB61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76FB-7BB8-465B-BF70-2CE90893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ABFE-0234-469C-B61B-2F385FB8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7A5-B534-4F07-B24B-61F0475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F6DB-9E84-4A28-994E-9BBEF0A6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2797-0863-4982-9B33-E17D204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D5F3-5099-4BB6-B387-80D2440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BB26-D233-4465-BB63-ADC5F513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600C-7037-4794-B14A-4E2F14E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FB5E-3007-4E17-B07B-6BEB7E40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5D9EB-F214-4CE4-A9A7-4CB0F23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4556-1821-4F40-8233-1679892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36219-65D4-4232-8C29-FCD0E7C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E020-9C78-4526-9942-BAF318B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E1A-665C-4C12-9B21-D875E54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CDA3-C401-4E7B-AC49-42E01793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D994D-A3C4-4228-AC55-C696819F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1EAB-54F5-43DF-829C-524170D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69B-504B-4DA9-A9F0-0A83AFC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54B-D38E-4186-A530-243FCB91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4A4-1539-4E66-A40F-F70E737282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DE0-721A-4EE6-8D11-A7DABEC815D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E63-4420-4AEA-9619-1088AC1639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1F1-7BDF-4E73-97F2-4457D03667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33C-0A70-4839-A6E6-03AD25961CA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8B5-FA9B-4A2E-8005-482BF1AA3DF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6" descr=",.jpeg"/>
          <p:cNvPicPr/>
          <p:nvPr/>
        </p:nvPicPr>
        <p:blipFill>
          <a:blip r:embed="rId1"/>
          <a:stretch/>
        </p:blipFill>
        <p:spPr>
          <a:xfrm>
            <a:off x="276120" y="21420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Подзаголовок 2" descr=""/>
          <p:cNvPicPr/>
          <p:nvPr/>
        </p:nvPicPr>
        <p:blipFill>
          <a:blip r:embed="rId2"/>
          <a:stretch/>
        </p:blipFill>
        <p:spPr>
          <a:xfrm>
            <a:off x="676440" y="706320"/>
            <a:ext cx="652284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304920" y="-139680"/>
            <a:ext cx="7113600" cy="178596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04800"/>
            <a:ext cx="7480440" cy="465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400" y="1928520"/>
            <a:ext cx="8429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28800" y="0"/>
            <a:ext cx="6480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"/>
          <p:cNvPicPr/>
          <p:nvPr/>
        </p:nvPicPr>
        <p:blipFill>
          <a:blip r:embed="rId1"/>
          <a:stretch/>
        </p:blipFill>
        <p:spPr>
          <a:xfrm>
            <a:off x="549360" y="1494000"/>
            <a:ext cx="823428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apitol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he residence of the Congress)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Содержимое 3" descr="tour_photo_75_6160.jpg"/>
          <p:cNvPicPr/>
          <p:nvPr/>
        </p:nvPicPr>
        <p:blipFill>
          <a:blip r:embed="rId1"/>
          <a:stretch/>
        </p:blipFill>
        <p:spPr>
          <a:xfrm>
            <a:off x="285840" y="1719360"/>
            <a:ext cx="71438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House of Representatives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Содержимое 9" descr="congress.jpg"/>
          <p:cNvPicPr/>
          <p:nvPr/>
        </p:nvPicPr>
        <p:blipFill>
          <a:blip r:embed="rId1"/>
          <a:stretch/>
        </p:blipFill>
        <p:spPr>
          <a:xfrm>
            <a:off x="642960" y="1428840"/>
            <a:ext cx="807228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nate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Содержимое 5" descr="tumblr_kw3lsytxp11qzpxv2o1_400.jpg"/>
          <p:cNvPicPr/>
          <p:nvPr/>
        </p:nvPicPr>
        <p:blipFill>
          <a:blip r:embed="rId1"/>
          <a:stretch/>
        </p:blipFill>
        <p:spPr>
          <a:xfrm>
            <a:off x="214200" y="1285920"/>
            <a:ext cx="72867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JUDICIAL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31960"/>
            <a:ext cx="8412120" cy="513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S Supreme Court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Содержимое 3" descr="6a00d834515c6d69e200e54f4031aa8833-640wi.jpg"/>
          <p:cNvPicPr/>
          <p:nvPr/>
        </p:nvPicPr>
        <p:blipFill>
          <a:blip r:embed="rId1"/>
          <a:stretch/>
        </p:blipFill>
        <p:spPr>
          <a:xfrm>
            <a:off x="357120" y="1719360"/>
            <a:ext cx="742968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3584160"/>
            <a:ext cx="662940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Содержимое 3" descr="i.jpeg р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Текст 4" descr=""/>
          <p:cNvPicPr/>
          <p:nvPr/>
        </p:nvPicPr>
        <p:blipFill>
          <a:blip r:embed="rId2"/>
          <a:stretch/>
        </p:blipFill>
        <p:spPr>
          <a:xfrm>
            <a:off x="1231920" y="1560600"/>
            <a:ext cx="6742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esident  </a:t>
            </a: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he head of the Russian Federation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2" name="Содержимое 3" descr="Medvedev_DA.jpg"/>
          <p:cNvPicPr/>
          <p:nvPr/>
        </p:nvPicPr>
        <p:blipFill>
          <a:blip r:embed="rId1"/>
          <a:stretch/>
        </p:blipFill>
        <p:spPr>
          <a:xfrm>
            <a:off x="500040" y="1500120"/>
            <a:ext cx="407196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XECUTIVE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4" name="Содержимое 13" descr=""/>
          <p:cNvPicPr/>
          <p:nvPr/>
        </p:nvPicPr>
        <p:blipFill>
          <a:blip r:embed="rId1"/>
          <a:stretch/>
        </p:blipFill>
        <p:spPr>
          <a:xfrm>
            <a:off x="450720" y="1298520"/>
            <a:ext cx="8339400" cy="53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izabeth II -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head of the stat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5" descr="187841_l.jpg"/>
          <p:cNvPicPr/>
          <p:nvPr/>
        </p:nvPicPr>
        <p:blipFill>
          <a:blip r:embed="rId1"/>
          <a:stretch/>
        </p:blipFill>
        <p:spPr>
          <a:xfrm>
            <a:off x="500040" y="1643040"/>
            <a:ext cx="785808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</a:t>
            </a:r>
            <a:br>
              <a:rPr sz="4300"/>
            </a:b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1"/>
          <a:stretch/>
        </p:blipFill>
        <p:spPr>
          <a:xfrm>
            <a:off x="433440" y="1566720"/>
            <a:ext cx="86439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uma ( lower house)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Содержимое 3" descr="dyma.jpg"/>
          <p:cNvPicPr/>
          <p:nvPr/>
        </p:nvPicPr>
        <p:blipFill>
          <a:blip r:embed="rId1"/>
          <a:stretch/>
        </p:blipFill>
        <p:spPr>
          <a:xfrm>
            <a:off x="1173240" y="1600200"/>
            <a:ext cx="761364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Federation Council (upper house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Содержимое 3" descr="image_big_7592.jpg"/>
          <p:cNvPicPr/>
          <p:nvPr/>
        </p:nvPicPr>
        <p:blipFill>
          <a:blip r:embed="rId1"/>
          <a:stretch/>
        </p:blipFill>
        <p:spPr>
          <a:xfrm>
            <a:off x="357120" y="1747800"/>
            <a:ext cx="80726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Содержимое 3" descr="48109212_0_1754_2352124f_L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700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reme Court</a:t>
            </a:r>
            <a:endParaRPr b="0" lang="en-US" sz="7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XECUTIVE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13" descr=""/>
          <p:cNvPicPr/>
          <p:nvPr/>
        </p:nvPicPr>
        <p:blipFill>
          <a:blip r:embed="rId1"/>
          <a:stretch/>
        </p:blipFill>
        <p:spPr>
          <a:xfrm>
            <a:off x="-6480" y="1633680"/>
            <a:ext cx="8961480" cy="524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LEGISLATIVE branch of power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6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890568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he House of Commons</a:t>
            </a:r>
            <a:br>
              <a:rPr sz="4100"/>
            </a:b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(</a:t>
            </a:r>
            <a:r>
              <a:rPr b="0" lang="ru-RU" sz="4100" spc="-1" strike="noStrike">
                <a:solidFill>
                  <a:srgbClr val="ff0000"/>
                </a:solidFill>
                <a:latin typeface="Franklin Gothic Book"/>
              </a:rPr>
              <a:t>Палата Общин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3" descr="new_pa4.jpg"/>
          <p:cNvPicPr/>
          <p:nvPr/>
        </p:nvPicPr>
        <p:blipFill>
          <a:blip r:embed="rId1"/>
          <a:stretch/>
        </p:blipFill>
        <p:spPr>
          <a:xfrm>
            <a:off x="571680" y="1714680"/>
            <a:ext cx="8396280" cy="484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he House of Lords</a:t>
            </a:r>
            <a:br>
              <a:rPr sz="4100"/>
            </a:b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(</a:t>
            </a:r>
            <a:r>
              <a:rPr b="0" lang="ru-RU" sz="4100" spc="-1" strike="noStrike">
                <a:solidFill>
                  <a:srgbClr val="ff0000"/>
                </a:solidFill>
                <a:latin typeface="Franklin Gothic Book"/>
              </a:rPr>
              <a:t>Палата Лордов</a:t>
            </a: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3" descr="parlopenquee12.jpg"/>
          <p:cNvPicPr/>
          <p:nvPr/>
        </p:nvPicPr>
        <p:blipFill>
          <a:blip r:embed="rId1"/>
          <a:stretch/>
        </p:blipFill>
        <p:spPr>
          <a:xfrm>
            <a:off x="500040" y="1571760"/>
            <a:ext cx="777888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70676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e52ad8c665e5f517228e9a63148.jpg"/>
          <p:cNvPicPr/>
          <p:nvPr/>
        </p:nvPicPr>
        <p:blipFill>
          <a:blip r:embed="rId2"/>
          <a:stretch/>
        </p:blipFill>
        <p:spPr>
          <a:xfrm>
            <a:off x="0" y="1571760"/>
            <a:ext cx="631044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esident 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he head of the USA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5" descr="barack-obama-300.jpg"/>
          <p:cNvPicPr/>
          <p:nvPr/>
        </p:nvPicPr>
        <p:blipFill>
          <a:blip r:embed="rId1"/>
          <a:stretch/>
        </p:blipFill>
        <p:spPr>
          <a:xfrm>
            <a:off x="714240" y="1857240"/>
            <a:ext cx="4572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White House – the official residence of the US President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3" descr="whitehousesouthfacade.jpg"/>
          <p:cNvPicPr/>
          <p:nvPr/>
        </p:nvPicPr>
        <p:blipFill>
          <a:blip r:embed="rId1"/>
          <a:stretch/>
        </p:blipFill>
        <p:spPr>
          <a:xfrm>
            <a:off x="785880" y="1785960"/>
            <a:ext cx="77868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40:34Z</dcterms:created>
  <dc:creator>Пользователь</dc:creator>
  <dc:description/>
  <dc:language>en-US</dc:language>
  <cp:lastModifiedBy>Губайдулин</cp:lastModifiedBy>
  <dcterms:modified xsi:type="dcterms:W3CDTF">2011-05-13T06:16:10Z</dcterms:modified>
  <cp:revision>28</cp:revision>
  <dc:subject/>
  <dc:title>Слайд 1</dc:title>
</cp:coreProperties>
</file>