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1CD-AE2A-464E-9CAF-09EC9199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FFA-1725-4C72-B8E0-2D66DE2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81E-3CA3-444F-8AD4-9595ED1E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675-6367-4B13-BFC6-B683F03A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7996-7C97-4EDF-BCF3-180C498B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78F-0D40-4F1D-B6F4-5143FC9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515C-799D-4156-A1A4-9F46A161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AECD-DAAA-458A-BA8A-A196799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592C-38EB-48FE-87E7-5C578F7A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C19-32C8-4173-91C7-ABA2F19B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9EF-F1ED-4F4E-A614-ACEA103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DD8-B5BF-452A-B22C-EC3CDE1F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F7B-E350-4969-BF83-6899B1EF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90E-54E3-49EE-81A2-E4EF6FC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CE34-B31E-49A3-9528-D65A1E2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0FD6-D18D-4E42-8DC2-18BA067B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7BE7-6C95-40BE-80DB-E93267B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CFA-EE46-4501-A9BC-215CBF2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3BE-43BD-4D6F-B428-171E6A3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46B-AB87-4CC4-8A0A-CBBFC4D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ECC-CACE-442F-B379-9861E183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A01-8045-4460-808E-C116C59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CDB-8D28-4873-9BFF-6B611DB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C2D-BBC3-445C-9C2F-B2E86E4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826-3C3D-46A9-9597-1CC7B5FCB8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4D7-344E-4E3A-AEFE-D415B4EF48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uralreg.ru/files/file115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uralreg.ru/files/file115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6.jpeg"/><Relationship Id="rId5" Type="http://schemas.openxmlformats.org/officeDocument/2006/relationships/hyperlink" Target="http://fotki.yandex.ru/users/faustina1956/view/14592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1262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Times New Roman"/>
              </a:rPr>
              <a:t>Краеведение 6 класс.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999900"/>
                </a:solidFill>
                <a:latin typeface="Times New Roman"/>
              </a:rPr>
              <a:t>«Край на перекрестке               континентов и судеб».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193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: Басова Людмила Викто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 №1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Сатка, Челябинская обл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Самый…Самое…Сама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старый город в области – Верхнеуральс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н заложен в 1734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молодой город – Южноуральск, образован в 1963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е северные города – Нязепетровск и верхний Уфа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южный город – Магнитогор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западный город – Аша, он находится на границе с Башкортостан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восточный город – Копей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Выберите верные утверждения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территории Челябинской области могут одновременно разместиться такие страны, как Бельгия, Дания, Швейцар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) Челябинская область по площади превышает Курганску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) среди субъектов Российской Федерации, входящих в Уральский федеральный округ, Челябинская область занимает второе место по площад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Установите соответств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ритории                         Характеристика границ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Курганская область               А. Самый короткий участок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Оренбургская область                     границ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Республика Башкортостан    Б. Граница на большом протя-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Республика Казахстан                жении проходит по ре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Свердловская область           В. Граница установлена с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февраля 1943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. Северная гран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. Граница формировалась в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иод строительства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елезоделательн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одов в 18 ве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 центра Челябинска вылетел вертолет. Пилот получил приказ выполнить «коробочку: 50 км на север, разворот на восток – 100км, затем снова на юг – 100км, на запад – 100км м возвращение на север – 50к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бы узнать, где приземлился вертолет, выберите правильный отв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в центре Челябинска,  б) северне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южнее, г) восточнее,  д) запад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00"/>
                </a:solidFill>
                <a:latin typeface="Garamond"/>
              </a:rPr>
              <a:t>«Край на перекрестке континентов и судеб».</a:t>
            </a: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2087280" cy="316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2778120" cy="338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3141720"/>
            <a:ext cx="2868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4278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огда- то над хребтом Ур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лёной свежестью пол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 волнами запросто игр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орская вольная вол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Ей было любо на простор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, гордо устремляясь ввыс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хлынуло, исчезло мор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 горы в небо подняли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о легендарная при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о в море в памяти храни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гранитных каменных пород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олной играет малах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н морем до краёв наполнен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, кажется, слегка поду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хлынут каменные вол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 морю вновь укажут путь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дмила Татьянич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6732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194328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10636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92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елябинская область - один из 84 субъектов Российской Федерации, в составе Уральского Федерального ок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та образования- 17 января 1934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современных границах с 6 февраля 1943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Картинка 13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51687400" y="-15840"/>
            <a:ext cx="333360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3 из 3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51687400" y="-15840"/>
            <a:ext cx="3333600" cy="2000160"/>
          </a:xfrm>
          <a:prstGeom prst="rect">
            <a:avLst/>
          </a:prstGeom>
          <a:ln w="0">
            <a:noFill/>
          </a:ln>
        </p:spPr>
      </p:pic>
      <p:pic>
        <p:nvPicPr>
          <p:cNvPr id="106" name="i-tmb-0x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4643280" y="4365720"/>
            <a:ext cx="374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7 муниципальных районов и 16 городских окру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крупнейших города –Челябинск и Магнитогорс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городов, 30 поселков городского типа и 1260 сельских пос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516, 4 тыс. чел. В городах -82%, в сельской местности -18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30000"/>
          </a:blip>
          <a:srcRect l="11626" t="21209" r="16281" b="17787"/>
          <a:stretch/>
        </p:blipFill>
        <p:spPr>
          <a:xfrm>
            <a:off x="250920" y="1600200"/>
            <a:ext cx="4105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-12000"/>
          </a:blip>
          <a:srcRect l="51473" t="15563" r="20389" b="64015"/>
          <a:stretch/>
        </p:blipFill>
        <p:spPr>
          <a:xfrm>
            <a:off x="250920" y="1557360"/>
            <a:ext cx="3290760" cy="4530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1557360"/>
            <a:ext cx="5508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– 88,5 тыс.км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С севера на юг на 490 км.(от5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 56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.ш.) с запада на восток на 400 км.(57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 6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Сев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граница со Свердловской областью (д. Подкорытовка Каслинского р-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Восточ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Курганской обл. (пос.Крутоярский Октябрьского р-н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Юж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Казахстаном (п. Синий Шихан Брединского р-н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пад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Башкортостаном (пос.Точильный Ашинского р-н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Географический центр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5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.ш. и 60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.д. прав. берег р. У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7786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41493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амая низкая точ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.Уй ( на восточной границе обл.)  -100м. над уронем мо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249800" cy="230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3933720"/>
            <a:ext cx="4249800" cy="2735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191628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амая высокая вершина 1406 м. (хр. Нургу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Особенности географического положения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400720" cy="489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риродные границ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Планетарны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ежду частями света -  Европой и Ази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ежду географическими странами Уралом и Сибир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гиональные границ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доразделов бассейнов рек (Северного Ледовитого океана, Каспийского моря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родных зон (лесная, лесостепная, степна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-12000"/>
          </a:blip>
          <a:srcRect l="0" t="55257" r="73814" b="5577"/>
          <a:stretch/>
        </p:blipFill>
        <p:spPr>
          <a:xfrm>
            <a:off x="5796000" y="1557360"/>
            <a:ext cx="334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Особенности географического положения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64000" y="1628280"/>
            <a:ext cx="5400720" cy="4853160"/>
          </a:xfrm>
          <a:prstGeom prst="rect">
            <a:avLst/>
          </a:prstGeom>
          <a:solidFill>
            <a:srgbClr val="cccc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дминистративно-территориальн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север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Свердловская область (26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северо-восток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Курганская область (41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юго-восток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Республика Казахстан (73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юг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Оренбургская область (20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запад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Республика Башкортостан (1150 км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Общая протяженность грани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2750 к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1626" t="21209" r="16281" b="17787"/>
          <a:stretch/>
        </p:blipFill>
        <p:spPr>
          <a:xfrm>
            <a:off x="179280" y="1628640"/>
            <a:ext cx="345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7:14:26Z</dcterms:created>
  <dc:creator>Zver</dc:creator>
  <dc:description/>
  <dc:language>en-US</dc:language>
  <cp:lastModifiedBy>Admin</cp:lastModifiedBy>
  <dcterms:modified xsi:type="dcterms:W3CDTF">2011-09-19T09:33:54Z</dcterms:modified>
  <cp:revision>22</cp:revision>
  <dc:subject/>
  <dc:title>Слайд 1</dc:title>
</cp:coreProperties>
</file>