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DC8-EB1A-4944-84FE-B0965F6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2F1-4E60-4619-99A3-A4F7BE17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659-5D61-45D6-A19A-925189DD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E0C-BC8D-4C6F-B258-84404800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9F35-36A9-426D-B5FD-37D1873D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062-049C-497F-83CB-F2427F0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E5B-0D90-4D8D-82CF-6A66A1A3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E10C-6579-41CC-9E54-C3E12C5E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57C-8F42-4E74-8B0A-8352697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4E1-ADB4-4640-8D32-6406B26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FEB6-85C3-4B1B-8809-81FBB50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735-0350-4BE9-BEA3-67420D7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8AF-6CB6-4749-9744-CAB9B76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57ED-A752-4C21-95DD-F6D53F8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B735-5749-4E5A-9615-28F05617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6099-AF13-4915-AE81-AF4ACBC1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AC22-516E-48B8-A0E0-F5E9C765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86C-FB0D-4B9F-938C-5F8F9641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397-6220-4433-BE13-F8F613A9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0C0-0F66-487B-876C-DDB2D0C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96A-14F9-417D-AD41-21AE727E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24B-5AF7-4563-B080-98158B9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2F7-87E7-4C2B-9064-BF73929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4F9-C536-4C07-AF1D-ED0239D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4CDC-E02D-4CB6-9216-14AEBAE566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66D0-1417-431E-80AE-0A835C03C4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uralreg.ru/files/file115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uralreg.ru/files/file115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6.jpeg"/><Relationship Id="rId5" Type="http://schemas.openxmlformats.org/officeDocument/2006/relationships/hyperlink" Target="http://fotki.yandex.ru/users/faustina1956/view/14592/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1262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Times New Roman"/>
              </a:rPr>
              <a:t>Краеведение 6 класс.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999900"/>
                </a:solidFill>
                <a:latin typeface="Times New Roman"/>
              </a:rPr>
              <a:t>«Край на перекрестке               континентов и судеб».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193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: Басова Людмила Викто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СОШ №1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Сатка, Челябинская обл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Самый…Самое…Сама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старый город в области – Верхнеуральс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н заложен в 1734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молодой город – Южноуральск, образован в 1963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е северные города – Нязепетровск и верхний Уфа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южный город – Магнитогор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западный город – Аша, он находится на границе с Башкортостан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Самый восточный город – Копей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Выберите верные утверждения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территории Челябинской области могут одновременно разместиться такие страны, как Бельгия, Дания, Швейцар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) Челябинская область по площади превышает Курганску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) среди субъектов Российской Федерации, входящих в Уральский федеральный округ, Челябинская область занимает второе место по площад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Установите соответств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ритории                         Характеристика границ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Курганская область               А. Самый короткий участок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Оренбургская область                     границ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Республика Башкортостан    Б. Граница на большом протя-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Республика Казахстан                жении проходит по ре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Свердловская область           В. Граница установлена с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февраля 1943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. Северная гран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. Граница формировалась в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иод строительства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елезоделательн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одов в 18 ве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 центра Челябинска вылетел вертолет. Пилот получил приказ выполнить «коробочку: 50 км на север, разворот на восток – 100км, затем снова на юг – 100км, на запад – 100км м возвращение на север – 50к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бы узнать, где приземлился вертолет, выберите правильный отв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в центре Челябинска,  б) северне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южнее, г) восточнее,  д) запад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00"/>
                </a:solidFill>
                <a:latin typeface="Garamond"/>
              </a:rPr>
              <a:t>«Край на перекрестке континентов и судеб».</a:t>
            </a: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2087280" cy="316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2778120" cy="338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2000" y="3141720"/>
            <a:ext cx="2868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4278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огда- то над хребтом Ур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лёной свежестью пол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 волнами запросто игр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орская вольная вол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Ей было любо на простор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, гордо устремляясь ввыс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хлынуло, исчезло мор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 горы в небо подняли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о легендарная при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о в море в памяти храни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гранитных каменных пород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олной играет малах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н морем до краёв наполнен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, кажется, слегка поду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хлынут каменные вол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 морю вновь укажут путь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дмила Татьянич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6732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194328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10636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92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елябинская область - один из 84 субъектов Российской Федерации, в составе Уральского Федерального ок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та образования- 17 января 1934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современных границах с 6 февраля 1943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Картинка 13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51687400" y="-15840"/>
            <a:ext cx="333360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13 из 3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51687400" y="-15840"/>
            <a:ext cx="3333600" cy="2000160"/>
          </a:xfrm>
          <a:prstGeom prst="rect">
            <a:avLst/>
          </a:prstGeom>
          <a:ln w="0">
            <a:noFill/>
          </a:ln>
        </p:spPr>
      </p:pic>
      <p:pic>
        <p:nvPicPr>
          <p:cNvPr id="106" name="i-tmb-0x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4643280" y="4365720"/>
            <a:ext cx="374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7 муниципальных районов и 16 городских окру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крупнейших города –Челябинск и Магнитогорс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городов, 30 поселков городского типа и 1260 сельских пос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516, 4 тыс. чел. В городах -82%, в сельской местности -18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30000"/>
          </a:blip>
          <a:srcRect l="11626" t="21209" r="16281" b="17787"/>
          <a:stretch/>
        </p:blipFill>
        <p:spPr>
          <a:xfrm>
            <a:off x="250920" y="1600200"/>
            <a:ext cx="4105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-12000"/>
          </a:blip>
          <a:srcRect l="51473" t="15563" r="20389" b="64015"/>
          <a:stretch/>
        </p:blipFill>
        <p:spPr>
          <a:xfrm>
            <a:off x="250920" y="1557360"/>
            <a:ext cx="3290760" cy="4530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1557360"/>
            <a:ext cx="5508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– 88,5 тыс.км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С севера на юг на 490 км.(от5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 56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.ш.) с запада на восток на 400 км.(57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 6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Сев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граница со Свердловской областью (д. Подкорытовка Каслинского р-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Восточ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Курганской обл. (пос.Крутоярский Октябрьского р-н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Юж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Казахстаном (п. Синий Шихан Брединского р-н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пад. точ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на границе с Башкортостаном (пос.Точильный Ашинского р-н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Географический центр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54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.ш. и 60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.д. прав. берег р. У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7786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ш край во все стороны свет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41493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амая низкая точ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.Уй ( на восточной границе обл.)  -100м. над уронем мо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249800" cy="230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3933720"/>
            <a:ext cx="4249800" cy="2735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191628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амая высокая вершина 1406 м. (хр. Нургу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Особенности географического положения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400720" cy="489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риродные границ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Планетарны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ежду частями света -  Европой и Ази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ежду географическими странами Уралом и Сибир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гиональные границ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доразделов бассейнов рек (Северного Ледовитого океана, Каспийского моря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родных зон (лесная, лесостепная, степна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-12000"/>
          </a:blip>
          <a:srcRect l="0" t="55257" r="73814" b="5577"/>
          <a:stretch/>
        </p:blipFill>
        <p:spPr>
          <a:xfrm>
            <a:off x="5796000" y="1557360"/>
            <a:ext cx="334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Особенности географического положения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64000" y="1628280"/>
            <a:ext cx="5400720" cy="4853160"/>
          </a:xfrm>
          <a:prstGeom prst="rect">
            <a:avLst/>
          </a:prstGeom>
          <a:solidFill>
            <a:srgbClr val="cccc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дминистративно-территориальн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север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Свердловская область (26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северо-восток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Курганская область (41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юго-восток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Республика Казахстан (73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юг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Оренбургская область (200 км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На запад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Республика Башкортостан (1150 км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Общая протяженность грани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2750 к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1626" t="21209" r="16281" b="17787"/>
          <a:stretch/>
        </p:blipFill>
        <p:spPr>
          <a:xfrm>
            <a:off x="179280" y="1628640"/>
            <a:ext cx="345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7:14:26Z</dcterms:created>
  <dc:creator>Zver</dc:creator>
  <dc:description/>
  <dc:language>en-US</dc:language>
  <cp:lastModifiedBy>Admin</cp:lastModifiedBy>
  <dcterms:modified xsi:type="dcterms:W3CDTF">2011-09-19T09:33:54Z</dcterms:modified>
  <cp:revision>22</cp:revision>
  <dc:subject/>
  <dc:title>Слайд 1</dc:title>
</cp:coreProperties>
</file>