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E8474-1616-42DA-B057-6BB77A50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5D958-CB21-4BA8-A745-B61B6BC2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5C490-0FDF-40FF-8AD1-A830864F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1F647-32CE-47C7-8C81-D0DD565A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E955E-8535-4CF7-AAD5-2EDBF53F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7B104-FFE2-4084-BCB8-56EC1E84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CECB0-8FCB-4188-9AC9-E4867D7E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32F7F-B494-41EE-908F-81C38F84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BC7C7-F450-4128-BA29-0CAB98F2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E6BDC-1395-430B-8B1A-0EEE7A42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7F054-F168-4B47-9208-A800E3AF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BF882-4FAE-4391-9C16-9FC450DF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59F6B-5A64-41A2-AE68-9C0FCF72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A1A4F-8834-461E-B680-37A16A8D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5B035-64B7-4DDD-BA3E-E9FB4497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AEAAA-8B70-456F-9C98-6F74FC21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9B451-4D37-436D-B420-5AADB7ED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75B99-00CF-45CB-A7C4-F3AC19B7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F9DAB-573A-4F01-8078-EA6025BA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34305-44EB-4183-91AA-F3ECB367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D0F96-7ADD-47B2-91CD-DB651809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D5AD3-7268-4F16-9800-5D8D4A01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D6586-0737-449F-8998-4B145C67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2CD0A-6A53-4FDD-8EFF-BB798E9C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0CE0-B19C-4096-93AB-FF6B3A2E7A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4DCF-45DC-4D9A-B20D-F915BAD8A92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" TargetMode="External"/><Relationship Id="rId2" Type="http://schemas.openxmlformats.org/officeDocument/2006/relationships/hyperlink" Target="http://www.portal-slovo.ru/history/35616.php" TargetMode="External"/><Relationship Id="rId3" Type="http://schemas.openxmlformats.org/officeDocument/2006/relationships/hyperlink" Target="http://900igr.net/kartinki/istorija/Istorija-10-klass/029-Preimuschestva-mongolo-tatarskoj-armii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2;&#1085;&#1100;" TargetMode="External"/><Relationship Id="rId2" Type="http://schemas.openxmlformats.org/officeDocument/2006/relationships/hyperlink" Target="http://ru.wikipedia.org/wiki/&#1056;&#1091;&#1089;&#1089;&#1082;&#1080;&#1077;_&#1082;&#1085;&#1103;&#1078;&#1077;&#1089;&#1090;&#1074;&#1072;" TargetMode="External"/><Relationship Id="rId3" Type="http://schemas.openxmlformats.org/officeDocument/2006/relationships/hyperlink" Target="http://ru.wikipedia.org/wiki/&#1061;&#1072;&#1085;_(&#1090;&#1080;&#1090;&#1091;&#1083;)" TargetMode="External"/><Relationship Id="rId4" Type="http://schemas.openxmlformats.org/officeDocument/2006/relationships/hyperlink" Target="http://ru.wikipedia.org/wiki/1260-&#1077;" TargetMode="External"/><Relationship Id="rId5" Type="http://schemas.openxmlformats.org/officeDocument/2006/relationships/hyperlink" Target="http://ru.wikipedia.org/wiki/&#1052;&#1086;&#1085;&#1075;&#1086;&#1083;&#1100;&#1089;&#1082;&#1072;&#1103;_&#1080;&#1084;&#1087;&#1077;&#1088;&#1080;&#1103;" TargetMode="External"/><Relationship Id="rId6" Type="http://schemas.openxmlformats.org/officeDocument/2006/relationships/hyperlink" Target="http://ru.wikipedia.org/wiki/&#1047;&#1086;&#1083;&#1086;&#1090;&#1072;&#1103;_&#1054;&#1088;&#1076;&#1072;" TargetMode="External"/><Relationship Id="rId7" Type="http://schemas.openxmlformats.org/officeDocument/2006/relationships/hyperlink" Target="http://ru.wikipedia.org/wiki/XIII_&#1074;&#1077;&#1082;" TargetMode="External"/><Relationship Id="rId8" Type="http://schemas.openxmlformats.org/officeDocument/2006/relationships/hyperlink" Target="http://ru.wikipedia.org/wiki/XV_&#1074;&#1077;&#1082;" TargetMode="External"/><Relationship Id="rId9" Type="http://schemas.openxmlformats.org/officeDocument/2006/relationships/hyperlink" Target="http://ru.wikipedia.org/wiki/&#1052;&#1086;&#1085;&#1075;&#1086;&#1083;&#1086;-&#1090;&#1072;&#1090;&#1072;&#1088;&#1089;&#1082;&#1086;&#1077;_&#1085;&#1072;&#1096;&#1077;&#1089;&#1090;&#1074;&#1080;&#1077;_&#1085;&#1072;_&#1056;&#1091;&#1089;&#1100;" TargetMode="External"/><Relationship Id="rId10" Type="http://schemas.openxmlformats.org/officeDocument/2006/relationships/hyperlink" Target="http://ru.wikipedia.org/wiki/1237" TargetMode="External"/><Relationship Id="rId11" Type="http://schemas.openxmlformats.org/officeDocument/2006/relationships/hyperlink" Target="http://ru.wikipedia.org/wiki/1241_&#1075;&#1086;&#1076;" TargetMode="External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c66"/>
                </a:solidFill>
                <a:latin typeface="a_AlgeriusCaps"/>
              </a:rPr>
              <a:t>  </a:t>
            </a:r>
            <a:r>
              <a:rPr b="1" lang="ru-RU" sz="7200" spc="-1" strike="noStrike">
                <a:solidFill>
                  <a:srgbClr val="ffcc66"/>
                </a:solidFill>
                <a:latin typeface="a_AlgeriusCaps"/>
              </a:rPr>
              <a:t>Тема     урока</a:t>
            </a:r>
            <a:br>
              <a:rPr sz="7200"/>
            </a:br>
            <a:r>
              <a:rPr b="1" lang="ru-RU" sz="7200" spc="-1" strike="noStrike">
                <a:solidFill>
                  <a:srgbClr val="ffcc66"/>
                </a:solidFill>
                <a:latin typeface="a_AlgeriusCaps"/>
              </a:rPr>
              <a:t>Нашествие с востока </a:t>
            </a:r>
            <a:br>
              <a:rPr sz="7200"/>
            </a:br>
            <a:r>
              <a:rPr b="1" lang="ru-RU" sz="7200" spc="-1" strike="noStrike">
                <a:solidFill>
                  <a:srgbClr val="ffcc66"/>
                </a:solidFill>
                <a:latin typeface="a_AlgeriusCaps"/>
              </a:rPr>
              <a:t>на Русь.</a:t>
            </a:r>
            <a:endParaRPr b="0" lang="en-US" sz="7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7928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истории и обществозн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БОУ школа 212, Санкт-Петербур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апина Елена Серге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Список использованных источников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514440">
              <a:spcBef>
                <a:spcPts val="4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ru.wikipedia.org/wi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http://www.portal-slovo.ru/history/35616.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http://900igr.net/kartinki/istorija/Istorija-10-klass/029-Preimuschestva-mongolo-tatarskoj-armii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photo.peoples.ru/military/commander/chingis-han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forum.dobroe.ru/topic/115938-oborona-kozelska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chitalnya.ru/work/534549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ecoparki.ru/pages_s/234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economic.ispu.ru/history/part1/index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liveinternet.ru/users/lisamiha/post193272358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Армия монголо-татар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95" name="Рисунок 2" descr="9958cfddcaad.jpg"/>
          <p:cNvPicPr/>
          <p:nvPr/>
        </p:nvPicPr>
        <p:blipFill>
          <a:blip r:embed="rId1"/>
          <a:stretch/>
        </p:blipFill>
        <p:spPr>
          <a:xfrm>
            <a:off x="900000" y="1166760"/>
            <a:ext cx="4762440" cy="56912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3" descr="a_2e938f1d.jpg"/>
          <p:cNvPicPr/>
          <p:nvPr/>
        </p:nvPicPr>
        <p:blipFill>
          <a:blip r:embed="rId2"/>
          <a:stretch/>
        </p:blipFill>
        <p:spPr>
          <a:xfrm>
            <a:off x="6516720" y="1628640"/>
            <a:ext cx="1685880" cy="267660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6659640" y="50133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ингиз-х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Битва на реке Калке.   1223 год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686800" cy="62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040" y="333000"/>
            <a:ext cx="8325000" cy="16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Причины поражения русских князей в битве на реке Калке: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2205000"/>
            <a:ext cx="8226360" cy="38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тсутствие единого командова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согласованность действий русских князей и половцев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ля успешной борьбы с монголами было необходимо объединение всех сил Рус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Батый у стен Рязани. 1337 год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3" name="Рисунок 2" descr="16a35f074fb0.jpg"/>
          <p:cNvPicPr/>
          <p:nvPr/>
        </p:nvPicPr>
        <p:blipFill>
          <a:blip r:embed="rId1"/>
          <a:stretch/>
        </p:blipFill>
        <p:spPr>
          <a:xfrm>
            <a:off x="324000" y="1371600"/>
            <a:ext cx="4762440" cy="54864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3" descr="gallery_6401_29_13223.jpg"/>
          <p:cNvPicPr/>
          <p:nvPr/>
        </p:nvPicPr>
        <p:blipFill>
          <a:blip r:embed="rId2"/>
          <a:stretch/>
        </p:blipFill>
        <p:spPr>
          <a:xfrm>
            <a:off x="5580000" y="2565360"/>
            <a:ext cx="294336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Оборона Козельска. 1238 год.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6" name="Рисунок 2" descr="post-17892-0-84302300-1301038620.jpg"/>
          <p:cNvPicPr/>
          <p:nvPr/>
        </p:nvPicPr>
        <p:blipFill>
          <a:blip r:embed="rId1"/>
          <a:stretch/>
        </p:blipFill>
        <p:spPr>
          <a:xfrm>
            <a:off x="539640" y="1341360"/>
            <a:ext cx="3888000" cy="51818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434485594276338816.jpg"/>
          <p:cNvPicPr/>
          <p:nvPr/>
        </p:nvPicPr>
        <p:blipFill>
          <a:blip r:embed="rId2"/>
          <a:stretch/>
        </p:blipFill>
        <p:spPr>
          <a:xfrm>
            <a:off x="5580000" y="1484280"/>
            <a:ext cx="32292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Взятие Суздаля Батыем. 1238 год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9" name="Рисунок 2" descr="1309292421_062923.jpg"/>
          <p:cNvPicPr/>
          <p:nvPr/>
        </p:nvPicPr>
        <p:blipFill>
          <a:blip r:embed="rId1"/>
          <a:stretch/>
        </p:blipFill>
        <p:spPr>
          <a:xfrm>
            <a:off x="395280" y="1417680"/>
            <a:ext cx="4367160" cy="54403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5292720" y="361944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ниатюра из «Жития Ефросиньи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уздальск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 XVI ве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Монголо-татарское иго.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1116000" y="1582560"/>
            <a:ext cx="7488360" cy="48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то название ордынской военно-политической диктатуры, системы политической и 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Tahoma"/>
                <a:hlinkClick r:id="rId1"/>
              </a:rPr>
              <a:t>даннической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зависимости 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Tahoma"/>
                <a:hlinkClick r:id="rId2"/>
              </a:rPr>
              <a:t>русского обществ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от монголо-татарских 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Tahoma"/>
                <a:hlinkClick r:id="rId3"/>
              </a:rPr>
              <a:t>ханов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до начала 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Tahoma"/>
                <a:hlinkClick r:id="rId4"/>
              </a:rPr>
              <a:t>60-х годов XIII век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Tahoma"/>
                <a:hlinkClick r:id="rId5"/>
              </a:rPr>
              <a:t>монгольских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ханов, после — ханов 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Tahoma"/>
                <a:hlinkClick r:id="rId6"/>
              </a:rPr>
              <a:t>Золотой Орды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) в 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Tahoma"/>
                <a:hlinkClick r:id="rId7"/>
              </a:rPr>
              <a:t>XIII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Tahoma"/>
                <a:hlinkClick r:id="rId8"/>
              </a:rPr>
              <a:t>XV веках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становление ига стало возможным в результате 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Tahoma"/>
                <a:hlinkClick r:id="rId9"/>
              </a:rPr>
              <a:t>монгольского нашествия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на Русь в 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Tahoma"/>
                <a:hlinkClick r:id="rId10"/>
              </a:rPr>
              <a:t>1237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Tahoma"/>
                <a:hlinkClick r:id="rId11"/>
              </a:rPr>
              <a:t>1241 годах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и происходило в течение двух десятилетий после него, в том числе и в неразорённых земл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Слово о погибели русской земли…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395280" y="1844640"/>
            <a:ext cx="8569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 светло светлая и украсно украше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земля Русьская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 многыми красотами удивлена ес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зеры многыми, дивлена еси реками и кладязьми месточестьными, горами крутым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холми высокими, дубравами частым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льми дивными, зверьми разноличьным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тицами бещислеными, городы великым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елы дивными, винограды обителным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омы церковными и князьями грозным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бояры честными, вельможи многами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сего еси испольнена земля Руська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 правоверная вера хрестияньская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Рисунок 5" descr="1309292421_062923.jpg"/>
          <p:cNvPicPr/>
          <p:nvPr/>
        </p:nvPicPr>
        <p:blipFill>
          <a:blip r:embed="rId1"/>
          <a:stretch/>
        </p:blipFill>
        <p:spPr>
          <a:xfrm>
            <a:off x="4525920" y="3371760"/>
            <a:ext cx="92160" cy="1144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434485594276338816.jpg"/>
          <p:cNvPicPr/>
          <p:nvPr/>
        </p:nvPicPr>
        <p:blipFill>
          <a:blip r:embed="rId2"/>
          <a:stretch/>
        </p:blipFill>
        <p:spPr>
          <a:xfrm>
            <a:off x="6539040" y="3213000"/>
            <a:ext cx="26049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4:29:41Z</dcterms:created>
  <dc:creator>св</dc:creator>
  <dc:description/>
  <dc:language>en-US</dc:language>
  <cp:lastModifiedBy>Елена Сергеевна</cp:lastModifiedBy>
  <dcterms:modified xsi:type="dcterms:W3CDTF">2012-09-11T19:16:34Z</dcterms:modified>
  <cp:revision>38</cp:revision>
  <dc:subject/>
  <dc:title>Слайд 1</dc:title>
</cp:coreProperties>
</file>