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F4C4-7139-4296-B420-563EBBC9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C0C1-FEFC-4578-BFF8-EA2832A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5F93-CB2A-4933-9BFC-CB6825ED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0411-BF20-42C5-9D6E-AF1A5478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50317-2FB4-4902-AC75-2119568D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0D335-C95D-4778-A7AF-46D89D62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EBB6-DCDF-45F3-BF84-E91AF0A3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25F3A-BD9E-4764-BF5D-C4DBB368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9EFF4-E54F-417F-9D45-C47DBF39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BC260-6E84-429A-B597-AF22C0E2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EB7D9-147F-4344-8E33-CDFA490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954C-9470-40DA-807C-D035964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ACAEF-6E90-48AC-8C97-2B0E7F2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DFB6A-6BF0-4F92-A745-31472C9A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46549-2729-4AEC-907D-44DE11A8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80D5D-B46F-4FFF-BF60-2F900CAF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A51E-9719-4E58-81B9-0062B7FA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7D8B-1F61-4871-A601-FE2EB66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1FDD-AA19-4394-A4E6-A9404239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F5E2-05F1-4D77-BDBD-22A4CC3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0B63-79C8-48FF-A448-49AE1E8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4FBE-308E-47AD-8ED5-0E23D08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F1F5-8E88-41CF-AE6A-03B5141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6FB4-06D3-4A78-8148-2768F8F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3B77-F2F2-472F-9458-2F492FA37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45EE-D9D1-4203-9CEA-C845D10831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" TargetMode="External"/><Relationship Id="rId2" Type="http://schemas.openxmlformats.org/officeDocument/2006/relationships/hyperlink" Target="http://www.portal-slovo.ru/history/35616.php" TargetMode="External"/><Relationship Id="rId3" Type="http://schemas.openxmlformats.org/officeDocument/2006/relationships/hyperlink" Target="http://900igr.net/kartinki/istorija/Istorija-10-klass/029-Preimuschestva-mongolo-tatarskoj-armii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5;&#1100;" TargetMode="External"/><Relationship Id="rId2" Type="http://schemas.openxmlformats.org/officeDocument/2006/relationships/hyperlink" Target="http://ru.wikipedia.org/wiki/&#1056;&#1091;&#1089;&#1089;&#1082;&#1080;&#1077;_&#1082;&#1085;&#1103;&#1078;&#1077;&#1089;&#1090;&#1074;&#1072;" TargetMode="External"/><Relationship Id="rId3" Type="http://schemas.openxmlformats.org/officeDocument/2006/relationships/hyperlink" Target="http://ru.wikipedia.org/wiki/&#1061;&#1072;&#1085;_(&#1090;&#1080;&#1090;&#1091;&#1083;)" TargetMode="External"/><Relationship Id="rId4" Type="http://schemas.openxmlformats.org/officeDocument/2006/relationships/hyperlink" Target="http://ru.wikipedia.org/wiki/1260-&#1077;" TargetMode="External"/><Relationship Id="rId5" Type="http://schemas.openxmlformats.org/officeDocument/2006/relationships/hyperlink" Target="http://ru.wikipedia.org/wiki/&#1052;&#1086;&#1085;&#1075;&#1086;&#1083;&#1100;&#1089;&#1082;&#1072;&#1103;_&#1080;&#1084;&#1087;&#1077;&#1088;&#1080;&#1103;" TargetMode="External"/><Relationship Id="rId6" Type="http://schemas.openxmlformats.org/officeDocument/2006/relationships/hyperlink" Target="http://ru.wikipedia.org/wiki/&#1047;&#1086;&#1083;&#1086;&#1090;&#1072;&#1103;_&#1054;&#1088;&#1076;&#1072;" TargetMode="External"/><Relationship Id="rId7" Type="http://schemas.openxmlformats.org/officeDocument/2006/relationships/hyperlink" Target="http://ru.wikipedia.org/wiki/XIII_&#1074;&#1077;&#1082;" TargetMode="External"/><Relationship Id="rId8" Type="http://schemas.openxmlformats.org/officeDocument/2006/relationships/hyperlink" Target="http://ru.wikipedia.org/wiki/XV_&#1074;&#1077;&#1082;" TargetMode="External"/><Relationship Id="rId9" Type="http://schemas.openxmlformats.org/officeDocument/2006/relationships/hyperlink" Target="http://ru.wikipedia.org/wiki/&#1052;&#1086;&#1085;&#1075;&#1086;&#1083;&#1086;-&#1090;&#1072;&#1090;&#1072;&#1088;&#1089;&#1082;&#1086;&#1077;_&#1085;&#1072;&#1096;&#1077;&#1089;&#1090;&#1074;&#1080;&#1077;_&#1085;&#1072;_&#1056;&#1091;&#1089;&#1100;" TargetMode="External"/><Relationship Id="rId10" Type="http://schemas.openxmlformats.org/officeDocument/2006/relationships/hyperlink" Target="http://ru.wikipedia.org/wiki/1237" TargetMode="External"/><Relationship Id="rId11" Type="http://schemas.openxmlformats.org/officeDocument/2006/relationships/hyperlink" Target="http://ru.wikipedia.org/wiki/1241_&#1075;&#1086;&#1076;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  </a:t>
            </a: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Тема     урока</a:t>
            </a:r>
            <a:br>
              <a:rPr sz="7200"/>
            </a:b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Нашествие с востока </a:t>
            </a:r>
            <a:br>
              <a:rPr sz="7200"/>
            </a:b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на Русь.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7928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БОУ школа 212, Санкт-Петербур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пина Елена Серг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Список использованных источник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ru.wikipedia.org/wi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://www.portal-slovo.ru/history/35616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://900igr.net/kartinki/istorija/Istorija-10-klass/029-Preimuschestva-mongolo-tatarskoj-armii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photo.peoples.ru/military/commander/chingis-ha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forum.dobroe.ru/topic/115938-oborona-kozels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chitalnya.ru/work/534549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ecoparki.ru/pages_s/234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economic.ispu.ru/history/part1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veinternet.ru/users/lisamiha/post193272358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Армия монголо-татар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5" name="Рисунок 2" descr="9958cfddcaad.jpg"/>
          <p:cNvPicPr/>
          <p:nvPr/>
        </p:nvPicPr>
        <p:blipFill>
          <a:blip r:embed="rId1"/>
          <a:stretch/>
        </p:blipFill>
        <p:spPr>
          <a:xfrm>
            <a:off x="900000" y="1166760"/>
            <a:ext cx="4762440" cy="5691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a_2e938f1d.jpg"/>
          <p:cNvPicPr/>
          <p:nvPr/>
        </p:nvPicPr>
        <p:blipFill>
          <a:blip r:embed="rId2"/>
          <a:stretch/>
        </p:blipFill>
        <p:spPr>
          <a:xfrm>
            <a:off x="6516720" y="1628640"/>
            <a:ext cx="1685880" cy="26766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659640" y="5013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нгиз-х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Битва на реке Калке.   1223 год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86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333000"/>
            <a:ext cx="832500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Причины поражения русских князей в битве на реке Калке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2205000"/>
            <a:ext cx="822636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сутствие единого команд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согласованность действий русских князей и половце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успешной борьбы с монголами было необходимо объединение всех сил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Батый у стен Рязани. 1337 год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3" name="Рисунок 2" descr="16a35f074fb0.jpg"/>
          <p:cNvPicPr/>
          <p:nvPr/>
        </p:nvPicPr>
        <p:blipFill>
          <a:blip r:embed="rId1"/>
          <a:stretch/>
        </p:blipFill>
        <p:spPr>
          <a:xfrm>
            <a:off x="324000" y="1371600"/>
            <a:ext cx="476244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gallery_6401_29_13223.jpg"/>
          <p:cNvPicPr/>
          <p:nvPr/>
        </p:nvPicPr>
        <p:blipFill>
          <a:blip r:embed="rId2"/>
          <a:stretch/>
        </p:blipFill>
        <p:spPr>
          <a:xfrm>
            <a:off x="5580000" y="2565360"/>
            <a:ext cx="29433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Оборона Козельска. 1238 год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6" name="Рисунок 2" descr="post-17892-0-84302300-1301038620.jpg"/>
          <p:cNvPicPr/>
          <p:nvPr/>
        </p:nvPicPr>
        <p:blipFill>
          <a:blip r:embed="rId1"/>
          <a:stretch/>
        </p:blipFill>
        <p:spPr>
          <a:xfrm>
            <a:off x="539640" y="1341360"/>
            <a:ext cx="3888000" cy="51818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434485594276338816.jpg"/>
          <p:cNvPicPr/>
          <p:nvPr/>
        </p:nvPicPr>
        <p:blipFill>
          <a:blip r:embed="rId2"/>
          <a:stretch/>
        </p:blipFill>
        <p:spPr>
          <a:xfrm>
            <a:off x="5580000" y="1484280"/>
            <a:ext cx="3229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зятие Суздаля Батыем. 1238 год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9" name="Рисунок 2" descr="1309292421_062923.jpg"/>
          <p:cNvPicPr/>
          <p:nvPr/>
        </p:nvPicPr>
        <p:blipFill>
          <a:blip r:embed="rId1"/>
          <a:stretch/>
        </p:blipFill>
        <p:spPr>
          <a:xfrm>
            <a:off x="395280" y="1417680"/>
            <a:ext cx="4367160" cy="544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36194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атюра из «Жития Ефросинь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уздальск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XVI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Монголо-татарское иго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16000" y="1582560"/>
            <a:ext cx="748836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название ордынской военно-политической диктатуры, системы политической и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1"/>
              </a:rPr>
              <a:t>данническо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зависимости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2"/>
              </a:rPr>
              <a:t>русского обществ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от монголо-татарских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3"/>
              </a:rPr>
              <a:t>хан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до начала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4"/>
              </a:rPr>
              <a:t>60-х годов XIII век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5"/>
              </a:rPr>
              <a:t>монгольски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ханов, после — ханов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6"/>
              </a:rPr>
              <a:t>Золотой Орд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 в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7"/>
              </a:rPr>
              <a:t>X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8"/>
              </a:rPr>
              <a:t>XV века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тановление ига стало возможным в результате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9"/>
              </a:rPr>
              <a:t>монгольского нашеств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на Русь в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10"/>
              </a:rPr>
              <a:t>1237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11"/>
              </a:rPr>
              <a:t>1241 года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 происходило в течение двух десятилетий после него, в том числе и в неразорённых земл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лово о погибели русской земли…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95280" y="1844640"/>
            <a:ext cx="85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светло светлая и украсно украш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я Русьска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многыми красотами удивлена ес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еры многыми, дивлена еси реками и кладязьми месточестьными, горами крут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холми высокими, дубравами част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ьми дивными, зверьми разноличьн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тицами бещислеными, городы велик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елы дивными, винограды обителным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омы церковными и князьями грозн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ояры честными, вельможи многами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сего еси испольнена земля Руська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правоверная вера хрестияньска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Рисунок 5" descr="1309292421_062923.jpg"/>
          <p:cNvPicPr/>
          <p:nvPr/>
        </p:nvPicPr>
        <p:blipFill>
          <a:blip r:embed="rId1"/>
          <a:stretch/>
        </p:blipFill>
        <p:spPr>
          <a:xfrm>
            <a:off x="4525920" y="3371760"/>
            <a:ext cx="92160" cy="114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434485594276338816.jpg"/>
          <p:cNvPicPr/>
          <p:nvPr/>
        </p:nvPicPr>
        <p:blipFill>
          <a:blip r:embed="rId2"/>
          <a:stretch/>
        </p:blipFill>
        <p:spPr>
          <a:xfrm>
            <a:off x="6539040" y="3213000"/>
            <a:ext cx="2604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св</dc:creator>
  <dc:description/>
  <dc:language>en-US</dc:language>
  <cp:lastModifiedBy>Елена Сергеевна</cp:lastModifiedBy>
  <dcterms:modified xsi:type="dcterms:W3CDTF">2012-09-11T19:16:34Z</dcterms:modified>
  <cp:revision>38</cp:revision>
  <dc:subject/>
  <dc:title>Слайд 1</dc:title>
</cp:coreProperties>
</file>