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005D-EC5D-4C0F-B6FB-F792F4083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CB7D-4C6A-4BFD-8F21-F4730F070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C175-C01D-4347-9562-E8A5DC75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C73-85BC-40A3-A131-5A483169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1B5-96DB-4A95-8496-903EBC44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279-646F-4A1B-97EC-DD53BFF1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000-47D4-49B7-A5A7-448B5522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6E1-E25D-42A4-B68E-5C143A56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DAD-64C5-4580-B0EF-3A858D2A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F84-E891-49E1-AB54-EED4D656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E1F-5B8C-4700-82DF-2B60CF77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D94-7625-4E02-87C2-543D9573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74C-032E-4013-92F8-2041D9E5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9C5-7411-4D04-9780-E97C27E3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BADF-D7F8-49FC-85A9-6C8A5714A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грегатные состояния вещ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лавление и отвердевание кристаллических те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оличество теплоты, необходимое для плавления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= Q / m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 = Q /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личество теплоты, выделяющееся при кристаллизации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 = -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люминиевый и медный бруски массой 1 кг каждый нагреты до температуры их плавления. Для плавления какого тела потребуется больше количества теплоты? На сколько больш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сколько при плавлении увеличится внутренняя энергия ртути, свинца, меди массами по 1 кг, взятых при их температурах плавле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олько энергии нужно затратить, чтобы расплавить лед массой 4 кг при температуре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олько энергии требуется затратить, чтобы расплавить свинец массой 20 кг при температуре плавления? Сколько энергии понадобится для этого, если начальная температура свинца 2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изический словар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ублим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Фа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морф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ристал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Школа «Олимп - Плюс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читель физики - Петрова В.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грегатные состоя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ид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азообраз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457200"/>
            <a:ext cx="3809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вл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переход вещества из твердого состояния в жидк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рообразова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переход вещества из жидкого состояния в газообразн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блимац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переход вещества из твердого состояния в газообраз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456840"/>
            <a:ext cx="3809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исталлизац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переход вещества из жидкого состояния в тверд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денсация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ереход вещества из газообразного состояния в жидк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сублимац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переход вещества из газообразного состояния в тверд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мпература плавления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мпература отверде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ещества отвердевают при той же температуре, при которой плавя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ход из твердой фазы в жидкую фазу называется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ход из твердой фазы в газообразную фазу называется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ход из жидкой фазы в газообразную называется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ход из газообразной фазы в жидкую называется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чественные задач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гут ли быть в жидком состоянии кислород и водород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гут ли быть в газообразном состоянии железо и золот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усок свинца нагрели и он перешел в жидкое состояние Как при этом изменилась скорость движения молекул, их располож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внутренняяя энергия веществ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жно ли в алюминиевом котле расплавить медь? Цин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металлы можно расплавить в медном сосуд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каком состоянии находятся серебро и вольфрам при температуре 100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емпература газовой горелки 50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.Посудой из каких металлов можно пользоватьс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ой металл расплавится на ладо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дельная теплота плавления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греч. буква ’’лямбда’’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[Дж/кг]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изическая величин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показывающая, какое количество теплоты необходимо сообщить кристаллическому телу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ссой 1 к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чтобы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и температуре плавлени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полностью перевести его в жидкое состояние, называется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дельной теплотой плавл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4:22:44Z</dcterms:created>
  <dc:creator>Павел</dc:creator>
  <dc:description/>
  <dc:language>en-US</dc:language>
  <cp:lastModifiedBy>ZooM</cp:lastModifiedBy>
  <dcterms:modified xsi:type="dcterms:W3CDTF">2013-12-06T02:01:10Z</dcterms:modified>
  <cp:revision>11</cp:revision>
  <dc:subject/>
  <dc:title>Тема урока </dc:title>
</cp:coreProperties>
</file>