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80CB-381F-47FC-BD2D-FA682F48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3706-8C57-43A7-92D4-784792EA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13F-BD17-407A-A848-1E21F99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63F-058C-4F67-944A-81F5C90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35A-C7A3-4585-BDA5-B6EFC34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373-926E-47CC-8AD1-5921EFF4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396-9E7F-436B-855B-03C0A86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8A0-53A6-4F52-8C76-0145329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C09-CD24-4B78-95E1-4BB81E4D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D85-EBE2-4034-AF8F-DA66E169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874-BFAE-4C03-BA34-7E1B2EA2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CDB-A3A1-47DB-AB99-0EFE8B6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BDF-CB8E-4D1A-A443-B806F1F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3A2-F30E-46CE-8851-48E9824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21A3-5C3F-42ED-855A-56A23B81A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грегатные состояния ве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авление и отвердевание кристаллических т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личество теплоты, необходимое для плавления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Q / m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 = Q /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кристаллизации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= -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юминиевый и медный бруски массой 1 кг каждый нагреты до температуры их плавления. Для плавления какого тела потребуется больше количества теплоты? На сколько больш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сколько при плавлении увеличится внутренняя энергия ртути, свинца, меди массами по 1 кг, взятых при их температурах плавл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энергии нужно затратить, чтобы расплавить лед массой 4 кг при температуре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энергии требуется затратить, чтобы расплавить свинец массой 20 кг при температуре плавления? Сколько энергии понадобится для этого, если начальная температура свинца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зический словар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морф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истал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кола «Олимп - Плюс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итель физики - Петрова В.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грегатные состоя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д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азообраз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457200"/>
            <a:ext cx="3809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в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твердого состояния в жидк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рообразов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жидкого состояния в газообразн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твердого состояния в газообраз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сталлизац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переход вещества из жидкого состояния в тверд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денсация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ереход вещества из газообразного состояния в жидк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сублима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переход вещества из газообразного состояния в тверд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пература плавл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пература отверде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ещества отвердевают при той же температуре, при которой плавя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твердой фазы в жидкую фазу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твердой фазы в газообразную фазу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жидкой фазы в газообразную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од из газообразной фазы в жидкую называет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чественные задач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ут ли быть в жидком состоянии кислород и водоро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ут ли быть в газообразном состоянии железо и золо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усок свинца нагрели и он перешел в жидкое состояние Как при этом изменилась скорость движения молекул, их рас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нутренняяя энергия вещест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жно ли в алюминиевом котле расплавить медь? Цин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металлы можно расплавить в медном сосу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каком состоянии находятся серебро и вольфрам при температуре 100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мпература газовой горелки 5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.Посудой из каких металлов можно пользовать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й металл расплавится на ладо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ельная теплота плавл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греч. буква ’’лямбда’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[Дж/кг]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еская величи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показывающая, какое количество теплоты необходимо сообщить кристаллическому телу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сой 1 к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чтоб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 температуре плавл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полностью перевести его в жидкое состояние, называетс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дельной теплотой пл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22:44Z</dcterms:created>
  <dc:creator>Павел</dc:creator>
  <dc:description/>
  <dc:language>en-US</dc:language>
  <cp:lastModifiedBy>ZooM</cp:lastModifiedBy>
  <dcterms:modified xsi:type="dcterms:W3CDTF">2013-12-06T02:01:10Z</dcterms:modified>
  <cp:revision>11</cp:revision>
  <dc:subject/>
  <dc:title>Тема урока </dc:title>
</cp:coreProperties>
</file>