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929-9625-4DA9-B431-0B50E96E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2C3-0256-42FA-B8FD-31F281A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FEA-4ABD-484A-8BC3-604092B2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82-4730-4B0A-BF77-A20AB1C3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DAB-DD26-4E66-819C-6B0398F5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FB8-0AE1-477B-A909-18DFAE2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7995-CEB5-4DB7-8D31-3B74D6A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9C12-C84E-4941-A067-849CD6C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07F-EE1C-4F9C-A501-73D17B1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008-EB77-45B2-AC2A-8C06AFC4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BAD-14FD-4F18-A83D-A867CF7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A11-CDF0-49B7-9BBB-F23FBFD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F75-9342-47FA-A0F9-8780FF0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A8A0-BD49-45AA-B486-AF03293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ABA8-2DEB-4B05-B32E-39E0292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0A19-A39C-45C1-9512-0E46F471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A6EB-A9C5-4E45-810F-5D10E902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A92-CC85-4814-8EBA-39D285E0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512-4B47-4F9F-95F9-85D80FB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A14-3398-4302-89E6-8D545EFD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128-FF43-430E-B4A2-0BED587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90E-FC52-407F-8E71-2F5056F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839-DE11-4FA7-9CAD-B1D21A0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E0A-A48D-4FE0-B3E5-237882C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31D-F2E3-469F-8243-6271BAB393E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719-41D1-46E1-B61E-39AD0603B04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3885840"/>
            <a:ext cx="85010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 Крутова Н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1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549360"/>
            <a:ext cx="8742240" cy="2243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1ceec"/>
                </a:solidFill>
                <a:latin typeface="Calibri"/>
              </a:rPr>
              <a:t>Это самый распространённый метод проблемного обучения и в той или иной мере используется на большинстве уроков, включая уроки-лекции. В зависимости от сложности задания степень охвата учащихся поисковой деятельностью различна: от выступлений сравнительно небольшой группы наиболее подготовленных учеников до фронтального письменного ответа всего класса. Независимо от количества активных участников ученики, как правило, выполняют самостоятельно не все этапы поиска, а только некоторые, чередуясь с учителем. Поэтому иногда этот метод называется в педагогической литературе частично-поисковым. Выбор вопросов для заданий должен способствовать формированию умений и навыков анализа сущности явлений общественной жизни (оценка событий и их значения, выяснение причинно-следственных связей, тенденций развития, сравнение родственных и противоположных событий и явлений). Важно сообщить учащимся не только необходимые для обобщения факты, но и использовать их опорные знания, умения, навыки, жизненный опыт. Таким образом, воспроизведение и творчество выступают как две стороны единого целостного процесса позн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2.png"/>
          <p:cNvPicPr/>
          <p:nvPr/>
        </p:nvPicPr>
        <p:blipFill>
          <a:blip r:embed="rId2"/>
          <a:stretch/>
        </p:blipFill>
        <p:spPr>
          <a:xfrm>
            <a:off x="85680" y="357120"/>
            <a:ext cx="8915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69228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Исследовательский метод – это организация поисковой, познавательной деятельности учащихся путём постановки учителем познавательных и практических задач, требующих самостоятельного творческого решения. Этот метод востребован в обучении. Он способствует развитию и индивидуализации личности, а также формированию мотивации к получению учащимися знаний. Данная форма распространена в основном в старших классах, но целесообразно вводить основы данной деятельности в учебный процесс с начальной школы. Ещё одной особенностью организации исследовательской деятельности в начальном звене школы является то, что в ней могут принимать участие не только сильные учащиеся, но и отстающие дети. Просто уровень исследования будет иным.   Целью организации исследовательского метода является формирование у детей познавательной активности. Цель может быть достигнута, если будут решены следующие задачи: развитие логического мышления, творческих способностей, кругозора, устной и письменной речи; умений обобщать и систематизировать информацию, коммуникативных умений; формирование наблюдательности и внимания, умений работы с художественными и научными текстами. Самым начальным этапом работы учащихся является выбор темы, далее с помощью учителя ребёнок ставит цель – что он должен добиться в процессе исследовательской деятельности. Следующий этап – подбор материала по своей теме, который происходит не без помощи учителя. Потом ученик изучает собранный материал, обобщает и систематизирует, далее оформляет его. И заключительным этапом работы является защита. Защита работы может происходить в виде конференции, презентации, доклада. При исследовательском методе используются следующие приёмы работ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зучение теоретических источник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наблюд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поисковый эксперимент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описательны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анкетирова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нтервью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Необходимо отметить широкий выбор предметов: русский язык, литературное чтение, окружающий мир, детская риторика, экология. В исследовательском методе возможно установление межпредметных связей: литературное чтение и русский язык, окружающий мир и экология, литературное чтение и окружающий мир и т.д. Это вызывает наибольший интерес со стороны учеников, так как в одной работе они могут соединить разные, как им казалось, не связанные между собой предметы. Дети порой сами придумывают столь оригинальные и интересные темы, что учителю остаётся только правильно их сформулировать. Педагог играет немаловажную роль в выполнении исследовательской деятельности учащихся: контролирует, направляет, помогает. Оценка деятельности происходит в несколько этапов: оцениваются подготовительный, аналитический, обобщающий и заключительный этапы деятельности учащихся. Исследовательский метод – самый высокий уровень познавательной самостоятельности учащихся. Наиболее эффективной формой организации учебной деятельности учащихся при решении исследовательских задач является групповая работа. Она обеспечивает индивидуальное развитие каждого учащегося, формирование межличностного интеллекта, а это в первую очередь означает высокое развитие коммуникативных способностей. Самой интересной формой групповой деятельности является мозговой штурм. Во время этой работы ученики тренируются кратко и чётко выражать свои мысли, учатся слышать и слушать друг др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Таким образом, использование различных методов решения учебной проблемы позволяет в работе с учащимися решить следующие задачи: обеспечить освоение учениками творческой  деятельности – выполнение исследований, проведение экспертиз, составление прогнозов, разработку проектов, что формирует теоретическое мышление и технологическую культуру учащихся, создаёт условия для самовыражения, признания, самоутверждения каждого ученика как лич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ebefe6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1.png"/>
          <p:cNvPicPr/>
          <p:nvPr/>
        </p:nvPicPr>
        <p:blipFill>
          <a:blip r:embed="rId2"/>
          <a:stretch/>
        </p:blipFill>
        <p:spPr>
          <a:xfrm>
            <a:off x="214200" y="57168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90932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абанский Ю.К.Интенсификация процесса обучения.- М.: Знание,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Методы обучения в современной общеобразовательной школе.- М. Просвещение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Проблемное обучение как средство повышения эффективности учения школьников.- Ростов-на-Дону, 19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ьперин П.Я. Методы обучения и умственное развитие ребенка.- М.:Изд-во МГУ,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вцев Т.В. Проблемное обучение: истоки, сущность, перспективы.- М.: Знание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чалова Н.М. Методы проблемного обучения и границы их применения Казань, 19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Проблемное обучени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это система научно обоснованных методов и средств, применяемая в процессе развивающего обучения , которая предполагает создание под руководством преподавателя проблемных ситуаций и активную самостоятельную деятельность учащихся по их разрешению с целью, в первую очередь, интеллектуального и творческого развития учащихся, а также овладения ими знаниями, навыками, умениями и способами п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Проблемное обуче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обеспечивает возможности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ворческого участия обучаемых в процессе освоения новых знаний, формирования познавательных интересов и творческого мышления, высокую степень усвоения знаний и мотивации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133200" y="-298440"/>
            <a:ext cx="8907480" cy="20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развитие интеллекта, познавательной самостоятельности и творческих способностей учащихс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своение учениками системы знаний  и способов умственной практической деятель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всесторонне развитой лич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мотивов обучения, социальных, нравственных и познавательных потребнос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крепление межличностных отношений (групповая организация работы учащихс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-6480" y="-244440"/>
            <a:ext cx="8699760" cy="1708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И.Я.Лернер, М.Н.Скаткин</a:t>
            </a:r>
            <a:r>
              <a:rPr b="1" i="1" lang="ru-RU" sz="2400" spc="-1" strike="noStrike">
                <a:solidFill>
                  <a:srgbClr val="e2d5a3"/>
                </a:solidFill>
                <a:latin typeface="Times New Roman"/>
              </a:rPr>
              <a:t>                         </a:t>
            </a: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М.И.Махму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Проблемное изложение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монологиче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атериала(моделирование)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ссуждающ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кспериментирование,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звивающая игра)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Диалогиче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тренинг,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 4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проблем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экспериментирование) 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вристический мето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-6480" y="-109440"/>
            <a:ext cx="1251612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328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ые ситуации обязательно должны содержать посильное познавательное затруд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ая ситуация должна вызывать интерес у учащихся своей необычностью, неожиданностью, нестандарт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42560" y="128556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ec"/>
                </a:solidFill>
                <a:latin typeface="Comic Sans MS"/>
              </a:rPr>
              <a:t>Проблемное изложение – это активизирующее изложение, когда учитель в ходе сообщения новых знаний систематически создаёт проблемные ситуации, ставит вопросы и указывает пути решения учебных проблем, постоянно побуждает учащихся к самостоятельной познавательной деятельности. В данном случае самостоятельность учащихся ещё не велика. Они лишь следят за поиском, который ведёт учитель, который не просто сообщает факты и делает выводы, как при объяснительно-иллюстративном рассказе, а рассуждает, показывает движение мысли к истине, создаёт атмосферу поиска, заставляет класс сопереживать. Проблемное изложение перерастает в следующий метод проблемного обучения – поисковую беседу, так как многие ученики не удовлетворяются ролью слушателей и стремятся сами отвечать на вопросы учител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21420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133200" y="-237960"/>
            <a:ext cx="901728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Эвристической беседой называют систему логически взаимосвязанных вопросов учителя и ответов учащихся, конечной целью, которой является решение целостной, новой для учащихся проблемы или её части. При этом методе обучения объяснение учителя сочетается с поисковой деятельностью школьников на всех или на отдельных этапах познавательного процесса. На уроках существуют большие возможности для использования частично-поискового метода. После постановки преподавателем учебных задач учащиеся сами ищут правильное решение и делают выводы, выполняют самостоятельные работы, устанавливают те или иные закономерности, мотивируют свои действия, систематизируют и творчески применяют полученные знания, используют их в практической деятельности и устных ответах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Основными приёмами преподавания здесь, как правило, являются эвристическая беседа, самостоятельная работа с элементами исследования, игра, приёмами учения – самостоятельное обобщение по частным вопросам, решение познавательных задач, составление плана самостоятельной работы, участие в эвристической беседе, частичный мыслительный эксперимент. </a:t>
            </a: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Характерным признаком эвристической беседы является то, что учащиеся с помощью умелой постановки вопросов учителя и благодаря собственным усилиям и самостоятельному мышлению подводятся к приобретению новых знаний. Излагая учебный материал методом эвристической беседы, учитель время от времени обращается к классу с вопросами, которые побуждают школьников включаться в процесс поиска. Таким образом, эвристическая беседа облегчает процесс творческой деятельности, способствует непроизвольному формированию памяти, то есть ученики способны производить не только формулировки понятий, но и анализировать и преобразовывать их, а также удовлетворяет потребность личности в желании общаться, быть причастным к решению задач, работе всего коллектив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8:48:40Z</dcterms:created>
  <dc:creator>Admin</dc:creator>
  <dc:description/>
  <dc:language>en-US</dc:language>
  <cp:lastModifiedBy>user</cp:lastModifiedBy>
  <dcterms:modified xsi:type="dcterms:W3CDTF">2011-12-20T05:47:37Z</dcterms:modified>
  <cp:revision>17</cp:revision>
  <dc:subject/>
  <dc:title>Слайд 1</dc:title>
</cp:coreProperties>
</file>