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FE0-B1CB-427A-952F-72C81EBE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036-369A-4465-B31D-57871D2C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41C-F2B3-4443-8D91-1BB06298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FE9-0F49-4FF3-A72F-685F0452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D99-E80E-4A04-8256-2CEE1501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7D4-9911-4629-B5B2-74E63530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722-3DF3-4B3B-854D-014D14E5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24E-4EE0-47E2-979A-50F1F8AD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CD6-5CD2-4ABF-9112-5B536198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CA6-A89C-4F9D-92AA-6435357D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211-5C84-426F-BDDD-4913716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3FE-B406-45A6-82E5-A613107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D966-E6C9-418E-AAC9-240C6372A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Calibri"/>
              </a:rPr>
              <a:t>Урок изобразительного искусств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1"/>
          <a:stretch/>
        </p:blipFill>
        <p:spPr>
          <a:xfrm>
            <a:off x="685800" y="83808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2"/>
          <a:stretch/>
        </p:blipFill>
        <p:spPr>
          <a:xfrm>
            <a:off x="457200" y="2057400"/>
            <a:ext cx="63648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3"/>
          <a:stretch/>
        </p:blipFill>
        <p:spPr>
          <a:xfrm>
            <a:off x="6781680" y="3733920"/>
            <a:ext cx="1247760" cy="129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4"/>
          <a:stretch/>
        </p:blipFill>
        <p:spPr>
          <a:xfrm>
            <a:off x="1828800" y="495288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5"/>
          <a:stretch/>
        </p:blipFill>
        <p:spPr>
          <a:xfrm>
            <a:off x="6477120" y="4876920"/>
            <a:ext cx="636480" cy="64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6"/>
          <a:stretch/>
        </p:blipFill>
        <p:spPr>
          <a:xfrm>
            <a:off x="1295280" y="5715000"/>
            <a:ext cx="636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3" descr=""/>
          <p:cNvPicPr/>
          <p:nvPr/>
        </p:nvPicPr>
        <p:blipFill>
          <a:blip r:embed="rId2"/>
          <a:stretch/>
        </p:blipFill>
        <p:spPr>
          <a:xfrm>
            <a:off x="743040" y="1212840"/>
            <a:ext cx="7705800" cy="15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2743200" y="2743200"/>
            <a:ext cx="3809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Calibri"/>
              </a:rPr>
              <a:t>Отгадайте загадк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ыл я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лнышко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исты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л 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лачком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ушист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Документы\Презентации  и  материалы  к  урокам\ИЗО\РАСТЕНИЯ\ЦВЕТЫ\Одуванчик\2.jpeg"/>
          <p:cNvPicPr/>
          <p:nvPr/>
        </p:nvPicPr>
        <p:blipFill>
          <a:blip r:embed="rId1"/>
          <a:stretch/>
        </p:blipFill>
        <p:spPr>
          <a:xfrm>
            <a:off x="4876920" y="30481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ла по городу Вес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шелёк несла о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ки яркие и ки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о было ей куп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ткрыла кошелё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монет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  ск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          скок!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атилис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бежа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уванчиками ст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лена Приходько  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1170000" y="-85680"/>
            <a:ext cx="721188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:\Документы\Презентации  и  материалы  к  урокам\ИЗО\РАСТЕНИЯ\ЦВЕТЫ\Одуванчик\0_1e2_b4f6de40_XL.jpeg"/>
          <p:cNvPicPr/>
          <p:nvPr/>
        </p:nvPicPr>
        <p:blipFill>
          <a:blip r:embed="rId2"/>
          <a:stretch/>
        </p:blipFill>
        <p:spPr>
          <a:xfrm>
            <a:off x="609480" y="1981080"/>
            <a:ext cx="39117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Из энциклопед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9320"/>
            <a:ext cx="6858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уванчик — растение с ветвисты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ржневым  корнем толщиной около 2 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 длиной около 60 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стья голые, перисто-надрезанные 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ные, собранные в прикорнев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ет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асти растения содержа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устой белый млечный с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ветёт одуванчик в ма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одоносит семянками с б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холком —с ию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2981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Документы\Презентации  и  материалы  к  урокам\ИЗО\РАСТЕНИЯ\ЦВЕТЫ\Одуванчик\453cec18762d.jpg"/>
          <p:cNvPicPr/>
          <p:nvPr/>
        </p:nvPicPr>
        <p:blipFill>
          <a:blip r:embed="rId1"/>
          <a:stretch/>
        </p:blipFill>
        <p:spPr>
          <a:xfrm>
            <a:off x="1716120" y="1600200"/>
            <a:ext cx="57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Документы\Презентации  и  материалы  к  урокам\ИЗО\РАСТЕНИЯ\ЦВЕТЫ\Одуванчик\img_51.jpg"/>
          <p:cNvPicPr/>
          <p:nvPr/>
        </p:nvPicPr>
        <p:blipFill>
          <a:blip r:embed="rId1"/>
          <a:stretch/>
        </p:blipFill>
        <p:spPr>
          <a:xfrm>
            <a:off x="2260440" y="1600200"/>
            <a:ext cx="4623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Документы\Презентации  и  материалы  к  урокам\ИЗО\РАСТЕНИЯ\ЦВЕТЫ\Одуванчик\od.jpg"/>
          <p:cNvPicPr/>
          <p:nvPr/>
        </p:nvPicPr>
        <p:blipFill>
          <a:blip r:embed="rId1"/>
          <a:stretch/>
        </p:blipFill>
        <p:spPr>
          <a:xfrm>
            <a:off x="2895480" y="1447920"/>
            <a:ext cx="34718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Документы\Презентации  и  материалы  к  урокам\ИЗО\РАСТЕНИЯ\ЦВЕТЫ\Одуванчик\pn0008.jpg"/>
          <p:cNvPicPr/>
          <p:nvPr/>
        </p:nvPicPr>
        <p:blipFill>
          <a:blip r:embed="rId1"/>
          <a:stretch/>
        </p:blipFill>
        <p:spPr>
          <a:xfrm>
            <a:off x="2819520" y="1295280"/>
            <a:ext cx="36622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34808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A</cp:lastModifiedBy>
  <dcterms:modified xsi:type="dcterms:W3CDTF">2012-01-29T07:28:05Z</dcterms:modified>
  <cp:revision>5</cp:revision>
  <dc:subject/>
  <dc:title>Урок изобразительного искусства </dc:title>
</cp:coreProperties>
</file>