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1B0-4C11-4E5D-A8AA-146B0CCA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4BB-FF4F-491C-B511-F8FFF598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F97-EBC3-442E-AE2B-087CFE69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927-8C0F-4AF6-9EDB-5E1C10F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BCC-639A-48DF-BA99-9D9AACA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C8D-2C3E-424D-80FC-41A660F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05E-4A3A-4D45-B681-C15CC222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E4C-8EDC-4A3E-B5B2-1ACCA57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180-A000-4DD6-80C1-F495AB48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58D-686C-4925-ACD9-E40D019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941-D777-417E-AA7D-E873B1A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96C-D10B-44CF-A86D-29728486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FC9-EDEA-4F38-9A60-F7AE0EA5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Урок изобразительного искусств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1"/>
          <a:stretch/>
        </p:blipFill>
        <p:spPr>
          <a:xfrm>
            <a:off x="685800" y="8380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2"/>
          <a:stretch/>
        </p:blipFill>
        <p:spPr>
          <a:xfrm>
            <a:off x="457200" y="205740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3"/>
          <a:stretch/>
        </p:blipFill>
        <p:spPr>
          <a:xfrm>
            <a:off x="6781680" y="373392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4"/>
          <a:stretch/>
        </p:blipFill>
        <p:spPr>
          <a:xfrm>
            <a:off x="1828800" y="49528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5"/>
          <a:stretch/>
        </p:blipFill>
        <p:spPr>
          <a:xfrm>
            <a:off x="6477120" y="487692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6"/>
          <a:stretch/>
        </p:blipFill>
        <p:spPr>
          <a:xfrm>
            <a:off x="1295280" y="5715000"/>
            <a:ext cx="636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2"/>
          <a:stretch/>
        </p:blipFill>
        <p:spPr>
          <a:xfrm>
            <a:off x="743040" y="1212840"/>
            <a:ext cx="7705800" cy="15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Отгадайте загадк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 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лнышко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исты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 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ачком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ш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Документы\Презентации  и  материалы  к  урокам\ИЗО\РАСТЕНИЯ\ЦВЕТЫ\Одуванчик\2.jpeg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ла по городу Ве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шелёк несла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ки яркие и ки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было ей куп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ткрыла кошел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нет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 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        скок!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атили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жа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ами с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лена Приходько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-85680"/>
            <a:ext cx="721188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Документы\Презентации  и  материалы  к  урокам\ИЗО\РАСТЕНИЯ\ЦВЕТЫ\Одуванчик\0_1e2_b4f6de40_XL.jpeg"/>
          <p:cNvPicPr/>
          <p:nvPr/>
        </p:nvPicPr>
        <p:blipFill>
          <a:blip r:embed="rId2"/>
          <a:stretch/>
        </p:blipFill>
        <p:spPr>
          <a:xfrm>
            <a:off x="609480" y="1981080"/>
            <a:ext cx="39117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Из энциклопед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6858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уванчик — растение с ветвист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жневым  корнем толщиной около 2 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длиной около 60 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ья голые, перисто-надрезанные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ные, собранные в прикорнев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асти растения содерж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устой белый млечный 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ёт одуванчик в ма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доносит семянками с б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холком —с ию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98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Документы\Презентации  и  материалы  к  урокам\ИЗО\РАСТЕНИЯ\ЦВЕТЫ\Одуванчик\453cec18762d.jpg"/>
          <p:cNvPicPr/>
          <p:nvPr/>
        </p:nvPicPr>
        <p:blipFill>
          <a:blip r:embed="rId1"/>
          <a:stretch/>
        </p:blipFill>
        <p:spPr>
          <a:xfrm>
            <a:off x="1716120" y="1600200"/>
            <a:ext cx="57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Документы\Презентации  и  материалы  к  урокам\ИЗО\РАСТЕНИЯ\ЦВЕТЫ\Одуванчик\img_51.jpg"/>
          <p:cNvPicPr/>
          <p:nvPr/>
        </p:nvPicPr>
        <p:blipFill>
          <a:blip r:embed="rId1"/>
          <a:stretch/>
        </p:blipFill>
        <p:spPr>
          <a:xfrm>
            <a:off x="2260440" y="1600200"/>
            <a:ext cx="462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Документы\Презентации  и  материалы  к  урокам\ИЗО\РАСТЕНИЯ\ЦВЕТЫ\Одуванчик\od.jpg"/>
          <p:cNvPicPr/>
          <p:nvPr/>
        </p:nvPicPr>
        <p:blipFill>
          <a:blip r:embed="rId1"/>
          <a:stretch/>
        </p:blipFill>
        <p:spPr>
          <a:xfrm>
            <a:off x="2895480" y="1447920"/>
            <a:ext cx="347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Документы\Презентации  и  материалы  к  урокам\ИЗО\РАСТЕНИЯ\ЦВЕТЫ\Одуванчик\pn0008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622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3480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A</cp:lastModifiedBy>
  <dcterms:modified xsi:type="dcterms:W3CDTF">2012-01-29T07:28:05Z</dcterms:modified>
  <cp:revision>5</cp:revision>
  <dc:subject/>
  <dc:title>Урок изобразительного искусства </dc:title>
</cp:coreProperties>
</file>