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874-2EEB-4981-A785-6F5556F1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121-2649-4A33-A299-65E5668E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B94-C9D9-48A8-84E0-75C6307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397-B5C3-47F6-8ABA-35B7B159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800-0C10-4E5F-ADC2-4404BE76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23D0-2C49-43FD-A256-3FE8418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9C2E-393F-4559-AFB4-105E962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E5F-D768-4EF8-AB16-7FE22094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CF17-275C-4FEB-8997-057DC8B4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6B4A-EE39-4A55-B8B7-C211A57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FEC2-20D2-4E7F-BBB5-ECE2766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646-6D34-46B3-82A3-F525B068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3A6C-B15D-49F5-825F-3B5120A7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E876-86AC-4DD5-8D3F-7B38D67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135A-918C-4F94-8669-7F22343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C0C7-6B83-4B98-BF8D-721ABB79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A2E7-476B-459B-8315-AC3432F6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27D-B681-4A29-A0A3-611646E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6CE-7B37-4D97-95C5-7F735EF6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99A-0B55-4B49-B9AB-83DF2F4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2C2-947A-418F-AED5-6D0C2595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5BE-CFED-48ED-9B2D-C4B9DF4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07B-2628-434D-9CDC-F062FC5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11D-96A3-437B-A04F-E49352C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6C9-172A-4942-BDFB-2734E4057E0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>
                    <a:gd name="textAreaLeft" fmla="*/ 0 w 807480"/>
                    <a:gd name="textAreaRight" fmla="*/ 807840 w 8074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>
                    <a:gd name="textAreaLeft" fmla="*/ 0 w 1212120"/>
                    <a:gd name="textAreaRight" fmla="*/ 1212480 w 1212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280-F79C-456E-8B0E-EF02C867987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2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5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ставки</a:t>
            </a:r>
            <a:r>
              <a:rPr b="0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при- и пре-</a:t>
            </a:r>
            <a:br>
              <a:rPr sz="4800"/>
            </a:br>
            <a:r>
              <a:rPr b="0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5 клас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429080"/>
            <a:ext cx="60325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Автор: ПОЛЯКОВА Н.П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ставка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е-</a:t>
            </a: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значит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очень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72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ва слова пишутся вопреки этому правил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очень скорбный» (горький, печальн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очень чудный, затейливы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ставка </a:t>
            </a:r>
            <a:r>
              <a:rPr b="1" i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-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имеет значение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очень»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 во всех слов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обр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рыв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ступ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акие слова здесь «лишние»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ставьте пропущенные буквы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35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1) Петин папа бы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…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ажн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ом имел пятиэтаж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2) Погода была ужасна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нцесса была …красн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3) Пр…длинной хворостин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Мужик гусей гнал в горо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одавать.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4) Городничий между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аказал пр…строго всем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Чтоб коней не покупали…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9" descr="BD05552_"/>
          <p:cNvPicPr/>
          <p:nvPr/>
        </p:nvPicPr>
        <p:blipFill>
          <a:blip r:embed="rId1"/>
          <a:stretch/>
        </p:blipFill>
        <p:spPr>
          <a:xfrm>
            <a:off x="5286240" y="1714680"/>
            <a:ext cx="3562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86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торое значение приставки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е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99800"/>
            <a:ext cx="37576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Здесь дело потруднее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Приставка </a:t>
            </a:r>
            <a:r>
              <a:rPr b="1" i="1" lang="ru-RU" sz="3000" spc="-1" strike="noStrike">
                <a:solidFill>
                  <a:srgbClr val="0a0aff"/>
                </a:solidFill>
                <a:latin typeface="Times New Roman"/>
              </a:rPr>
              <a:t>пре-</a:t>
            </a:r>
            <a:r>
              <a:rPr b="1" lang="ru-RU" sz="3000" spc="-1" strike="noStrike">
                <a:solidFill>
                  <a:srgbClr val="0a0af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пишется в тех словах, где она по смыслу сходна с приставкой </a:t>
            </a:r>
            <a:r>
              <a:rPr b="1" i="1" lang="ru-RU" sz="3000" spc="-1" strike="noStrike">
                <a:solidFill>
                  <a:srgbClr val="0a0aff"/>
                </a:solidFill>
                <a:latin typeface="Times New Roman"/>
              </a:rPr>
              <a:t>пере-</a:t>
            </a:r>
            <a:r>
              <a:rPr b="1" lang="ru-RU" sz="3000" spc="-1" strike="noStrike">
                <a:solidFill>
                  <a:srgbClr val="0a0a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D00028_"/>
          <p:cNvPicPr/>
          <p:nvPr/>
        </p:nvPicPr>
        <p:blipFill>
          <a:blip r:embed="rId1"/>
          <a:stretch/>
        </p:blipFill>
        <p:spPr>
          <a:xfrm>
            <a:off x="4572000" y="2071800"/>
            <a:ext cx="3500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Будьте внимательны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e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 некоторых словах смысловая связь приставки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-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с приставкой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ере-</a:t>
            </a: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е так заметна, и надо вдуматься, чтобы её улови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09800" y="1928880"/>
            <a:ext cx="37717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апример, слова </a:t>
            </a:r>
            <a:r>
              <a:rPr b="1" i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еобразовать, преобразить, превратить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имеют общий смыс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«переделать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358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оработаем со словарём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зрительно,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готовлени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.…способление,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обража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обретени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кращени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годитьс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пода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смотретьс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одоле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вычк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сек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00240" y="1773360"/>
          <a:ext cx="5819760" cy="3976560"/>
        </p:xfrm>
        <a:graphic>
          <a:graphicData uri="http://schemas.openxmlformats.org/drawingml/2006/table">
            <a:tbl>
              <a:tblPr/>
              <a:tblGrid>
                <a:gridCol w="2857680"/>
                <a:gridCol w="2962080"/>
              </a:tblGrid>
              <a:tr h="25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Неясное значение приставки </a:t>
                      </a: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Нея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значение приставки </a:t>
                      </a: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пр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аполним таблицу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аполним таблицу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амые трудные!</a:t>
            </a:r>
            <a:br>
              <a:rPr sz="4800"/>
            </a:b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ставки третьей группы</a:t>
            </a: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Чтобы раскрыть секрет правописания при- и пре-, придётся сразу учиться различать разные смыслы пристав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SY01265_"/>
          <p:cNvPicPr/>
          <p:nvPr/>
        </p:nvPicPr>
        <p:blipFill>
          <a:blip r:embed="rId1"/>
          <a:stretch/>
        </p:blipFill>
        <p:spPr>
          <a:xfrm>
            <a:off x="5391000" y="2362320"/>
            <a:ext cx="24577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Что может означать приставка ПРИ-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6760" y="1773360"/>
            <a:ext cx="831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ервое знач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ставки 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лова, обозначающ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иближение,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ишу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 приставкой 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BD07281_"/>
          <p:cNvPicPr/>
          <p:nvPr/>
        </p:nvPicPr>
        <p:blipFill>
          <a:blip r:embed="rId1"/>
          <a:stretch/>
        </p:blipFill>
        <p:spPr>
          <a:xfrm>
            <a:off x="4716360" y="198900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Глаголы дви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BD04912_"/>
          <p:cNvPicPr/>
          <p:nvPr/>
        </p:nvPicPr>
        <p:blipFill>
          <a:blip r:embed="rId1"/>
          <a:stretch/>
        </p:blipFill>
        <p:spPr>
          <a:xfrm>
            <a:off x="857160" y="1714680"/>
            <a:ext cx="2959200" cy="3844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4429080" y="4000680"/>
            <a:ext cx="339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приехал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4714920" y="164304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притащился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4714920" y="23572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пришёл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143240" y="321480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бежал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98660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торое значение приставки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14920" y="1828440"/>
            <a:ext cx="366696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 словах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означающих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соединение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сегда пишет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ставка </a:t>
            </a:r>
            <a:r>
              <a:rPr b="1" i="1" lang="ru-RU" sz="3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169" name="Picture 8" descr="PE02661_"/>
          <p:cNvPicPr/>
          <p:nvPr/>
        </p:nvPicPr>
        <p:blipFill>
          <a:blip r:embed="rId1"/>
          <a:stretch/>
        </p:blipFill>
        <p:spPr>
          <a:xfrm>
            <a:off x="357120" y="114300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авайте пошути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0880" y="225108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42960" y="1571760"/>
            <a:ext cx="7891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мените одним словом: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исоединить с помощью слона;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исоединить с помощью собаки.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Почему мы назвали это задание шуткой?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Третье значение приставки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означает нахождение около чего-т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00360" y="1828800"/>
            <a:ext cx="4071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разуйте с помощью приставки при- имена прилагательные от данных сл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рай при мор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анава при дорог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город при усадь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6" descr="BD07311_"/>
          <p:cNvPicPr/>
          <p:nvPr/>
        </p:nvPicPr>
        <p:blipFill>
          <a:blip r:embed="rId1"/>
          <a:stretch/>
        </p:blipFill>
        <p:spPr>
          <a:xfrm>
            <a:off x="1214280" y="3429000"/>
            <a:ext cx="2997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297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Четвёртое значение приставки </a:t>
            </a:r>
            <a:br>
              <a:rPr sz="4400"/>
            </a:b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71600" y="1828800"/>
            <a:ext cx="47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Если что-то делается не до конца, не очень сильно, немного или ненадолго, такие действия называют  незаконченны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лова, их обозначающие, пишутся с приставкой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BD06675_"/>
          <p:cNvPicPr/>
          <p:nvPr/>
        </p:nvPicPr>
        <p:blipFill>
          <a:blip r:embed="rId1"/>
          <a:stretch/>
        </p:blipFill>
        <p:spPr>
          <a:xfrm>
            <a:off x="428760" y="1714680"/>
            <a:ext cx="329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Castellar"/>
              </a:rPr>
              <a:t>Что может обозначать приставка ПРЕ-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ервое знач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иставки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пре-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SY01265_"/>
          <p:cNvPicPr/>
          <p:nvPr/>
        </p:nvPicPr>
        <p:blipFill>
          <a:blip r:embed="rId1"/>
          <a:stretch/>
        </p:blipFill>
        <p:spPr>
          <a:xfrm>
            <a:off x="5286240" y="2571840"/>
            <a:ext cx="3005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5:10:12Z</dcterms:created>
  <dc:creator>Пушин Дмитрий Владимирович</dc:creator>
  <dc:description/>
  <dc:language>en-US</dc:language>
  <cp:lastModifiedBy>Admin</cp:lastModifiedBy>
  <dcterms:modified xsi:type="dcterms:W3CDTF">2011-10-01T14:33:28Z</dcterms:modified>
  <cp:revision>55</cp:revision>
  <dc:subject/>
  <dc:title>Приставки при- и пре- 5 класс</dc:title>
</cp:coreProperties>
</file>