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EE7-A785-4DC1-B2EA-2F46B0F4C8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5367-F133-432A-BED8-5AC4BE7E45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0FA-C9D3-4735-B3F5-FEB71C2BBE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9EE-BF21-413D-8D96-AFF73AB9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042-CE98-41F2-A1D6-67D1D8B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7B8-E290-41FA-8B4F-623C655E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3A1-F3AF-4868-83A1-D75B07F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5F7F-A53F-4AF2-B329-BEB2AAA0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D398-23CE-493B-9ABC-F3B49914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6FEC-7AD1-4105-BAAA-71DCEC3C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87C19-84F0-4FB3-825D-F873081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126D7-334A-40B0-952D-F3B7A78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AC39-AF4C-4FB8-8FB8-55E1C9E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B67DC-0135-4E88-99D0-F799AD1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12B-C3CE-4587-A341-7C31FF0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0AAF-D946-4689-BD3A-0682DAD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B49B-C1C5-43A6-A994-D313BB8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46C3A-4321-4999-874E-A6FA4A25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B3679-723B-42E1-A694-ADD9D27D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33B69-5993-4D99-B72C-137F8016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FEA-EB23-40BA-A20A-13EAB42B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869-B7FC-4A11-9BA6-AC904CA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F6C-BB16-4EB2-9058-596918E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95A-2DA7-4F2E-B75A-CDF00E4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67C-72C2-4A8C-94AC-A0C4CFE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CD4-DA0B-4A2E-ACEB-44CB461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7F2-6E81-4E78-B9AA-93880F1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611-4C20-40C2-9BA0-053FFA73C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0AA4-DD03-4806-A7A7-C1095E4B85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учно-практическая конференция   «Первые шаги в науку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Тема выступле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збука животного мира родного кра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Тришина Веро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ученица 1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МОУ Школа №1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Научный 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Сусова М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IMGP0689"/>
          <p:cNvPicPr/>
          <p:nvPr/>
        </p:nvPicPr>
        <p:blipFill>
          <a:blip r:embed="rId1"/>
          <a:stretch/>
        </p:blipFill>
        <p:spPr>
          <a:xfrm>
            <a:off x="611280" y="2214720"/>
            <a:ext cx="381636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Л        лось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речных ту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лнце подняло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шел на поля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рассвете ло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 речною круч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ось стоял один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рдый и могуч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са властел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Т. Шорыг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лось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66"/>
                </a:solidFill>
                <a:latin typeface="Tahoma"/>
              </a:rPr>
              <a:t>Т         тетерев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ревом тетерев тетерева встрет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 Тетерев, тетерев! Как твои тетеревят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ерев тетереву в 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 Мои тетеревята -здоровые ребя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им тетеревятам  от них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тетерев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Х        хорек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ёк ходил на ёл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вол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ёс хлопуш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ихомол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хорё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ей хлопуш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ерей пуг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но пуш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Г. Сапги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хорек"/>
          <p:cNvPicPr/>
          <p:nvPr/>
        </p:nvPicPr>
        <p:blipFill>
          <a:blip r:embed="rId1"/>
          <a:stretch/>
        </p:blipFill>
        <p:spPr>
          <a:xfrm>
            <a:off x="4643280" y="1916280"/>
            <a:ext cx="39610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Ш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6000" spc="-1" strike="noStrike">
                <a:solidFill>
                  <a:srgbClr val="ffcc00"/>
                </a:solidFill>
                <a:latin typeface="Tahoma"/>
              </a:rPr>
              <a:t>шмел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ru-RU" sz="2800" spc="-1" strike="noStrike">
                <a:solidFill>
                  <a:srgbClr val="1500b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шмеле</a:t>
            </a:r>
            <a:r>
              <a:rPr b="1" lang="ru-RU" sz="2800" spc="-1" strike="noStrike">
                <a:solidFill>
                  <a:srgbClr val="1500b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акая сводка – шмель для клевера наход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р учёный утверждает, клевер шмель лишь опыля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шмель"/>
          <p:cNvPicPr/>
          <p:nvPr/>
        </p:nvPicPr>
        <p:blipFill>
          <a:blip r:embed="rId1"/>
          <a:stretch/>
        </p:blipFill>
        <p:spPr>
          <a:xfrm>
            <a:off x="4643280" y="191628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Щ       щу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ука добрая бы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жбу с рыбами в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морской капусты щ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ука навар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ньков, бычков, лещ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ами угост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Ф. Бобылё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шука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Я      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ящериц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щерицу я лови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х меня останов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его же т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ять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Хвостик может оторв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ящерица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иволга"/>
          <p:cNvPicPr/>
          <p:nvPr/>
        </p:nvPicPr>
        <p:blipFill>
          <a:blip r:embed="rId1"/>
          <a:stretch/>
        </p:blipFill>
        <p:spPr>
          <a:xfrm>
            <a:off x="500040" y="1857240"/>
            <a:ext cx="264312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синица"/>
          <p:cNvPicPr/>
          <p:nvPr/>
        </p:nvPicPr>
        <p:blipFill>
          <a:blip r:embed="rId2"/>
          <a:stretch/>
        </p:blipFill>
        <p:spPr>
          <a:xfrm rot="1805400">
            <a:off x="1607760" y="2940120"/>
            <a:ext cx="1789200" cy="119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лиса"/>
          <p:cNvPicPr/>
          <p:nvPr/>
        </p:nvPicPr>
        <p:blipFill>
          <a:blip r:embed="rId3"/>
          <a:stretch/>
        </p:blipFill>
        <p:spPr>
          <a:xfrm>
            <a:off x="3071880" y="4286160"/>
            <a:ext cx="1428840" cy="14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филин"/>
          <p:cNvPicPr/>
          <p:nvPr/>
        </p:nvPicPr>
        <p:blipFill>
          <a:blip r:embed="rId4"/>
          <a:stretch/>
        </p:blipFill>
        <p:spPr>
          <a:xfrm>
            <a:off x="7093080" y="220500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заяц"/>
          <p:cNvPicPr/>
          <p:nvPr/>
        </p:nvPicPr>
        <p:blipFill>
          <a:blip r:embed="rId5"/>
          <a:stretch/>
        </p:blipFill>
        <p:spPr>
          <a:xfrm>
            <a:off x="6516720" y="3573360"/>
            <a:ext cx="961920" cy="141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енот"/>
          <p:cNvPicPr/>
          <p:nvPr/>
        </p:nvPicPr>
        <p:blipFill>
          <a:blip r:embed="rId6"/>
          <a:stretch/>
        </p:blipFill>
        <p:spPr>
          <a:xfrm>
            <a:off x="5292720" y="4292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цапля"/>
          <p:cNvPicPr/>
          <p:nvPr/>
        </p:nvPicPr>
        <p:blipFill>
          <a:blip r:embed="rId7"/>
          <a:stretch/>
        </p:blipFill>
        <p:spPr>
          <a:xfrm>
            <a:off x="4211640" y="4724280"/>
            <a:ext cx="11145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ы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рыб, обитающих в нашей местности ты знаеш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птиц и насекомых, обитающих в нашей местности ты знаеш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зверей  нашего края  ты можешь назват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езультаты опрос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Чаще других ребята  называли животных обитающих рядом с человеком  -  ворона, воробей, сорока, щука, сом, карась, муха, комар, пчела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 зверей  были названы  в основном домашние животные – корова, собака, овца, лоша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Многие называли  животных – персонажей литературных произведений – волк, лиса,  медведь, зая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 Я сделала вывод, что мои одноклассники плохо знают животный мир родного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Цель работы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оздать  для первоклассников азбуку животного ми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амарского края, по которой они смогли бы не только изучать буквы, но и познакомиться с их особенностями и средой обита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Задачи моего исследова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5720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 Изучить литературу по теме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Подобрать животных ко всем буквам алфавита, обитающих в нашей мест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Описать особенности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Подобрать иллюстрационный материал к каждой букве алфав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5. Подобрать детские стихи к каждой букве алфавита ( о животн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Documents and Settings\Admin\Рабочий стол\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2640" y="3933720"/>
            <a:ext cx="700092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збука – род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маленьких дет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ожет им освоить животный мир ско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979640" y="476280"/>
            <a:ext cx="5400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ого кра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ahoma"/>
              </a:rPr>
              <a:t>А     </a:t>
            </a: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Аист черны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крылья расправля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книгу раскры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ниге – буквы и сл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видит букву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, надев очки на но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чита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рикос.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. Сапги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5" descr=""/>
          <p:cNvPicPr/>
          <p:nvPr/>
        </p:nvPicPr>
        <p:blipFill>
          <a:blip r:embed="rId1"/>
          <a:stretch/>
        </p:blipFill>
        <p:spPr>
          <a:xfrm>
            <a:off x="5391000" y="1844640"/>
            <a:ext cx="3181680" cy="41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5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7526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Г      горноста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ый юркий горноста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гроза для птичьих ст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от в чем его сноров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оряет гнезда лов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. Три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горностай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К  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каб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сатая спинка, серая щетин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лесу шата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лудями пит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А. Три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кабан"/>
          <p:cNvPicPr/>
          <p:nvPr/>
        </p:nvPicPr>
        <p:blipFill>
          <a:blip r:embed="rId1"/>
          <a:stretch/>
        </p:blipFill>
        <p:spPr>
          <a:xfrm>
            <a:off x="4643280" y="1916280"/>
            <a:ext cx="388944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4:17:37Z</dcterms:created>
  <dc:creator>User</dc:creator>
  <dc:description/>
  <dc:language>en-US</dc:language>
  <cp:lastModifiedBy>1</cp:lastModifiedBy>
  <dcterms:modified xsi:type="dcterms:W3CDTF">2010-01-14T16:37:43Z</dcterms:modified>
  <cp:revision>21</cp:revision>
  <dc:subject/>
  <dc:title>Слайд 1</dc:title>
</cp:coreProperties>
</file>