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D2A0-EDDA-484B-9F99-AC341CB1405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8210-050E-4282-9567-3B249EFFE81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6D33-B29A-4C1D-A3E2-7F0445B2C3D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36EE-46D9-462D-A9E6-414DA9F7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19A-F16C-4B2F-9F33-7E6CE3A6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1EE4-754C-4520-B695-EF50DCBE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347-E549-4A92-8362-CE467F50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0F470-0036-4BAE-B5D9-96F025DD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A4F89-8F7F-4016-8326-0DD8A9D3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93C79-345D-4FCF-9052-98FBC1DA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02FDB-BCB4-4C9D-8A37-34E06A15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DF390-F5F9-4BEB-9B67-2A091F8C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29F35-C58E-4D88-BF89-F43C8992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1B546-5A72-47E3-A4F1-CFACA98B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F629-D997-444D-8349-D8ECD159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620B6-2D59-451B-AEB8-05C4D563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48FE7-0B7C-4854-A85D-7596BC4A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9C19C-277C-4F1B-82D8-A32A88D0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9DA75-D948-40F5-81AD-565390B9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602EE-4BD8-463F-807A-EE706671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4B3F-7E57-4EF1-A3DE-D461C529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D177-623B-442F-AC59-6E99D154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0451-7854-4257-A8C3-5B0C462D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39E-E8AE-4829-842C-903506B1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39B-9B95-4FE6-ACFE-455FCD55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DDC-255E-4363-A1A0-3485061D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9A2C-F10B-4F04-9216-9A48EAE7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6AAD-BBFF-448F-ABAB-0FA201D950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8C97-308F-451A-834E-73456E0B77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Научно-практическая конференция   «Первые шаги в науку»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Тема выступления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«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Азбука животного мира родного кра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Tahoma"/>
              </a:rPr>
              <a:t>Работу выполнил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Tahoma"/>
              </a:rPr>
              <a:t>Тришина Веро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Tahoma"/>
              </a:rPr>
              <a:t>ученица 1 «Б»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Tahoma"/>
              </a:rPr>
              <a:t>МОУ Школа №12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Tahoma"/>
              </a:rPr>
              <a:t>Научный руководител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Tahoma"/>
              </a:rPr>
              <a:t>Сусова М. 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7" descr="IMGP0689"/>
          <p:cNvPicPr/>
          <p:nvPr/>
        </p:nvPicPr>
        <p:blipFill>
          <a:blip r:embed="rId1"/>
          <a:stretch/>
        </p:blipFill>
        <p:spPr>
          <a:xfrm>
            <a:off x="611280" y="2214720"/>
            <a:ext cx="3816360" cy="371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99"/>
                </a:solidFill>
                <a:latin typeface="Tahoma"/>
              </a:rPr>
              <a:t>Л        лось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з речных тум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лнце подняло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ышел на поля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 рассвете лос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д речною круч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ось стоял один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ордый и могуч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еса властел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(Т. Шорыги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лось"/>
          <p:cNvPicPr/>
          <p:nvPr/>
        </p:nvPicPr>
        <p:blipFill>
          <a:blip r:embed="rId1"/>
          <a:stretch/>
        </p:blipFill>
        <p:spPr>
          <a:xfrm>
            <a:off x="4643280" y="1916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66"/>
                </a:solidFill>
                <a:latin typeface="Tahoma"/>
              </a:rPr>
              <a:t>Т         тетерев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 деревом тетерев тетерева встретил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 Тетерев, тетерев! Как твои тетеревят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терев тетереву в отве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 Мои тетеревята -здоровые ребят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им тетеревятам  от них приве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7" descr="тетерев"/>
          <p:cNvPicPr/>
          <p:nvPr/>
        </p:nvPicPr>
        <p:blipFill>
          <a:blip r:embed="rId1"/>
          <a:stretch/>
        </p:blipFill>
        <p:spPr>
          <a:xfrm>
            <a:off x="4716360" y="1916280"/>
            <a:ext cx="395928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99"/>
                </a:solidFill>
                <a:latin typeface="Tahoma"/>
              </a:rPr>
              <a:t>Х        хорек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орёк ходил на ёл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волк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нёс хлопуш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ихомол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перь хорё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оей хлопушк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верей пугае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но пушк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 Г. Сапги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хорек"/>
          <p:cNvPicPr/>
          <p:nvPr/>
        </p:nvPicPr>
        <p:blipFill>
          <a:blip r:embed="rId1"/>
          <a:stretch/>
        </p:blipFill>
        <p:spPr>
          <a:xfrm>
            <a:off x="4643280" y="1916280"/>
            <a:ext cx="396108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7200" spc="-1" strike="noStrike">
                <a:solidFill>
                  <a:srgbClr val="000099"/>
                </a:solidFill>
                <a:latin typeface="Tahoma"/>
              </a:rPr>
              <a:t>Ш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6000" spc="-1" strike="noStrike">
                <a:solidFill>
                  <a:srgbClr val="ffcc00"/>
                </a:solidFill>
                <a:latin typeface="Tahoma"/>
              </a:rPr>
              <a:t>шмель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1" lang="ru-RU" sz="2800" spc="-1" strike="noStrike">
                <a:solidFill>
                  <a:srgbClr val="1500b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шмеле</a:t>
            </a:r>
            <a:r>
              <a:rPr b="1" lang="ru-RU" sz="2800" spc="-1" strike="noStrike">
                <a:solidFill>
                  <a:srgbClr val="1500b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акая сводка – шмель для клевера находка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ир учёный утверждает, клевер шмель лишь опыля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7" descr="шмель"/>
          <p:cNvPicPr/>
          <p:nvPr/>
        </p:nvPicPr>
        <p:blipFill>
          <a:blip r:embed="rId1"/>
          <a:stretch/>
        </p:blipFill>
        <p:spPr>
          <a:xfrm>
            <a:off x="4643280" y="1916280"/>
            <a:ext cx="410544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c600"/>
                </a:solidFill>
                <a:latin typeface="Tahoma"/>
              </a:rPr>
              <a:t>Щ       щук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Щука добрая бы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жбу с рыбами ве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 морской капусты щ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Щука навари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уньков, бычков, лещ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Щами угости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 Ф. Бобылё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7" descr="шука"/>
          <p:cNvPicPr/>
          <p:nvPr/>
        </p:nvPicPr>
        <p:blipFill>
          <a:blip r:embed="rId1"/>
          <a:stretch/>
        </p:blipFill>
        <p:spPr>
          <a:xfrm>
            <a:off x="4643280" y="1916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ahoma"/>
              </a:rPr>
              <a:t>Я        </a:t>
            </a:r>
            <a:r>
              <a:rPr b="0" lang="ru-RU" sz="7200" spc="-1" strike="noStrike">
                <a:solidFill>
                  <a:srgbClr val="000099"/>
                </a:solidFill>
                <a:latin typeface="Tahoma"/>
              </a:rPr>
              <a:t>ящериц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щерицу я лови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рах меня останови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чего же ту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ятьс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Хвостик может оторвать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7" descr="ящерица"/>
          <p:cNvPicPr/>
          <p:nvPr/>
        </p:nvPicPr>
        <p:blipFill>
          <a:blip r:embed="rId1"/>
          <a:stretch/>
        </p:blipFill>
        <p:spPr>
          <a:xfrm>
            <a:off x="4716360" y="1916280"/>
            <a:ext cx="395928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иволга"/>
          <p:cNvPicPr/>
          <p:nvPr/>
        </p:nvPicPr>
        <p:blipFill>
          <a:blip r:embed="rId1"/>
          <a:stretch/>
        </p:blipFill>
        <p:spPr>
          <a:xfrm>
            <a:off x="500040" y="1857240"/>
            <a:ext cx="2643120" cy="128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синица"/>
          <p:cNvPicPr/>
          <p:nvPr/>
        </p:nvPicPr>
        <p:blipFill>
          <a:blip r:embed="rId2"/>
          <a:stretch/>
        </p:blipFill>
        <p:spPr>
          <a:xfrm rot="1805400">
            <a:off x="1607760" y="2940120"/>
            <a:ext cx="1789200" cy="1195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лиса"/>
          <p:cNvPicPr/>
          <p:nvPr/>
        </p:nvPicPr>
        <p:blipFill>
          <a:blip r:embed="rId3"/>
          <a:stretch/>
        </p:blipFill>
        <p:spPr>
          <a:xfrm>
            <a:off x="3071880" y="4286160"/>
            <a:ext cx="1428840" cy="1433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филин"/>
          <p:cNvPicPr/>
          <p:nvPr/>
        </p:nvPicPr>
        <p:blipFill>
          <a:blip r:embed="rId4"/>
          <a:stretch/>
        </p:blipFill>
        <p:spPr>
          <a:xfrm>
            <a:off x="7093080" y="2205000"/>
            <a:ext cx="1333440" cy="1905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заяц"/>
          <p:cNvPicPr/>
          <p:nvPr/>
        </p:nvPicPr>
        <p:blipFill>
          <a:blip r:embed="rId5"/>
          <a:stretch/>
        </p:blipFill>
        <p:spPr>
          <a:xfrm>
            <a:off x="6516720" y="3573360"/>
            <a:ext cx="961920" cy="1419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енот"/>
          <p:cNvPicPr/>
          <p:nvPr/>
        </p:nvPicPr>
        <p:blipFill>
          <a:blip r:embed="rId6"/>
          <a:stretch/>
        </p:blipFill>
        <p:spPr>
          <a:xfrm>
            <a:off x="5292720" y="429264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цапля"/>
          <p:cNvPicPr/>
          <p:nvPr/>
        </p:nvPicPr>
        <p:blipFill>
          <a:blip r:embed="rId7"/>
          <a:stretch/>
        </p:blipFill>
        <p:spPr>
          <a:xfrm>
            <a:off x="4211640" y="4724280"/>
            <a:ext cx="111456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40096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ы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их рыб, обитающих в нашей местности ты знаешь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их птиц и насекомых, обитающих в нашей местности ты знаешь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их зверей  нашего края  ты можешь назвать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Результаты опрос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Чаще других ребята  называли животных обитающих рядом с человеком  -  ворона, воробей, сорока, щука, сом, карась, муха, комар, пчела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480" indent="-447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з зверей  были названы  в основном домашние животные – корова, собака, овца, лошад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480" indent="-447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AutoNum type="arabicPeriod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Многие называли  животных – персонажей литературных произведений – волк, лиса,  медведь, зая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4.  Я сделала вывод, что мои одноклассники плохо знают животный мир родного кр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Цель работы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22960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Создать  для первоклассников азбуку животного мир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Самарского края, по которой они смогли бы не только изучать буквы, но и познакомиться с их особенностями и средой обита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Задачи моего исследования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357200"/>
            <a:ext cx="82296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1. Изучить литературу по теме исслед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2. Подобрать животных ко всем буквам алфавита, обитающих в нашей мест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3. Описать особенности животн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4. Подобрать иллюстрационный материал к каждой букве алфави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5. Подобрать детские стихи к каждой букве алфавита ( о животном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C:\Documents and Settings\Admin\Рабочий стол\Безимени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42640" y="3933720"/>
            <a:ext cx="7000920" cy="26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збука – род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ля маленьких дете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может им освоить животный мир скор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979640" y="476280"/>
            <a:ext cx="540072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збу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дного края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ahoma"/>
              </a:rPr>
              <a:t>А     </a:t>
            </a:r>
            <a:r>
              <a:rPr b="0" lang="ru-RU" sz="6000" spc="-1" strike="noStrike">
                <a:solidFill>
                  <a:srgbClr val="000099"/>
                </a:solidFill>
                <a:latin typeface="Tahoma"/>
              </a:rPr>
              <a:t>Аист черный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ист крылья расправля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ист книгу раскрыв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книге – буквы и сл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ист видит букву 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, надев очки на нос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 читае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брикос.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Г. Сапги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5" descr=""/>
          <p:cNvPicPr/>
          <p:nvPr/>
        </p:nvPicPr>
        <p:blipFill>
          <a:blip r:embed="rId1"/>
          <a:stretch/>
        </p:blipFill>
        <p:spPr>
          <a:xfrm>
            <a:off x="5391000" y="1844640"/>
            <a:ext cx="3181680" cy="4176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5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375264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99"/>
                </a:solidFill>
                <a:latin typeface="Tahoma"/>
              </a:rPr>
              <a:t>Г      горностай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стрый юркий горноста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гроза для птичьих ста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вот в чем его сноровк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оряет гнезда ловк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А. Триши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7" descr="горностай"/>
          <p:cNvPicPr/>
          <p:nvPr/>
        </p:nvPicPr>
        <p:blipFill>
          <a:blip r:embed="rId1"/>
          <a:stretch/>
        </p:blipFill>
        <p:spPr>
          <a:xfrm>
            <a:off x="4643280" y="1916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99"/>
                </a:solidFill>
                <a:latin typeface="Tahoma"/>
              </a:rPr>
              <a:t>К  </a:t>
            </a: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7200" spc="-1" strike="noStrike">
                <a:solidFill>
                  <a:srgbClr val="000099"/>
                </a:solidFill>
                <a:latin typeface="Tahoma"/>
              </a:rPr>
              <a:t>кабан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осатая спинка, серая щетин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лесу шатаетс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лудями пита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 А. Триши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7" descr="кабан"/>
          <p:cNvPicPr/>
          <p:nvPr/>
        </p:nvPicPr>
        <p:blipFill>
          <a:blip r:embed="rId1"/>
          <a:stretch/>
        </p:blipFill>
        <p:spPr>
          <a:xfrm>
            <a:off x="4643280" y="1916280"/>
            <a:ext cx="388944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4:17:37Z</dcterms:created>
  <dc:creator>User</dc:creator>
  <dc:description/>
  <dc:language>en-US</dc:language>
  <cp:lastModifiedBy>1</cp:lastModifiedBy>
  <dcterms:modified xsi:type="dcterms:W3CDTF">2010-01-14T16:37:43Z</dcterms:modified>
  <cp:revision>21</cp:revision>
  <dc:subject/>
  <dc:title>Слайд 1</dc:title>
</cp:coreProperties>
</file>