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wmf" ContentType="image/x-wmf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DD23-A257-47B1-974D-6186E73C0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2BFF-EE9F-4163-944E-0CCE50314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BB9E-F218-44DF-BC84-6514883C8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8B08-B305-4A15-BAC3-A51A2D0C9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1E4D-E050-43B5-AA45-322EE2EDB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D582-E26B-4038-9D4C-352787C5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7F27-3BDA-4FBB-A98C-195CFE5ED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7EC5-1133-456C-B58C-8B34A9CF8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8DC0-74B4-4A9C-B486-967544700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C7CB-B620-4646-84DF-BD03AA46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6382-AF57-442D-A806-14D746C4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52A3-E1C0-4C23-9866-4C4F4421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0B7F-72BF-48D0-8E15-F0F818CA36A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990720" y="533520"/>
            <a:ext cx="719136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Sylfaen"/>
              </a:rPr>
              <a:t>Государственная символика России</a:t>
            </a:r>
            <a:endParaRPr b="0" i="1" lang="en-US" sz="1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Sylfaen"/>
              <a:ea typeface="Sylfaen"/>
            </a:endParaRPr>
          </a:p>
        </p:txBody>
      </p:sp>
      <p:pic>
        <p:nvPicPr>
          <p:cNvPr id="42" name="Picture 5" descr="RF_EAGLE"/>
          <p:cNvPicPr/>
          <p:nvPr/>
        </p:nvPicPr>
        <p:blipFill>
          <a:blip r:embed="rId1"/>
          <a:stretch/>
        </p:blipFill>
        <p:spPr>
          <a:xfrm>
            <a:off x="3124080" y="2666880"/>
            <a:ext cx="3276720" cy="3429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4460040" y="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WordArt 4"/>
          <p:cNvSpPr txBox="1"/>
          <p:nvPr/>
        </p:nvSpPr>
        <p:spPr>
          <a:xfrm>
            <a:off x="609480" y="380880"/>
            <a:ext cx="800100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blipFill rotWithShape="0">
                  <a:blip r:embed="rId1">
                    <a:alphaModFix amt="98000"/>
                  </a:blip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имволика </a:t>
            </a:r>
            <a:endParaRPr b="0" lang="en-US" sz="1400" spc="1" strike="noStrike">
              <a:ln w="0">
                <a:noFill/>
              </a:ln>
              <a:blipFill rotWithShape="0">
                <a:blip r:embed="rId2">
                  <a:alphaModFix amt="98000"/>
                </a:blip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blipFill rotWithShape="0">
                  <a:blip r:embed="rId3">
                    <a:alphaModFix amt="98000"/>
                  </a:blip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аснодарского </a:t>
            </a:r>
            <a:endParaRPr b="0" lang="en-US" sz="1400" spc="1" strike="noStrike">
              <a:ln w="0">
                <a:noFill/>
              </a:ln>
              <a:blipFill rotWithShape="0">
                <a:blip r:embed="rId4">
                  <a:alphaModFix amt="98000"/>
                </a:blip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blipFill rotWithShape="0">
                  <a:blip r:embed="rId5">
                    <a:alphaModFix amt="98000"/>
                  </a:blip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ая </a:t>
            </a:r>
            <a:endParaRPr b="0" lang="en-US" sz="1400" spc="1" strike="noStrike">
              <a:ln w="0">
                <a:noFill/>
              </a:ln>
              <a:blipFill rotWithShape="0">
                <a:blip r:embed="rId6">
                  <a:alphaModFix amt="98000"/>
                </a:blip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0" y="0"/>
          <a:ext cx="208080" cy="517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7086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cc"/>
                </a:solidFill>
                <a:latin typeface="Tahoma"/>
              </a:rPr>
              <a:t>Герб Краснодарского края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Зеленое поле - символ изобилия кубанских полей, надежды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а лучшее будущее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ткрытые ворота крепости - символ гостеприимства и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иролюбия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ернач - символ власти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ва бунчука - символ кубанского казачества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Черный возникающий императорский орел на золотом поле - символ памяти о времени заселения кубанских просторов, дарованных казакам императрицей Екатериной II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"Кавказский крест" - символ, напоминающий об окончательном присоединении Кубани к России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Лазоревые знамена и штандарт с вензелями Российских самодержцев - отражение славных подвигов кубанских казако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Лавровый венок  - символ трудовой вечной славы жителям Кубани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ве скрепленные бантом ленты, перевивающие древки штандарта и знамен - ленты 2-х орденов Ленина, которыми Краснодарский край был награжден за трудовые подвиги кубанцев в 1957 и в 1970 годах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Рисунок 4" descr=""/>
          <p:cNvPicPr/>
          <p:nvPr/>
        </p:nvPicPr>
        <p:blipFill>
          <a:blip r:embed="rId1"/>
          <a:stretch/>
        </p:blipFill>
        <p:spPr>
          <a:xfrm>
            <a:off x="6477120" y="304920"/>
            <a:ext cx="2514600" cy="28954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417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Tahoma"/>
              </a:rPr>
              <a:t>флаг краснодарского кра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472f00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Флаг Краснодарского края представляет собо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ямоугольное полотнище из трех разновеликих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горизонтальных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олос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очетание синего, зеленого и малинового цветов на флаге отражает особенность географического положения Кубани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 севера и запада она окружена двумя морями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 юга - горным ландшафтом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 востока - бескрайними степями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иний цвет символизирует морское присутств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и водные богатства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зеленый - изумрудные нивы и леса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малиновый - главное богатство Кубани - ее народ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" name="Рисунок 5" descr=""/>
          <p:cNvPicPr/>
          <p:nvPr/>
        </p:nvPicPr>
        <p:blipFill>
          <a:blip r:embed="rId1"/>
          <a:stretch/>
        </p:blipFill>
        <p:spPr>
          <a:xfrm>
            <a:off x="5105520" y="3962520"/>
            <a:ext cx="3809880" cy="25905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8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Tahoma"/>
              </a:rPr>
              <a:t>Гимн краснодарского края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6765e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cc"/>
                </a:solidFill>
                <a:latin typeface="Tahoma"/>
              </a:rPr>
              <a:t>Гимном Краснодарского края стала историческая песня кубанских казаков «Ты, Кубань, ты наша родина». Написана она была в годы Первой мировой войны, когда казаки шли за Кавказом (в Турции), полковым священником Константином Образцовы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1" name="gymn_kubani_brainmusic.mp3" descr=""/>
          <p:cNvPicPr/>
          <p:nvPr/>
        </p:nvPicPr>
        <p:blipFill>
          <a:blip r:embed="rId1"/>
          <a:stretch/>
        </p:blipFill>
        <p:spPr>
          <a:xfrm>
            <a:off x="86868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0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7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578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1" dur="233407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Отношение россиян к государственным символам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gradFill rotWithShape="0">
            <a:gsLst>
              <a:gs pos="0">
                <a:srgbClr val="5e4700"/>
              </a:gs>
              <a:gs pos="50000">
                <a:srgbClr val="cc9900"/>
              </a:gs>
              <a:gs pos="100000">
                <a:srgbClr val="5e4700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давляющее большинство населения России положительно относятся к новым государственным символам – флагу и гербу Р.Ф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частности – 70% россиян считают «подходящим» российский флаг; 73% - герб; 71% - гим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 результатам того же опроса 74,7% опрошенных считают, что государственные символы не должны меняться, поскольку символизируют стабильность государства, преемственнос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ТЕСТ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9900"/>
                </a:solidFill>
                <a:latin typeface="Tahoma"/>
              </a:rPr>
              <a:t>1. От какой империи Россия унаследовала двуглавого орла на гербе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а) Византийской                                                  в) Османско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б) Римский                                                          г) Китайско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9900"/>
                </a:solidFill>
                <a:latin typeface="Tahoma"/>
              </a:rPr>
              <a:t>2. Сколько щитов на гербе России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а) Один                              б) Два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) Три                                г) Ни одного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9900"/>
                </a:solidFill>
                <a:latin typeface="Tahoma"/>
              </a:rPr>
              <a:t>3. Какого цвета нет на гербе России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а) Красного                                б) Серебряного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) Черного                                  г) Зеленого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9900"/>
                </a:solidFill>
                <a:latin typeface="Tahoma"/>
              </a:rPr>
              <a:t>4. Сколько корон на гербе России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а) Одна                                        б) Дв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) Три                                           г) Ни одно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9900"/>
                </a:solidFill>
                <a:latin typeface="Tahoma"/>
              </a:rPr>
              <a:t>5. Какие два предмета на гербе Российской Федерации держит двуглавый орел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9900"/>
                </a:solidFill>
                <a:latin typeface="Tahoma"/>
              </a:rPr>
              <a:t>6.  Где находятся  щиты на гербе России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0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e5ffff"/>
          </a:solidFill>
          <a:ln w="9360">
            <a:solidFill>
              <a:srgbClr val="e5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ОТВЕТЫ  К ТЕСТУ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Вопрос №1 – 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Вопрос № 2 – 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Вопрос № 3 –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Вопрос № 4 – 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Вопрос № 5 – Скипетр и держа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Вопрос № 6 – На фоне первого щита двуглавый орел, а второй щит на груди ор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0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Классный час 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на тему: «Символика государства  Российского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0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004747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К государственным символам любой страны относятся прежде всего государственные герб, флаг и гимн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XX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в. во всем мире установилась обязательная традиция  - каждой стране иметь свои герб, гимн и флаг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Они нужны как воплощение её истории и отражение настоящего, как выражение патриотизма её граждан и обозначение на международной арене, как её зрительный и музыкальный образ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Оскорбление же государственных символов сродни оскорблению и государства, и его народа, его истории и культур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Символы нашей Отчизны насчитывают ни одну сотню лет. Первый государственный герб России появился в конце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XV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в., первый флаг – в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XVIII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в., а первый государственный гимн – в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XIX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WordArt 4"/>
          <p:cNvSpPr txBox="1"/>
          <p:nvPr/>
        </p:nvSpPr>
        <p:spPr>
          <a:xfrm>
            <a:off x="2505240" y="685800"/>
            <a:ext cx="4133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0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   </a:t>
            </a:r>
            <a:r>
              <a:rPr b="0" lang="en-US" sz="14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Триада символов</a:t>
            </a:r>
            <a:endParaRPr b="0" lang="en-US" sz="14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98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98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98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98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98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3962520" cy="4952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Tahoma"/>
              </a:rPr>
              <a:t>Герб – эмблема, наследственный отличительный знак, сочетание фигур предметов,  которым придается символическое значение, выражающее исторические традиции 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Tahoma"/>
              </a:rPr>
              <a:t>Герб – специфический исторический источник, изучается дисциплиной </a:t>
            </a:r>
            <a:r>
              <a:rPr b="1" i="1" lang="ru-RU" sz="1600" spc="-1" strike="noStrike">
                <a:solidFill>
                  <a:srgbClr val="ffcc00"/>
                </a:solidFill>
                <a:latin typeface="Tahoma"/>
              </a:rPr>
              <a:t>геральдикой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Tahoma"/>
              </a:rPr>
              <a:t>Герб изображается на знаменах, печатях, монетах и пр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Tahoma"/>
              </a:rPr>
              <a:t>Герб Российской Империи сложился в период образования централизованного государства: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состоял из 2 основных эмбле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Tahoma"/>
              </a:rPr>
              <a:t>    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6" name="Object 4"/>
          <p:cNvGraphicFramePr/>
          <p:nvPr/>
        </p:nvGraphicFramePr>
        <p:xfrm>
          <a:off x="5423040" y="3581280"/>
          <a:ext cx="2487600" cy="24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23040" y="3581280"/>
                    <a:ext cx="248760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" name="Picture 7" descr="s1"/>
          <p:cNvPicPr/>
          <p:nvPr/>
        </p:nvPicPr>
        <p:blipFill>
          <a:blip r:embed="rId3"/>
          <a:stretch/>
        </p:blipFill>
        <p:spPr>
          <a:xfrm>
            <a:off x="5410080" y="685800"/>
            <a:ext cx="2590920" cy="26668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8"/>
          <p:cNvSpPr/>
          <p:nvPr/>
        </p:nvSpPr>
        <p:spPr>
          <a:xfrm>
            <a:off x="380880" y="585000"/>
            <a:ext cx="4572000" cy="5814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ЕРБ  РОССИ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62120" y="533160"/>
            <a:ext cx="8229600" cy="601956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Герб России имел большое разнообразие форм в пределах даже одного царствован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Герб – двуглавый орел достался России в наследство от Византии, после бракосочетания Софьи Палеолог, племянницы последнего византийского императора, с великим князем Иваном 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II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возможность стать равным со всеми европейским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государями побудила Ивана III принять этот герб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как геральдический символ своего государств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Превратившись из Великого Князя в царя Московског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и взяв для своего государства новый герб - Двуглавого Орл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Иван III в 1472 г. возлагает на обе главы Цесарские венцы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Рухнувшая Византийская империя делает Русского Орла приемником Византийского и сын Ивана III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Василий III (1505-1533)возлагает на об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главы Орла одну общую самодержавну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Шапку Мономаха (рис 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" name="Picture 4" descr="Рисунок 3"/>
          <p:cNvPicPr/>
          <p:nvPr/>
        </p:nvPicPr>
        <p:blipFill>
          <a:blip r:embed="rId1"/>
          <a:stretch/>
        </p:blipFill>
        <p:spPr>
          <a:xfrm>
            <a:off x="7391520" y="1981080"/>
            <a:ext cx="1600200" cy="1905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Рисунок 5"/>
          <p:cNvPicPr/>
          <p:nvPr/>
        </p:nvPicPr>
        <p:blipFill>
          <a:blip r:embed="rId2"/>
          <a:stretch/>
        </p:blipFill>
        <p:spPr>
          <a:xfrm>
            <a:off x="5638680" y="4343400"/>
            <a:ext cx="2057400" cy="2286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324480"/>
          </a:xfrm>
          <a:prstGeom prst="rect">
            <a:avLst/>
          </a:prstGeom>
          <a:solidFill>
            <a:srgbClr val="2b548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66"/>
                </a:solidFill>
                <a:latin typeface="Tahoma"/>
              </a:rPr>
              <a:t>На престол вступает Екатерина II "Великая" (1762-1796)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66"/>
                </a:solidFill>
                <a:latin typeface="Tahoma"/>
              </a:rPr>
              <a:t>и Орел меняется, приобретая могучие и грандиозные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66"/>
                </a:solidFill>
                <a:latin typeface="Tahoma"/>
              </a:rPr>
              <a:t>формы (рис.27)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66"/>
                </a:solidFill>
                <a:latin typeface="Tahoma"/>
              </a:rPr>
              <a:t>В 1825 году на престол вступае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66"/>
                </a:solidFill>
                <a:latin typeface="Tahoma"/>
              </a:rPr>
              <a:t>      </a:t>
            </a:r>
            <a:r>
              <a:rPr b="0" lang="ru-RU" sz="1600" spc="-1" strike="noStrike">
                <a:solidFill>
                  <a:srgbClr val="ffff66"/>
                </a:solidFill>
                <a:latin typeface="Tahoma"/>
              </a:rPr>
              <a:t>сильный волей и осознанием долга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66"/>
                </a:solidFill>
                <a:latin typeface="Tahoma"/>
              </a:rPr>
              <a:t>      </a:t>
            </a:r>
            <a:r>
              <a:rPr b="0" lang="ru-RU" sz="1600" spc="-1" strike="noStrike">
                <a:solidFill>
                  <a:srgbClr val="ffff66"/>
                </a:solidFill>
                <a:latin typeface="Tahoma"/>
              </a:rPr>
              <a:t>перед Россией Император Николай I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66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66"/>
                </a:solidFill>
                <a:latin typeface="Tahoma"/>
              </a:rPr>
              <a:t>(1825-1855), и впервые в Росси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66"/>
                </a:solidFill>
                <a:latin typeface="Tahoma"/>
              </a:rPr>
              <a:t>      </a:t>
            </a:r>
            <a:r>
              <a:rPr b="0" lang="ru-RU" sz="1600" spc="-1" strike="noStrike">
                <a:solidFill>
                  <a:srgbClr val="ffff66"/>
                </a:solidFill>
                <a:latin typeface="Tahoma"/>
              </a:rPr>
              <a:t>появляется черный Орел (рис.31)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66"/>
                </a:solidFill>
                <a:latin typeface="Tahoma"/>
              </a:rPr>
              <a:t>      </a:t>
            </a:r>
            <a:r>
              <a:rPr b="0" lang="ru-RU" sz="1600" spc="-1" strike="noStrike">
                <a:solidFill>
                  <a:srgbClr val="ffff66"/>
                </a:solidFill>
                <a:latin typeface="Tahoma"/>
              </a:rPr>
              <a:t>который с течением времени немног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66"/>
                </a:solidFill>
                <a:latin typeface="Tahoma"/>
              </a:rPr>
              <a:t>      </a:t>
            </a:r>
            <a:r>
              <a:rPr b="0" lang="ru-RU" sz="1600" spc="-1" strike="noStrike">
                <a:solidFill>
                  <a:srgbClr val="ffff66"/>
                </a:solidFill>
                <a:latin typeface="Tahoma"/>
              </a:rPr>
              <a:t>изменяется (рис. 31а), но несет в себ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66"/>
                </a:solidFill>
                <a:latin typeface="Tahoma"/>
              </a:rPr>
              <a:t>      </a:t>
            </a:r>
            <a:r>
              <a:rPr b="0" lang="ru-RU" sz="1600" spc="-1" strike="noStrike">
                <a:solidFill>
                  <a:srgbClr val="ffff66"/>
                </a:solidFill>
                <a:latin typeface="Tahoma"/>
              </a:rPr>
              <a:t>все те же строгие формы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66"/>
                </a:solidFill>
                <a:latin typeface="Tahoma"/>
              </a:rPr>
              <a:t>Императорская власть Александра II (1855-1881) вновь возвращает Орлу блеск золота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" name="Picture 4" descr="Рисунок 27"/>
          <p:cNvPicPr/>
          <p:nvPr/>
        </p:nvPicPr>
        <p:blipFill>
          <a:blip r:embed="rId1"/>
          <a:stretch/>
        </p:blipFill>
        <p:spPr>
          <a:xfrm>
            <a:off x="2514600" y="838080"/>
            <a:ext cx="1743120" cy="1943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Рисунок 31"/>
          <p:cNvPicPr/>
          <p:nvPr/>
        </p:nvPicPr>
        <p:blipFill>
          <a:blip r:embed="rId2"/>
          <a:stretch/>
        </p:blipFill>
        <p:spPr>
          <a:xfrm>
            <a:off x="4800600" y="2895480"/>
            <a:ext cx="1762200" cy="1819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Рисунок 31a"/>
          <p:cNvPicPr/>
          <p:nvPr/>
        </p:nvPicPr>
        <p:blipFill>
          <a:blip r:embed="rId3"/>
          <a:stretch/>
        </p:blipFill>
        <p:spPr>
          <a:xfrm>
            <a:off x="6705720" y="2819520"/>
            <a:ext cx="199044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172200"/>
          </a:xfrm>
          <a:prstGeom prst="rect">
            <a:avLst/>
          </a:prstGeom>
          <a:gradFill rotWithShape="0">
            <a:gsLst>
              <a:gs pos="0">
                <a:srgbClr val="cc6600"/>
              </a:gs>
              <a:gs pos="100000">
                <a:srgbClr val="5e2f00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Наконец после вступления на трон Царя Александра III (1881-1894) в своде законов Российской Империи впервые появляется точное описание Большого (рис.1) и Малого (рис.2) Государственного Герба, который с этого момента становится неизменным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                         </a:t>
            </a: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рис 1.                                          рис2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В таком виде Орел проходит сквозь царствование Николая II (1894-1917) пока Февральская революция 1917 года не отобрала у Орла все символы государственной власт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Picture 4" descr="Рисунок 33"/>
          <p:cNvPicPr/>
          <p:nvPr/>
        </p:nvPicPr>
        <p:blipFill>
          <a:blip r:embed="rId1"/>
          <a:stretch/>
        </p:blipFill>
        <p:spPr>
          <a:xfrm>
            <a:off x="1371600" y="2057400"/>
            <a:ext cx="1905120" cy="2066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Рисунок 33a"/>
          <p:cNvPicPr/>
          <p:nvPr/>
        </p:nvPicPr>
        <p:blipFill>
          <a:blip r:embed="rId2"/>
          <a:stretch/>
        </p:blipFill>
        <p:spPr>
          <a:xfrm>
            <a:off x="5029200" y="1981080"/>
            <a:ext cx="1905120" cy="218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1918 году советское правительство решило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рвать с исторической символикой России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вуглавый орел был заменен красным щитом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а котором изображались перекрещенные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ерп и молот, и восходящее солнце как знак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еремен. С 1920 года вверху на щите помещалось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окращенное название государства - РСФСР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1978 году, воинская звезда, ставшая к этому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ремени частью герба СССР и большинства республик, вошла в герб РСФСР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1990 году Правительство РСФСР приняло постановление о создании Государственного герба и государственного флага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СФСР. После всестороннего обсужд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авительственная комиссия предложила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екомендовать Правительству герб - золотого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вуглавого орла на красном поле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1993 году, указом Президента Б.Н.Ельцина двуглавый Орел был утвержден в качестве государственного герба. И, наконец,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</a:rPr>
              <a:t>8.12.2000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вуглавый Орел был утвержден Государственной Думой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4" descr="http://www.rushistory.fatal.ru/image/ris36_2.gif"/>
          <p:cNvPicPr/>
          <p:nvPr/>
        </p:nvPicPr>
        <p:blipFill>
          <a:blip r:embed="rId1"/>
          <a:stretch/>
        </p:blipFill>
        <p:spPr>
          <a:xfrm>
            <a:off x="6172200" y="533520"/>
            <a:ext cx="1905120" cy="2114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http://www.rushistory.fatal.ru/image/ris37_2.gif"/>
          <p:cNvPicPr/>
          <p:nvPr/>
        </p:nvPicPr>
        <p:blipFill>
          <a:blip r:embed="rId2"/>
          <a:stretch/>
        </p:blipFill>
        <p:spPr>
          <a:xfrm>
            <a:off x="7010280" y="3657600"/>
            <a:ext cx="19051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2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7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2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7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2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7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2" dur="5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7" dur="5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2" dur="500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7" dur="5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2" dur="500"/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7" dur="500"/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2" dur="500"/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7" dur="500"/>
                                        <p:tgtEl>
                                          <p:spTgt spid="6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153280" cy="4419360"/>
          </a:xfrm>
          <a:prstGeom prst="rect">
            <a:avLst/>
          </a:prstGeom>
          <a:gradFill rotWithShape="0">
            <a:gsLst>
              <a:gs pos="0">
                <a:srgbClr val="472f00"/>
              </a:gs>
              <a:gs pos="50000">
                <a:srgbClr val="996600"/>
              </a:gs>
              <a:gs pos="100000">
                <a:srgbClr val="472f00"/>
              </a:gs>
            </a:gsLst>
            <a:lin ang="5400000"/>
          </a:gradFill>
          <a:ln w="9360">
            <a:solidFill>
              <a:srgbClr val="ccff99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Tahoma"/>
              </a:rPr>
              <a:t>Флаг</a:t>
            </a:r>
            <a:r>
              <a:rPr b="0" lang="ru-RU" sz="1600" spc="-1" strike="noStrike">
                <a:solidFill>
                  <a:srgbClr val="ffcc00"/>
                </a:solidFill>
                <a:latin typeface="Tahoma"/>
              </a:rPr>
              <a:t> – знак принадлежности кораблей военного и торгового флота к определенному государству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Tahoma"/>
              </a:rPr>
              <a:t>В 1705 г. бело-сине-красный флаг был установлен исключительно для судов торгового флота. Флаг для корабля имеет огромное значение – с ним он рождается, живет и умирает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Tahoma"/>
              </a:rPr>
              <a:t>Цвета вызывают неодинаковые эмоции и ассоциации у народов. Одним из любимых цветов великороссов был красный: красное – солнце, девица, изба, угол, крыльцо, товар, словцо, прекрасный - самый красный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Tahoma"/>
              </a:rPr>
              <a:t>Синими на Руси были небо, вода, мир. Голубой считался цветом Богоматери; белые и синие цвета выбрала себе русская православная церковь: на крестные ходы русские патриархи шествовали под голубыми балдахинами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Tahoma"/>
              </a:rPr>
              <a:t>Белыми называл народ свою веру, царя и Отечество, свободным и открытым считался белый цвет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Tahoma"/>
              </a:rPr>
              <a:t>Бело-сине-красный флаг постепенно становился обычным украшением праздничных дней как в русских городах так и в деревнях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Tahoma"/>
              </a:rPr>
              <a:t>7 мая 1883 г. было опубликовано высочайшее повеление: «В торжественных случаях, когда признается возможным дозволить украшение зданий флагами, был употребляем исключительно русский флаг, состоящий из трех полос, верхней – белого, средней – синего, нижней – красного цветов»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WordArt 4"/>
          <p:cNvSpPr txBox="1"/>
          <p:nvPr/>
        </p:nvSpPr>
        <p:spPr>
          <a:xfrm>
            <a:off x="-1523880" y="228600"/>
            <a:ext cx="48099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een"/>
              </a:rPr>
              <a:t>           </a:t>
            </a: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een"/>
              </a:rPr>
              <a:t>ФЛАГ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een"/>
              <a:ea typeface="Tee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495680" y="380880"/>
          <a:ext cx="4038840" cy="1646280"/>
        </p:xfrm>
        <a:graphic>
          <a:graphicData uri="http://schemas.openxmlformats.org/drawingml/2006/table">
            <a:tbl>
              <a:tblPr/>
              <a:tblGrid>
                <a:gridCol w="4038840"/>
              </a:tblGrid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9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4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9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4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9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4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05560" cy="762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Tahoma"/>
              </a:rPr>
              <a:t>Гимн Росси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gradFill rotWithShape="0">
            <a:gsLst>
              <a:gs pos="0">
                <a:srgbClr val="004747"/>
              </a:gs>
              <a:gs pos="50000">
                <a:srgbClr val="009999"/>
              </a:gs>
              <a:gs pos="100000">
                <a:srgbClr val="004747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мимо герба и флага высшим символом государства является гимн – торжественное музыкальное произведение, призванное сплачивать , вдохновлять всю нацию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аздничность и торжественность гимнов усиливает и укрепляет национальное и государственное самосознание, а в международных отношениях их исполнение, как и приветствие флагами, означает выражение почестей представителям иностранной державы. Так же как и подъем государственного флага, исполнение государственного гимна сопровождается проявлением высших форм уважения к нему - вставанием гражданских лиц  и отданием чести или салютованием оружием военным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Первым официальным государственным гимном России была ‘’Молитва русских’’,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слова которой написал поэт В.А.Жуковский  (1783 - 1852) 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ождение второго официального гимна, с которым Россия прожила почти век, связано с именем Алексея Федоровича Львова (1798 - 1870), культурнейшего и высокообразованного человека.  Гениальность львовской находки состояла в простоте формы и силе идеи. Русский гимн был самым кратким в мире. Всего 6 строк текста и 16 такто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Еще один музыкальный символ завоевал в России общенародную любовь и признание. Сквозь всю трагичную историю нашего народа в ХХ в. прошел марш ‘’Прощание славянки’’.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сле потрясений 1917 г. Россия временно приняла не интернациональные, а международные гимны - ‘’Марсельезу’’ и ‘’Интернационал’’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сторические гимны России и в наши дни могут поддерживать самосознание и стойкость народ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" name="Gimny_-_Gimn_Rossii.mp3" descr=""/>
          <p:cNvPicPr/>
          <p:nvPr/>
        </p:nvPicPr>
        <p:blipFill>
          <a:blip r:embed="rId1"/>
          <a:stretch/>
        </p:blipFill>
        <p:spPr>
          <a:xfrm>
            <a:off x="868680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6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1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6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1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6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1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6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7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408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1" dur="194130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ormoza</cp:lastModifiedBy>
  <dcterms:modified xsi:type="dcterms:W3CDTF">2009-02-14T08:06:27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