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6DC-7032-4FFC-A6AB-8FCD42E4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B13-C190-45C6-A83D-3E61622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92B-D726-470D-9A03-A609FA19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343-6038-48F0-BF0B-10075CA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002-26D5-4FEE-825F-50DA34D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2AD-976F-4BA6-8481-DC8FE194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055-CD4A-4B48-995B-6D1317F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2DF-69F4-4EA2-B7BF-897F374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AA8-9EFC-4ACF-B9AC-1E934584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8C4-D184-4B56-9611-A9138CD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297-7083-4985-8CB5-8970ECF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F88-CEB6-4DC1-AF29-6934E49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DFB-7BC5-444D-B9F4-B619A63473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533520"/>
            <a:ext cx="7191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Государственная символика России</a:t>
            </a:r>
            <a:endParaRPr b="0" i="1" lang="en-US" sz="1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" name="Picture 5" descr="RF_EAGLE"/>
          <p:cNvPicPr/>
          <p:nvPr/>
        </p:nvPicPr>
        <p:blipFill>
          <a:blip r:embed="rId1"/>
          <a:stretch/>
        </p:blipFill>
        <p:spPr>
          <a:xfrm>
            <a:off x="3124080" y="266688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446004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609480" y="3808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ика </a:t>
            </a:r>
            <a:endParaRPr b="0" lang="en-US" sz="1400" spc="1" strike="noStrike">
              <a:ln w="0">
                <a:noFill/>
              </a:ln>
              <a:blipFill rotWithShape="0">
                <a:blip r:embed="rId2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дарского </a:t>
            </a:r>
            <a:endParaRPr b="0" lang="en-US" sz="1400" spc="1" strike="noStrike">
              <a:ln w="0">
                <a:noFill/>
              </a:ln>
              <a:blipFill rotWithShape="0">
                <a:blip r:embed="rId4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я </a:t>
            </a:r>
            <a:endParaRPr b="0" lang="en-US" sz="1400" spc="1" strike="noStrike">
              <a:ln w="0">
                <a:noFill/>
              </a:ln>
              <a:blipFill rotWithShape="0">
                <a:blip r:embed="rId6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Герб Краснодарского кр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еленое поле - символ изобилия кубанских полей, надеж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лучшее будуще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ые ворота крепости - символ гостеприимства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люб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нач - символ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а бунчука - символ кубанского казаче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ный возникающий императорский орел на золотом поле - символ памяти о времени заселения кубанских просторов, дарованных казакам императрицей Екатериной II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"Кавказский крест" - символ, напоминающий об окончательном присоединении Кубани к Росс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зоревые знамена и штандарт с вензелями Российских самодержцев - отражение славных подвигов кубанских каза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вровый венок  - символ трудовой вечной славы жителям Кубан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е скрепленные бантом ленты, перевивающие древки штандарта и знамен - ленты 2-х орденов Ленина, которыми Краснодарский край был награжден за трудовые подвиги кубанцев в 1957 и в 1970 год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51460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флаг краснодарско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лаг Краснодарского края представляет соб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ямоугольное полотнище из трех разновели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ризонтальных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лос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четание синего, зеленого и малинового цветов на флаге отражает особенность географического положения Куба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севера и запада она окружена двумя морями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юга - горным ландшафтом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востока - бескрайними степя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иний цвет символизирует морское присутств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одные богатств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еленый - изумрудные нивы и лес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линовый - главное богатство Кубани - ее нар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Гимн краснодарского кра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Гимном Краснодарского края стала историческая песня кубанских казаков «Ты, Кубань, ты наша родина». Написана она была в годы Первой мировой войны, когда казаки шли за Кавказом (в Турции), полковым священником Константином Образцов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gymn_kubani_brainmusic.mp3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23340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тношение россиян к государственным символа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авляющее большинство населения России положительно относятся к новым государственным символам – флагу и гербу Р.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астности – 70% россиян считают «подходящим» российский флаг; 73% - герб; 71% - гим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езультатам того же опроса 74,7% опрошенных считают, что государственные символы не должны меняться, поскольку символизируют стабильность государства, преемствен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1. От какой империи Россия унаследовала двуглавого орла на гер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Византийской                                                  в) Осман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Римский                                                          г) Китай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2. Сколько щитов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Один                              б) Два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Три                                г) Ни од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3. Какого цвета нет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Красного                                б) Серебря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Черного                                  г) Зеле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4. Сколько корон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Одна                                        б) Дв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Три                                           г) Ни од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5. Какие два предмета на гербе Российской Федерации держит двуглавый оре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6.  Где находятся  щиты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ТВЕТЫ  К ТЕСТ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1 –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2 – 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3 –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4 –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5 – Скипетр и держ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6 – На фоне первого щита двуглавый орел, а второй щит на груди ор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ный час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 тему: «Символика государства  Российского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 государственным символам любой страны относятся прежде всего государственные герб, флаг и гим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 во всем мире установилась обязательная традиция  - каждой стране иметь свои герб, гимн и фла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и нужны как воплощение её истории и отражение настоящего, как выражение патриотизма её граждан и обозначение на международной арене, как её зрительный и музыкальный образ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скорбление же государственных символов сродни оскорблению и государства, и его народа, его истории и куль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имволы нашей Отчизны насчитывают ни одну сотню лет. Первый государственный герб России появился в конце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, первый флаг – 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, а первый государственный гимн – 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2505240" y="685800"/>
            <a:ext cx="41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1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риада символов</a:t>
            </a:r>
            <a:endParaRPr b="0" lang="en-US" sz="1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962520" cy="4952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– эмблема, наследственный отличительный знак, сочетание фигур предметов,  которым придается символическое значение, выражающее исторические традиции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– специфический исторический источник, изучается дисциплиной </a:t>
            </a:r>
            <a:r>
              <a:rPr b="1" i="1" lang="ru-RU" sz="1600" spc="-1" strike="noStrike">
                <a:solidFill>
                  <a:srgbClr val="ffcc00"/>
                </a:solidFill>
                <a:latin typeface="Tahoma"/>
              </a:rPr>
              <a:t>геральдикой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изображается на знаменах, печатях, монетах и п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Российской Империи сложился в период образования централизованного государства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остоял из 2 основных эмбл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5423040" y="3581280"/>
          <a:ext cx="248760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3581280"/>
                    <a:ext cx="24876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7" descr="s1"/>
          <p:cNvPicPr/>
          <p:nvPr/>
        </p:nvPicPr>
        <p:blipFill>
          <a:blip r:embed="rId3"/>
          <a:stretch/>
        </p:blipFill>
        <p:spPr>
          <a:xfrm>
            <a:off x="5410080" y="6858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80880" y="585000"/>
            <a:ext cx="457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Б 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8229600" cy="6019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ерб России имел большое разнообразие форм в пределах даже одного царств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ерб – двуглавый орел достался России в наследство от Византии, после бракосочетания Софьи Палеолог, племянницы последнего византийского императора, с великим князем Иваном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озможность стать равным со всеми европейск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осударями побудила Ивана III принять этот гер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к геральдический символ своего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Превратившись из Великого Князя в царя Москов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и взяв для своего государства новый герб - Двуглавого Орл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Иван III в 1472 г. возлагает на обе главы Цесарские венц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ухнувшая Византийская империя делает Русского Орла приемником Византийского и сын Ивана III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асилий III (1505-1533)возлагает на об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лавы Орла одну общую самодержа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Шапку Мономаха (рис 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Рисунок 3"/>
          <p:cNvPicPr/>
          <p:nvPr/>
        </p:nvPicPr>
        <p:blipFill>
          <a:blip r:embed="rId1"/>
          <a:stretch/>
        </p:blipFill>
        <p:spPr>
          <a:xfrm>
            <a:off x="7391520" y="19810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 5"/>
          <p:cNvPicPr/>
          <p:nvPr/>
        </p:nvPicPr>
        <p:blipFill>
          <a:blip r:embed="rId2"/>
          <a:stretch/>
        </p:blipFill>
        <p:spPr>
          <a:xfrm>
            <a:off x="5638680" y="434340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На престол вступает Екатерина II "Великая" (1762-1796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 Орел меняется, приобретая могучие и грандиоз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формы (рис.27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В 1825 году на престол вступа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сильный волей и осознанием долг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перед Россией Император Николай I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(1825-1855), и впервые в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появляется черный Орел (рис.31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который с течением времени нем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зменяется (рис. 31а), но несет в себ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все те же строгие форм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мператорская власть Александра II (1855-1881) вновь возвращает Орлу блеск золо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Рисунок 27"/>
          <p:cNvPicPr/>
          <p:nvPr/>
        </p:nvPicPr>
        <p:blipFill>
          <a:blip r:embed="rId1"/>
          <a:stretch/>
        </p:blipFill>
        <p:spPr>
          <a:xfrm>
            <a:off x="2514600" y="838080"/>
            <a:ext cx="1743120" cy="194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исунок 31"/>
          <p:cNvPicPr/>
          <p:nvPr/>
        </p:nvPicPr>
        <p:blipFill>
          <a:blip r:embed="rId2"/>
          <a:stretch/>
        </p:blipFill>
        <p:spPr>
          <a:xfrm>
            <a:off x="4800600" y="2895480"/>
            <a:ext cx="176220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Рисунок 31a"/>
          <p:cNvPicPr/>
          <p:nvPr/>
        </p:nvPicPr>
        <p:blipFill>
          <a:blip r:embed="rId3"/>
          <a:stretch/>
        </p:blipFill>
        <p:spPr>
          <a:xfrm>
            <a:off x="6705720" y="2819520"/>
            <a:ext cx="19904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аконец после вступления на трон Царя Александра III (1881-1894) в своде законов Российской Империи впервые появляется точное описание Большого (рис.1) и Малого (рис.2) Государственного Герба, который с этого момента становится неизмен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ис 1.                                          рис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 таком виде Орел проходит сквозь царствование Николая II (1894-1917) пока Февральская революция 1917 года не отобрала у Орла все символы государственной в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Рисунок 33"/>
          <p:cNvPicPr/>
          <p:nvPr/>
        </p:nvPicPr>
        <p:blipFill>
          <a:blip r:embed="rId1"/>
          <a:stretch/>
        </p:blipFill>
        <p:spPr>
          <a:xfrm>
            <a:off x="1371600" y="2057400"/>
            <a:ext cx="190512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Рисунок 33a"/>
          <p:cNvPicPr/>
          <p:nvPr/>
        </p:nvPicPr>
        <p:blipFill>
          <a:blip r:embed="rId2"/>
          <a:stretch/>
        </p:blipFill>
        <p:spPr>
          <a:xfrm>
            <a:off x="5029200" y="1981080"/>
            <a:ext cx="190512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8 году советское правительство реши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рвать с исторической символикой Росси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ый орел был заменен красным щито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котором изображались перекрещ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п и молот, и восходящее солнце как знак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мен. С 1920 года вверху на щите помеща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кращенное название государства - РСФ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78 году, воинская звезда, ставшая к этом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ремени частью герба СССР и большинства республик, вошла в герб РСФС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0 году Правительство РСФСР приняло постановление о создании Государственного герба и государственного флаг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СФСР. После всестороннего обсужд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ительственная комиссия предлож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омендовать Правительству герб - золот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ого орла на красном пол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3 году, указом Президента Б.Н.Ельцина двуглавый Орел был утвержден в качестве государственного герба. И, наконец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8.12.2000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ый Орел был утвержден Государственной Дум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http://www.rushistory.fatal.ru/image/ris36_2.gif"/>
          <p:cNvPicPr/>
          <p:nvPr/>
        </p:nvPicPr>
        <p:blipFill>
          <a:blip r:embed="rId1"/>
          <a:stretch/>
        </p:blipFill>
        <p:spPr>
          <a:xfrm>
            <a:off x="6172200" y="533520"/>
            <a:ext cx="1905120" cy="211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www.rushistory.fatal.ru/image/ris37_2.gif"/>
          <p:cNvPicPr/>
          <p:nvPr/>
        </p:nvPicPr>
        <p:blipFill>
          <a:blip r:embed="rId2"/>
          <a:stretch/>
        </p:blipFill>
        <p:spPr>
          <a:xfrm>
            <a:off x="7010280" y="36576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419360"/>
          </a:xfrm>
          <a:prstGeom prst="rect">
            <a:avLst/>
          </a:pr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ccff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Флаг</a:t>
            </a: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 – знак принадлежности кораблей военного и торгового флота к определенному государств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В 1705 г. бело-сине-красный флаг был установлен исключительно для судов торгового флота. Флаг для корабля имеет огромное значение – с ним он рождается, живет и умира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Цвета вызывают неодинаковые эмоции и ассоциации у народов. Одним из любимых цветов великороссов был красный: красное – солнце, девица, изба, угол, крыльцо, товар, словцо, прекрасный - самый крас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Синими на Руси были небо, вода, мир. Голубой считался цветом Богоматери; белые и синие цвета выбрала себе русская православная церковь: на крестные ходы русские патриархи шествовали под голубыми балдахин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Белыми называл народ свою веру, царя и Отечество, свободным и открытым считался белый цв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Бело-сине-красный флаг постепенно становился обычным украшением праздничных дней как в русских городах так и в деревня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7 мая 1883 г. было опубликовано высочайшее повеление: «В торжественных случаях, когда признается возможным дозволить украшение зданий флагами, был употребляем исключительно русский флаг, состоящий из трех полос, верхней – белого, средней – синего, нижней – красного цветов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-1523880" y="228600"/>
            <a:ext cx="4809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"/>
              </a:rPr>
              <a:t>        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"/>
              </a:rPr>
              <a:t>ФЛАГ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en"/>
              <a:ea typeface="Tee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495680" y="380880"/>
          <a:ext cx="4038840" cy="1646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Гимн Ро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мимо герба и флага высшим символом государства является гимн – торжественное музыкальное произведение, призванное сплачивать , вдохновлять всю нац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здничность и торжественность гимнов усиливает и укрепляет национальное и государственное самосознание, а в международных отношениях их исполнение, как и приветствие флагами, означает выражение почестей представителям иностранной державы. Так же как и подъем государственного флага, исполнение государственного гимна сопровождается проявлением высших форм уважения к нему - вставанием гражданских лиц  и отданием чести или салютованием оружием во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рвым официальным государственным гимном России была ‘’Молитва русских’’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лова которой написал поэт В.А.Жуковский  (1783 - 1852)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ждение второго официального гимна, с которым Россия прожила почти век, связано с именем Алексея Федоровича Львова (1798 - 1870), культурнейшего и высокообразованного человека.  Гениальность львовской находки состояла в простоте формы и силе идеи. Русский гимн был самым кратким в мире. Всего 6 строк текста и 16 так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ще один музыкальный символ завоевал в России общенародную любовь и признание. Сквозь всю трагичную историю нашего народа в ХХ в. прошел марш ‘’Прощание славянки’’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потрясений 1917 г. Россия временно приняла не интернациональные, а международные гимны - ‘’Марсельезу’’ и ‘’Интернационал’’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ческие гимны России и в наши дни могут поддерживать самосознание и стойкость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Gimny_-_Gimn_Rossii.mp3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941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rmoza</cp:lastModifiedBy>
  <dcterms:modified xsi:type="dcterms:W3CDTF">2009-02-14T08:06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