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F1DD-3413-4108-8931-45D65BEFA7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57B1-70DE-486B-A2A7-48D82ED37C6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7A0E-0C84-43BE-AB44-A95C0CDB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37D1-814A-4AAD-8F8E-278FEED2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B00-0FA2-46F4-903B-43C1F094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AE7-6E68-4923-80AB-185717A8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08995-4553-4D50-B2CF-8947FBFC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83430-DC6C-4AAF-804A-2C6C6820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976AA-15CC-4D81-8DF3-3437C21D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DEB26-FF35-430B-AEC3-637C16EC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3587C-CEC5-4425-AA36-CFBF1081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1F766-CEDA-43D5-B3AB-659EC8BD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107F3-9D3F-4668-938A-ACD21919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C04-1CE4-4279-9391-773DC28C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DCE10-2210-4327-AA07-5C2AF7C6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0969F-CA2C-44BE-9FF8-D5ABC09F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A0D87-736F-49D4-AC66-2270C25A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8C28F-1B70-486F-81E0-3505D4C0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D4085-7FF8-4EDA-A160-7DC15F72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3F2B2-527F-4A39-90E1-33240D2A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797C5-4AFD-4308-BB5F-EDE989FF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AF2A6-691B-4C31-B211-838A4D7F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2C3A5-6466-4D8A-AC7C-06AD1EF1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5BC5B-D2EF-449A-B592-E8FA8EA7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0CF4-9E37-4D3D-979C-28877E61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B097C-36B0-49D1-831D-F5929B49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6D26F-6BD9-490B-8895-3AB35ACD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DB5B1-99D1-46EE-B5DD-4536C0B3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60F40-0320-4EF2-833F-4126A682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E0C0D-9F49-4DCE-B77D-3732FEB8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B22C2-B0AC-41A7-890D-1815F974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C10BD-EBA3-4E56-9600-A46257BE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CB8D51-3173-445B-B8DE-27A7987B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544060-53A6-456C-9A75-7F82BA12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7F2CF7-AB71-4606-A4A2-2ADFC5B2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F68F-02CD-487E-B2D8-477E8D07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E2993F-A6B9-4D3C-801C-7DAC87B4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7654F1-F9A2-40CB-A399-DDC1F06F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3A7317-73FE-446B-AE6B-5E5172E5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9F894B-62C9-4D14-9C2B-05973143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48F64A-BACF-4A84-90FE-194E2D41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080A05-05DD-4C1D-9A81-FFA1A327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2C0203-2B78-4CC3-9192-30F99EC5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3E403E-5CAF-4758-9C94-36D61602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FE97BC-47F0-4E64-9399-77E4DC39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D523-6736-4EE0-BFE8-4068C002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0BF4-ABE9-445A-BDB0-EAC533F6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D810-7BCA-4BD9-9902-B6919D8E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1909-DC45-4B12-9C2E-19581AC8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06BE-4390-432D-AC1E-593D0883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5F3C-89D6-4925-92C8-622C77A8C64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88A3-A6D6-4E7D-B735-5BE1F835785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2C5B-1D7A-4A09-8573-248520DEDEA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C763-69ED-47F9-B4A4-079BDEFFF1E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21.xml"/><Relationship Id="rId4" Type="http://schemas.openxmlformats.org/officeDocument/2006/relationships/slide" Target="slide6.xml"/><Relationship Id="rId5" Type="http://schemas.openxmlformats.org/officeDocument/2006/relationships/slide" Target="slide16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5.xml"/><Relationship Id="rId15" Type="http://schemas.openxmlformats.org/officeDocument/2006/relationships/slide" Target="slide18.xml"/><Relationship Id="rId16" Type="http://schemas.openxmlformats.org/officeDocument/2006/relationships/slide" Target="slide11.xml"/><Relationship Id="rId17" Type="http://schemas.openxmlformats.org/officeDocument/2006/relationships/slide" Target="slide19.xml"/><Relationship Id="rId18" Type="http://schemas.openxmlformats.org/officeDocument/2006/relationships/slide" Target="slide17.xml"/><Relationship Id="rId19" Type="http://schemas.openxmlformats.org/officeDocument/2006/relationships/slide" Target="slide26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7.xml"/><Relationship Id="rId25" Type="http://schemas.openxmlformats.org/officeDocument/2006/relationships/slide" Target="slide29.xml"/><Relationship Id="rId26" Type="http://schemas.openxmlformats.org/officeDocument/2006/relationships/slide" Target="slide30.xml"/><Relationship Id="rId27" Type="http://schemas.openxmlformats.org/officeDocument/2006/relationships/slide" Target="slide31.xml"/><Relationship Id="rId28" Type="http://schemas.openxmlformats.org/officeDocument/2006/relationships/slide" Target="slide28.xml"/><Relationship Id="rId29" Type="http://schemas.openxmlformats.org/officeDocument/2006/relationships/slide" Target="slide32.xml"/><Relationship Id="rId30" Type="http://schemas.openxmlformats.org/officeDocument/2006/relationships/slide" Target="slide33.xml"/><Relationship Id="rId31" Type="http://schemas.openxmlformats.org/officeDocument/2006/relationships/slide" Target="slide34.xml"/><Relationship Id="rId32" Type="http://schemas.openxmlformats.org/officeDocument/2006/relationships/slide" Target="slide36.xml"/><Relationship Id="rId33" Type="http://schemas.openxmlformats.org/officeDocument/2006/relationships/slide" Target="slide3.xml"/><Relationship Id="rId3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edda"/>
                </a:solidFill>
                <a:latin typeface="Constantia"/>
              </a:rPr>
              <a:t>XIX </a:t>
            </a:r>
            <a:r>
              <a:rPr b="0" lang="ru-RU" sz="3200" spc="-1" strike="noStrike">
                <a:solidFill>
                  <a:srgbClr val="fdedda"/>
                </a:solidFill>
                <a:latin typeface="Constantia"/>
              </a:rPr>
              <a:t>ВЕК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Заголовок 3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sp>
        <p:nvSpPr>
          <p:cNvPr id="179" name="Дата 6"/>
          <p:cNvSpPr/>
          <p:nvPr/>
        </p:nvSpPr>
        <p:spPr>
          <a:xfrm>
            <a:off x="285840" y="307188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E937-C197-484A-A162-357792AB3019}" type="datetime">
              <a:rPr b="1" lang="ru-RU" sz="2400" spc="-1" strike="noStrike">
                <a:solidFill>
                  <a:srgbClr val="dd7e0e"/>
                </a:solidFill>
                <a:latin typeface="Arial"/>
              </a:rPr>
              <a:t>31.07.26</a:t>
            </a:fld>
            <a:r>
              <a:rPr b="1" lang="en-US" sz="2400" spc="-1" strike="noStrike">
                <a:solidFill>
                  <a:srgbClr val="dd7e0e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2"/>
          <a:stretch/>
        </p:blipFill>
        <p:spPr>
          <a:xfrm>
            <a:off x="353880" y="353880"/>
            <a:ext cx="25909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Кавказская война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0000"/>
                </a:solidFill>
                <a:latin typeface="Constantia"/>
              </a:rPr>
              <a:t>1817-1864 гг.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15" name="Рисунок 3" descr="slovar2.gif"/>
          <p:cNvPicPr/>
          <p:nvPr/>
        </p:nvPicPr>
        <p:blipFill>
          <a:blip r:embed="rId1"/>
          <a:stretch/>
        </p:blipFill>
        <p:spPr>
          <a:xfrm>
            <a:off x="2928960" y="42876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216" name="Управляющая кнопка: в конец 4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Оборона Севастополя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54-1855 гг.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19" name="Рисунок 3" descr="slovar2.gif"/>
          <p:cNvPicPr/>
          <p:nvPr/>
        </p:nvPicPr>
        <p:blipFill>
          <a:blip r:embed="rId1"/>
          <a:stretch/>
        </p:blipFill>
        <p:spPr>
          <a:xfrm>
            <a:off x="3000240" y="64296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220" name="Управляющая кнопка: в конец 4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Правление Николая </a:t>
            </a: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I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nstantia"/>
              </a:rPr>
              <a:t>1825-1855 гг.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23" name="Рисунок 3" descr="slovar2.gif"/>
          <p:cNvPicPr/>
          <p:nvPr/>
        </p:nvPicPr>
        <p:blipFill>
          <a:blip r:embed="rId1"/>
          <a:stretch/>
        </p:blipFill>
        <p:spPr>
          <a:xfrm>
            <a:off x="3500280" y="64296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224" name="Управляющая кнопка: в конец 4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Реформа государственных крестьян П. Киселева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37-1841 г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27" name="Рисунок 4" descr="slovar2.gif"/>
          <p:cNvPicPr/>
          <p:nvPr/>
        </p:nvPicPr>
        <p:blipFill>
          <a:blip r:embed="rId1"/>
          <a:stretch/>
        </p:blipFill>
        <p:spPr>
          <a:xfrm>
            <a:off x="3500280" y="57168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228" name="Управляющая кнопка: в конец 5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Финансовая реформа Е.Ф. Канкрина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39-1843 г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31" name="Рисунок 3" descr="slovar2.gif"/>
          <p:cNvPicPr/>
          <p:nvPr/>
        </p:nvPicPr>
        <p:blipFill>
          <a:blip r:embed="rId1"/>
          <a:stretch/>
        </p:blipFill>
        <p:spPr>
          <a:xfrm>
            <a:off x="3000240" y="57168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232" name="Управляющая кнопка: в конец 4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Указ об «обязанных крестьянах»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onstantia"/>
              </a:rPr>
              <a:t>1842 г.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35" name="Рисунок 3" descr="slovar2.gif"/>
          <p:cNvPicPr/>
          <p:nvPr/>
        </p:nvPicPr>
        <p:blipFill>
          <a:blip r:embed="rId1"/>
          <a:stretch/>
        </p:blipFill>
        <p:spPr>
          <a:xfrm>
            <a:off x="3286080" y="5000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236" name="Управляющая кнопка: в конец 4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Учреждение Государственного совета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onstantia"/>
              </a:rPr>
              <a:t>1810 г.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39" name="Рисунок 3" descr="slovar2.gif"/>
          <p:cNvPicPr/>
          <p:nvPr/>
        </p:nvPicPr>
        <p:blipFill>
          <a:blip r:embed="rId1"/>
          <a:stretch/>
        </p:blipFill>
        <p:spPr>
          <a:xfrm>
            <a:off x="3357720" y="428760"/>
            <a:ext cx="952200" cy="742680"/>
          </a:xfrm>
          <a:prstGeom prst="rect">
            <a:avLst/>
          </a:prstGeom>
          <a:ln w="0">
            <a:noFill/>
          </a:ln>
        </p:spPr>
      </p:pic>
      <p:sp>
        <p:nvSpPr>
          <p:cNvPr id="240" name="Управляющая кнопка: в конец 4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Пекинский договор России с Китаем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60 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43" name="Рисунок 3" descr="slovar2.gif"/>
          <p:cNvPicPr/>
          <p:nvPr/>
        </p:nvPicPr>
        <p:blipFill>
          <a:blip r:embed="rId1"/>
          <a:stretch/>
        </p:blipFill>
        <p:spPr>
          <a:xfrm>
            <a:off x="3143160" y="42876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244" name="Управляющая кнопка: в конец 4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Синопское сражение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53 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47" name="Рисунок 3" descr="slovar2.gif"/>
          <p:cNvPicPr/>
          <p:nvPr/>
        </p:nvPicPr>
        <p:blipFill>
          <a:blip r:embed="rId1"/>
          <a:stretch/>
        </p:blipFill>
        <p:spPr>
          <a:xfrm>
            <a:off x="3071880" y="7142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248" name="Управляющая кнопка: в конец 4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213920"/>
            <a:ext cx="72388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Правление Александра </a:t>
            </a: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II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55-1881 г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51" name="Рисунок 3" descr="slovar2.gif"/>
          <p:cNvPicPr/>
          <p:nvPr/>
        </p:nvPicPr>
        <p:blipFill>
          <a:blip r:embed="rId1"/>
          <a:stretch/>
        </p:blipFill>
        <p:spPr>
          <a:xfrm>
            <a:off x="3286080" y="42876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252" name="Управляющая кнопка: в конец 4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571680" y="285840"/>
          <a:ext cx="7143480" cy="6072120"/>
        </p:xfrm>
        <a:graphic>
          <a:graphicData uri="http://schemas.openxmlformats.org/drawingml/2006/table">
            <a:tbl>
              <a:tblPr/>
              <a:tblGrid>
                <a:gridCol w="893520"/>
                <a:gridCol w="892080"/>
                <a:gridCol w="893880"/>
                <a:gridCol w="892080"/>
                <a:gridCol w="893880"/>
                <a:gridCol w="892080"/>
                <a:gridCol w="893880"/>
                <a:gridCol w="89208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2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3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4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6" action="ppaction://hlinksldjump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7" action="ppaction://hlinksldjump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8" action="ppaction://hlinksldjump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9" action="ppaction://hlinksldjump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10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11" action="ppaction://hlinksldjump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12" action="ppaction://hlinksldjump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13" action="ppaction://hlinksldjump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14" action="ppaction://hlinksldjump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15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16" action="ppaction://hlinksldjump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</a:tr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17" action="ppaction://hlinksldjump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18" action="ppaction://hlinksldjump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19" action="ppaction://hlinksldjump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2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21" action="ppaction://hlinksldjump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22" action="ppaction://hlinksldjump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23" action="ppaction://hlinksldjump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24" action="ppaction://hlinksldjump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25" action="ppaction://hlinksldjump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26" action="ppaction://hlinksldjump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27" action="ppaction://hlinksldjump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28" action="ppaction://hlinksldjump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29" action="ppaction://hlinksldjump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30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31" action="ppaction://hlinksldjump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32" action="ppaction://hlinksldjump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</a:tr>
            </a:tbl>
          </a:graphicData>
        </a:graphic>
      </p:graphicFrame>
      <p:sp>
        <p:nvSpPr>
          <p:cNvPr id="182" name="Управляющая кнопка: возврат 4">
            <a:hlinkClick r:id="" action="ppaction://hlinkshowjump?jump=previousslide"/>
          </p:cNvPr>
          <p:cNvSpPr/>
          <p:nvPr/>
        </p:nvSpPr>
        <p:spPr>
          <a:xfrm>
            <a:off x="7858080" y="564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7"/>
          <p:cNvSpPr/>
          <p:nvPr/>
        </p:nvSpPr>
        <p:spPr>
          <a:xfrm>
            <a:off x="6929280" y="6429240"/>
            <a:ext cx="941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e58b6"/>
                </a:solidFill>
                <a:uFillTx/>
                <a:latin typeface="Trebuchet MS"/>
                <a:hlinkClick r:id="rId33" action="ppaction://hlinksldjump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Восстание декабристов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25 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55" name="Рисунок 3" descr="slovar2.gif"/>
          <p:cNvPicPr/>
          <p:nvPr/>
        </p:nvPicPr>
        <p:blipFill>
          <a:blip r:embed="rId1"/>
          <a:stretch/>
        </p:blipFill>
        <p:spPr>
          <a:xfrm>
            <a:off x="3357720" y="571680"/>
            <a:ext cx="952200" cy="742680"/>
          </a:xfrm>
          <a:prstGeom prst="rect">
            <a:avLst/>
          </a:prstGeom>
          <a:ln w="0">
            <a:noFill/>
          </a:ln>
        </p:spPr>
      </p:pic>
      <p:sp>
        <p:nvSpPr>
          <p:cNvPr id="256" name="Управляющая кнопка: в конец 4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Указ о «вольных хлебопашцах»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8" name="Рисунок 3" descr="slovar2.gif"/>
          <p:cNvPicPr/>
          <p:nvPr/>
        </p:nvPicPr>
        <p:blipFill>
          <a:blip r:embed="rId1"/>
          <a:stretch/>
        </p:blipFill>
        <p:spPr>
          <a:xfrm>
            <a:off x="3000240" y="7142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4"/>
          <p:cNvSpPr/>
          <p:nvPr/>
        </p:nvSpPr>
        <p:spPr>
          <a:xfrm>
            <a:off x="4214880" y="50004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1803 г.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Управляющая кнопка: в конец 5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Земская реформа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64 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3" name="Рисунок 3" descr="slovar2.gif"/>
          <p:cNvPicPr/>
          <p:nvPr/>
        </p:nvPicPr>
        <p:blipFill>
          <a:blip r:embed="rId1"/>
          <a:stretch/>
        </p:blipFill>
        <p:spPr>
          <a:xfrm>
            <a:off x="3500280" y="57168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264" name="Управляющая кнопка: в конец 4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Судебная реформа 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64 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7" name="Рисунок 3" descr="slovar2.gif"/>
          <p:cNvPicPr/>
          <p:nvPr/>
        </p:nvPicPr>
        <p:blipFill>
          <a:blip r:embed="rId1"/>
          <a:stretch/>
        </p:blipFill>
        <p:spPr>
          <a:xfrm>
            <a:off x="3429000" y="64296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268" name="Управляющая кнопка: в конец 4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Присоединение Средней Азии к России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onstantia"/>
              </a:rPr>
              <a:t>1864-1881 гг.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71" name="Рисунок 3" descr="slovar2.gif"/>
          <p:cNvPicPr/>
          <p:nvPr/>
        </p:nvPicPr>
        <p:blipFill>
          <a:blip r:embed="rId1"/>
          <a:stretch/>
        </p:blipFill>
        <p:spPr>
          <a:xfrm>
            <a:off x="3286080" y="57168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272" name="Управляющая кнопка: в конец 4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Городская реформа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70 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75" name="Рисунок 3" descr="slovar2.gif"/>
          <p:cNvPicPr/>
          <p:nvPr/>
        </p:nvPicPr>
        <p:blipFill>
          <a:blip r:embed="rId1"/>
          <a:stretch/>
        </p:blipFill>
        <p:spPr>
          <a:xfrm>
            <a:off x="3786120" y="7142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276" name="Управляющая кнопка: в конец 4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Отмена крепостного права, крестьянская реформа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onstantia"/>
              </a:rPr>
              <a:t>1861 г.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79" name="Рисунок 3" descr="slovar2.gif"/>
          <p:cNvPicPr/>
          <p:nvPr/>
        </p:nvPicPr>
        <p:blipFill>
          <a:blip r:embed="rId1"/>
          <a:stretch/>
        </p:blipFill>
        <p:spPr>
          <a:xfrm>
            <a:off x="3143160" y="35712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280" name="Управляющая кнопка: в конец 4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Введение всеобщей воинской повинности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0000"/>
                </a:solidFill>
                <a:latin typeface="Constantia"/>
              </a:rPr>
              <a:t>1874 гг.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83" name="Рисунок 3" descr="slovar2.gif"/>
          <p:cNvPicPr/>
          <p:nvPr/>
        </p:nvPicPr>
        <p:blipFill>
          <a:blip r:embed="rId1"/>
          <a:stretch/>
        </p:blipFill>
        <p:spPr>
          <a:xfrm>
            <a:off x="2500200" y="64296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284" name="Управляющая кнопка: в конец 4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Денежная реформа С.Ю. Витте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97 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87" name="Рисунок 3" descr="slovar2.gif"/>
          <p:cNvPicPr/>
          <p:nvPr/>
        </p:nvPicPr>
        <p:blipFill>
          <a:blip r:embed="rId1"/>
          <a:stretch/>
        </p:blipFill>
        <p:spPr>
          <a:xfrm>
            <a:off x="3571920" y="64296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288" name="Управляющая кнопка: в конец 4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Русско-турецкая война второй половины </a:t>
            </a:r>
            <a:r>
              <a:rPr b="0" lang="en-US" sz="5400" spc="-1" strike="noStrike">
                <a:solidFill>
                  <a:srgbClr val="ffffff"/>
                </a:solidFill>
                <a:latin typeface="Constantia"/>
              </a:rPr>
              <a:t>XIX</a:t>
            </a: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 века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77-1878 г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91" name="Рисунок 3" descr="slovar2.gif"/>
          <p:cNvPicPr/>
          <p:nvPr/>
        </p:nvPicPr>
        <p:blipFill>
          <a:blip r:embed="rId1"/>
          <a:stretch/>
        </p:blipFill>
        <p:spPr>
          <a:xfrm>
            <a:off x="3071880" y="64296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292" name="Управляющая кнопка: в конец 4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Рисунок 6"/>
          <p:cNvGrpSpPr/>
          <p:nvPr/>
        </p:nvGrpSpPr>
        <p:grpSpPr>
          <a:xfrm>
            <a:off x="268200" y="274680"/>
            <a:ext cx="6400800" cy="5931000"/>
            <a:chOff x="268200" y="274680"/>
            <a:chExt cx="6400800" cy="5931000"/>
          </a:xfrm>
        </p:grpSpPr>
        <p:pic>
          <p:nvPicPr>
            <p:cNvPr id="185" name="Рисунок 6" descr=""/>
            <p:cNvPicPr/>
            <p:nvPr/>
          </p:nvPicPr>
          <p:blipFill>
            <a:blip r:embed="rId1"/>
            <a:stretch/>
          </p:blipFill>
          <p:spPr>
            <a:xfrm>
              <a:off x="268200" y="274680"/>
              <a:ext cx="6400800" cy="593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57200" y="457200"/>
              <a:ext cx="601992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Выноска-облако 9"/>
          <p:cNvSpPr/>
          <p:nvPr/>
        </p:nvSpPr>
        <p:spPr>
          <a:xfrm>
            <a:off x="5072040" y="285840"/>
            <a:ext cx="3429000" cy="2327040"/>
          </a:xfrm>
          <a:prstGeom prst="cloudCallout">
            <a:avLst>
              <a:gd name="adj1" fmla="val -63203"/>
              <a:gd name="adj2" fmla="val 52606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НЕВЕРНАЯ ССЫЛК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Управляющая кнопка: в конец 10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Рисунок 5" descr="26_0.tmp"/>
          <p:cNvPicPr/>
          <p:nvPr/>
        </p:nvPicPr>
        <p:blipFill>
          <a:blip r:embed="rId3"/>
          <a:stretch/>
        </p:blipFill>
        <p:spPr>
          <a:xfrm>
            <a:off x="781200" y="1139760"/>
            <a:ext cx="393696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Правление Александра </a:t>
            </a:r>
            <a:r>
              <a:rPr b="0" lang="en-US" sz="5400" spc="-1" strike="noStrike">
                <a:solidFill>
                  <a:srgbClr val="ffffff"/>
                </a:solidFill>
                <a:latin typeface="Constantia"/>
              </a:rPr>
              <a:t>III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81-1894 г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95" name="Рисунок 3" descr="slovar2.gif"/>
          <p:cNvPicPr/>
          <p:nvPr/>
        </p:nvPicPr>
        <p:blipFill>
          <a:blip r:embed="rId1"/>
          <a:stretch/>
        </p:blipFill>
        <p:spPr>
          <a:xfrm>
            <a:off x="2714760" y="928800"/>
            <a:ext cx="952200" cy="742680"/>
          </a:xfrm>
          <a:prstGeom prst="rect">
            <a:avLst/>
          </a:prstGeom>
          <a:ln w="0">
            <a:noFill/>
          </a:ln>
        </p:spPr>
      </p:pic>
      <p:sp>
        <p:nvSpPr>
          <p:cNvPr id="296" name="Управляющая кнопка: в конец 4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Восшествие на престол императора Николая</a:t>
            </a: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 II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94 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99" name="Рисунок 3" descr="slovar2.gif"/>
          <p:cNvPicPr/>
          <p:nvPr/>
        </p:nvPicPr>
        <p:blipFill>
          <a:blip r:embed="rId1"/>
          <a:stretch/>
        </p:blipFill>
        <p:spPr>
          <a:xfrm>
            <a:off x="3286080" y="7142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300" name="Управляющая кнопка: в конец 4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Ункяр-Искелесийский договор России с Турцией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32 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303" name="Рисунок 3" descr="slovar2.gif"/>
          <p:cNvPicPr/>
          <p:nvPr/>
        </p:nvPicPr>
        <p:blipFill>
          <a:blip r:embed="rId1"/>
          <a:stretch/>
        </p:blipFill>
        <p:spPr>
          <a:xfrm>
            <a:off x="3429000" y="64296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304" name="Управляющая кнопка: в конец 4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Русско-шведская война, присоединение Финляндии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08-1809 г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307" name="Рисунок 3" descr="slovar2.gif"/>
          <p:cNvPicPr/>
          <p:nvPr/>
        </p:nvPicPr>
        <p:blipFill>
          <a:blip r:embed="rId1"/>
          <a:stretch/>
        </p:blipFill>
        <p:spPr>
          <a:xfrm>
            <a:off x="3071880" y="78588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308" name="Управляющая кнопка: в конец 4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Участие России в войнах с Францией в составе антинаполеоновской коалиции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05-1807 г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311" name="Рисунок 3" descr="slovar2.gif"/>
          <p:cNvPicPr/>
          <p:nvPr/>
        </p:nvPicPr>
        <p:blipFill>
          <a:blip r:embed="rId1"/>
          <a:stretch/>
        </p:blipFill>
        <p:spPr>
          <a:xfrm>
            <a:off x="3429000" y="78588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312" name="Управляющая кнопка: в конец 5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«Битва народов» под Лейпцигом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13 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315" name="Рисунок 3" descr="slovar2.gif"/>
          <p:cNvPicPr/>
          <p:nvPr/>
        </p:nvPicPr>
        <p:blipFill>
          <a:blip r:embed="rId1"/>
          <a:stretch/>
        </p:blipFill>
        <p:spPr>
          <a:xfrm>
            <a:off x="3000240" y="64296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316" name="Управляющая кнопка: в конец 5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Венский конгресс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14-1815 г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319" name="Рисунок 3" descr="slovar2.gif"/>
          <p:cNvPicPr/>
          <p:nvPr/>
        </p:nvPicPr>
        <p:blipFill>
          <a:blip r:embed="rId1"/>
          <a:stretch/>
        </p:blipFill>
        <p:spPr>
          <a:xfrm>
            <a:off x="3143160" y="57168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320" name="Управляющая кнопка: в конец 5"/>
          <p:cNvSpPr/>
          <p:nvPr/>
        </p:nvSpPr>
        <p:spPr>
          <a:xfrm>
            <a:off x="7072200" y="635796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Учреждение министерств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Рисунок 4" descr="slovar2.gif"/>
          <p:cNvPicPr/>
          <p:nvPr/>
        </p:nvPicPr>
        <p:blipFill>
          <a:blip r:embed="rId1"/>
          <a:stretch/>
        </p:blipFill>
        <p:spPr>
          <a:xfrm>
            <a:off x="3286080" y="64296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5"/>
          <p:cNvSpPr/>
          <p:nvPr/>
        </p:nvSpPr>
        <p:spPr>
          <a:xfrm>
            <a:off x="4643280" y="785880"/>
            <a:ext cx="30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1802 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Управляющая кнопка: в конец 7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Крымская война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53-1856 г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96" name="Рисунок 3" descr="slovar2.gif"/>
          <p:cNvPicPr/>
          <p:nvPr/>
        </p:nvPicPr>
        <p:blipFill>
          <a:blip r:embed="rId1"/>
          <a:stretch/>
        </p:blipFill>
        <p:spPr>
          <a:xfrm>
            <a:off x="3500280" y="7142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197" name="Управляющая кнопка: в конец 4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Тильзитский мир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onstantia"/>
              </a:rPr>
              <a:t>1807 г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Рисунок 4" descr="slovar2.gif"/>
          <p:cNvPicPr/>
          <p:nvPr/>
        </p:nvPicPr>
        <p:blipFill>
          <a:blip r:embed="rId1"/>
          <a:stretch/>
        </p:blipFill>
        <p:spPr>
          <a:xfrm>
            <a:off x="3357720" y="500040"/>
            <a:ext cx="952200" cy="743040"/>
          </a:xfrm>
          <a:prstGeom prst="rect">
            <a:avLst/>
          </a:prstGeom>
          <a:ln w="0">
            <a:noFill/>
          </a:ln>
        </p:spPr>
      </p:pic>
      <p:sp>
        <p:nvSpPr>
          <p:cNvPr id="200" name="Управляющая кнопка: в конец 6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Отечественная война. Бородинское сражение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Constantia"/>
              </a:rPr>
              <a:t>1812 г. 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03" name="Рисунок 3" descr="slovar2.gif"/>
          <p:cNvPicPr/>
          <p:nvPr/>
        </p:nvPicPr>
        <p:blipFill>
          <a:blip r:embed="rId1"/>
          <a:stretch/>
        </p:blipFill>
        <p:spPr>
          <a:xfrm>
            <a:off x="3143160" y="57168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204" name="Управляющая кнопка: в конец 4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правление Александра </a:t>
            </a: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I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Рисунок 3" descr="slovar2.gif"/>
          <p:cNvPicPr/>
          <p:nvPr/>
        </p:nvPicPr>
        <p:blipFill>
          <a:blip r:embed="rId1"/>
          <a:stretch/>
        </p:blipFill>
        <p:spPr>
          <a:xfrm>
            <a:off x="2143080" y="114300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5"/>
          <p:cNvSpPr/>
          <p:nvPr/>
        </p:nvSpPr>
        <p:spPr>
          <a:xfrm>
            <a:off x="3725640" y="714240"/>
            <a:ext cx="340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1801-1825 г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Управляющая кнопка: в конец 6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Заграничный поход русской армии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13-1814 гг.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11" name="Рисунок 4" descr="slovar2.gif"/>
          <p:cNvPicPr/>
          <p:nvPr/>
        </p:nvPicPr>
        <p:blipFill>
          <a:blip r:embed="rId1"/>
          <a:stretch/>
        </p:blipFill>
        <p:spPr>
          <a:xfrm>
            <a:off x="3357720" y="571680"/>
            <a:ext cx="952200" cy="742680"/>
          </a:xfrm>
          <a:prstGeom prst="rect">
            <a:avLst/>
          </a:prstGeom>
          <a:ln w="0">
            <a:noFill/>
          </a:ln>
        </p:spPr>
      </p:pic>
      <p:sp>
        <p:nvSpPr>
          <p:cNvPr id="212" name="Управляющая кнопка: в конец 5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6:59:04Z</dcterms:created>
  <dc:creator>Admin</dc:creator>
  <dc:description/>
  <dc:language>en-US</dc:language>
  <cp:lastModifiedBy>Admin</cp:lastModifiedBy>
  <dcterms:modified xsi:type="dcterms:W3CDTF">2010-05-16T16:51:38Z</dcterms:modified>
  <cp:revision>28</cp:revision>
  <dc:subject/>
  <dc:title>Слайд 1</dc:title>
</cp:coreProperties>
</file>