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65DB-ACAC-4F91-88BC-3D10A6A78F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FEAF-3F20-45EB-9F54-837BD41B04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CFC-B4A9-46DA-BA27-4ED983D0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205-6E49-416F-A43E-F246A0D0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50D-96A4-4D3B-B7AA-76CB23F3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BF1-DBC9-469C-BFEA-03BF0E36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68D2E-E3D0-46C4-9128-FE42FFF6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C9C63-6732-46B1-81B5-D1805B56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DC486-77C8-4E6E-B8AA-935D3FAB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B98C1-0508-4244-BD5E-6223C31F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33DE9-DA33-4F31-B122-40E7B4C5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C1A25-2DA8-47A5-BF02-61C28218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E52C2-08F8-47E0-B725-57B3C3F1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9E7-20D8-44E8-95F0-1CEC52D9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2AAB1-AFF7-4A62-B8C0-6E11CCBF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3D79F-E5BB-440D-BB80-EB270E7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FB885-F2C3-4D78-A6E0-9D272FFD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3D882-40E3-439F-B767-C69362D4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B4365-7422-41A2-9DB3-CCA0B5E7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65E87-615C-41D2-BC7D-B574B845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D584-240D-4202-AB58-612E2E22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748F-AC81-4C02-AD69-9052A029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D146-50CB-4C78-AE5E-A93959FF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D145-452C-49F9-B826-2C5CD470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2FE-7402-4AB9-B3F5-2DE0EDB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3968-D0BD-4D10-9EDA-6293B8C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BEA6-A89B-4EBD-B0EF-B35CBB50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D97A-DCCB-4A4B-81B8-2876E23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09C7-9FF4-42EE-9D03-9EB71D9B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334F-4347-4323-9531-93FBE0E2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5544-0F9E-466A-8602-E752E9B2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2DB3-C9CB-402B-B046-499E5478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B7646-45BC-4065-BD3A-136AFBFF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817AE-D07F-45F0-9A1E-6054DC31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4344C3-86F7-46FE-BCF4-FD495EDE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A22-22B2-4A13-BD65-E155CA74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993C02-C7AD-493F-8753-69E86146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A540CA-BCB8-4374-A0A8-0666ACFE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C103E0-28E6-42B1-A79B-1B324E41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08666-7B5E-471B-8616-0F29423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B0D01-4170-4CED-8D36-0DC8131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0D6A8-6087-463C-84A9-0AFD0863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11B063-1ED5-48F3-99EF-05B9A2BE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F42FB0-06B3-4368-8218-0F1208D5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968B5-D04E-47A9-9BEA-0CC74617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E76-6B93-490C-B75A-77A97827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473-CDCC-4AE5-A8D2-7A2A9BAA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EDA-C806-40D4-AD7E-77A9F518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E33-C2AF-439C-BEA2-D6AEF5A9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922-F044-46D0-B7A4-22C00BDB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C134-183C-4041-9ABB-6D7E5CF8495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F5A1-8A34-4A8E-B698-794DDEC0FF5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9564-1CAF-4A0A-B312-D7F82EF4E4D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521-EE56-4889-83B0-8A9B4824D53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21.xml"/><Relationship Id="rId4" Type="http://schemas.openxmlformats.org/officeDocument/2006/relationships/slide" Target="slide6.xml"/><Relationship Id="rId5" Type="http://schemas.openxmlformats.org/officeDocument/2006/relationships/slide" Target="slide1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5.xml"/><Relationship Id="rId15" Type="http://schemas.openxmlformats.org/officeDocument/2006/relationships/slide" Target="slide18.xml"/><Relationship Id="rId16" Type="http://schemas.openxmlformats.org/officeDocument/2006/relationships/slide" Target="slide11.xml"/><Relationship Id="rId17" Type="http://schemas.openxmlformats.org/officeDocument/2006/relationships/slide" Target="slide19.xml"/><Relationship Id="rId18" Type="http://schemas.openxmlformats.org/officeDocument/2006/relationships/slide" Target="slide17.xml"/><Relationship Id="rId19" Type="http://schemas.openxmlformats.org/officeDocument/2006/relationships/slide" Target="slide26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31.xml"/><Relationship Id="rId28" Type="http://schemas.openxmlformats.org/officeDocument/2006/relationships/slide" Target="slide28.xml"/><Relationship Id="rId29" Type="http://schemas.openxmlformats.org/officeDocument/2006/relationships/slide" Target="slide32.xml"/><Relationship Id="rId30" Type="http://schemas.openxmlformats.org/officeDocument/2006/relationships/slide" Target="slide33.xml"/><Relationship Id="rId31" Type="http://schemas.openxmlformats.org/officeDocument/2006/relationships/slide" Target="slide34.xml"/><Relationship Id="rId32" Type="http://schemas.openxmlformats.org/officeDocument/2006/relationships/slide" Target="slide36.xml"/><Relationship Id="rId33" Type="http://schemas.openxmlformats.org/officeDocument/2006/relationships/slide" Target="slide3.xml"/><Relationship Id="rId3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edda"/>
                </a:solidFill>
                <a:latin typeface="Constantia"/>
              </a:rPr>
              <a:t>XIX </a:t>
            </a:r>
            <a:r>
              <a:rPr b="0" lang="ru-RU" sz="3200" spc="-1" strike="noStrike">
                <a:solidFill>
                  <a:srgbClr val="fdedda"/>
                </a:solidFill>
                <a:latin typeface="Constantia"/>
              </a:rPr>
              <a:t>ВЕК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179" name="Дата 6"/>
          <p:cNvSpPr/>
          <p:nvPr/>
        </p:nvSpPr>
        <p:spPr>
          <a:xfrm>
            <a:off x="285840" y="30718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F773-E899-41BD-95FA-1661027F4186}" type="datetime">
              <a:rPr b="1" lang="ru-RU" sz="2400" spc="-1" strike="noStrike">
                <a:solidFill>
                  <a:srgbClr val="dd7e0e"/>
                </a:solidFill>
                <a:latin typeface="Arial"/>
              </a:rPr>
              <a:t>30.07.26</a:t>
            </a:fld>
            <a:r>
              <a:rPr b="1" lang="en-US" sz="2400" spc="-1" strike="noStrike">
                <a:solidFill>
                  <a:srgbClr val="dd7e0e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353880" y="353880"/>
            <a:ext cx="25909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Кавказская войн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Constantia"/>
              </a:rPr>
              <a:t>1817-1864 гг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5" name="Рисунок 3" descr="slovar2.gif"/>
          <p:cNvPicPr/>
          <p:nvPr/>
        </p:nvPicPr>
        <p:blipFill>
          <a:blip r:embed="rId1"/>
          <a:stretch/>
        </p:blipFill>
        <p:spPr>
          <a:xfrm>
            <a:off x="2928960" y="42876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Оборона Севастополя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54-1855 гг.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9" name="Рисунок 3" descr="slovar2.gif"/>
          <p:cNvPicPr/>
          <p:nvPr/>
        </p:nvPicPr>
        <p:blipFill>
          <a:blip r:embed="rId1"/>
          <a:stretch/>
        </p:blipFill>
        <p:spPr>
          <a:xfrm>
            <a:off x="300024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20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равление Николая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1825-1855 гг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3" name="Рисунок 3" descr="slovar2.gif"/>
          <p:cNvPicPr/>
          <p:nvPr/>
        </p:nvPicPr>
        <p:blipFill>
          <a:blip r:embed="rId1"/>
          <a:stretch/>
        </p:blipFill>
        <p:spPr>
          <a:xfrm>
            <a:off x="350028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24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Реформа государственных крестьян П. Киселев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37-1841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7" name="Рисунок 4" descr="slovar2.gif"/>
          <p:cNvPicPr/>
          <p:nvPr/>
        </p:nvPicPr>
        <p:blipFill>
          <a:blip r:embed="rId1"/>
          <a:stretch/>
        </p:blipFill>
        <p:spPr>
          <a:xfrm>
            <a:off x="350028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28" name="Управляющая кнопка: в конец 5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Финансовая реформа Е.Ф. Канкрина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39-1843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31" name="Рисунок 3" descr="slovar2.gif"/>
          <p:cNvPicPr/>
          <p:nvPr/>
        </p:nvPicPr>
        <p:blipFill>
          <a:blip r:embed="rId1"/>
          <a:stretch/>
        </p:blipFill>
        <p:spPr>
          <a:xfrm>
            <a:off x="300024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32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Указ об «обязанных крестьянах»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nstantia"/>
              </a:rPr>
              <a:t>1842 г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35" name="Рисунок 3" descr="slovar2.gif"/>
          <p:cNvPicPr/>
          <p:nvPr/>
        </p:nvPicPr>
        <p:blipFill>
          <a:blip r:embed="rId1"/>
          <a:stretch/>
        </p:blipFill>
        <p:spPr>
          <a:xfrm>
            <a:off x="3286080" y="50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36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Учреждение Государственного совет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nstantia"/>
              </a:rPr>
              <a:t>1810 г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39" name="Рисунок 3" descr="slovar2.gif"/>
          <p:cNvPicPr/>
          <p:nvPr/>
        </p:nvPicPr>
        <p:blipFill>
          <a:blip r:embed="rId1"/>
          <a:stretch/>
        </p:blipFill>
        <p:spPr>
          <a:xfrm>
            <a:off x="3357720" y="428760"/>
            <a:ext cx="952200" cy="742680"/>
          </a:xfrm>
          <a:prstGeom prst="rect">
            <a:avLst/>
          </a:prstGeom>
          <a:ln w="0">
            <a:noFill/>
          </a:ln>
        </p:spPr>
      </p:pic>
      <p:sp>
        <p:nvSpPr>
          <p:cNvPr id="240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Пекинский договор России с Китаем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60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43" name="Рисунок 3" descr="slovar2.gif"/>
          <p:cNvPicPr/>
          <p:nvPr/>
        </p:nvPicPr>
        <p:blipFill>
          <a:blip r:embed="rId1"/>
          <a:stretch/>
        </p:blipFill>
        <p:spPr>
          <a:xfrm>
            <a:off x="3143160" y="42876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44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Синопское сражение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53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47" name="Рисунок 3" descr="slovar2.gif"/>
          <p:cNvPicPr/>
          <p:nvPr/>
        </p:nvPicPr>
        <p:blipFill>
          <a:blip r:embed="rId1"/>
          <a:stretch/>
        </p:blipFill>
        <p:spPr>
          <a:xfrm>
            <a:off x="3071880" y="7142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48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213920"/>
            <a:ext cx="7238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равление Александра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I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55-1881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1" name="Рисунок 3" descr="slovar2.gif"/>
          <p:cNvPicPr/>
          <p:nvPr/>
        </p:nvPicPr>
        <p:blipFill>
          <a:blip r:embed="rId1"/>
          <a:stretch/>
        </p:blipFill>
        <p:spPr>
          <a:xfrm>
            <a:off x="3286080" y="42876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52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71680" y="285840"/>
          <a:ext cx="7143480" cy="6072120"/>
        </p:xfrm>
        <a:graphic>
          <a:graphicData uri="http://schemas.openxmlformats.org/drawingml/2006/table">
            <a:tbl>
              <a:tblPr/>
              <a:tblGrid>
                <a:gridCol w="893520"/>
                <a:gridCol w="892080"/>
                <a:gridCol w="893880"/>
                <a:gridCol w="892080"/>
                <a:gridCol w="893880"/>
                <a:gridCol w="892080"/>
                <a:gridCol w="893880"/>
                <a:gridCol w="89208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e58b6"/>
                          </a:solidFill>
                          <a:uFillTx/>
                          <a:latin typeface="Constantia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</a:tr>
            </a:tbl>
          </a:graphicData>
        </a:graphic>
      </p:graphicFrame>
      <p:sp>
        <p:nvSpPr>
          <p:cNvPr id="182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858080" y="564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6929280" y="6429240"/>
            <a:ext cx="94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Trebuchet MS"/>
                <a:hlinkClick r:id="rId33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Восстание декабристов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25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5" name="Рисунок 3" descr="slovar2.gif"/>
          <p:cNvPicPr/>
          <p:nvPr/>
        </p:nvPicPr>
        <p:blipFill>
          <a:blip r:embed="rId1"/>
          <a:stretch/>
        </p:blipFill>
        <p:spPr>
          <a:xfrm>
            <a:off x="3357720" y="571680"/>
            <a:ext cx="952200" cy="742680"/>
          </a:xfrm>
          <a:prstGeom prst="rect">
            <a:avLst/>
          </a:prstGeom>
          <a:ln w="0">
            <a:noFill/>
          </a:ln>
        </p:spPr>
      </p:pic>
      <p:sp>
        <p:nvSpPr>
          <p:cNvPr id="256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Указ о «вольных хлебопашцах»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Рисунок 3" descr="slovar2.gif"/>
          <p:cNvPicPr/>
          <p:nvPr/>
        </p:nvPicPr>
        <p:blipFill>
          <a:blip r:embed="rId1"/>
          <a:stretch/>
        </p:blipFill>
        <p:spPr>
          <a:xfrm>
            <a:off x="3000240" y="7142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4"/>
          <p:cNvSpPr/>
          <p:nvPr/>
        </p:nvSpPr>
        <p:spPr>
          <a:xfrm>
            <a:off x="4214880" y="50004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1803 г.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Управляющая кнопка: в конец 5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Земская реформ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64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3" name="Рисунок 3" descr="slovar2.gif"/>
          <p:cNvPicPr/>
          <p:nvPr/>
        </p:nvPicPr>
        <p:blipFill>
          <a:blip r:embed="rId1"/>
          <a:stretch/>
        </p:blipFill>
        <p:spPr>
          <a:xfrm>
            <a:off x="350028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64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Судебная реформа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64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7" name="Рисунок 3" descr="slovar2.gif"/>
          <p:cNvPicPr/>
          <p:nvPr/>
        </p:nvPicPr>
        <p:blipFill>
          <a:blip r:embed="rId1"/>
          <a:stretch/>
        </p:blipFill>
        <p:spPr>
          <a:xfrm>
            <a:off x="342900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68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Присоединение Средней Азии к Росси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onstantia"/>
              </a:rPr>
              <a:t>1864-1881 гг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1" name="Рисунок 3" descr="slovar2.gif"/>
          <p:cNvPicPr/>
          <p:nvPr/>
        </p:nvPicPr>
        <p:blipFill>
          <a:blip r:embed="rId1"/>
          <a:stretch/>
        </p:blipFill>
        <p:spPr>
          <a:xfrm>
            <a:off x="328608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72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Городская реформа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70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5" name="Рисунок 3" descr="slovar2.gif"/>
          <p:cNvPicPr/>
          <p:nvPr/>
        </p:nvPicPr>
        <p:blipFill>
          <a:blip r:embed="rId1"/>
          <a:stretch/>
        </p:blipFill>
        <p:spPr>
          <a:xfrm>
            <a:off x="3786120" y="7142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76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Отмена крепостного права, крестьянская реформ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nstantia"/>
              </a:rPr>
              <a:t>1861 г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9" name="Рисунок 3" descr="slovar2.gif"/>
          <p:cNvPicPr/>
          <p:nvPr/>
        </p:nvPicPr>
        <p:blipFill>
          <a:blip r:embed="rId1"/>
          <a:stretch/>
        </p:blipFill>
        <p:spPr>
          <a:xfrm>
            <a:off x="3143160" y="35712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80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Введение всеобщей воинской повинности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Constantia"/>
              </a:rPr>
              <a:t>1874 гг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3" name="Рисунок 3" descr="slovar2.gif"/>
          <p:cNvPicPr/>
          <p:nvPr/>
        </p:nvPicPr>
        <p:blipFill>
          <a:blip r:embed="rId1"/>
          <a:stretch/>
        </p:blipFill>
        <p:spPr>
          <a:xfrm>
            <a:off x="250020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84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Денежная реформа С.Ю. Витте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97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7" name="Рисунок 3" descr="slovar2.gif"/>
          <p:cNvPicPr/>
          <p:nvPr/>
        </p:nvPicPr>
        <p:blipFill>
          <a:blip r:embed="rId1"/>
          <a:stretch/>
        </p:blipFill>
        <p:spPr>
          <a:xfrm>
            <a:off x="357192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88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Русско-турецкая война второй половины </a:t>
            </a: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XIX</a:t>
            </a: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 века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77-1878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1" name="Рисунок 3" descr="slovar2.gif"/>
          <p:cNvPicPr/>
          <p:nvPr/>
        </p:nvPicPr>
        <p:blipFill>
          <a:blip r:embed="rId1"/>
          <a:stretch/>
        </p:blipFill>
        <p:spPr>
          <a:xfrm>
            <a:off x="307188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92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Рисунок 6"/>
          <p:cNvGrpSpPr/>
          <p:nvPr/>
        </p:nvGrpSpPr>
        <p:grpSpPr>
          <a:xfrm>
            <a:off x="268200" y="274680"/>
            <a:ext cx="6400800" cy="5931000"/>
            <a:chOff x="268200" y="274680"/>
            <a:chExt cx="6400800" cy="5931000"/>
          </a:xfrm>
        </p:grpSpPr>
        <p:pic>
          <p:nvPicPr>
            <p:cNvPr id="185" name="Рисунок 6" descr=""/>
            <p:cNvPicPr/>
            <p:nvPr/>
          </p:nvPicPr>
          <p:blipFill>
            <a:blip r:embed="rId1"/>
            <a:stretch/>
          </p:blipFill>
          <p:spPr>
            <a:xfrm>
              <a:off x="268200" y="274680"/>
              <a:ext cx="6400800" cy="59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57200" y="457200"/>
              <a:ext cx="601992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Выноска-облако 9"/>
          <p:cNvSpPr/>
          <p:nvPr/>
        </p:nvSpPr>
        <p:spPr>
          <a:xfrm>
            <a:off x="5072040" y="285840"/>
            <a:ext cx="3429000" cy="2327040"/>
          </a:xfrm>
          <a:prstGeom prst="cloudCallout">
            <a:avLst>
              <a:gd name="adj1" fmla="val -63203"/>
              <a:gd name="adj2" fmla="val 52606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НЕВЕРНАЯ ССЫЛК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Управляющая кнопка: в конец 10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Рисунок 5" descr="26_0.tmp"/>
          <p:cNvPicPr/>
          <p:nvPr/>
        </p:nvPicPr>
        <p:blipFill>
          <a:blip r:embed="rId3"/>
          <a:stretch/>
        </p:blipFill>
        <p:spPr>
          <a:xfrm>
            <a:off x="781200" y="1139760"/>
            <a:ext cx="393696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Правление Александра </a:t>
            </a: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III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81-1894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5" name="Рисунок 3" descr="slovar2.gif"/>
          <p:cNvPicPr/>
          <p:nvPr/>
        </p:nvPicPr>
        <p:blipFill>
          <a:blip r:embed="rId1"/>
          <a:stretch/>
        </p:blipFill>
        <p:spPr>
          <a:xfrm>
            <a:off x="2714760" y="928800"/>
            <a:ext cx="952200" cy="742680"/>
          </a:xfrm>
          <a:prstGeom prst="rect">
            <a:avLst/>
          </a:prstGeom>
          <a:ln w="0">
            <a:noFill/>
          </a:ln>
        </p:spPr>
      </p:pic>
      <p:sp>
        <p:nvSpPr>
          <p:cNvPr id="296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Восшествие на престол императора Николая</a:t>
            </a: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II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94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9" name="Рисунок 3" descr="slovar2.gif"/>
          <p:cNvPicPr/>
          <p:nvPr/>
        </p:nvPicPr>
        <p:blipFill>
          <a:blip r:embed="rId1"/>
          <a:stretch/>
        </p:blipFill>
        <p:spPr>
          <a:xfrm>
            <a:off x="3286080" y="7142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00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Ункяр-Искелесийский договор России с Турцией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32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03" name="Рисунок 3" descr="slovar2.gif"/>
          <p:cNvPicPr/>
          <p:nvPr/>
        </p:nvPicPr>
        <p:blipFill>
          <a:blip r:embed="rId1"/>
          <a:stretch/>
        </p:blipFill>
        <p:spPr>
          <a:xfrm>
            <a:off x="342900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Русско-шведская война, присоединение Финляндии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08-1809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07" name="Рисунок 3" descr="slovar2.gif"/>
          <p:cNvPicPr/>
          <p:nvPr/>
        </p:nvPicPr>
        <p:blipFill>
          <a:blip r:embed="rId1"/>
          <a:stretch/>
        </p:blipFill>
        <p:spPr>
          <a:xfrm>
            <a:off x="3071880" y="78588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08" name="Управляющая кнопка: в конец 4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Участие России в войнах с Францией в составе антинаполеоновской коалици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05-1807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11" name="Рисунок 3" descr="slovar2.gif"/>
          <p:cNvPicPr/>
          <p:nvPr/>
        </p:nvPicPr>
        <p:blipFill>
          <a:blip r:embed="rId1"/>
          <a:stretch/>
        </p:blipFill>
        <p:spPr>
          <a:xfrm>
            <a:off x="3429000" y="78588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12" name="Управляющая кнопка: в конец 5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«Битва народов» под Лейпцигом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13 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15" name="Рисунок 3" descr="slovar2.gif"/>
          <p:cNvPicPr/>
          <p:nvPr/>
        </p:nvPicPr>
        <p:blipFill>
          <a:blip r:embed="rId1"/>
          <a:stretch/>
        </p:blipFill>
        <p:spPr>
          <a:xfrm>
            <a:off x="300024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16" name="Управляющая кнопка: в конец 5"/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Венский конгресс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14-1815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19" name="Рисунок 3" descr="slovar2.gif"/>
          <p:cNvPicPr/>
          <p:nvPr/>
        </p:nvPicPr>
        <p:blipFill>
          <a:blip r:embed="rId1"/>
          <a:stretch/>
        </p:blipFill>
        <p:spPr>
          <a:xfrm>
            <a:off x="314316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в конец 5"/>
          <p:cNvSpPr/>
          <p:nvPr/>
        </p:nvSpPr>
        <p:spPr>
          <a:xfrm>
            <a:off x="7072200" y="635796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Учреждение министерств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Рисунок 4" descr="slovar2.gif"/>
          <p:cNvPicPr/>
          <p:nvPr/>
        </p:nvPicPr>
        <p:blipFill>
          <a:blip r:embed="rId1"/>
          <a:stretch/>
        </p:blipFill>
        <p:spPr>
          <a:xfrm>
            <a:off x="3286080" y="64296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4643280" y="78588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1802 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Управляющая кнопка: в конец 7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Крымская войн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53-1856 гг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6" name="Рисунок 3" descr="slovar2.gif"/>
          <p:cNvPicPr/>
          <p:nvPr/>
        </p:nvPicPr>
        <p:blipFill>
          <a:blip r:embed="rId1"/>
          <a:stretch/>
        </p:blipFill>
        <p:spPr>
          <a:xfrm>
            <a:off x="3500280" y="7142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Тильзитский мир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nstantia"/>
              </a:rPr>
              <a:t>1807 г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Рисунок 4" descr="slovar2.gif"/>
          <p:cNvPicPr/>
          <p:nvPr/>
        </p:nvPicPr>
        <p:blipFill>
          <a:blip r:embed="rId1"/>
          <a:stretch/>
        </p:blipFill>
        <p:spPr>
          <a:xfrm>
            <a:off x="3357720" y="500040"/>
            <a:ext cx="952200" cy="743040"/>
          </a:xfrm>
          <a:prstGeom prst="rect">
            <a:avLst/>
          </a:prstGeom>
          <a:ln w="0">
            <a:noFill/>
          </a:ln>
        </p:spPr>
      </p:pic>
      <p:sp>
        <p:nvSpPr>
          <p:cNvPr id="200" name="Управляющая кнопка: в конец 6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течественная война. Бородинское сражение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Constantia"/>
              </a:rPr>
              <a:t>1812 г. 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3" name="Рисунок 3" descr="slovar2.gif"/>
          <p:cNvPicPr/>
          <p:nvPr/>
        </p:nvPicPr>
        <p:blipFill>
          <a:blip r:embed="rId1"/>
          <a:stretch/>
        </p:blipFill>
        <p:spPr>
          <a:xfrm>
            <a:off x="3143160" y="57168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204" name="Управляющая кнопка: в конец 4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равление Александра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Рисунок 3" descr="slovar2.gif"/>
          <p:cNvPicPr/>
          <p:nvPr/>
        </p:nvPicPr>
        <p:blipFill>
          <a:blip r:embed="rId1"/>
          <a:stretch/>
        </p:blipFill>
        <p:spPr>
          <a:xfrm>
            <a:off x="2143080" y="114300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3725640" y="71424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1801-1825 г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Управляющая кнопка: в конец 6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Заграничный поход русской армии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1813-1814 гг.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1" name="Рисунок 4" descr="slovar2.gif"/>
          <p:cNvPicPr/>
          <p:nvPr/>
        </p:nvPicPr>
        <p:blipFill>
          <a:blip r:embed="rId1"/>
          <a:stretch/>
        </p:blipFill>
        <p:spPr>
          <a:xfrm>
            <a:off x="3357720" y="571680"/>
            <a:ext cx="952200" cy="742680"/>
          </a:xfrm>
          <a:prstGeom prst="rect">
            <a:avLst/>
          </a:prstGeom>
          <a:ln w="0">
            <a:noFill/>
          </a:ln>
        </p:spPr>
      </p:pic>
      <p:sp>
        <p:nvSpPr>
          <p:cNvPr id="212" name="Управляющая кнопка: в конец 5">
            <a:hlinkClick r:id="rId2" action="ppaction://hlinksldjump"/>
          </p:cNvPr>
          <p:cNvSpPr/>
          <p:nvPr/>
        </p:nvSpPr>
        <p:spPr>
          <a:xfrm>
            <a:off x="7072200" y="6286680"/>
            <a:ext cx="785880" cy="399960"/>
          </a:xfrm>
          <a:custGeom>
            <a:avLst/>
            <a:gdLst>
              <a:gd name="textAreaLeft" fmla="*/ 25920 w 785880"/>
              <a:gd name="textAreaRight" fmla="*/ 759960 w 785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423" h="21600">
                <a:moveTo>
                  <a:pt x="0" y="0"/>
                </a:moveTo>
                <a:lnTo>
                  <a:pt x="42423" y="0"/>
                </a:lnTo>
                <a:lnTo>
                  <a:pt x="42423" y="21600"/>
                </a:lnTo>
                <a:lnTo>
                  <a:pt x="0" y="21600"/>
                </a:lnTo>
                <a:close/>
              </a:path>
              <a:path fill="lightenLess" w="42423" h="21600">
                <a:moveTo>
                  <a:pt x="0" y="0"/>
                </a:moveTo>
                <a:lnTo>
                  <a:pt x="42423" y="0"/>
                </a:lnTo>
                <a:lnTo>
                  <a:pt x="41023" y="1400"/>
                </a:lnTo>
                <a:lnTo>
                  <a:pt x="1400" y="1400"/>
                </a:lnTo>
                <a:close/>
              </a:path>
              <a:path fill="darken" w="42423" h="21600">
                <a:moveTo>
                  <a:pt x="42423" y="0"/>
                </a:moveTo>
                <a:lnTo>
                  <a:pt x="42423" y="21600"/>
                </a:lnTo>
                <a:lnTo>
                  <a:pt x="41023" y="20200"/>
                </a:lnTo>
                <a:lnTo>
                  <a:pt x="41023" y="1400"/>
                </a:lnTo>
                <a:close/>
              </a:path>
              <a:path fill="darkenLess" w="42423" h="21600">
                <a:moveTo>
                  <a:pt x="4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23" y="20200"/>
                </a:lnTo>
                <a:close/>
              </a:path>
              <a:path fill="lighten" w="4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23" h="21600">
                <a:moveTo>
                  <a:pt x="24710" y="10800"/>
                </a:moveTo>
                <a:lnTo>
                  <a:pt x="14205" y="17806"/>
                </a:lnTo>
                <a:lnTo>
                  <a:pt x="14205" y="3794"/>
                </a:lnTo>
                <a:close/>
              </a:path>
              <a:path fill="darken" w="42423" h="21600">
                <a:moveTo>
                  <a:pt x="26556" y="3794"/>
                </a:moveTo>
                <a:lnTo>
                  <a:pt x="26556" y="17806"/>
                </a:lnTo>
                <a:lnTo>
                  <a:pt x="28218" y="17806"/>
                </a:lnTo>
                <a:lnTo>
                  <a:pt x="28218" y="3794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6:59:04Z</dcterms:created>
  <dc:creator>Admin</dc:creator>
  <dc:description/>
  <dc:language>en-US</dc:language>
  <cp:lastModifiedBy>Admin</cp:lastModifiedBy>
  <dcterms:modified xsi:type="dcterms:W3CDTF">2010-05-16T16:51:38Z</dcterms:modified>
  <cp:revision>28</cp:revision>
  <dc:subject/>
  <dc:title>Слайд 1</dc:title>
</cp:coreProperties>
</file>