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391-D1A7-490E-9E78-7E7F9160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769-B8E9-4087-8DA5-CE2365DA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E6E-5A04-4D5F-B054-EEF01452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2C8-E992-441A-A990-A85C0FA6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60F-7300-46EE-A0B8-5EBF0B78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DBC-6A10-4898-9E8C-EAF15E7C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B4D-BCD8-4BB4-A0EC-ABC69CAC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FF7-CE7D-4285-BC0E-048F99E2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2BC-1A7E-4C5F-A924-27D65777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AF4-9B22-4C2E-B1C5-D982E1B1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C10-DABE-482F-BDA6-C597215C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E62-89FC-44A4-9BF0-25FE4679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0080-98CD-4F39-BC61-9EE5D455C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j.foto.radikal.ru/0708/7e/bcae7c7aee50.png" TargetMode="External"/><Relationship Id="rId3" Type="http://schemas.openxmlformats.org/officeDocument/2006/relationships/hyperlink" Target="http://nov-designs.ru/cliparts-for-photoshop/cliparts-psd-png-for-photoshop/12336-klipart-bordyury-trava-i-cvety-na-prozrachnom-fone.html" TargetMode="External"/><Relationship Id="rId4" Type="http://schemas.openxmlformats.org/officeDocument/2006/relationships/hyperlink" Target="http://www.deryabino.ru/ptaha/grach.htm" TargetMode="External"/><Relationship Id="rId5" Type="http://schemas.openxmlformats.org/officeDocument/2006/relationships/hyperlink" Target="http://www.deryabino.ru/ptaha/grach.htm" TargetMode="External"/><Relationship Id="rId6" Type="http://schemas.openxmlformats.org/officeDocument/2006/relationships/hyperlink" Target="http://www.deryabino.ru/ptaha/grach.htm" TargetMode="External"/><Relationship Id="rId7" Type="http://schemas.openxmlformats.org/officeDocument/2006/relationships/hyperlink" Target="http://www.deryabino.ru/ptaha/grach.htm" TargetMode="External"/><Relationship Id="rId8" Type="http://schemas.openxmlformats.org/officeDocument/2006/relationships/hyperlink" Target="http://www.deryabino.ru/ptaha/grach.htm" TargetMode="External"/><Relationship Id="rId9" Type="http://schemas.openxmlformats.org/officeDocument/2006/relationships/hyperlink" Target="http://www.deryabino.ru/ptaha/grach.htm" TargetMode="External"/><Relationship Id="rId10" Type="http://schemas.openxmlformats.org/officeDocument/2006/relationships/hyperlink" Target="http://www.deryabino.ru/ptaha/grach.htm" TargetMode="External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eryabino.ru/ptaha/solovey.htm" TargetMode="External"/><Relationship Id="rId3" Type="http://schemas.openxmlformats.org/officeDocument/2006/relationships/hyperlink" Target="http://www.deryabino.ru/ptaha/solovey.htm" TargetMode="External"/><Relationship Id="rId4" Type="http://schemas.openxmlformats.org/officeDocument/2006/relationships/hyperlink" Target="http://www.deryabino.ru/ptaha/solovey.htm" TargetMode="External"/><Relationship Id="rId5" Type="http://schemas.openxmlformats.org/officeDocument/2006/relationships/hyperlink" Target="http://www.deryabino.ru/ptaha/solovey.htm" TargetMode="External"/><Relationship Id="rId6" Type="http://schemas.openxmlformats.org/officeDocument/2006/relationships/hyperlink" Target="http://www.deryabino.ru/ptaha/solovey.htm" TargetMode="External"/><Relationship Id="rId7" Type="http://schemas.openxmlformats.org/officeDocument/2006/relationships/hyperlink" Target="http://www.deryabino.ru/ptaha/solovey.htm" TargetMode="External"/><Relationship Id="rId8" Type="http://schemas.openxmlformats.org/officeDocument/2006/relationships/hyperlink" Target="http://www.deryabino.ru/ptaha/solovey.htm" TargetMode="External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dsovet.su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908000" y="3141720"/>
            <a:ext cx="67694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ла воспитате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квалификационной категори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ДОУ №40 «Колокольчик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икина Н.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.Фряно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692280"/>
            <a:ext cx="70581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етят перелётные птицы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912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олов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итает в сырых кустарниковых зарослях, в долинах рек. Гнёзда на земле или очень низко, в кустах. В кладке 4-6 зеленоватых или голубоватых с пятнами яиц. Насиживает только самка 13 суток. Питается пауками, насекомыми, червями, ягод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7129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ри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ижи прилетают с зимовок в мае, небольшими стаями  и  начинает строительство гнезда. Это длится около 8 дней. В гнездо откладывается 2-3 яйца.  Высиживают птенцов самец и самка в течение 11-16 дней. Маленькие стрижи находятся в гнезде достаточно долго и улетают из него на 38-39 день.Сразу после вылета из гнезда они могут летать и самостоятельно питаться. Гнездится колониями, гнезда устраивает в дуплах, трещинах скал, в норах по обрывам, под крышами, в щелях зд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а может находиться в воздухе без остановок 2-3 года, на протяжении этого времени она ест, пьёт не садясь на землю, и покрывает расстояние до 500 000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6624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орихвост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итает в лесах, лесопарках . Питается преимущественно насекомыми. Для строительства гнезда горихвостки занимают неглубокие пещерки, дупла различных деревьев, пустоты между корнями деревьев, обустраивают гнёзда в кустарниках и лощинах, в поленнице дров и за обшивкой стены дома или бани. Снаружи гнездо всегда прикрыто или спрятано. В мае появляется полная кладка из 5-8 яиц ярко-голубого цвета. Высиживает потомство преимущественно самка около 15 дней. Еще 13-15 дней вылупившиеся птенцы находятся в гнезде, а уже к середине июня производится вылет молодых п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63640" y="692280"/>
            <a:ext cx="6869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озд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оят гнезда прямо на земле. Самка откладывает 3 -6 яи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ле того, как птенцы покидают гнездо, а происходит это через 10—12 дней после появления на свет, они живут прямо на земле. Они, даже не умея летать, очень подвижны и перемещаются на достаточно большие расстояния от своего жил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итаются  насекомыми, дождевыми червями,  бабочками и гусеницами. Дождевых червей, в период выкармливания птенцов, дрозды приносят в клювах не по одному, а целым пучком, который опускается в гнездо, а потом уже распределяется между птенц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6870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алинов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овка или зарянка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глублении на земле самка строит гнездо из листвы и травинок и откладывает 5-7 яиц. Время насиживания кладки 13-14 дней. Птенцы вылупляются чёрными, голыми и нуждаются в первые дни в материнском тепле. Когда они вылетают из гнезда, у них ещё нет красной груди, поэтому они могут свободно передвигаться по родительской территории. Птенцы остаются в гнезде примерно 15 дней. Зарянки ищут на земле насекомых, дождевых червей и улито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913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000"/>
                </a:solidFill>
                <a:latin typeface="Times New Roman"/>
              </a:rPr>
              <a:t>Гра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6327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сной грач прилетает рано, еще лежит снег на пол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чи всеядны, питаются червями и личинками насекомых которых они находят, копаясь в земле своим крепким клювом. Любят большими стаями следовать за тракторами, пашущими землю.  Гнездятся на деревьях большими колониями. Гнездо строит из сухих сучьев, выстилает сухой травой, иногда клочками шерсти, тоненькими ветками, а также использует различный мусор. Гнездовая колония существуют очень долго даже десятилетия. Один раз в год бывает одна кладка из 3-7 яиц. Птенцы появляются через 16-20 дней. Вылет грачат из гнезда происходит через 30 дн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5705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укуш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кушки ведут одиночный образ жизни, гнёзд не строят, яиц не насиживают. Самки подкладывают свои яйца в гнёзда других птиц. Хозяева обнаруживают подмену в очень редких случаях. Птенцы появляются на 12-13 день. Птенец кукушки выбрасывает из гнезда яйца или новорожденных птенцов птицы-хозяина. Широко открывая свой ярко окрашенный оранжевый рот, птенец постоянно требует еды, поэтому родители просто игнорируют упавших птенцов. Птенец кукушки быстро растёт. На 20—22 сутки он покидает гнездо, в два-три раза превосходя своих родителей по размеру. Родители докармливают птенца  ещё 2—3 недели. Кукушка питается  крупными мохнатыми гусеницами  дубовых и сосновых шелкопрядов, которых не едят мелкие певчие птиц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9134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840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тка кряк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мится  растительной пищей: ряской, роголистником , насекомыми, моллюсками, мелкой рыбой, ракообразными, головастиками, даже лягуш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ладывает яйца от 9 до 13. штук.  Время насиживания 22—29 дней. Все птенцы вылупляются почти одновременно . Они уже способны передвигаться по суше, плавать и нырять. Ныряют птенцы хорошо и постоянно пользуются этим приёмом, спасаясь от хищ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енцы кормятся самостоятельно. Вначале они питаются только мелкими насекомыми и пауками,  Примерно в 50-дневном возрасте птенцы начинают уже взлетать, а к 56—60 дням полностью встают на крыло.Птенцы остаются с самкой 7—8 нед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92360" y="981000"/>
            <a:ext cx="6767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ис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исты гнездятся поблизости с человеческим жильём: на деревьях,  крышах домов ,  на опорах высоковольтных линий, на фабричных трубах. ,устраивая там из веток огромное гнездо. Одно гнездо служит аистам несколько лет. Яйца -2-5  пара насиживает вместе, около 33 дней. Самец делает это днём, самка — ночью. Первое время птенцов кормят дождевыми червями. Взрослые птицы зорко следят за своими птенцами, выбрасывая из гнезда всех слабых и больных. Вылетают из гнезда на 54—55 день, под присмотром родителей. Ещё 14—18 дней их кормят родители. Ночуют молодые в гнезде, днём же совершенствуют мастерство полё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зрослые питаются лягушками, жабами, крупными кузнечиками , дождевыми червями, майскими жуками, медведками, больной или дохлой мелкой рыбой, ящерицами, мышами, крысами, крот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65545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рая цап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рые цапли строят  гнёзда до 80 см в диаметре . Одно и то же гнездо может использоваться несколько лет подряд. Гнёзда строятся на высоких деревьях, часто на вершинах сосён. Самка откладывает 3-5 бледно-голубых, иногда с красноватыми пятнышками, яиц. В насиживании участвуют оба родителя -26 дней. Вылупившиеся птенцы покрыты сероватым пухом, оперение начинает расти у них с 7-9 дней. Птенцы выкармливаются и тщательно выхаживаются обоими родителями. Птенцы стучатся по родительскому клюву и те отрыгивают пищу им прямо в клюв. Летать молодые цапли начинают примерно через 55 дней. Питаются  цапли рыбой,  небольшими грызунами, насекомыми и ракообраз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06600" y="274680"/>
            <a:ext cx="4330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162080"/>
            <a:ext cx="60962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рый гус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рый гусь населяет болота, озёра, рыборазводные пруды. Серые гуси гнездятся колониями. Птицы прилетают на места гнездовий, уже разбившись на пары. Гнездо строят из стеблей и листьев тростника. В качестве подстилки гусыня выщипывает свой собственный пух с живота и выстилает им дно гнезда. Размеры гнезда до100 см диаметр. В кладке от 4 до 12 яиц, которые насиживает только самка. Если гусыне необходимо покинуть ненадолго гнездо, она укрывает яйца собственным пухом сверху. Самец при этом находится неподалёку, в случае опасности предупреждая её криками. Через 28 дней вылупляются птенцы. Обсохнув под крыльями самки, уходят из гнезда. Их водят оба родителя. Уже через 1-2 дня взрослые гуси ведут птенцов к воде, и гусята учатся искать к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6912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68360" y="1125360"/>
            <a:ext cx="6289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ебед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й лебеди не образуют, держатся парами. Пары сохраняются на весь период жизни. Основной корм - водные растения. Лебедь гнездится около воды в тростниках на мелких озёрах или на затонах больших рек вдалеке от человеческого жилья. Вылупившиеся птенцы всюду следуют со своей матерью, находясь у неё на сп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553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000"/>
                </a:solidFill>
                <a:latin typeface="Times New Roman"/>
              </a:rPr>
              <a:t>Интернет -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272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Угловая винь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Клипарт "Бордюры - трава и цветы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: http://www.wikipedia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:/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www.deryabino.ru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ptaha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10"/>
              </a:rPr>
              <a:t>grach.h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гр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gus_seryi.htm  гу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zhuravl_seryi.htm  -журавль сер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lebed_shipun.htm  -леб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lastochka_derevenskaya.htm   - ласточка деревен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skvoretz.htm  -скво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tryasoguska.htm  -трясогу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www.deryabino.ru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ptaha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solovey.h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- солов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strizh.htm   --стри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aist.htm  --аи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gorihvostka.htm  --горихвос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drozd_pevchiy.htm  -дроз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malinovka.htm  -малиновка (зарян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fokart.net/photo/kukushki/158   куку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tsaplya-seraya.htm  -цапля сер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1640" y="134136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шаблон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АОУ лицей №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pedsovet.su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асточ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ревенские ласточ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летают около середины мая и приступают к постройка гнезда и откладыванию яиц. Насиживание продолжается 12-13 суток, выкармливание птенцов - около 20 дней. В конце июня наблюдается вылет птенцов. Массовый отлет проходит в сентябре. Пение деревенских ласточек напоминает щебет, который заканчивается характерной трелью. Ведут общественный образ жизни, собираясь в большие группы и вместе усаживаясь на провода и другие возвышения. Они гнездятся большими колониями. Питаются деревенские ласточки насекомыми: мухи, кузнечики, сверчки, стрекозы, жуки и другие летающие насекомые. Большинство жертв они ловят в полёте, и на лету способны кормить своих питомц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7345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воре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сной первыми прилетают самцы, которые тут же начинают искать себе место для будущего гнезда - дупло, отверстие в стене дома или скворечник. Самки прибывают спустя несколько дней, и пары приступают к обустройству гнезда. Строят гнездо оба родителя,  в качестве подстилки используются сухие веточки деревьев, корешки, стебли, листья, шерсть и перья других птиц. Обычно кладка состоит из 4-6 светло-голубых яиц без крапинок. Насиживает в основном самка, самец лишь изредка заменяет её на время. Птенцы появляются через 11-13 дней. Добычей корма для птенцов занимаются как самец, так и самка, причём на его поиски они улетают одновременно, оставляя птенцов в гнезде одних. В первое время родители кормят птенцов мягкой пищей, но по мере роста приносят им и более жёстких насекомых: кузнечиков, жуков, крупных гусениц и улиток. Птенцы покидают гнездо через 21-2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620800" y="274680"/>
            <a:ext cx="3900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рясогуз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ит гнёзда в углублениях, например, в трещинах стен, дуплах деревьях, под крышами зданий и складах брёвен. Самки откладывают 5-6 беловатых с тёмно-серыми точками яиц, нередко дважды за сезон. Яйца самка высиживает на протяжении 12-14 дней. Птенцов кормят оба родителя. Примерно через 15 суток после вылупления у птенцов появляется опер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835280" y="1125360"/>
            <a:ext cx="6121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Наталья</cp:lastModifiedBy>
  <dcterms:modified xsi:type="dcterms:W3CDTF">2013-03-26T17:41:19Z</dcterms:modified>
  <cp:revision>48</cp:revision>
  <dc:subject/>
  <dc:title>Слайд 1</dc:title>
</cp:coreProperties>
</file>