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E86E-F72A-448F-9C87-27E2E0B6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ED7-404A-41C8-A94D-E5F94F82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D66-055A-43AE-AFBA-FC1686EA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3A63-4ED3-411B-99F2-0143DAD4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3B08-5E1D-44FC-B72B-148E1133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C619-D7A2-4DC9-BAB3-0CA39D5A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32CF-9B9A-46DD-8DD7-869842AD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C8FC-6A0A-41F2-B1B6-CEE0E82B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EB06-AC3B-47D6-8B72-5BB0D101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515E-E42F-43F1-B2E2-3F592B9A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9C8A-21C3-4943-9AD4-3F33DB47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7AB-30AA-43DC-AB8C-F87A6008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A73D-F62A-4B32-99F8-B9FAEB57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DE55-BB63-45EE-9760-2A01B871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BF81-31A4-4D43-A5BF-D19D0655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766F-2C4E-43F8-844D-104DFC1F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55E3-5827-478B-B313-A3F451F3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0F4-0B74-4D8E-B327-4EA19811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3FC7-425E-4DDB-91F2-B324BD96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E4D3-FEAF-44C0-A451-0F5F01C4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5DF-B80D-47CC-97E3-3D8EE6F2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6639-0E99-439A-863C-4167B53C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FDD9-3380-459D-980F-E094F29D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13C-B80C-4F24-81AD-59B8B101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B0FD-49BA-4691-8BA2-5DB9555C863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803C-39CD-4D0B-BCA0-B8CB8D673A5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015720"/>
            <a:ext cx="8839080" cy="41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ahoma"/>
              </a:rPr>
              <a:t>Анна Ахматова. Штрихи к портрету.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оэма «Реквием»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cbcb"/>
                </a:solidFill>
                <a:latin typeface="Verdana"/>
              </a:rPr>
              <a:t>Вопросы для беседы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образы-символы, на ваш взгляд, являются наиболее яркими? Почему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проявляется категория времени и пространства в «Реквиеме»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решается в поэме проблема исторической памяти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комментируйте строки Ахматовой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ак в прошедшем грядущее зреет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к в грядущем прошлое тлеет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cbcb"/>
                </a:solidFill>
                <a:latin typeface="Verdana"/>
              </a:rPr>
              <a:t>Анна Ахматова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 голос ваш, жар вашего дыханья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 отраженье вашего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ц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. Ахматов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1" descr="axmatova"/>
          <p:cNvPicPr/>
          <p:nvPr/>
        </p:nvPicPr>
        <p:blipFill>
          <a:blip r:embed="rId1"/>
          <a:stretch/>
        </p:blipFill>
        <p:spPr>
          <a:xfrm>
            <a:off x="762120" y="2057400"/>
            <a:ext cx="2851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О какой особенности творчества Ахматовой так метафорично сказал известный критик начала ХХ века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200040" y="837720"/>
            <a:ext cx="5257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 законная наследница Пушкина, уловившая в своих стихах шелест его шагов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кий лик её навевает воспоминания о русских иконах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Юлий Айхенваль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10" descr="portrait"/>
          <p:cNvPicPr/>
          <p:nvPr/>
        </p:nvPicPr>
        <p:blipFill>
          <a:blip r:embed="rId1"/>
          <a:stretch/>
        </p:blipFill>
        <p:spPr>
          <a:xfrm>
            <a:off x="835200" y="1066680"/>
            <a:ext cx="1927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218960"/>
            <a:ext cx="556272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казать бы тебе, насмешниц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 любимице всех друзей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Царскосельской весёлой грешнице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Что случится в жизни твоей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440" y="4952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С каким периодом русской культуры совпали юность и начало творчества Ахматовой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Анна Ахматова и Ольга Глебова-Судейкина в квартире на Фонтанке, 2"/>
          <p:cNvPicPr/>
          <p:nvPr/>
        </p:nvPicPr>
        <p:blipFill>
          <a:blip r:embed="rId1"/>
          <a:stretch/>
        </p:blipFill>
        <p:spPr>
          <a:xfrm>
            <a:off x="6477120" y="914400"/>
            <a:ext cx="2179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449532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- Назовите поэта, ставшего мужем Анны Ахматовой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- К какому направлению он принадлежал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- Укладывалось ли творчество Ахматовой в тесные рамки этого направления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- Расскажите о судьбе людей на фотографии после революции 1917 г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7" descr="Рисунок1"/>
          <p:cNvPicPr/>
          <p:nvPr/>
        </p:nvPicPr>
        <p:blipFill>
          <a:blip r:embed="rId1"/>
          <a:stretch/>
        </p:blipFill>
        <p:spPr>
          <a:xfrm>
            <a:off x="2057400" y="533520"/>
            <a:ext cx="51055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120" y="510552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- Назовите репрессированного поэта на фотографии рядом с Ахматовой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- Коснулись ли репрессии Анны Ахматовой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7" descr="Рисунок2"/>
          <p:cNvPicPr/>
          <p:nvPr/>
        </p:nvPicPr>
        <p:blipFill>
          <a:blip r:embed="rId1"/>
          <a:stretch/>
        </p:blipFill>
        <p:spPr>
          <a:xfrm>
            <a:off x="1665360" y="457200"/>
            <a:ext cx="573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…Нота национальной гордости была всегда главным отличием Ахматовой», – писал Борис Пастернак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9" descr="Анна Ахматова"/>
          <p:cNvPicPr/>
          <p:nvPr/>
        </p:nvPicPr>
        <p:blipFill>
          <a:blip r:embed="rId1"/>
          <a:stretch/>
        </p:blipFill>
        <p:spPr>
          <a:xfrm>
            <a:off x="609480" y="533520"/>
            <a:ext cx="37101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cbcb"/>
                </a:solidFill>
                <a:latin typeface="Verdana"/>
              </a:rPr>
              <a:t>Поэма «Реквием» (1935-1940)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3505320"/>
            <a:ext cx="38098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 была тогда с моим народом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м, где мой народ, к несчастью, был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. Ахматов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kresty"/>
          <p:cNvPicPr/>
          <p:nvPr/>
        </p:nvPicPr>
        <p:blipFill>
          <a:blip r:embed="rId1"/>
          <a:stretch/>
        </p:blipFill>
        <p:spPr>
          <a:xfrm>
            <a:off x="639720" y="838080"/>
            <a:ext cx="37497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cbcb"/>
                </a:solidFill>
                <a:latin typeface="Verdana"/>
              </a:rPr>
              <a:t>Вопросы для беседы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то такое реквием? Почему Ахматова так назвала своё произведение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ие факты жизни поэтессы отражены в поэме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ие черты эпохи описывает Ахматова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ова роль христианских мотивов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 звучит мотив смерти в поэме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24T10:56:2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