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BB0-423B-4E05-B37F-2E2B8F43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401-EF37-4355-8C42-DEE635F9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2C3-00A1-413D-98FE-55BE926E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451-E6B2-454E-A8DF-7E340EF1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508-BD32-45BF-B4AA-2E492CA7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866D-7776-4958-941B-A2104AE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E1E8-750B-40E3-B9CD-371A5C3A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515B-5B4B-4619-B9BE-EDEDAE6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5141-DE06-402F-AAD5-1EE34617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7CF8-4884-4BA8-B02F-FA99AED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BCE9-9D2C-41A4-B8EB-2ABACB0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769-963F-4284-BAF9-EA795087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FE37-36A2-4B46-9C2C-8F506919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04A5-A3FB-4621-A33D-900FF6D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036-F0B4-4860-A7BB-992B5AD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EB8-3F15-4E99-966C-825B6539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BC4-651A-4A0F-930A-9F0203CF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105-4785-4AF6-BB3F-6B2BE8B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4DF-405E-4772-BC48-BF4D29E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43F-D50A-4ACC-A108-C9355105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850-5F7B-4F19-BE93-5486FA5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AC9-54BD-407D-8C80-4516ABD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557-2680-4A68-91E3-503EEC2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084-2021-4B48-9396-6284980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4D23-723B-4889-8B9D-196934AB31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3E1A-F71A-4C2D-990F-1DC4498D91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15720"/>
            <a:ext cx="8839080" cy="4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ahoma"/>
              </a:rPr>
              <a:t>Анна Ахматова. Штрихи к портрет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эма «Реквием»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Вопросы для бесе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образы-символы, на ваш взгляд, являются наиболее яркими? Почему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оявляется категория времени и пространства в «Реквиеме»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решается в поэме проблема исторической памят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комментируйте строки Ахматовой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в прошедшем грядущее зреет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к в грядущем прошлое тле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Анна Ахматова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голос ваш, жар вашего дыханья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отраженье вашег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ц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 Ахматов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axmatova"/>
          <p:cNvPicPr/>
          <p:nvPr/>
        </p:nvPicPr>
        <p:blipFill>
          <a:blip r:embed="rId1"/>
          <a:stretch/>
        </p:blipFill>
        <p:spPr>
          <a:xfrm>
            <a:off x="762120" y="20574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О какой особенности творчества Ахматовой так метафорично сказал известный критик начала ХХ век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00040" y="837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законная наследница Пушкина, уловившая в своих стихах шелест его шагов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лик её навевает воспоминания о русских иконах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лий Айхенваль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0" descr="portrait"/>
          <p:cNvPicPr/>
          <p:nvPr/>
        </p:nvPicPr>
        <p:blipFill>
          <a:blip r:embed="rId1"/>
          <a:stretch/>
        </p:blipFill>
        <p:spPr>
          <a:xfrm>
            <a:off x="835200" y="1066680"/>
            <a:ext cx="1927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218960"/>
            <a:ext cx="55627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казать бы тебе, насмешниц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 любимице всех друзей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арскосельской весёлой грешнице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случится в жизни твое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4952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 каким периодом русской культуры совпали юность и начало творчества Ахматовой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Анна Ахматова и Ольга Глебова-Судейкина в квартире на Фонтанке, 2"/>
          <p:cNvPicPr/>
          <p:nvPr/>
        </p:nvPicPr>
        <p:blipFill>
          <a:blip r:embed="rId1"/>
          <a:stretch/>
        </p:blipFill>
        <p:spPr>
          <a:xfrm>
            <a:off x="6477120" y="914400"/>
            <a:ext cx="217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953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Назовите поэта, ставшего мужем Анны Ахматово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К какому направлению он принадлежал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Укладывалось ли творчество Ахматовой в тесные рамки этого направления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Расскажите о судьбе людей на фотографии после революции 1917 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Рисунок1"/>
          <p:cNvPicPr/>
          <p:nvPr/>
        </p:nvPicPr>
        <p:blipFill>
          <a:blip r:embed="rId1"/>
          <a:stretch/>
        </p:blipFill>
        <p:spPr>
          <a:xfrm>
            <a:off x="2057400" y="533520"/>
            <a:ext cx="5105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51055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- Назовите репрессированного поэта на фотографии рядом с Ахматов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- Коснулись ли репрессии Анны Ахматовой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Рисунок2"/>
          <p:cNvPicPr/>
          <p:nvPr/>
        </p:nvPicPr>
        <p:blipFill>
          <a:blip r:embed="rId1"/>
          <a:stretch/>
        </p:blipFill>
        <p:spPr>
          <a:xfrm>
            <a:off x="1665360" y="457200"/>
            <a:ext cx="57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…Нота национальной гордости была всегда главным отличием Ахматовой», – писал Борис Пастернак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Анна Ахматова"/>
          <p:cNvPicPr/>
          <p:nvPr/>
        </p:nvPicPr>
        <p:blipFill>
          <a:blip r:embed="rId1"/>
          <a:stretch/>
        </p:blipFill>
        <p:spPr>
          <a:xfrm>
            <a:off x="609480" y="533520"/>
            <a:ext cx="3710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Поэма «Реквием» (1935-1940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была тогда с моим народо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м, где мой народ, к несчастью, был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. Ахматов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kresty"/>
          <p:cNvPicPr/>
          <p:nvPr/>
        </p:nvPicPr>
        <p:blipFill>
          <a:blip r:embed="rId1"/>
          <a:stretch/>
        </p:blipFill>
        <p:spPr>
          <a:xfrm>
            <a:off x="639720" y="838080"/>
            <a:ext cx="374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Вопросы для бесе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 такое реквием? Почему Ахматова так назвала своё произведени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факты жизни поэтессы отражены в поэм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черты эпохи описывает Ахматова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ова роль христианских мотивов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звучит мотив смерти в поэм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4T10:56:2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