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039-D109-4B77-98DB-9FB402C1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0CE-099E-466E-A9D6-3882E24A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827-F599-456D-8CC1-B86B5A91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C0B-CBE1-4C28-A8DC-68EDBCFB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D22-2A2C-453C-8026-E32F8142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89E-EFF6-46E2-8BB9-7A99DEE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4C2-9F32-41B4-963F-6C4A66C0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B12-D99E-4779-9D51-8CB4EE93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320-DFF3-47FD-8AA3-77471BEE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C92-1378-43D9-A5D4-AEE6BD3C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ABA-78BF-4F19-BEE1-8F956374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CED-3F86-4C26-BAB8-FB545F86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E947-94B6-435E-80BC-6D21BF28D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animashek.com/photo/29" TargetMode="External"/><Relationship Id="rId3" Type="http://schemas.openxmlformats.org/officeDocument/2006/relationships/hyperlink" Target="http://miranimashek.com/photo/29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miranimashek.com/photo/29" TargetMode="Externa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униципальное бюджетное общеобразовательное учреждение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«Школа-интернат» с. Кеперве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ень защитника Отеч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читель русского язы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литературы Белозёрова А.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2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32280" y="3762360"/>
          <a:ext cx="1279440" cy="201600"/>
        </p:xfrm>
        <a:graphic>
          <a:graphicData uri="http://schemas.openxmlformats.org/drawingml/2006/table">
            <a:tbl>
              <a:tblPr/>
              <a:tblGrid>
                <a:gridCol w="639720"/>
                <a:gridCol w="639720"/>
              </a:tblGrid>
              <a:tr h="201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2" descr="ONevskEmel.jpg (25330 bytes)"/>
          <p:cNvPicPr/>
          <p:nvPr/>
        </p:nvPicPr>
        <p:blipFill>
          <a:blip r:embed="rId1"/>
          <a:stretch/>
        </p:blipFill>
        <p:spPr>
          <a:xfrm>
            <a:off x="214200" y="-11160"/>
            <a:ext cx="2998800" cy="415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ONevskKotn.jpg (24331 bytes)"/>
          <p:cNvPicPr/>
          <p:nvPr/>
        </p:nvPicPr>
        <p:blipFill>
          <a:blip r:embed="rId2"/>
          <a:stretch/>
        </p:blipFill>
        <p:spPr>
          <a:xfrm>
            <a:off x="6072120" y="0"/>
            <a:ext cx="2851200" cy="4025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0" y="4201560"/>
            <a:ext cx="914400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ва: Кавалер двух орденов Александра Невского ГСС гвардии май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мельянов Борис Николаевич. Командир 1-го батальона 215-го Гвардейского стрелкового полка (77-я Гвардейская стрелковая дивизия, 69-я армия, 1-й Белорусский фронт) гвардии майор Емельянов отличился в ходе Висло-Одерской операции 14 января 1945 года. Под командованием Емельянова воины батальона стремительной атакой овладели тремя линиями траншей противника и удерживали позицию до подхода основных сил. Все солдаты, сержанты и старшины батальона стали кавалерами ордена Славы. Командиры взводов были награждены орденами Александра Невского, командиры рот - орденами Красного Знамени. Сам Емельянов, и закрывший грудью вражескую амбразуру старший сержант Перов, были удостоены звания Героя Советского Сою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ава: Кавалер ордена Александра Невского (Тип 1) подполковник артиллерии Котенев Иван Ильич. Участник советско-финской войны. В боях ВОВ с июля 1941 года. Окончил войну в должности командира 146-го артиллерийского полка 44-й стрелковой диви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800" y="522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5840" y="285480"/>
            <a:ext cx="8400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Медведев Д. А.            Космонав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Жуков Г. К.                     Адмира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Суворов А. В.                Цар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Ушаков В. В.                  Полководе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Гагарин Ю. А.                Марша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062"/>
                </a:solidFill>
                <a:latin typeface="Calibri"/>
              </a:rPr>
              <a:t>Иван Грозный               Презид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p883666936" descr="8836669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skd\Desktop\23 февр\Новая папка (2)\883666936.gif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7bbfd"/>
                </a:solidFill>
                <a:uFillTx/>
                <a:latin typeface="Calibri"/>
                <a:hlinkClick r:id="rId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680" y="428760"/>
            <a:ext cx="764352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981317630" descr="http://kartinkigif.ru/_ph/6/2/981317630.gif"/>
          <p:cNvPicPr/>
          <p:nvPr/>
        </p:nvPicPr>
        <p:blipFill>
          <a:blip r:embed="rId4"/>
          <a:stretch/>
        </p:blipFill>
        <p:spPr>
          <a:xfrm>
            <a:off x="2500200" y="12142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416840" y="3912480"/>
            <a:ext cx="310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17bbfd"/>
                </a:solidFill>
                <a:uFillTx/>
                <a:latin typeface="Verdana"/>
                <a:ea typeface="Times New Roman"/>
                <a:hlinkClick r:id="rId5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981317630" descr="http://kartinkigif.ru/_ph/6/2/981317630.gif"/>
          <p:cNvPicPr/>
          <p:nvPr/>
        </p:nvPicPr>
        <p:blipFill>
          <a:blip r:embed="rId6"/>
          <a:stretch/>
        </p:blipFill>
        <p:spPr>
          <a:xfrm>
            <a:off x="353880" y="212760"/>
            <a:ext cx="85759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946220582" descr="946220582"/>
          <p:cNvPicPr/>
          <p:nvPr/>
        </p:nvPicPr>
        <p:blipFill>
          <a:blip r:embed="rId1"/>
          <a:stretch/>
        </p:blipFill>
        <p:spPr>
          <a:xfrm>
            <a:off x="571680" y="142920"/>
            <a:ext cx="810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6160"/>
            <a:ext cx="828036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skd\Desktop\23 февр\Новая папка (2)\StAndrew_All.jpg"/>
          <p:cNvPicPr/>
          <p:nvPr/>
        </p:nvPicPr>
        <p:blipFill>
          <a:blip r:embed="rId1"/>
          <a:stretch/>
        </p:blipFill>
        <p:spPr>
          <a:xfrm>
            <a:off x="5500800" y="2571840"/>
            <a:ext cx="3000240" cy="3794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рден Андрея Первозва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Users\skd\Desktop\23 февр\кл 23 ф\Badge_to_Order_St_Alexander_Nevsky_1820-1830.jpg"/>
          <p:cNvPicPr/>
          <p:nvPr/>
        </p:nvPicPr>
        <p:blipFill>
          <a:blip r:embed="rId2"/>
          <a:stretch/>
        </p:blipFill>
        <p:spPr>
          <a:xfrm>
            <a:off x="642960" y="1285920"/>
            <a:ext cx="31906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skd\Desktop\23 февр\Новая папка (2)\ONevsk125.jpg"/>
          <p:cNvPicPr/>
          <p:nvPr/>
        </p:nvPicPr>
        <p:blipFill>
          <a:blip r:embed="rId1"/>
          <a:stretch/>
        </p:blipFill>
        <p:spPr>
          <a:xfrm>
            <a:off x="571680" y="2214720"/>
            <a:ext cx="2671560" cy="425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skd\Desktop\23 февр\Новая папка (2)\ONevskA.jpg"/>
          <p:cNvPicPr/>
          <p:nvPr/>
        </p:nvPicPr>
        <p:blipFill>
          <a:blip r:embed="rId2"/>
          <a:stretch/>
        </p:blipFill>
        <p:spPr>
          <a:xfrm>
            <a:off x="4645080" y="1736640"/>
            <a:ext cx="4070160" cy="440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fd1"/>
            </a:gs>
            <a:gs pos="100000">
              <a:srgbClr val="ffd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022640" y="3762360"/>
          <a:ext cx="1098720" cy="201600"/>
        </p:xfrm>
        <a:graphic>
          <a:graphicData uri="http://schemas.openxmlformats.org/drawingml/2006/table">
            <a:tbl>
              <a:tblPr/>
              <a:tblGrid>
                <a:gridCol w="1098720"/>
              </a:tblGrid>
              <a:tr h="201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ONevskRub.jpg (36598 bytes)"/>
          <p:cNvPicPr/>
          <p:nvPr/>
        </p:nvPicPr>
        <p:blipFill>
          <a:blip r:embed="rId1"/>
          <a:stretch/>
        </p:blipFill>
        <p:spPr>
          <a:xfrm>
            <a:off x="1785960" y="714240"/>
            <a:ext cx="3200400" cy="4762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3286080" y="5576040"/>
            <a:ext cx="5357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кавалер ордена Александра Невского - подполковник Рубан И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4572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fd1"/>
            </a:gs>
            <a:gs pos="100000">
              <a:srgbClr val="ffdc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145040" y="3762360"/>
          <a:ext cx="853920" cy="201600"/>
        </p:xfrm>
        <a:graphic>
          <a:graphicData uri="http://schemas.openxmlformats.org/drawingml/2006/table">
            <a:tbl>
              <a:tblPr/>
              <a:tblGrid>
                <a:gridCol w="853920"/>
              </a:tblGrid>
              <a:tr h="201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1" descr="http://mondvor.narod.ru/ONevskNev.jpg"/>
          <p:cNvPicPr/>
          <p:nvPr/>
        </p:nvPicPr>
        <p:blipFill>
          <a:blip r:embed="rId1"/>
          <a:stretch/>
        </p:blipFill>
        <p:spPr>
          <a:xfrm>
            <a:off x="1000080" y="428760"/>
            <a:ext cx="6762960" cy="4324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785960" y="5000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валер трех орденов Александра Невского гвардии подполковник Невский Николай Леонтьевич. Фото предоставил Дмитр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21:37:44Z</dcterms:created>
  <dc:creator>Алевтина</dc:creator>
  <dc:description/>
  <dc:language>en-US</dc:language>
  <cp:lastModifiedBy>КарМаН</cp:lastModifiedBy>
  <dcterms:modified xsi:type="dcterms:W3CDTF">2012-04-01T05:49:33Z</dcterms:modified>
  <cp:revision>48</cp:revision>
  <dc:subject/>
  <dc:title>Слайд 1</dc:title>
</cp:coreProperties>
</file>