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A42-54F3-4289-907F-82A1DA35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1F4-E4D4-4580-B9A0-73D437D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7DE-59B7-49A1-942C-6CF2C2CF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0AF-2B53-40FD-A57A-D5DFCA22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AAC-FF31-40BD-A209-EAFD767C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05A-304C-4A28-A82B-72EEC47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E17-4D6D-4EEF-99C9-5F3A8E09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BE1-7851-41AA-8DDE-D62C7ED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F2A-B5EE-426E-B19D-340237CA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4BC-D6C6-448A-A19E-21D2973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391-65C5-44F1-BD81-5047308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C31-482C-45A5-97B2-EB7387C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054-694C-4B9A-8794-4299B4C84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animashek.com/photo/29" TargetMode="External"/><Relationship Id="rId3" Type="http://schemas.openxmlformats.org/officeDocument/2006/relationships/hyperlink" Target="http://miranimashek.com/photo/29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miranimashek.com/photo/29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униципальное бюджетное общеобразовательное учреждение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«Школа-интернат» с. Кеперве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ень защитника Отеч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итель русского язы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литературы Белозёрова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32280" y="3762360"/>
          <a:ext cx="1279440" cy="20160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2" descr="ONevskEmel.jpg (25330 bytes)"/>
          <p:cNvPicPr/>
          <p:nvPr/>
        </p:nvPicPr>
        <p:blipFill>
          <a:blip r:embed="rId1"/>
          <a:stretch/>
        </p:blipFill>
        <p:spPr>
          <a:xfrm>
            <a:off x="214200" y="-11160"/>
            <a:ext cx="299880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ONevskKotn.jpg (24331 bytes)"/>
          <p:cNvPicPr/>
          <p:nvPr/>
        </p:nvPicPr>
        <p:blipFill>
          <a:blip r:embed="rId2"/>
          <a:stretch/>
        </p:blipFill>
        <p:spPr>
          <a:xfrm>
            <a:off x="6072120" y="0"/>
            <a:ext cx="2851200" cy="4025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4201560"/>
            <a:ext cx="914400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ва: Кавалер двух орденов Александра Невского ГСС гвардии май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мельянов Борис Николаевич. Командир 1-го батальона 215-го Гвардейского стрелкового полка (77-я Гвардейская стрелковая дивизия, 69-я армия, 1-й Белорусский фронт) гвардии майор Емельянов отличился в ходе Висло-Одерской операции 14 января 1945 года. Под командованием Емельянова воины батальона стремительной атакой овладели тремя линиями траншей противника и удерживали позицию до подхода основных сил. Все солдаты, сержанты и старшины батальона стали кавалерами ордена Славы. Командиры взводов были награждены орденами Александра Невского, командиры рот - орденами Красного Знамени. Сам Емельянов, и закрывший грудью вражескую амбразуру старший сержант Перов, были удостоены звания Героя Советского Сою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а: Кавалер ордена Александра Невского (Тип 1) подполковник артиллерии Котенев Иван Ильич. Участник советско-финской войны. В боях ВОВ с июля 1941 года. Окончил войну в должности командира 146-го артиллерийского полка 44-й стрелковой диви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800" y="522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Медведев Д. А.            Космонав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Жуков Г. К.                     Адмир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Суворов А. В.                Цар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Ушаков В. В.                  Полководе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Гагарин Ю. А.                Марш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Иван Грозный               Презид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883666936" descr="883666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skd\Desktop\23 февр\Новая папка (2)\883666936.gif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680" y="428760"/>
            <a:ext cx="764352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981317630" descr="http://kartinkigif.ru/_ph/6/2/981317630.gif"/>
          <p:cNvPicPr/>
          <p:nvPr/>
        </p:nvPicPr>
        <p:blipFill>
          <a:blip r:embed="rId4"/>
          <a:stretch/>
        </p:blipFill>
        <p:spPr>
          <a:xfrm>
            <a:off x="2500200" y="121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16840" y="3912480"/>
            <a:ext cx="31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17bbfd"/>
                </a:solidFill>
                <a:uFillTx/>
                <a:latin typeface="Verdana"/>
                <a:ea typeface="Times New Roman"/>
                <a:hlinkClick r:id="rId5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981317630" descr="http://kartinkigif.ru/_ph/6/2/981317630.gif"/>
          <p:cNvPicPr/>
          <p:nvPr/>
        </p:nvPicPr>
        <p:blipFill>
          <a:blip r:embed="rId6"/>
          <a:stretch/>
        </p:blipFill>
        <p:spPr>
          <a:xfrm>
            <a:off x="353880" y="212760"/>
            <a:ext cx="85759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946220582" descr="946220582"/>
          <p:cNvPicPr/>
          <p:nvPr/>
        </p:nvPicPr>
        <p:blipFill>
          <a:blip r:embed="rId1"/>
          <a:stretch/>
        </p:blipFill>
        <p:spPr>
          <a:xfrm>
            <a:off x="571680" y="142920"/>
            <a:ext cx="810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6160"/>
            <a:ext cx="828036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kd\Desktop\23 февр\Новая папка (2)\StAndrew_All.jpg"/>
          <p:cNvPicPr/>
          <p:nvPr/>
        </p:nvPicPr>
        <p:blipFill>
          <a:blip r:embed="rId1"/>
          <a:stretch/>
        </p:blipFill>
        <p:spPr>
          <a:xfrm>
            <a:off x="5500800" y="2571840"/>
            <a:ext cx="3000240" cy="3794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ден Андрея Первозва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skd\Desktop\23 февр\кл 23 ф\Badge_to_Order_St_Alexander_Nevsky_1820-1830.jpg"/>
          <p:cNvPicPr/>
          <p:nvPr/>
        </p:nvPicPr>
        <p:blipFill>
          <a:blip r:embed="rId2"/>
          <a:stretch/>
        </p:blipFill>
        <p:spPr>
          <a:xfrm>
            <a:off x="642960" y="1285920"/>
            <a:ext cx="31906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skd\Desktop\23 февр\Новая папка (2)\ONevsk125.jpg"/>
          <p:cNvPicPr/>
          <p:nvPr/>
        </p:nvPicPr>
        <p:blipFill>
          <a:blip r:embed="rId1"/>
          <a:stretch/>
        </p:blipFill>
        <p:spPr>
          <a:xfrm>
            <a:off x="571680" y="2214720"/>
            <a:ext cx="2671560" cy="425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skd\Desktop\23 февр\Новая папка (2)\ONevskA.jpg"/>
          <p:cNvPicPr/>
          <p:nvPr/>
        </p:nvPicPr>
        <p:blipFill>
          <a:blip r:embed="rId2"/>
          <a:stretch/>
        </p:blipFill>
        <p:spPr>
          <a:xfrm>
            <a:off x="4645080" y="1736640"/>
            <a:ext cx="4070160" cy="440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d1"/>
            </a:gs>
            <a:gs pos="100000">
              <a:srgbClr val="ffd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022640" y="3762360"/>
          <a:ext cx="1098720" cy="201600"/>
        </p:xfrm>
        <a:graphic>
          <a:graphicData uri="http://schemas.openxmlformats.org/drawingml/2006/table">
            <a:tbl>
              <a:tblPr/>
              <a:tblGrid>
                <a:gridCol w="10987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ONevskRub.jpg (36598 bytes)"/>
          <p:cNvPicPr/>
          <p:nvPr/>
        </p:nvPicPr>
        <p:blipFill>
          <a:blip r:embed="rId1"/>
          <a:stretch/>
        </p:blipFill>
        <p:spPr>
          <a:xfrm>
            <a:off x="1785960" y="714240"/>
            <a:ext cx="3200400" cy="4762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286080" y="5576040"/>
            <a:ext cx="5357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кавалер ордена Александра Невского - подполковник Рубан И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4572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d1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45040" y="3762360"/>
          <a:ext cx="853920" cy="201600"/>
        </p:xfrm>
        <a:graphic>
          <a:graphicData uri="http://schemas.openxmlformats.org/drawingml/2006/table">
            <a:tbl>
              <a:tblPr/>
              <a:tblGrid>
                <a:gridCol w="8539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1" descr="http://mondvor.narod.ru/ONevskNev.jpg"/>
          <p:cNvPicPr/>
          <p:nvPr/>
        </p:nvPicPr>
        <p:blipFill>
          <a:blip r:embed="rId1"/>
          <a:stretch/>
        </p:blipFill>
        <p:spPr>
          <a:xfrm>
            <a:off x="1000080" y="428760"/>
            <a:ext cx="6762960" cy="4324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785960" y="5000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валер трех орденов Александра Невского гвардии подполковник Невский Николай Леонтьевич. Фото предоставил Дмитр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1:37:44Z</dcterms:created>
  <dc:creator>Алевтина</dc:creator>
  <dc:description/>
  <dc:language>en-US</dc:language>
  <cp:lastModifiedBy>КарМаН</cp:lastModifiedBy>
  <dcterms:modified xsi:type="dcterms:W3CDTF">2012-04-01T05:49:33Z</dcterms:modified>
  <cp:revision>48</cp:revision>
  <dc:subject/>
  <dc:title>Слайд 1</dc:title>
</cp:coreProperties>
</file>