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559-CDC1-4B02-9B6C-A4992144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30B-7083-4AEE-8C7B-7CF1536C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225-DB72-4565-9B8F-A87A3313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089-A2A3-4366-938D-0458DF1D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67A-B8A0-4708-9DAF-EFC3B574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9FD-2C1D-44F0-860C-B3A29674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64E4-9ADA-434D-B72D-769343F6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4D7-7BA3-4192-84D5-0B1CF3E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D592-9AA4-422A-B7B0-32D3F118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5E60-AEAC-4C09-A27C-1C5D9880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296A-BB4A-40D9-87FC-D153010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2D6-0DE6-40B4-850F-81424431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4AE8-0410-4928-885F-39ABD47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CC6-1A20-4422-BAF4-F15227F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0831-5123-411B-AAC2-DF7A9BE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C56E-B17E-4A4E-8D09-753D9FBA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510E-00FF-44E0-B4CF-FB359F6E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05F-D197-44CE-A912-60E50C1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B22-20B1-40E6-989B-3905A7D7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D84-7497-4D31-A13E-E19955A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E4F-142D-4136-817D-2EF2E4F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5C5-D5DA-441C-A1BD-A0F780D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30D-F8CA-474F-B04F-7814033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107-C118-4EDE-ADCE-F6235D6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5C8-587C-4B9B-9417-90B2208E928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502A-ADE0-4892-BB1C-CC8417722A8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1.jpe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 txBox="1"/>
          <p:nvPr/>
        </p:nvSpPr>
        <p:spPr>
          <a:xfrm>
            <a:off x="1600200" y="18288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ашкова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914400" y="45720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изображено на гербе Росси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505320"/>
            <a:ext cx="7086600" cy="2653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 красном щите золотой двуглавый орел под тремя коронами. В правой лапе орла – скипетр, в левой – держава. На груди орла серебряный всадник в синем плаще на серебряном коне. Он поражает серебряным копьем черного драко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1752480" y="1143000"/>
            <a:ext cx="4800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0"/>
          <a:stretch/>
        </p:blipFill>
        <p:spPr>
          <a:xfrm>
            <a:off x="2286000" y="1447920"/>
            <a:ext cx="3746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/>
          <p:cNvSpPr/>
          <p:nvPr/>
        </p:nvSpPr>
        <p:spPr>
          <a:xfrm>
            <a:off x="1066680" y="762120"/>
            <a:ext cx="632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чему на гербе именно оре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4191120"/>
            <a:ext cx="2895480" cy="22269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Двуглавый орел – символ власти, могущества, мудр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0"/>
          <a:stretch/>
        </p:blipFill>
        <p:spPr>
          <a:xfrm>
            <a:off x="3200400" y="182880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1219320" y="3049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чему головы орла повернуты в разные сторон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495680"/>
            <a:ext cx="5867280" cy="18003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ссия расположена в двух частях света – Европе и Азии, поэтому головы орла повернуты в разные сторо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0"/>
          <a:stretch/>
        </p:blipFill>
        <p:spPr>
          <a:xfrm>
            <a:off x="3200400" y="182880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>
            <a:off x="1143000" y="5335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означает на гербе всадник, поражающий дракон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800600"/>
            <a:ext cx="411480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отовность народа встать на защиту родной зем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0"/>
          <a:stretch/>
        </p:blipFill>
        <p:spPr>
          <a:xfrm>
            <a:off x="3048120" y="1752480"/>
            <a:ext cx="2157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65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"/>
          <p:cNvSpPr txBox="1"/>
          <p:nvPr/>
        </p:nvSpPr>
        <p:spPr>
          <a:xfrm>
            <a:off x="1523880" y="2133720"/>
            <a:ext cx="5410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ла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1937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/>
          <p:nvPr/>
        </p:nvSpPr>
        <p:spPr>
          <a:xfrm>
            <a:off x="1523880" y="609480"/>
            <a:ext cx="58676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аринное русское название флага - «стяг». Какую роль выполнял «стяг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4191120"/>
            <a:ext cx="434340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ль стяга – управление войском в битвах, символ власти княз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/>
          <p:cNvSpPr/>
          <p:nvPr/>
        </p:nvSpPr>
        <p:spPr>
          <a:xfrm>
            <a:off x="1143000" y="14479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гда россияне отмечают День государственного флага РФ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657600"/>
            <a:ext cx="2057400" cy="22446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июн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2 августа;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декабр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9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2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1523880" y="533520"/>
            <a:ext cx="5257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Опишите флаг Росс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5486400"/>
            <a:ext cx="251460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3f35"/>
                </a:solidFill>
                <a:latin typeface="Arial"/>
              </a:rPr>
              <a:t>Петр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853f3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657600"/>
            <a:ext cx="5715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то ввел такой порядок расположения цветов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33720" y="1523880"/>
            <a:ext cx="426708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Флаг состоит из полос трех цветов: белого, синего, красн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914400" y="45720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ой флаг является флагом Росси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0"/>
          <a:stretch/>
        </p:blipFill>
        <p:spPr>
          <a:xfrm>
            <a:off x="1219320" y="3962520"/>
            <a:ext cx="2057400" cy="13636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1"/>
          <a:stretch/>
        </p:blipFill>
        <p:spPr>
          <a:xfrm>
            <a:off x="4952880" y="4038480"/>
            <a:ext cx="2057400" cy="1362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133720" y="2057400"/>
            <a:ext cx="685800" cy="685800"/>
          </a:xfrm>
          <a:prstGeom prst="ellipse">
            <a:avLst/>
          </a:prstGeom>
          <a:solidFill>
            <a:srgbClr val="c3dbc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5562720"/>
            <a:ext cx="685800" cy="685800"/>
          </a:xfrm>
          <a:prstGeom prst="ellipse">
            <a:avLst/>
          </a:prstGeom>
          <a:solidFill>
            <a:srgbClr val="c3dbc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5638680"/>
            <a:ext cx="685800" cy="685800"/>
          </a:xfrm>
          <a:prstGeom prst="ellipse">
            <a:avLst/>
          </a:prstGeom>
          <a:solidFill>
            <a:srgbClr val="c3dbc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2"/>
          <a:stretch/>
        </p:blipFill>
        <p:spPr>
          <a:xfrm>
            <a:off x="3048120" y="1828800"/>
            <a:ext cx="20574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685800" y="811080"/>
            <a:ext cx="7010280" cy="5360760"/>
            <a:chOff x="685800" y="811080"/>
            <a:chExt cx="7010280" cy="536076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85800" y="963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5029200" y="2868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4267080" y="4163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447920" y="3178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7"/>
            <a:stretch/>
          </p:blipFill>
          <p:spPr>
            <a:xfrm>
              <a:off x="5867280" y="1115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8"/>
            <a:stretch/>
          </p:blipFill>
          <p:spPr>
            <a:xfrm>
              <a:off x="3581280" y="811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9"/>
            <a:stretch/>
          </p:blipFill>
          <p:spPr>
            <a:xfrm>
              <a:off x="2438280" y="4925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828800" y="1066680"/>
            <a:ext cx="472428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оссия…                                                Как из песни слово,                       Березок юная листва,                    Кругом леса, поля и реки,         Раздолье, русская душа –             Люблю тебя, моя Россия,                      За ясный свет твоих очей,                    За голос звонкий как ручей.          Люблю, глубоко понимаю              Степей задумчивую грусть,           Люблю все то, что называют         Одним широким словом РУ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1937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31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1143000" y="60948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ово толкование символического смысла цветов российского флаг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4419720"/>
            <a:ext cx="6705360" cy="22269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– великодушие, благородство;                  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иний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-  верность, честность;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– мужество, смелость, кровь, пролитая за Отечеств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2362320" y="167652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"/>
          <p:cNvSpPr/>
          <p:nvPr/>
        </p:nvSpPr>
        <p:spPr>
          <a:xfrm>
            <a:off x="1295280" y="762120"/>
            <a:ext cx="5715000" cy="542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ловно крылья полотнище плещется, Отражая ветра напор,                     Символ нашего государства -           Флаг соцветия триколо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лый цвет – символ чистоты,             И свобода – полоской неба,                  И все это, как ты знаешь,              Обрамляет кровью побе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 горжусь тобой, символ Родины,       Что сумел в себя ты вобрать               И просторы свои, и историю,               И любовь, что дала нам м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.Попова, 16 л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"/>
          <p:cNvSpPr txBox="1"/>
          <p:nvPr/>
        </p:nvSpPr>
        <p:spPr>
          <a:xfrm>
            <a:off x="1600200" y="2133720"/>
            <a:ext cx="5410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685800" y="811080"/>
            <a:ext cx="7010280" cy="5360760"/>
            <a:chOff x="685800" y="811080"/>
            <a:chExt cx="7010280" cy="5360760"/>
          </a:xfrm>
        </p:grpSpPr>
        <p:pic>
          <p:nvPicPr>
            <p:cNvPr id="466" name="" descr=""/>
            <p:cNvPicPr/>
            <p:nvPr/>
          </p:nvPicPr>
          <p:blipFill>
            <a:blip r:embed="rId3"/>
            <a:stretch/>
          </p:blipFill>
          <p:spPr>
            <a:xfrm>
              <a:off x="685800" y="963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68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63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78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7"/>
            <a:stretch/>
          </p:blipFill>
          <p:spPr>
            <a:xfrm>
              <a:off x="5867280" y="1115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8"/>
            <a:stretch/>
          </p:blipFill>
          <p:spPr>
            <a:xfrm>
              <a:off x="3581280" y="811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9"/>
            <a:stretch/>
          </p:blipFill>
          <p:spPr>
            <a:xfrm>
              <a:off x="2438280" y="4925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"/>
          <p:cNvSpPr/>
          <p:nvPr/>
        </p:nvSpPr>
        <p:spPr>
          <a:xfrm>
            <a:off x="1066680" y="1295280"/>
            <a:ext cx="6324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Что означает слово «гимн»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05120" y="4267080"/>
            <a:ext cx="411480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Торжественная пес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78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"/>
          <p:cNvSpPr/>
          <p:nvPr/>
        </p:nvSpPr>
        <p:spPr>
          <a:xfrm>
            <a:off x="1143000" y="106668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огда в России появились новые слова гимна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3809880"/>
            <a:ext cx="3353040" cy="26712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2 августа 1991 г.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5 декабря 2000 г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декабря 1993 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1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4" dur="2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7" dur="2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685800" y="811080"/>
            <a:ext cx="7010280" cy="5360760"/>
            <a:chOff x="685800" y="811080"/>
            <a:chExt cx="7010280" cy="5360760"/>
          </a:xfrm>
        </p:grpSpPr>
        <p:pic>
          <p:nvPicPr>
            <p:cNvPr id="490" name="" descr=""/>
            <p:cNvPicPr/>
            <p:nvPr/>
          </p:nvPicPr>
          <p:blipFill>
            <a:blip r:embed="rId3"/>
            <a:stretch/>
          </p:blipFill>
          <p:spPr>
            <a:xfrm>
              <a:off x="685800" y="963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68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63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78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7"/>
            <a:stretch/>
          </p:blipFill>
          <p:spPr>
            <a:xfrm>
              <a:off x="5867280" y="1115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8"/>
            <a:stretch/>
          </p:blipFill>
          <p:spPr>
            <a:xfrm>
              <a:off x="3581280" y="811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9"/>
            <a:stretch/>
          </p:blipFill>
          <p:spPr>
            <a:xfrm>
              <a:off x="2438280" y="4925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"/>
          <p:cNvSpPr/>
          <p:nvPr/>
        </p:nvSpPr>
        <p:spPr>
          <a:xfrm>
            <a:off x="1143000" y="99072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то написал музыку и слова для гимна России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19720"/>
            <a:ext cx="487656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Музыку – композитор А.В.Александров,         слова – поэт С.В.Михал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143000" y="91440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ак слушают гимн на церемониях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3809880"/>
            <a:ext cx="4114800" cy="18003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Все встают, мужчины снимают головные уборы, военные отдают чес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1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1143000" y="91440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огда можно услышать гимн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2819520"/>
            <a:ext cx="5257800" cy="2653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ша страна встречает и провожает каждый новый день мелодией гимна. Гимн звучит, когда российские спортсмены завоевывают золотые меда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2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1828800" y="380880"/>
            <a:ext cx="4572000" cy="5785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Государственный гимн             Российской Федер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Россия – священная наша держава,              Россия – любимая наша страна.                   Могучая воля, великая слава -                         Твое достоянье на все времена!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Славься, Отечество наше свободное,               Братских народов союз вековой,                 Предками данная мудрость народная!     Славься, страна! Мы гордимся тобой!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От южных морей до полярного края    Раскинулись наши леса и поля.            Одна ты на свете! Одна ты такая -      Хранимая Богом родная земля!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Широкий простор для мечты и для жизни Грядущие нам открывают года.              Нам силу дает наша верность Отчизне.   Так было, так есть и так будет всегд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36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37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"/>
          <p:cNvSpPr/>
          <p:nvPr/>
        </p:nvSpPr>
        <p:spPr>
          <a:xfrm>
            <a:off x="1143000" y="1447920"/>
            <a:ext cx="6324480" cy="35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.А.Великородная, Классные часы по гражданскому и правовому воспитанию, М., «Вако», 2006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.И.Саляхова, Настольная книга классного руководителя, М., «Глобус», 200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685800" y="838080"/>
            <a:ext cx="7010280" cy="5360760"/>
            <a:chOff x="685800" y="838080"/>
            <a:chExt cx="7010280" cy="536076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685800" y="990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95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90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1447920" y="3205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"/>
            <a:stretch/>
          </p:blipFill>
          <p:spPr>
            <a:xfrm>
              <a:off x="5867280" y="1142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3581280" y="838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9"/>
            <a:stretch/>
          </p:blipFill>
          <p:spPr>
            <a:xfrm>
              <a:off x="2438280" y="4952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219320" y="83808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 называется страна, в которой мы живем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3962520"/>
            <a:ext cx="5639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зовите столицу нашего государ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133720"/>
            <a:ext cx="4114800" cy="9471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ссийская Федерация </a:t>
            </a: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или   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5334120"/>
            <a:ext cx="289548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ород Моск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219320" y="1600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езентацию подготовила О.М.Якушева, учитель математики Ломовской школы (Пермский край, г.Лысьва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1143000" y="380880"/>
            <a:ext cx="63244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нституция России – основной документ нашего государства. В Конституции записаны все законы, которые определяют жизнь страны, права и обязанности гражда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rcRect l="27926" t="9616" r="28718" b="0"/>
          <a:stretch/>
        </p:blipFill>
        <p:spPr>
          <a:xfrm>
            <a:off x="3200400" y="2971800"/>
            <a:ext cx="2058840" cy="3121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066680" y="2895480"/>
            <a:ext cx="6324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гда была принята Конституция Росс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4495680"/>
            <a:ext cx="3353040" cy="26712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2 августа 1991 г.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5 декабря 2000 г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декабря 1993 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2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143000" y="14479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зовите государственные символы Росси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191120"/>
            <a:ext cx="2895480" cy="18180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Фла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им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 txBox="1"/>
          <p:nvPr/>
        </p:nvSpPr>
        <p:spPr>
          <a:xfrm>
            <a:off x="1600200" y="1600200"/>
            <a:ext cx="5410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" descr=""/>
          <p:cNvPicPr/>
          <p:nvPr/>
        </p:nvPicPr>
        <p:blipFill>
          <a:blip r:embed="rId10"/>
          <a:srcRect l="3298" t="2904" r="65996" b="73204"/>
          <a:stretch/>
        </p:blipFill>
        <p:spPr>
          <a:xfrm>
            <a:off x="2286000" y="9144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10"/>
          <a:srcRect l="10933" t="3490" r="10933" b="7722"/>
          <a:stretch/>
        </p:blipFill>
        <p:spPr>
          <a:xfrm>
            <a:off x="2514600" y="83808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rcRect l="3298" t="2904" r="65996" b="73204"/>
          <a:stretch/>
        </p:blipFill>
        <p:spPr>
          <a:xfrm>
            <a:off x="2514600" y="6858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1143000" y="144792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означает слово «герб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4191120"/>
            <a:ext cx="289548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следств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14T17:13:2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