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A5A0-2D66-46CF-BCB2-289E0446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0A45-D4DC-40FC-BDF6-4080FC1C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F8D8-62DB-4597-9E1F-0F8B6384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2987-A945-47B3-AA9B-F3BDBC1A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F0AE-AF4C-46DB-80B7-AD19B550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D70C-97A0-4635-A54E-272F446E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A0C5-D265-4694-ADD7-8EF34E88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2496-131D-4974-B13B-344F8F70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C1AD-DCC3-4A79-B971-A89BEAB8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A7A6-65B0-49C7-8993-67695760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B4B3-C84B-4A24-80C8-B9F94F6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59C3-4197-4381-9B5E-A5FC3AFC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7CA0-5553-406D-85A3-EF6B092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3300-6DCD-4DDA-8C9B-369DDDE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3ADF-149E-497B-A837-F9EA0339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4BB3-F156-48EA-B2C6-98D93FF1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7BC2-433B-4923-A824-2DEF41F7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B92F-8438-4368-A740-AE6E93B3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E2A2-59CE-42EA-A73B-603C47ED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4831-0A9F-4D00-8EC8-D8F83A83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27C9-0999-41B9-BA79-792D7D12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6D77-135C-442E-9329-D289AE1E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610C-9410-4C7B-A8C4-B1E885AA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3102-11EC-40FD-9571-5B2FF37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1FD1-4C51-4BDC-9CEE-E60A9A424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5892-F3E3-4FDF-BA50-3AAB8302C6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429000">
            <a:off x="755640" y="260280"/>
            <a:ext cx="3755880" cy="5445360"/>
          </a:xfrm>
          <a:prstGeom prst="rect">
            <a:avLst/>
          </a:prstGeom>
          <a:ln w="38160">
            <a:solidFill>
              <a:srgbClr val="a886e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88000" y="836640"/>
            <a:ext cx="435600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нятие «обломовщин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840720" cy="6858000"/>
          </a:xfrm>
          <a:prstGeom prst="rect">
            <a:avLst/>
          </a:prstGeom>
          <a:ln w="6336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изнь обломовцев правдоподобна. Из неё, как из природы изъяты сильные движения. Поэтому воспитательный надзор за сыном сводится к ограждению его от ярких впечатлений, какого-нибудь напря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бломовской жизни нет места духов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динственная форма духовной жизни, доступная обломовцам, - причастность к миру сказки, легенды, миф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уховная жизнь такого рода культивирует созерцательность, бездейств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зки мифы зародили в душу Илюши страх перед жизнью, робость перед всем непонятным, внутреннюю скованн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ломовцы воспринимают труд как наказание, наложенное «ещё на праотцев наших», избавление от которого возможно и нуж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детства заложены в герое основы нравственного иждивенчества, предопределившие трагедию его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«Обломовщина… не вся происходит по нашей собственной вине, а от многих, от нас самих «не зависящих причин!» Она окружила нас как воздух, и мешала (и до сих пор мешает отчасти) идти твёрдо по пути своего назначения…  - это чётко понимал автор роман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В романе видно знамение времени, это знамение называется </a:t>
            </a: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обломовщина.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Оно служит ключом к разгадке многих явлений русской жизн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5280" y="189000"/>
            <a:ext cx="4824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ка останется хоть один русский, - до тех пор будут помнить «Обломова».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И.С.Тургенев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1844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бсуждение главы 9 ром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Более полно предстаёт перед нами главный герой. И вдруг среди всего этого повествования автор нас переносит в «райский уголок».  Роман «Обломов» - роман родившийся из сна. Мы сталкиваемся с интересным явлением: перед нами не само сновидение, а произведение, написанное по мотивам с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1-я часть сн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Где мы? В какой благословенный уголок земли перенёс нас сон Обломова? Что за чудесный рай? Что же снится Илье Ильичу Обломову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Краткий пересказ 9 главы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11744" r="0" b="0"/>
          <a:stretch/>
        </p:blipFill>
        <p:spPr>
          <a:xfrm>
            <a:off x="0" y="907920"/>
            <a:ext cx="9144000" cy="820908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Зачитайте описание утра, приснившегося Обломову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ов полдень, вечер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 вы думаете, почему так подробны пейзажные зарисовки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С какой целью автор использует пейзаж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18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Физминут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И.П. стоя, руки на поясе. Поднять плечи вверх, опустить.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6 р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И.п. стоя, руки согнуты в локтях. Разведение и сведение рук.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6 р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И.п. сидя. Сгибание и разгибание пальцев рук и ног одновременно.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10 р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И.п. сидя. Различные похлопывания по коленкам и в ладоши.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10 ра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Сосредоточить внимание на сидящем впереди соседе, перевести взгляд на доску (упражнение для глаз и на внимание).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3 р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2-я часть сна. Прекрасная стран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ов переход от первой части сна ко второй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им предстаёт перед нами Илюша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3-я часть сна. Обломову 13-14 лет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ов здесь механизм связки частей?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Что происходит далее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Обломовка – родовое имение героя.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Какими предстают перед нами Обломовка и её жители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Зачитайте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5:19:27Z</dcterms:created>
  <dc:creator>pupil5</dc:creator>
  <dc:description/>
  <dc:language>en-US</dc:language>
  <cp:lastModifiedBy>pupil5</cp:lastModifiedBy>
  <dcterms:modified xsi:type="dcterms:W3CDTF">2010-12-10T08:54:13Z</dcterms:modified>
  <cp:revision>4</cp:revision>
  <dc:subject/>
  <dc:title>Понятие «обломовщина»</dc:title>
</cp:coreProperties>
</file>