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6CC4-67D9-40BC-BCC1-46CDD031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A20B-A4B4-4947-97BB-2E51FCF4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7FA5-4F9B-4336-A2F5-FEB66071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1211-49B7-44EB-B840-10DA9D9A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5B09-5EB0-4E01-A1A2-2FEE3962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6D24-CC51-41B1-9B5D-86B096A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781F-CE7B-4D9F-BD0C-BA1EFF6C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A395-2AF6-4B7C-A758-3768C30F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2BAA-A864-42C2-BEA3-7CA3AB8E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15E8-BC2A-4255-9A2A-801A5FC9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E834-D4D8-40BA-B608-B1D54B81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D180-574A-47D4-9A7E-DD1A585D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38A-0CF1-4E17-BEAD-2B07F743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368C-228F-4219-B0D0-11C56CF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B932-B79E-42E0-9735-DB652678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9D24-CAA7-4CEF-971C-B64EA959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739E-CCD3-4439-A15D-4585A07E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9D3E-932E-4859-8626-7DED33FC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0446-801D-491F-8803-4F16F465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A3D1-5B2D-479E-9B82-59D9AB16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4C93-EFFE-4AB5-AB73-1DD0F541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9430-2D00-4A9C-BB74-4415635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3EEE-A159-4C49-AF2C-C74FF25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7A83-516D-4A2B-9F24-3A80DFA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B1CD-37F8-4ACD-B7C9-248E459FDE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5FB2-02DD-4F9D-85E2-1D0ACE58E9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429000">
            <a:off x="755640" y="260280"/>
            <a:ext cx="3755880" cy="544536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88000" y="836640"/>
            <a:ext cx="435600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нятие «обломовщин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840720" cy="6858000"/>
          </a:xfrm>
          <a:prstGeom prst="rect">
            <a:avLst/>
          </a:prstGeom>
          <a:ln w="633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изнь обломовцев правдоподобна. Из неё, как из природы изъяты сильные движения. Поэтому воспитательный надзор за сыном сводится к ограждению его от ярких впечатлений, какого-нибудь напря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бломовской жизни нет места духов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динственная форма духовной жизни, доступная обломовцам, - причастность к миру сказки, легенды, миф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уховная жизнь такого рода культивирует созерцательность, бездейств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зки мифы зародили в душу Илюши страх перед жизнью, робость перед всем непонятным, внутреннюю скованн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ломовцы воспринимают труд как наказание, наложенное «ещё на праотцев наших», избавление от которого возможно и нуж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детства заложены в герое основы нравственного иждивенчества, предопределившие трагедию его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«Обломовщина… не вся происходит по нашей собственной вине, а от многих, от нас самих «не зависящих причин!» Она окружила нас как воздух, и мешала (и до сих пор мешает отчасти) идти твёрдо по пути своего назначения…  - это чётко понимал автор роман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В романе видно знамение времени, это знамение называется </a:t>
            </a: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обломовщина.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Оно служит ключом к разгадке многих явлений русской жизн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5280" y="189000"/>
            <a:ext cx="4824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ка останется хоть один русский, - до тех пор будут помнить «Обломова»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И.С.Тургенев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1844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бсуждение главы 9 ром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Более полно предстаёт перед нами главный герой. И вдруг среди всего этого повествования автор нас переносит в «райский уголок».  Роман «Обломов» - роман родившийся из сна. Мы сталкиваемся с интересным явлением: перед нами не само сновидение, а произведение, написанное по мотивам с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1-я часть сн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Где мы? В какой благословенный уголок земли перенёс нас сон Обломова? Что за чудесный рай? Что же снится Илье Ильичу Обломову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Краткий пересказ 9 главы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11744" r="0" b="0"/>
          <a:stretch/>
        </p:blipFill>
        <p:spPr>
          <a:xfrm>
            <a:off x="0" y="907920"/>
            <a:ext cx="9144000" cy="820908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Зачитайте описание утра, приснившегося Обломову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ов полдень, вечер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 вы думаете, почему так подробны пейзажные зарисовки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С какой целью автор использует пейзаж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18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Физминут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И.П. стоя, руки на поясе. Поднять плечи вверх, опустить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6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И.п. стоя, руки согнуты в локтях. Разведение и сведение рук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6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И.п. сидя. Сгибание и разгибание пальцев рук и ног одновременно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10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И.п. сидя. Различные похлопывания по коленкам и в ладоши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10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Сосредоточить внимание на сидящем впереди соседе, перевести взгляд на доску (упражнение для глаз и на внимание).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3 р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2-я часть сна. Прекрасная стран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ов переход от первой части сна ко второй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им предстаёт перед нами Илюша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3-я часть сна. Обломову 13-14 лет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ов здесь механизм связки частей?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Что происходит далее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Обломовка – родовое имение героя.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ими предстают перед нами Обломовка и её жители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Зачитайте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5:19:27Z</dcterms:created>
  <dc:creator>pupil5</dc:creator>
  <dc:description/>
  <dc:language>en-US</dc:language>
  <cp:lastModifiedBy>pupil5</cp:lastModifiedBy>
  <dcterms:modified xsi:type="dcterms:W3CDTF">2010-12-10T08:54:13Z</dcterms:modified>
  <cp:revision>4</cp:revision>
  <dc:subject/>
  <dc:title>Понятие «обломовщина»</dc:title>
</cp:coreProperties>
</file>