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0.jpeg" ContentType="image/jpeg"/>
  <Override PartName="/ppt/media/image1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camera.wav" ContentType="audio/x-wav"/>
  <Override PartName="/ppt/media/chimes.wav" ContentType="audio/x-wav"/>
  <Override PartName="/ppt/media/image21.jpeg" ContentType="image/jpeg"/>
  <Override PartName="/ppt/media/image3.jpeg" ContentType="image/jpeg"/>
  <Override PartName="/ppt/media/image24.jpeg" ContentType="image/jpeg"/>
  <Override PartName="/ppt/media/projctor.wav" ContentType="audio/x-wav"/>
  <Override PartName="/ppt/media/image1.png" ContentType="image/png"/>
  <Override PartName="/ppt/media/image1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EC98-3DF5-4792-ADCB-0AB92413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429B-0F92-40A8-B945-9E5692E9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1157-0025-4C26-9079-2E7FF954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E6D-368C-455C-80B4-FD70C3A4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615A-2725-4980-AF32-FC46C3A1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60A6-5032-483B-B2A2-A9B8D620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FC93-CC8E-4E55-8FD3-A1A48FBC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4C9A-3986-456C-B689-917D2854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30D3-3426-42EE-B39F-EB782697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8126-4225-4136-9B12-CCB23E8E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7D1E-8E99-4476-B814-A77A6BB6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9FEA-A2B3-4FF6-9F09-2588FC55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68C7-F987-44FA-BAE0-9B57A618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6874-7E79-4363-A7B7-9BDCF840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B2D1-436D-4610-A4E6-60093031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8E53-2889-4703-A1AA-DF857768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CC90-CEEF-46E9-A5C2-E9C700A1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EBB-FBAB-4E57-9AE7-FD8D32BD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D5A-280D-4AF9-8C4E-E8F0E5A3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4A2-ED1F-489A-9D04-1E4F7A71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661-2BF1-44E6-A582-5EA3D939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1425-293E-4A02-BF4B-00EAC404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5514-C7C8-4479-8415-6E672CD8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2DD-1E23-412D-864E-1DD6A3B5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4490-9088-4B8A-9336-28968D136640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BDBF-CB32-485E-BB6E-1530B4D40E87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6172200" cy="60958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2590920" y="2784600"/>
            <a:ext cx="37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83ad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990099"/>
                </a:solidFill>
                <a:latin typeface="Times New Roman"/>
              </a:rPr>
              <a:t>ЖАНРЫ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990099"/>
                </a:solidFill>
                <a:latin typeface="Times New Roman"/>
              </a:rPr>
              <a:t>ЖИВОПИСИ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Bookman Old Style"/>
              </a:rPr>
              <a:t>ГОРОДСКОЙ ПЕЙЗАЖ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Городской пейзаж – изображение города (зданий, мостов, городских парков, улиц, набережных)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3962520" cy="31240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-144720" y="5611680"/>
            <a:ext cx="476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aramond"/>
              </a:rPr>
              <a:t>Ф. Алексеев.</a:t>
            </a:r>
            <a:r>
              <a:rPr b="0" lang="ru-RU" sz="1800" spc="-1" strike="noStrike">
                <a:solidFill>
                  <a:srgbClr val="333399"/>
                </a:solidFill>
                <a:latin typeface="Garamond"/>
              </a:rPr>
              <a:t> Вид на Воскресенские и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Garamond"/>
              </a:rPr>
              <a:t>Никольские ворота и Неглинный мост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Garamond"/>
              </a:rPr>
              <a:t>от Тверской улицы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Bookman Old Style"/>
              </a:rPr>
              <a:t>СЕЛЬСКИЙ ПЕЙЗАЖ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ельский пейзаж – изображение деревень и сёл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астера сельского пейзажа – И.Левитан, К. Юон, А.Куинджи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4267080" cy="31240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-140400" y="5610240"/>
            <a:ext cx="451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И. Левитан.</a:t>
            </a: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 Саввинская слобода под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Звенигородом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Bookman Old Style"/>
              </a:rPr>
              <a:t>МОРСКОЙ ПЕЙЗАЖ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Очень часто морской пейзаж называют «мариной»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амым знаменитым русским маринистом был И.К. Айвазовский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380880" y="2514600"/>
            <a:ext cx="4191120" cy="3124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-41400" y="5587920"/>
            <a:ext cx="40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aramond"/>
              </a:rPr>
              <a:t>И.Айвазовский.</a:t>
            </a:r>
            <a:r>
              <a:rPr b="0" lang="en-US" sz="2000" spc="-1" strike="noStrike">
                <a:solidFill>
                  <a:srgbClr val="333399"/>
                </a:solidFill>
                <a:latin typeface="Garamond"/>
              </a:rPr>
              <a:t> Девятый вал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Bookman Old Style"/>
              </a:rPr>
              <a:t>КАРТИНЫ «ЧИСТОЙ» ПРИРОДЫ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артины «чистой» природы </a:t>
            </a:r>
            <a:r>
              <a:rPr b="0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( И.Шишкин, И. Левитан, А. Куин -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джи; К. Юон; А. Саврасов)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679920" cy="41148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03480" y="606888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Ф. Васильев.</a:t>
            </a: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 После грозы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064120" cy="60958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828800" y="3733920"/>
            <a:ext cx="335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Bookman Old Style"/>
              </a:rPr>
              <a:t>ИНТЕРЬЕР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622840" y="498600"/>
            <a:ext cx="3521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Жанр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нтерьера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освящён изображению внутреннего пространства зданий или помещений – с их убранством, мебелью и вещами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Мастера изображения интерьера – Питер де Хох, Я. Вермеер, Г. Сорока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России развитие жанра связано с именем А. Г. Венецианова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Bookman Old Style"/>
              </a:rPr>
              <a:t>ИНТЕРЬЕР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190760" cy="44960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128240" y="6121440"/>
            <a:ext cx="58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333399"/>
                </a:solidFill>
                <a:latin typeface="Garamond"/>
              </a:rPr>
              <a:t>Ф. Решетников.</a:t>
            </a:r>
            <a:r>
              <a:rPr b="0" lang="en-US" sz="2000" spc="-1" strike="noStrike">
                <a:solidFill>
                  <a:srgbClr val="333399"/>
                </a:solidFill>
                <a:latin typeface="Garamond"/>
              </a:rPr>
              <a:t> Уголок мастерской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3659040" y="533520"/>
            <a:ext cx="5104080" cy="60958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0" y="15652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АНИМАЛИСТИЧЕСКИЙ ЖАНР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94040" y="2185920"/>
            <a:ext cx="34448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Это изображение животных «анимал» (лат.) « животное»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Этот жанр возник ещё у первобытных художников. Они изображали сцены охоты на оленей, мамонтов, бизонов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В Россию анималистический жанр пришёл лишь в 19 веке.  </a:t>
            </a: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Художники :Суриков, А. Дюрер, В. Ватагин, В. Сутеев, Е. Чарушин. 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2971800" cy="32004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07720" y="589104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Garamond"/>
              </a:rPr>
              <a:t>А. Дюрер.</a:t>
            </a:r>
            <a:r>
              <a:rPr b="0" lang="en-US" sz="2000" spc="-1" strike="noStrike">
                <a:solidFill>
                  <a:srgbClr val="333399"/>
                </a:solidFill>
                <a:latin typeface="Garamond"/>
              </a:rPr>
              <a:t> Кролик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050080" cy="60958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117880" y="1717560"/>
            <a:ext cx="672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Bookman Old Style"/>
              </a:rPr>
              <a:t>ИСТОРИЧЕСКИЙ ЖАНР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65240" y="2643120"/>
            <a:ext cx="3368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Это  изображение жизни людей прошлого, конкретного исторического события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Быть историческим живописцем очень непросто. Нужно хорошо знать изображаемую эпоху, детали и приметы того времени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Художники: К. Брюллов, В. Суриков, А. Иванов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5322600" y="5816520"/>
            <a:ext cx="33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В. Суриков.</a:t>
            </a:r>
            <a:r>
              <a:rPr b="0" lang="ru-RU" sz="20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Garamond"/>
              </a:rPr>
              <a:t>Меньшиков в Берёзовке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1600" y="6056280"/>
            <a:ext cx="179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К. Брюллов. Фрагменты 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картины «Последний 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день Помпеи».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034240" cy="60958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67560" y="3618000"/>
            <a:ext cx="152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83ad"/>
                </a:solidFill>
                <a:latin typeface="Times New Roman"/>
              </a:rPr>
              <a:t>Г. Метсю. 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83ad"/>
                </a:solidFill>
                <a:latin typeface="Times New Roman"/>
              </a:rPr>
              <a:t>Девушка за работой.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5400" y="5827680"/>
            <a:ext cx="122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А. Венецианов. 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Жнецы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17002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Bookman Old Style"/>
              </a:rPr>
              <a:t>БЫТОВОЙ ЖАНР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05120" y="2643120"/>
            <a:ext cx="3429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Он изображает разные стороны жизни человека: труд и отдых, праздники и будни, забавы и серьёзные занятия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Сформировался в 16 веке  в Европе ( Голландии). В России активно развивался в 19 веке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Художники : А. Венецианов, П. Фёдоров, И.Репин, В. Маковский, Б. Кустодиев,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715000" y="2666880"/>
            <a:ext cx="2895480" cy="35053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5438160" y="6221520"/>
            <a:ext cx="27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Ф. Решетников.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Прибыл на каникулы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5114880" cy="60958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17680" y="1600200"/>
            <a:ext cx="83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6666"/>
                </a:solidFill>
                <a:latin typeface="Bookman Old Style"/>
              </a:rPr>
              <a:t>БАТАЛЬНЫЙ ЖАНР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4572000" y="4038480"/>
            <a:ext cx="4267080" cy="25146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2477880" y="4087800"/>
            <a:ext cx="232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В. Суриков.</a:t>
            </a: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Переход Суворова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через Альпы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12440" y="568800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Верещагин.</a:t>
            </a: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Апофеоз войны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7000" y="1981080"/>
            <a:ext cx="855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Он посвящён сценам сражений и военным походам.</a:t>
            </a: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 Сложился в Древнем Риме. От художника требуется точность в показе событий, обмундировании, оружия. « Батай» (фран). « битва»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В России одним из самых замечательных баталистов был </a:t>
            </a: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В. Вере-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щагин, а также В. Суриков</a:t>
            </a: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657600" y="533520"/>
            <a:ext cx="5105520" cy="60958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87036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795120" y="4006800"/>
            <a:ext cx="31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НАТЮРМОРТ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6440" y="509760"/>
            <a:ext cx="33688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Это изображение различных предметов, вещей</a:t>
            </a:r>
            <a:r>
              <a:rPr b="0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( домашней утвари, музыкальных инструментов, цветов, фруктов, овощей, дичи) и других неодушевленных предметов. В переводе с французского « мертвая тишина»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Возник этот жанр в Голландии и Испании в 17 веке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Известные художники этого жанра: Б. Кустодиев, В.Перов, И. Грабарь,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К. Коровин, Ж. Б. С. Шарден, Питер Класс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106960" cy="60958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432080" y="1793880"/>
            <a:ext cx="733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14400" y="1641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Bookman Old Style"/>
              </a:rPr>
              <a:t>МИФОЛОГИЧЕСКИЙ ЖАНР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09680" y="2338560"/>
            <a:ext cx="327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Начало мифологическому жанру было положено в Древней Греции. </a:t>
            </a: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Это изображение картин на сюжеты античных мифов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В России он развился лишь в 19 веке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Художники: Сандро Боттичелли, М. Врубель, В. Васнецов</a:t>
            </a: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5410080" y="3048120"/>
            <a:ext cx="3505320" cy="27432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5140440" y="589284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aramond"/>
              </a:rPr>
              <a:t>Васнецов.</a:t>
            </a:r>
            <a:r>
              <a:rPr b="0" lang="en-US" sz="2000" spc="-1" strike="noStrike">
                <a:solidFill>
                  <a:srgbClr val="333399"/>
                </a:solidFill>
                <a:latin typeface="Garamond"/>
              </a:rPr>
              <a:t> Три богатыря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5040" y="6324480"/>
            <a:ext cx="181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С. Боттичелли. Весна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3630600" y="533520"/>
            <a:ext cx="5208480" cy="60958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365040" y="1641600"/>
            <a:ext cx="573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Bookman Old Style"/>
              </a:rPr>
              <a:t>РЕЛИГИОЗНЫЙ ЖАНР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70360" y="3100320"/>
            <a:ext cx="4816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Arial"/>
              </a:rPr>
              <a:t>В основе его темы и сюжеты Библии, священной книги христиан</a:t>
            </a:r>
            <a:r>
              <a:rPr b="0" lang="en-US" sz="1800" spc="-1" strike="noStrike">
                <a:solidFill>
                  <a:srgbClr val="333399"/>
                </a:solidFill>
                <a:latin typeface="Garamond"/>
                <a:ea typeface="Arial"/>
              </a:rPr>
              <a:t>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Garamond"/>
                <a:ea typeface="Arial"/>
              </a:rPr>
              <a:t>Художники расписывали в храмах и монастырях стены, украшали культовую архитектуру скульптурой и орнаментом, выполняли миниатюры в церковных книгах, вырезали и расписывали алтари,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Garamond"/>
                <a:ea typeface="Arial"/>
              </a:rPr>
              <a:t>писали иконы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Arial"/>
              </a:rPr>
              <a:t>Иконы – это картины, изображающие сюжеты из Библии, христианских святых, их жизнь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Arial"/>
              </a:rPr>
              <a:t>Известные художники: Леонардо да Винчи, А. Рублёв.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2895480" cy="32004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40680" y="621972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А. Рублёв.</a:t>
            </a: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 Святая Троица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Bookman Old Style"/>
              </a:rPr>
              <a:t>НАТЮРМОРТ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676520" y="1565280"/>
            <a:ext cx="5943600" cy="39211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-197640" y="5692680"/>
            <a:ext cx="84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333399"/>
                </a:solidFill>
                <a:latin typeface="Garamond"/>
              </a:rPr>
              <a:t>Питер Класс</a:t>
            </a:r>
            <a:r>
              <a:rPr b="0" lang="en-US" sz="2400" spc="-1" strike="noStrike">
                <a:solidFill>
                  <a:srgbClr val="333399"/>
                </a:solidFill>
                <a:latin typeface="Garamond"/>
              </a:rPr>
              <a:t> (Голландия). Завтрак с ветчиной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Bookman Old Style"/>
              </a:rPr>
              <a:t>НАТЮРМОРТ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191120" cy="44197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693360" y="6100920"/>
            <a:ext cx="73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А.Головин.</a:t>
            </a:r>
            <a:r>
              <a:rPr b="0" lang="en-US" sz="2800" spc="-1" strike="noStrike">
                <a:solidFill>
                  <a:srgbClr val="333399"/>
                </a:solidFill>
                <a:latin typeface="Garamond"/>
              </a:rPr>
              <a:t> Натюрморт. Цветы в вазе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581280" y="457200"/>
            <a:ext cx="5181840" cy="6172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887280" y="4038480"/>
            <a:ext cx="263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ПОРТРЕТ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6440" y="509760"/>
            <a:ext cx="3368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aramond"/>
                <a:ea typeface="Arial"/>
              </a:rPr>
              <a:t>Это изображение человека или группы людей</a:t>
            </a:r>
            <a:r>
              <a:rPr b="0" lang="en-US" sz="2400" spc="-1" strike="noStrike">
                <a:solidFill>
                  <a:srgbClr val="333399"/>
                </a:solidFill>
                <a:latin typeface="Garamond"/>
                <a:ea typeface="Arial"/>
              </a:rPr>
              <a:t>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aramond"/>
                <a:ea typeface="Arial"/>
              </a:rPr>
              <a:t>Искусство портрета  родилось несколько тысяч лет назад в Древнем Египте, Древней Греции, Древнем Риме. Основное качество портрета – сходство с оригиналом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Garamond"/>
              </a:rPr>
              <a:t>ПАРАДНЫЙ ПОРТРЕТ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Парадные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ртреты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 –</a:t>
            </a:r>
            <a:r>
              <a:rPr b="0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посвящены общественному деятелю. Их заказывает человек. 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(В. Боровиковский, А. Герасимов)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5985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Garamond"/>
              </a:rPr>
              <a:t>                </a:t>
            </a:r>
            <a:r>
              <a:rPr b="1" lang="en-US" sz="1600" spc="-1" strike="noStrike">
                <a:solidFill>
                  <a:srgbClr val="333399"/>
                </a:solidFill>
                <a:latin typeface="Garamond"/>
              </a:rPr>
              <a:t>А.Герасимов.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Garamond"/>
              </a:rPr>
              <a:t>                </a:t>
            </a:r>
            <a:r>
              <a:rPr b="0" lang="en-US" sz="1600" spc="-1" strike="noStrike">
                <a:solidFill>
                  <a:srgbClr val="333399"/>
                </a:solidFill>
                <a:latin typeface="Garamond"/>
              </a:rPr>
              <a:t>Портрет балерины О. В. Лепешинской.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968400" y="1981080"/>
            <a:ext cx="3244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Bookman Old Style"/>
              </a:rPr>
              <a:t>КАМЕРНЫЙ ПОРТРЕТ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</a:t>
            </a:r>
            <a:r>
              <a:rPr b="1" lang="en-US" sz="2800" spc="-1" strike="noStrike">
                <a:solidFill>
                  <a:srgbClr val="333399"/>
                </a:solidFill>
                <a:latin typeface="Garamond"/>
                <a:ea typeface="Arial"/>
              </a:rPr>
              <a:t>амерны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333399"/>
                </a:solidFill>
                <a:latin typeface="Garamond"/>
                <a:ea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ортреты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333399"/>
                </a:solidFill>
                <a:latin typeface="Garamond"/>
                <a:ea typeface="Arial"/>
              </a:rPr>
              <a:t>предназначен для небольших помещений, на них изображаются простые люди.(</a:t>
            </a:r>
            <a:r>
              <a:rPr b="1" lang="en-US" sz="2800" spc="-1" strike="noStrike">
                <a:solidFill>
                  <a:srgbClr val="333399"/>
                </a:solidFill>
                <a:latin typeface="Garamond"/>
                <a:ea typeface="Arial"/>
              </a:rPr>
              <a:t>А. Венецианов, В. Серов, И. Крамской).</a:t>
            </a:r>
            <a:r>
              <a:rPr b="0" lang="en-US" sz="2800" spc="-1" strike="noStrike">
                <a:solidFill>
                  <a:srgbClr val="333399"/>
                </a:solidFill>
                <a:latin typeface="Garamond"/>
                <a:ea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915840" y="1981080"/>
            <a:ext cx="3349800" cy="411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465840" y="6068880"/>
            <a:ext cx="41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И. Репин.</a:t>
            </a: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 Портрет Нади Репиной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Bookman Old Style"/>
              </a:rPr>
              <a:t>АВТОПОРТРЕТ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Автопортреты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- </a:t>
            </a:r>
            <a:r>
              <a:rPr b="0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изображение художником самого себя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( Рембрант</a:t>
            </a:r>
            <a:r>
              <a:rPr b="0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ван Рейн, Леонардо да Винчи, В. Тропинин)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019160" y="1981080"/>
            <a:ext cx="3143160" cy="4114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471240" y="6167520"/>
            <a:ext cx="525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Garamond"/>
              </a:rPr>
              <a:t>В.Тропинин.</a:t>
            </a:r>
            <a:r>
              <a:rPr b="0" lang="ru-RU" sz="1600" spc="-1" strike="noStrike">
                <a:solidFill>
                  <a:srgbClr val="333399"/>
                </a:solidFill>
                <a:latin typeface="Garamond"/>
              </a:rPr>
              <a:t> Автопортрет с палитрой и кистями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Garamond"/>
              </a:rPr>
              <a:t>на фоне окна с видом на Кремль.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622680" y="457200"/>
            <a:ext cx="5216400" cy="61722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962520" y="3429000"/>
            <a:ext cx="309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Bookman Old Style"/>
              </a:rPr>
              <a:t>ПЕЙЗАЖ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36440" y="509760"/>
            <a:ext cx="336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aramond"/>
                <a:ea typeface="Arial"/>
              </a:rPr>
              <a:t>Это изображение природы «пайс» (фран.) «природа».</a:t>
            </a:r>
            <a:r>
              <a:rPr b="0" lang="ru-RU" sz="2400" spc="-1" strike="noStrike">
                <a:solidFill>
                  <a:srgbClr val="333399"/>
                </a:solidFill>
                <a:latin typeface="Garamond"/>
                <a:ea typeface="Arial"/>
              </a:rPr>
              <a:t> Самостоятельным жанром его сделали  голландские  художники  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Garamond"/>
                <a:ea typeface="Arial"/>
              </a:rPr>
              <a:t>14 – 15 веке; в русском искусстве – во второй половине 19 века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4:03:44Z</dcterms:created>
  <dc:creator>з.к</dc:creator>
  <dc:description/>
  <dc:language>en-US</dc:language>
  <cp:lastModifiedBy>Elena</cp:lastModifiedBy>
  <dcterms:modified xsi:type="dcterms:W3CDTF">2009-08-11T20:17:13Z</dcterms:modified>
  <cp:revision>4</cp:revision>
  <dc:subject/>
  <dc:title>Презентация PowerPoint</dc:title>
</cp:coreProperties>
</file>