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116-14E7-48A5-B4E7-8DC90354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593-2818-469D-A067-F17817C6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C0E-BF14-4795-A35E-05129D80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C67-B783-40D1-BC12-EC5A4EA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26E-54AA-4E05-8AD5-332B650B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2512-F233-4C7A-A838-3DD670B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FFBA-6363-420E-ABFE-B137FB0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3933-4072-45E6-9910-56991D0D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1BC-5BB9-4052-B01A-1D979E0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3D3-5EB9-4F17-97E0-A2E1CBF5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6DC0-D595-4A8E-B7C3-A29DD2E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E3A-E7A0-432E-896E-DC63425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B988-5420-423C-AC4A-9CE6D68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4A70-E90B-4205-A8B1-356F270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DED4-3AA6-47A6-8166-7CEEDAA1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1314-1467-4614-BBFA-BAAFE2D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356B-F9B8-4587-8E02-3F255F8D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D04-7CF2-4990-AFBF-5D0E8FAF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A37-2EF5-4828-B6EC-5016C3C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709-C7C5-44FE-9A2D-DB846CD5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0CA-111B-4DE5-BA69-191F8B85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91B-3493-433D-A8D9-E5867B5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B1D-6E7D-4A3A-B6DC-9EC29AA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2A0-0043-492C-8323-E60D252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BCF7-6E9D-4575-8849-34D355AA1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DAB-D82D-470E-92A1-7C498CB6592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1752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труктура общества и её элемент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человеческая общность, объединение людей, наделенных волей и сознание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объединение людей, взаимодействующих между собой по поводу удовлетворения значимых для них потребностей. Общество – результат взаимодействия люд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это не эпизодическое и случайное, а устойчивое и постоянное взаимодействие индивидов, объединенных на основе объективно сложившегося всеобщего интереса и порожденных им единых социальных цел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характеризуется наличием публичной власти в лице законодательных, исполнительных, судебных органов, а также норм права, способных облегчить упорядочение социальных взаимодействий на определенной территории, защиту населения от внешней угроз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социокультурная система. Регуляция и согласование общезначимых и индивидуальных интересов и потребностей в рамках единого общества невозможны без общей системы ценностей, именуемой культуро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онятие «общество»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стойчивое  и саморазвивающееся объединение людей, связанных между собой общим интересом и взаимодействующих друг с другом на основе общеобязательных норм и ценностей в целях удовлетворения индивидуальных потребност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динение людей, не являющихся частью другой более крупной системы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Заключение браков между представителями данного объедин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оспроизводство общества за счет деторожд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динение людей, имеющее свою территорию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личие собственного названия и историю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щая система ценностей (обычаи, традиции, нормы, законы, нравы), называемая культурой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личие собственной системы управл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одолжительность существования объединения во времени дольше средней продолжительности жизни отдельного индивид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пишите общество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зва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Территор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иод существова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рганы власти и управ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ычаи, традиции, законы, нормы, достижения культуры (достопримечательности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Элементы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социальной структуры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2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Сферы общественной жизн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Экономическ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олитическ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оциальн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Духовн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Социальные институ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емь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Государст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роизводст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Образован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Религия</a:t>
            </a: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циальный институ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совокупность людей, групп, учреждений, деятельность которых направле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полнение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конкретных общественных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ункций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дл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довлетворения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важнейших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требностей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людей и регулируемых сводом социальных норм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Учениче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бщество книголюбов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портив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бщество потребителей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антич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феодаль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ндий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овет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человеческое общество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бщество – 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динамическая систе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обытное – рабовладельческ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Язычество – вера в единого бога (монотеиз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ваивающее хозяйство – производяще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туральное хозяйство – товарное хозяй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андная экономика – рыночная эконом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ная монархия – абсолютизм – парламентариз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евнерусское государство - Московское государство - Российская империя - Советская Россия - Российская Федерац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заимосвязь институто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осударство – семь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номика – государств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зование – экономи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лигия - государств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заимодействие элементов социальной структур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требности и интересы побуждают людей объединяться в группы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ля осуществления потребностей групп люди создают социальные институты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оциальные институты определяют ту или иную социальную роль индивидов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порядоченность социальных связей  обусловлена наличием норм и ценносте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мировое сообщество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объединение людей, народов, государств нашей планеты, имеющих общие цели и интересы, связанные с сохранением человеческой цивилизации и решением глобальных проблем современ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ипология общест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исьменные и дописьменны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остые и сложны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хотников и собирателей, огородничества, земледельцев и скотоводов; промышленн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ервобытное, рабовладельческое, феодальное, капиталистическое, коммунистическо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адиционное, индустриальное, информационн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К какому типу общества относятся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даптация к природным условиям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рбанизац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едущие информационные и человеческие ресурс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елигия охватывает все сферы общественной жизн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ление общества на класс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втоматизированные и компьютеризированные системы и коммуникац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84360" y="1844640"/>
            <a:ext cx="33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1.«Непрерывность» исторического процесса, отсутствие явных – граней между историческими эпохами, резких сдвигов и толч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859280" y="1844640"/>
            <a:ext cx="33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1.История движется неравномерно, «скачками», разрывы между эпохами очевидны, часто это революции разных тип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55640" y="184464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2.Неприменимость европейской концепции линейного прогресса к характеристике особенностей историческ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5003640" y="184464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2.Общественно-исторический прогресс достаточно очевиден и может быть «измерен» посредством разных критерие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6920" y="184464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3.Тип отношений общества и природы построен не на принципе победы над ней, а на идее слияния с н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716360" y="1773360"/>
            <a:ext cx="33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3.Общество стремиться властвовать над природой, подчиняя ее и извлекая из нее максимально возможн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6920" y="1762200"/>
            <a:ext cx="32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4.Основа экономической системы- общинно-государственные формы собственности при слабом развитии института частной собствен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859280" y="1844640"/>
            <a:ext cx="34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4.Основа экономики- институт достигшей высокого развития частной собственности. Право собственности рассматривается как естественное и неотъемлем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енная групп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юдей, объединившихся для общения и совместного выполнения какой-либо деятельности (общество книголюбов, общество автомобилистов и т.д.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енный этап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торического развития человечества или конкретной страны (первобытное общество, феодальное общество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ецифические особенности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жизни одной страны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японское общество, светское общество, французское общест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 rot="5400000">
            <a:off x="4662000" y="2655360"/>
            <a:ext cx="360360" cy="6659640"/>
          </a:xfrm>
          <a:custGeom>
            <a:avLst/>
            <a:gdLst>
              <a:gd name="textAreaLeft" fmla="*/ 0 w 360360"/>
              <a:gd name="textAreaRight" fmla="*/ 129960 w 36036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2484360" y="6237360"/>
            <a:ext cx="482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10bc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узком смысле</a:t>
            </a:r>
            <a:endParaRPr b="0" lang="en-US" sz="2400" spc="1" strike="noStrike">
              <a:ln w="0">
                <a:noFill/>
              </a:ln>
              <a:solidFill>
                <a:srgbClr val="210bc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6920" y="1844640"/>
            <a:ext cx="30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5.Уровень социальной мобильности невысок, границы между социальными общностями(кастами, сословиями) устойчив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932360" y="177336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5.Социальная мобильность населения высока, возможности социальных перемещений практически неограничен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755640" y="176220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6.Государство подчиняет себе общество, общества и его контроля не существу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932360" y="176220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6.Общество автономно от государства, сложилось развитое гражданск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1484280"/>
            <a:ext cx="374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7.Принцип автономии свободной от государства и социальных общностей личности отсутствует. Человек стремиться включиться в существующую систему социальных общностей и «раствориться» в н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859280" y="1484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7.Автономия, свободы и права личности закреплены конституционно в качестве неотъемлемых и прирожденных. Отношения личности и общества строятся на началах взаимной ответствен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84360" y="17622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8.Главный регулятор общественной жизни- традиция, обычай, следование нормам жизни предшествующих поколе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788000" y="17733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8.Важнейшими социальными ценностями признаны способность и готовность к изменениям, новация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человечество в целом в его историческом и перспективном развитии, это всё население земли, совокупность всех народ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Arial"/>
              </a:rPr>
              <a:t>в широком смысле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 обособившаяся от природы, но тесно связанная с ней часть материального мира, которая включает в себя способы взаимодействия людей и формы их объедин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бщество - социальная организация населения, включающая социальные группы и общности, социальные институты и организации, социальные нормы и ценности, на их основе взаимодействуют институты и группы и осуществляется социальный контроль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трана - часть света или территории, которая имеет определенные границы и пользуется государственным суверенитетом (географическая характеристика территори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сударство – организация политической власти в обществе (т.е. форму государственного устройства), органы и форму правления (монархия, республика) и способы осуществления (т.е. политический режи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аны изуча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географ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, государство -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политолог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, а общество -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социолог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аселение. Народ. Н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аселен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является частью обще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я в обществе не всегда означают, что изменилось население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населения не всегда означает, что изменилось обществ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общества при неизменности населения может происходить при происходящих в нем реформах, могут появляться новые социальные группы, изменяться структура обществ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населения – при массовых миграциях, при завоеваниях (в древние времен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аселение как часть общества занимает определенную территорию. В случае миграции человек утрачивает связь со своим обществом и попадает в ново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8:32:37Z</dcterms:created>
  <dc:creator>Галина Николаевна</dc:creator>
  <dc:description/>
  <dc:language>en-US</dc:language>
  <cp:lastModifiedBy>Olga</cp:lastModifiedBy>
  <dcterms:modified xsi:type="dcterms:W3CDTF">2012-09-13T15:42:06Z</dcterms:modified>
  <cp:revision>122</cp:revision>
  <dc:subject/>
  <dc:title>Единый государственный экзамен</dc:title>
</cp:coreProperties>
</file>