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365A-78C2-442D-BBBE-62CCACD4B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FC74-263E-4EF8-A226-AD8A16877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C15F-098A-47EB-83BF-9E5BB0120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A933-5E2D-4B97-81BF-5781BD38F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6F222-DB73-451F-8ABB-0E57F31FA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B5E42-65CC-4847-BD01-45655995E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AD4B9-3156-475D-8476-257CB2F9A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52324-67E3-4C5A-83B5-B4F2D5951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AE291-CC0C-49C8-8C03-1B1DD37FB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708E2-EDF6-4003-8EBC-07972801C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1DD96-6A8B-4FCC-BB14-F6682AB78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338D-500F-4C47-9C45-457D02EF6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DE636-8001-4BEB-BE75-6851479D1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9B40A-6E73-43E7-8066-9B7186500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6BDF9-085D-4128-A43D-98C7240B3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79C3D-858E-4361-ADCE-030FC7B2E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A6D43-DC79-4577-85FC-380C3C66D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4B22-D64C-42E4-84E8-BFA93EB5F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08BC-EDFB-4B72-B597-11B24DCFB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5E96-0894-4472-8996-5614BB512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8A3B-6FA3-4302-9256-7118DB598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6F4F-C646-4C0E-861D-7831082E0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85F5-C4C3-4BFC-9B20-9A7784CE6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80AC-5099-44B5-9550-F888666C2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8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9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0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7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8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7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8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9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0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1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7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8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9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0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1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55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6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57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Line 60"/>
              <p:cNvSpPr/>
              <p:nvPr/>
            </p:nvSpPr>
            <p:spPr>
              <a:xfrm flipH="1">
                <a:off x="414360" y="151416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9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0" name="Arc 62"/>
              <p:cNvSpPr/>
              <p:nvPr/>
            </p:nvSpPr>
            <p:spPr>
              <a:xfrm flipH="1">
                <a:off x="512640" y="1415880"/>
                <a:ext cx="192240" cy="194040"/>
              </a:xfrm>
              <a:custGeom>
                <a:avLst/>
                <a:gdLst>
                  <a:gd name="textAreaLeft" fmla="*/ 360 w 192240"/>
                  <a:gd name="textAreaRight" fmla="*/ 192960 w 192240"/>
                  <a:gd name="textAreaTop" fmla="*/ 0 h 194040"/>
                  <a:gd name="textAreaBottom" fmla="*/ 194400 h 194040"/>
                </a:gdLst>
                <a:ahLst/>
                <a:rect l="textAreaLeft" t="textAreaTop" r="textAreaRight" b="textAreaBottom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C230F-0351-4A66-82F7-4DE40EB7AE6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Rectangle 4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105" name="Group 5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Line 6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" name="Line 7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8" name="Line 8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9" name="Line 9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0" name="Line 10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1" name="Line 11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2" name="Line 12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" name="Line 13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" name="Line 14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" name="Line 15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" name="Line 16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" name="Line 17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8" name="Line 18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9" name="Line 19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0" name="Line 20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1" name="Line 21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2" name="Line 22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3" name="Line 23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4" name="Line 24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5" name="Line 25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6" name="Line 26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7" name="Line 27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8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9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0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1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2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3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4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5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6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7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8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9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0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1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2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3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4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5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6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7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8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9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0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1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2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3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4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5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6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7" name="Line 57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58" name="Group 58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Line 59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0" name="Line 60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1" name="Line 61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2" name="Arc 62"/>
              <p:cNvSpPr/>
              <p:nvPr/>
            </p:nvSpPr>
            <p:spPr>
              <a:xfrm flipH="1" rot="16200000">
                <a:off x="675360" y="1366200"/>
                <a:ext cx="247680" cy="249120"/>
              </a:xfrm>
              <a:custGeom>
                <a:avLst/>
                <a:gdLst>
                  <a:gd name="textAreaLeft" fmla="*/ 360 w 247680"/>
                  <a:gd name="textAreaRight" fmla="*/ 248400 w 247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63" name="Group 63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Line 64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5" name="Line 65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6" name="Arc 66"/>
              <p:cNvSpPr/>
              <p:nvPr/>
            </p:nvSpPr>
            <p:spPr>
              <a:xfrm rot="5400000">
                <a:off x="8090640" y="5314320"/>
                <a:ext cx="247680" cy="24912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05DFF-BA92-411E-9AD1-2527C6E77C5F}" type="slidenum">
              <a:rPr b="0" lang="ru-RU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55280" y="175212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Times New Roman"/>
              </a:rPr>
              <a:t>Структура общества и её элементы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66"/>
                </a:solidFill>
                <a:latin typeface="Tahoma"/>
              </a:rPr>
              <a:t>Признаки общества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Общество – человеческая общность, объединение людей, наделенных волей и сознанием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66"/>
                </a:solidFill>
                <a:latin typeface="Tahoma"/>
              </a:rPr>
              <a:t>Признаки общества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Общество – объединение людей, взаимодействующих между собой по поводу удовлетворения значимых для них потребностей. Общество – результат взаимодействия людей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66"/>
                </a:solidFill>
                <a:latin typeface="Tahoma"/>
              </a:rPr>
              <a:t>Признаки общества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Общество – это не эпизодическое и случайное, а устойчивое и постоянное взаимодействие индивидов, объединенных на основе объективно сложившегося всеобщего интереса и порожденных им единых социальных целей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66"/>
                </a:solidFill>
                <a:latin typeface="Tahoma"/>
              </a:rPr>
              <a:t>Признаки общества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Общество характеризуется наличием публичной власти в лице законодательных, исполнительных, судебных органов, а также норм права, способных облегчить упорядочение социальных взаимодействий на определенной территории, защиту населения от внешней угрозы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66"/>
                </a:solidFill>
                <a:latin typeface="Tahoma"/>
              </a:rPr>
              <a:t>Признаки общества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Общество – социокультурная система. Регуляция и согласование общезначимых и индивидуальных интересов и потребностей в рамках единого общества невозможны без общей системы ценностей, именуемой культурой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Tahoma"/>
              </a:rPr>
              <a:t>Понятие «общество»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устойчивое  и саморазвивающееся объединение людей, связанных между собой общим интересом и взаимодействующих друг с другом на основе общеобязательных норм и ценностей в целях удовлетворения индивидуальных потребностей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Признаки общества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Объединение людей, не являющихся частью другой более крупной системы;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Заключение браков между представителями данного объединения;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Воспроизводство общества за счет деторождения;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Объединение людей, имеющее свою территорию;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Наличие собственного названия и историю;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Общая система ценностей (обычаи, традиции, нормы, законы, нравы), называемая культурой;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Наличие собственной системы управления;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Продолжительность существования объединения во времени дольше средней продолжительности жизни отдельного индивида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Опишите общество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Название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Территория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Период существования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Органы власти и управления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Обычаи, традиции, законы, нормы, достижения культуры (достопримечательности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Tahoma"/>
              </a:rPr>
              <a:t>Элементы</a:t>
            </a:r>
            <a:br>
              <a:rPr sz="4000"/>
            </a:br>
            <a:r>
              <a:rPr b="0" lang="ru-RU" sz="4000" spc="-1" strike="noStrike">
                <a:solidFill>
                  <a:srgbClr val="660066"/>
                </a:solidFill>
                <a:latin typeface="Tahoma"/>
              </a:rPr>
              <a:t> социальной структуры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4238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10bc1"/>
                </a:solidFill>
                <a:latin typeface="Tahoma"/>
              </a:rPr>
              <a:t>Сферы общественной жизни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ahoma"/>
              </a:rPr>
              <a:t>Экономическая сфера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ahoma"/>
              </a:rPr>
              <a:t>Политическая сфера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ahoma"/>
              </a:rPr>
              <a:t>Социальная сфера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ahoma"/>
              </a:rPr>
              <a:t>Духовная сфера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8002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10bc1"/>
                </a:solidFill>
                <a:latin typeface="Tahoma"/>
              </a:rPr>
              <a:t>Социальные институты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ahoma"/>
              </a:rPr>
              <a:t>Семья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ahoma"/>
              </a:rPr>
              <a:t>Государство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ahoma"/>
              </a:rPr>
              <a:t>Производство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ahoma"/>
              </a:rPr>
              <a:t>Образование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ahoma"/>
              </a:rPr>
              <a:t>Религия</a:t>
            </a:r>
            <a:r>
              <a:rPr b="1" lang="ru-RU" sz="2000" spc="-1" strike="noStrike">
                <a:solidFill>
                  <a:srgbClr val="210bc1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Социальный институт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77724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58c"/>
                </a:solidFill>
                <a:latin typeface="Arial"/>
              </a:rPr>
              <a:t>совокупность людей, групп, учреждений, деятельность которых направлена на 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выполнение</a:t>
            </a:r>
            <a:r>
              <a:rPr b="1" lang="ru-RU" sz="2800" spc="-1" strike="noStrike">
                <a:solidFill>
                  <a:srgbClr val="40458c"/>
                </a:solidFill>
                <a:latin typeface="Arial"/>
              </a:rPr>
              <a:t> конкретных общественных 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функций</a:t>
            </a:r>
            <a:r>
              <a:rPr b="1" lang="ru-RU" sz="2800" spc="-1" strike="noStrike">
                <a:solidFill>
                  <a:srgbClr val="40458c"/>
                </a:solidFill>
                <a:latin typeface="Arial"/>
              </a:rPr>
              <a:t> для 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удовлетворения</a:t>
            </a:r>
            <a:r>
              <a:rPr b="1" lang="ru-RU" sz="2800" spc="-1" strike="noStrike">
                <a:solidFill>
                  <a:srgbClr val="40458c"/>
                </a:solidFill>
                <a:latin typeface="Arial"/>
              </a:rPr>
              <a:t> важнейших 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потребностей</a:t>
            </a:r>
            <a:r>
              <a:rPr b="1" lang="ru-RU" sz="2800" spc="-1" strike="noStrike">
                <a:solidFill>
                  <a:srgbClr val="40458c"/>
                </a:solidFill>
                <a:latin typeface="Arial"/>
              </a:rPr>
              <a:t> людей и регулируемых сводом социальных норм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Общество – это …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0458c"/>
                </a:solidFill>
                <a:latin typeface="Tahoma"/>
              </a:rPr>
              <a:t>Ученическое общество,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0458c"/>
                </a:solidFill>
                <a:latin typeface="Tahoma"/>
              </a:rPr>
              <a:t>общество книголюбов,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0458c"/>
                </a:solidFill>
                <a:latin typeface="Tahoma"/>
              </a:rPr>
              <a:t>спортивное общество,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0458c"/>
                </a:solidFill>
                <a:latin typeface="Tahoma"/>
              </a:rPr>
              <a:t>общество потребителей,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i="1" lang="ru-RU" sz="2000" spc="-1" strike="noStrike">
                <a:solidFill>
                  <a:srgbClr val="40458c"/>
                </a:solidFill>
                <a:latin typeface="Tahoma"/>
              </a:rPr>
              <a:t>античное общество,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i="1" lang="ru-RU" sz="2000" spc="-1" strike="noStrike">
                <a:solidFill>
                  <a:srgbClr val="40458c"/>
                </a:solidFill>
                <a:latin typeface="Tahoma"/>
              </a:rPr>
              <a:t>феодальное общество,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0458c"/>
                </a:solidFill>
                <a:latin typeface="Tahoma"/>
              </a:rPr>
              <a:t>индийское общество,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0458c"/>
                </a:solidFill>
                <a:latin typeface="Tahoma"/>
              </a:rPr>
              <a:t>советское общество,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i="1" lang="ru-RU" sz="2000" spc="-1" strike="noStrike">
                <a:solidFill>
                  <a:srgbClr val="40458c"/>
                </a:solidFill>
                <a:latin typeface="Tahoma"/>
              </a:rPr>
              <a:t>человеческое общество…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Tahoma"/>
              </a:rPr>
              <a:t>Общество – </a:t>
            </a:r>
            <a:br>
              <a:rPr sz="4000"/>
            </a:br>
            <a:r>
              <a:rPr b="0" lang="ru-RU" sz="4000" spc="-1" strike="noStrike">
                <a:solidFill>
                  <a:srgbClr val="660066"/>
                </a:solidFill>
                <a:latin typeface="Tahoma"/>
              </a:rPr>
              <a:t>динамическая система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ервобытное – рабовладельческое общество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Язычество – вера в единого бога (монотеизм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рисваивающее хозяйство – производяще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Натуральное хозяйство – товарное хозяйство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Командная экономика – рыночная экономик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Ограниченная монархия – абсолютизм – парламентаризм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Древнерусское государство - Московское государство - Российская империя - Советская Россия - Российская Федерация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Взаимосвязь институтов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Государство – семья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Экономика – государство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Образование – экономика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Религия - государство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66"/>
                </a:solidFill>
                <a:latin typeface="Tahoma"/>
              </a:rPr>
              <a:t>Взаимодействие элементов социальной структуры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Потребности и интересы побуждают людей объединяться в группы. </a:t>
            </a:r>
            <a:r>
              <a:rPr b="1" lang="ru-RU" sz="3200" spc="-1" strike="noStrike">
                <a:solidFill>
                  <a:srgbClr val="ff3300"/>
                </a:solidFill>
                <a:latin typeface="Arial Black"/>
                <a:ea typeface="Courier New"/>
              </a:rPr>
              <a:t>→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Для осуществления потребностей групп люди создают социальные институты. </a:t>
            </a:r>
            <a:r>
              <a:rPr b="1" lang="ru-RU" sz="3200" spc="-1" strike="noStrike">
                <a:solidFill>
                  <a:srgbClr val="ff3300"/>
                </a:solidFill>
                <a:latin typeface="Arial Black"/>
                <a:ea typeface="Courier New"/>
              </a:rPr>
              <a:t>→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Социальные институты определяют ту или иную социальную роль индивидов. </a:t>
            </a:r>
            <a:r>
              <a:rPr b="1" lang="ru-RU" sz="3200" spc="-1" strike="noStrike">
                <a:solidFill>
                  <a:srgbClr val="ff3300"/>
                </a:solidFill>
                <a:latin typeface="Arial Black"/>
                <a:ea typeface="Courier New"/>
              </a:rPr>
              <a:t>→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Упорядоченность социальных связей  обусловлена наличием норм и ценностей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ff3300"/>
                </a:solidFill>
                <a:latin typeface="Tahoma"/>
              </a:rPr>
              <a:t>мировое сообщество</a:t>
            </a: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 – объединение людей, народов, государств нашей планеты, имеющих общие цели и интересы, связанные с сохранением человеческой цивилизации и решением глобальных проблем современности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Типология обществ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письменные и дописьменные;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простые и сложные;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охотников и собирателей, огородничества, земледельцев и скотоводов; промышленное общество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первобытное, рабовладельческое, феодальное, капиталистическое, коммунистическое;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традиционное, индустриальное, информационно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66"/>
                </a:solidFill>
                <a:latin typeface="Tahoma"/>
              </a:rPr>
              <a:t>К какому типу общества относятся</a:t>
            </a:r>
            <a:r>
              <a:rPr b="0" lang="ru-RU" sz="3600" spc="-1" strike="noStrike">
                <a:solidFill>
                  <a:srgbClr val="ff3300"/>
                </a:solidFill>
                <a:latin typeface="Tahoma"/>
              </a:rPr>
              <a:t>?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адаптация к природным условиям;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урбанизация;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ведущие информационные и человеческие ресурсы;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религия охватывает все сферы общественной жизни;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деление общества на классы;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автоматизированные и компьютеризированные системы и коммуникации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WordArt 2"/>
          <p:cNvSpPr txBox="1"/>
          <p:nvPr/>
        </p:nvSpPr>
        <p:spPr>
          <a:xfrm>
            <a:off x="900000" y="765000"/>
            <a:ext cx="2880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осточное общество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1" name="WordArt 3"/>
          <p:cNvSpPr txBox="1"/>
          <p:nvPr/>
        </p:nvSpPr>
        <p:spPr>
          <a:xfrm>
            <a:off x="5003640" y="765000"/>
            <a:ext cx="2880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падное общество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2" name="Text Box 4"/>
          <p:cNvSpPr/>
          <p:nvPr/>
        </p:nvSpPr>
        <p:spPr>
          <a:xfrm>
            <a:off x="684360" y="1844640"/>
            <a:ext cx="33829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Comic Sans MS"/>
              </a:rPr>
              <a:t>1.«Непрерывность» исторического процесса, отсутствие явных – граней между историческими эпохами, резких сдвигов и толчков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3" name="Text Box 5"/>
          <p:cNvSpPr/>
          <p:nvPr/>
        </p:nvSpPr>
        <p:spPr>
          <a:xfrm>
            <a:off x="4859280" y="1844640"/>
            <a:ext cx="3384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Comic Sans MS"/>
              </a:rPr>
              <a:t>1.История движется неравномерно, «скачками», разрывы между эпохами очевидны, часто это революции разных типов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WordArt 2"/>
          <p:cNvSpPr txBox="1"/>
          <p:nvPr/>
        </p:nvSpPr>
        <p:spPr>
          <a:xfrm>
            <a:off x="900000" y="765000"/>
            <a:ext cx="2880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осточное общество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5" name="WordArt 3"/>
          <p:cNvSpPr txBox="1"/>
          <p:nvPr/>
        </p:nvSpPr>
        <p:spPr>
          <a:xfrm>
            <a:off x="5003640" y="765000"/>
            <a:ext cx="2880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падное общество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6" name="Text Box 4"/>
          <p:cNvSpPr/>
          <p:nvPr/>
        </p:nvSpPr>
        <p:spPr>
          <a:xfrm>
            <a:off x="755640" y="1844640"/>
            <a:ext cx="316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Comic Sans MS"/>
              </a:rPr>
              <a:t>2.Неприменимость европейской концепции линейного прогресса к характеристике особенностей исторического развития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7" name="Text Box 5"/>
          <p:cNvSpPr/>
          <p:nvPr/>
        </p:nvSpPr>
        <p:spPr>
          <a:xfrm>
            <a:off x="5003640" y="1844640"/>
            <a:ext cx="3024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Comic Sans MS"/>
              </a:rPr>
              <a:t>2.Общественно-исторический прогресс достаточно очевиден и может быть «измерен» посредством разных критериев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WordArt 2"/>
          <p:cNvSpPr txBox="1"/>
          <p:nvPr/>
        </p:nvSpPr>
        <p:spPr>
          <a:xfrm>
            <a:off x="900000" y="765000"/>
            <a:ext cx="2880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осточное общество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9" name="WordArt 3"/>
          <p:cNvSpPr txBox="1"/>
          <p:nvPr/>
        </p:nvSpPr>
        <p:spPr>
          <a:xfrm>
            <a:off x="5003640" y="765000"/>
            <a:ext cx="2880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падное общество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0" name="Text Box 4"/>
          <p:cNvSpPr/>
          <p:nvPr/>
        </p:nvSpPr>
        <p:spPr>
          <a:xfrm>
            <a:off x="826920" y="1844640"/>
            <a:ext cx="3024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Comic Sans MS"/>
              </a:rPr>
              <a:t>3.Тип отношений общества и природы построен не на принципе победы над ней, а на идее слияния с ней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1" name="Text Box 5"/>
          <p:cNvSpPr/>
          <p:nvPr/>
        </p:nvSpPr>
        <p:spPr>
          <a:xfrm>
            <a:off x="4716360" y="1773360"/>
            <a:ext cx="3384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Comic Sans MS"/>
              </a:rPr>
              <a:t>3.Общество стремиться властвовать над природой, подчиняя ее и извлекая из нее максимально возможно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WordArt 2"/>
          <p:cNvSpPr txBox="1"/>
          <p:nvPr/>
        </p:nvSpPr>
        <p:spPr>
          <a:xfrm>
            <a:off x="900000" y="765000"/>
            <a:ext cx="2880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осточное общество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3" name="WordArt 3"/>
          <p:cNvSpPr txBox="1"/>
          <p:nvPr/>
        </p:nvSpPr>
        <p:spPr>
          <a:xfrm>
            <a:off x="5003640" y="765000"/>
            <a:ext cx="2880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падное общество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826920" y="1762200"/>
            <a:ext cx="3240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Comic Sans MS"/>
              </a:rPr>
              <a:t>4.Основа экономической системы- общинно-государственные формы собственности при слабом развитии института частной собственност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5" name="Text Box 5"/>
          <p:cNvSpPr/>
          <p:nvPr/>
        </p:nvSpPr>
        <p:spPr>
          <a:xfrm>
            <a:off x="4859280" y="1844640"/>
            <a:ext cx="3457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Comic Sans MS"/>
              </a:rPr>
              <a:t>4.Основа экономики- институт достигшей высокого развития частной собственности. Право собственности рассматривается как естественное и неотъемлемо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796320" indent="-796320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Определенная группа</a:t>
            </a: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людей, объединившихся для общения и совместного выполнения какой-либо деятельности (общество книголюбов, общество автомобилистов и т.д.);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796320" indent="-796320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Определенный этап</a:t>
            </a:r>
            <a:r>
              <a:rPr b="1" i="1" lang="ru-RU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исторического развития человечества или конкретной страны (первобытное общество, феодальное общество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796320" indent="-796320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Специфические особенности</a:t>
            </a:r>
            <a:r>
              <a:rPr b="1" i="1" lang="ru-RU" sz="2400" spc="-1" strike="noStrike">
                <a:solidFill>
                  <a:srgbClr val="40458c"/>
                </a:solidFill>
                <a:latin typeface="Tahoma"/>
              </a:rPr>
              <a:t> жизни одной страны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(японское общество, светское общество, французское общество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Общество – это …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3" name="AutoShape 5"/>
          <p:cNvSpPr/>
          <p:nvPr/>
        </p:nvSpPr>
        <p:spPr>
          <a:xfrm rot="5400000">
            <a:off x="4662000" y="2655360"/>
            <a:ext cx="360360" cy="6659640"/>
          </a:xfrm>
          <a:custGeom>
            <a:avLst/>
            <a:gdLst>
              <a:gd name="textAreaLeft" fmla="*/ 0 w 360360"/>
              <a:gd name="textAreaRight" fmla="*/ 129960 w 360360"/>
              <a:gd name="textAreaTop" fmla="*/ 173520 h 6659640"/>
              <a:gd name="textAreaBottom" fmla="*/ 6486120 h 665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4" name="WordArt 6"/>
          <p:cNvSpPr txBox="1"/>
          <p:nvPr/>
        </p:nvSpPr>
        <p:spPr>
          <a:xfrm>
            <a:off x="2484360" y="6237360"/>
            <a:ext cx="482436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210bc1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 узком смысле</a:t>
            </a:r>
            <a:endParaRPr b="0" lang="en-US" sz="2400" spc="1" strike="noStrike">
              <a:ln w="0">
                <a:noFill/>
              </a:ln>
              <a:solidFill>
                <a:srgbClr val="210bc1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WordArt 2"/>
          <p:cNvSpPr txBox="1"/>
          <p:nvPr/>
        </p:nvSpPr>
        <p:spPr>
          <a:xfrm>
            <a:off x="900000" y="765000"/>
            <a:ext cx="2880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осточное общество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7" name="WordArt 3"/>
          <p:cNvSpPr txBox="1"/>
          <p:nvPr/>
        </p:nvSpPr>
        <p:spPr>
          <a:xfrm>
            <a:off x="5003640" y="765000"/>
            <a:ext cx="2880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падное общество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8" name="Text Box 4"/>
          <p:cNvSpPr/>
          <p:nvPr/>
        </p:nvSpPr>
        <p:spPr>
          <a:xfrm>
            <a:off x="826920" y="1844640"/>
            <a:ext cx="3097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Comic Sans MS"/>
              </a:rPr>
              <a:t>5.Уровень социальной мобильности невысок, границы между социальными общностями(кастами, сословиями) устойчивы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9" name="Text Box 5"/>
          <p:cNvSpPr/>
          <p:nvPr/>
        </p:nvSpPr>
        <p:spPr>
          <a:xfrm>
            <a:off x="4932360" y="1773360"/>
            <a:ext cx="3240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Comic Sans MS"/>
              </a:rPr>
              <a:t>5.Социальная мобильность населения высока, возможности социальных перемещений практически неограниченны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WordArt 2"/>
          <p:cNvSpPr txBox="1"/>
          <p:nvPr/>
        </p:nvSpPr>
        <p:spPr>
          <a:xfrm>
            <a:off x="900000" y="765000"/>
            <a:ext cx="2880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осточное общество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1" name="WordArt 3"/>
          <p:cNvSpPr txBox="1"/>
          <p:nvPr/>
        </p:nvSpPr>
        <p:spPr>
          <a:xfrm>
            <a:off x="5003640" y="765000"/>
            <a:ext cx="2880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падное общество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2" name="Text Box 4"/>
          <p:cNvSpPr/>
          <p:nvPr/>
        </p:nvSpPr>
        <p:spPr>
          <a:xfrm>
            <a:off x="755640" y="1762200"/>
            <a:ext cx="316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Comic Sans MS"/>
              </a:rPr>
              <a:t>6.Государство подчиняет себе общество, общества и его контроля не существует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3" name="Text Box 5"/>
          <p:cNvSpPr/>
          <p:nvPr/>
        </p:nvSpPr>
        <p:spPr>
          <a:xfrm>
            <a:off x="4932360" y="1762200"/>
            <a:ext cx="3384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Comic Sans MS"/>
              </a:rPr>
              <a:t>6.Общество автономно от государства, сложилось развитое гражданское общество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WordArt 2"/>
          <p:cNvSpPr txBox="1"/>
          <p:nvPr/>
        </p:nvSpPr>
        <p:spPr>
          <a:xfrm>
            <a:off x="900000" y="765000"/>
            <a:ext cx="2880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осточное общество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5" name="WordArt 3"/>
          <p:cNvSpPr txBox="1"/>
          <p:nvPr/>
        </p:nvSpPr>
        <p:spPr>
          <a:xfrm>
            <a:off x="5003640" y="765000"/>
            <a:ext cx="2880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падное общество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6" name="Text Box 4"/>
          <p:cNvSpPr/>
          <p:nvPr/>
        </p:nvSpPr>
        <p:spPr>
          <a:xfrm>
            <a:off x="611280" y="1484280"/>
            <a:ext cx="3744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Comic Sans MS"/>
              </a:rPr>
              <a:t>7.Принцип автономии свободной от государства и социальных общностей личности отсутствует. Человек стремиться включиться в существующую систему социальных общностей и «раствориться» в ней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7" name="Text Box 5"/>
          <p:cNvSpPr/>
          <p:nvPr/>
        </p:nvSpPr>
        <p:spPr>
          <a:xfrm>
            <a:off x="4859280" y="1484280"/>
            <a:ext cx="36003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Comic Sans MS"/>
              </a:rPr>
              <a:t>7.Автономия, свободы и права личности закреплены конституционно в качестве неотъемлемых и прирожденных. Отношения личности и общества строятся на началах взаимной ответственност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WordArt 2"/>
          <p:cNvSpPr txBox="1"/>
          <p:nvPr/>
        </p:nvSpPr>
        <p:spPr>
          <a:xfrm>
            <a:off x="900000" y="765000"/>
            <a:ext cx="2880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осточное общество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9" name="WordArt 3"/>
          <p:cNvSpPr txBox="1"/>
          <p:nvPr/>
        </p:nvSpPr>
        <p:spPr>
          <a:xfrm>
            <a:off x="5003640" y="765000"/>
            <a:ext cx="2880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падное общество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0" name="Text Box 4"/>
          <p:cNvSpPr/>
          <p:nvPr/>
        </p:nvSpPr>
        <p:spPr>
          <a:xfrm>
            <a:off x="684360" y="1762200"/>
            <a:ext cx="3456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Comic Sans MS"/>
              </a:rPr>
              <a:t>8.Главный регулятор общественной жизни- традиция, обычай, следование нормам жизни предшествующих поколений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1" name="Text Box 5"/>
          <p:cNvSpPr/>
          <p:nvPr/>
        </p:nvSpPr>
        <p:spPr>
          <a:xfrm>
            <a:off x="4788000" y="1773360"/>
            <a:ext cx="3600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Comic Sans MS"/>
              </a:rPr>
              <a:t>8.Важнейшими социальными ценностями признаны способность и готовность к изменениям, новациям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Arial"/>
              </a:rPr>
              <a:t>человечество в целом в его историческом и перспективном развитии, это всё население земли, совокупность всех народов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812880" indent="-812880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40458c"/>
                </a:solidFill>
                <a:uFillTx/>
                <a:latin typeface="Arial"/>
              </a:rPr>
              <a:t>в широком смысле</a:t>
            </a:r>
            <a:r>
              <a:rPr b="0" lang="ru-RU" sz="2400" spc="-1" strike="noStrike">
                <a:solidFill>
                  <a:srgbClr val="40458c"/>
                </a:solidFill>
                <a:latin typeface="Arial"/>
              </a:rPr>
              <a:t>,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это обособившаяся от природы, но тесно связанная с ней часть материального мира, которая включает в себя способы взаимодействия людей и формы их объединения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Общество – это …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Tahoma"/>
              </a:rPr>
              <a:t>Общество. Страна. Государство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99640" y="1628280"/>
            <a:ext cx="738684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Общество - социальная организация населения, включающая социальные группы и общности, социальные институты и организации, социальные нормы и ценности, на их основе взаимодействуют институты и группы и осуществляется социальный контроль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Tahoma"/>
              </a:rPr>
              <a:t>Общество. Страна. Государство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99640" y="1628280"/>
            <a:ext cx="738684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Страна - часть света или территории, которая имеет определенные границы и пользуется государственным суверенитетом (географическая характеристика территории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Tahoma"/>
              </a:rPr>
              <a:t>Общество. Страна. Государство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99640" y="1628280"/>
            <a:ext cx="738684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Государство – организация политической власти в обществе (т.е. форму государственного устройства), органы и форму правления (монархия, республика) и способы осуществления (т.е. политический режим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Tahoma"/>
              </a:rPr>
              <a:t>Общество. Страна. Государство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Страны изучает </a:t>
            </a:r>
            <a:r>
              <a:rPr b="0" lang="ru-RU" sz="3200" spc="-1" strike="noStrike" u="sng">
                <a:solidFill>
                  <a:srgbClr val="ff3300"/>
                </a:solidFill>
                <a:uFillTx/>
                <a:latin typeface="Tahoma"/>
              </a:rPr>
              <a:t>география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, государство - </a:t>
            </a:r>
            <a:r>
              <a:rPr b="0" lang="ru-RU" sz="3200" spc="-1" strike="noStrike" u="sng">
                <a:solidFill>
                  <a:srgbClr val="ff3300"/>
                </a:solidFill>
                <a:uFillTx/>
                <a:latin typeface="Tahoma"/>
              </a:rPr>
              <a:t>политология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, а общество - </a:t>
            </a:r>
            <a:r>
              <a:rPr b="0" lang="ru-RU" sz="3200" spc="-1" strike="noStrike" u="sng">
                <a:solidFill>
                  <a:srgbClr val="ff3300"/>
                </a:solidFill>
                <a:uFillTx/>
                <a:latin typeface="Tahoma"/>
              </a:rPr>
              <a:t>социология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Население. Народ. Нация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8089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58c"/>
                </a:solidFill>
                <a:latin typeface="Tahoma"/>
              </a:rPr>
              <a:t>Население</a:t>
            </a: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 является частью общества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8089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Изменения в обществе не всегда означают, что изменилось население,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8089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Изменение населения не всегда означает, что изменилось общество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8089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Изменение общества при неизменности населения может происходить при происходящих в нем реформах, могут появляться новые социальные группы, изменяться структура общества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8089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Изменение населения – при массовых миграциях, при завоеваниях (в древние времена)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8089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58c"/>
                </a:solidFill>
                <a:latin typeface="Tahoma"/>
              </a:rPr>
              <a:t>Население как часть общества занимает определенную территорию. В случае миграции человек утрачивает связь со своим обществом и попадает в новое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7T18:32:37Z</dcterms:created>
  <dc:creator>Галина Николаевна</dc:creator>
  <dc:description/>
  <dc:language>en-US</dc:language>
  <cp:lastModifiedBy>Olga</cp:lastModifiedBy>
  <dcterms:modified xsi:type="dcterms:W3CDTF">2012-09-13T15:42:06Z</dcterms:modified>
  <cp:revision>122</cp:revision>
  <dc:subject/>
  <dc:title>Единый государственный экзамен</dc:title>
</cp:coreProperties>
</file>