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B7E-97EA-44BF-9444-05857D20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229-3224-4921-BF61-03156276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9C0-0BA4-41DA-816E-4B76E128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09D-5F18-4B4D-99EA-F5A22BD0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3F19-4C20-4B08-9515-3BF84475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4E81-AB37-4A9F-9E12-76BBC5A8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13F3-5A0B-4735-8D1E-A262C314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40C-9D80-4978-AD5B-607BCDBD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8798-06EC-4F90-AE66-2E628448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CF5C-C231-4F2B-9F75-45EF476F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26C2-390C-4841-B110-5BC6C72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F99-D1F7-4C21-97C1-10799466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DA3E-02FA-44DA-8AD5-B5EE02B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7C96-14DF-4F21-BD7C-F160866A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3922-1752-4113-AA11-F83D8DA5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44DE-0D53-45C1-A716-ECA807B4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5D86-1327-4F42-BF3A-83603423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406-168F-4C55-A07F-5666C799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B07-2183-43D7-84EF-47FEB359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C5F-D657-47AD-B61D-19083670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8BE-BCDE-40C2-82B8-1E74AF43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6FE-F699-415C-9413-8C49A6D0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F07-62CC-4E8A-BFF3-6185F749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7E8-B5DC-4DF1-A924-77242F9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C5A6-F7A7-4BEC-A789-E416EFF9CC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F077-0223-4B15-BEEB-69F7DBBD058F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17521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Структура общества и её элемент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человеческая общность, объединение людей, наделенных волей и сознание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объединение людей, взаимодействующих между собой по поводу удовлетворения значимых для них потребностей. Общество – результат взаимодействия люде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это не эпизодическое и случайное, а устойчивое и постоянное взаимодействие индивидов, объединенных на основе объективно сложившегося всеобщего интереса и порожденных им единых социальных целе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характеризуется наличием публичной власти в лице законодательных, исполнительных, судебных органов, а также норм права, способных облегчить упорядочение социальных взаимодействий на определенной территории, защиту населения от внешней угроз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социокультурная система. Регуляция и согласование общезначимых и индивидуальных интересов и потребностей в рамках единого общества невозможны без общей системы ценностей, именуемой культуро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онятие «общество»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стойчивое  и саморазвивающееся объединение людей, связанных между собой общим интересом и взаимодействующих друг с другом на основе общеобязательных норм и ценностей в целях удовлетворения индивидуальных потребносте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ъединение людей, не являющихся частью другой более крупной системы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Заключение браков между представителями данного объедин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оспроизводство общества за счет деторожд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ъединение людей, имеющее свою территорию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личие собственного названия и историю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щая система ценностей (обычаи, традиции, нормы, законы, нравы), называемая культурой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личие собственной системы управл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одолжительность существования объединения во времени дольше средней продолжительности жизни отдельного индивид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пишите общество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звани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Территор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ериод существова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рганы власти и управ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бычаи, традиции, законы, нормы, достижения культуры (достопримечательности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Элементы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социальной структуры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2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bc1"/>
                </a:solidFill>
                <a:latin typeface="Tahoma"/>
              </a:rPr>
              <a:t>Сферы общественной жизн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Экономическ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олитическ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Социальн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Духовн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bc1"/>
                </a:solidFill>
                <a:latin typeface="Tahoma"/>
              </a:rPr>
              <a:t>Социальные институ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Семь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Государств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роизводств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Образовани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Религия</a:t>
            </a:r>
            <a:r>
              <a:rPr b="1" lang="ru-RU" sz="2000" spc="-1" strike="noStrike">
                <a:solidFill>
                  <a:srgbClr val="210bc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циальный институ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совокупность людей, групп, учреждений, деятельность которых направлена н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ыполнение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конкретных общественных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ункций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дл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довлетворения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важнейших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требностей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людей и регулируемых сводом социальных норм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ество – это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Ученическ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общество книголюбов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портивн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общество потребителей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античн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феодальн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индийск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оветск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человеческое общество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бщество – 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динамическая систем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вобытное – рабовладельческое обще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Язычество – вера в единого бога (монотеизм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сваивающее хозяйство – производяще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туральное хозяйство – товарное хозяй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андная экономика – рыночная эконом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нная монархия – абсолютизм – парламентариз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ревнерусское государство - Московское государство - Российская империя - Советская Россия - Российская Федерац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заимосвязь институто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осударство – семь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номика – государств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зование – экономи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лигия - государств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заимодействие элементов социальной структур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отребности и интересы побуждают людей объединяться в группы.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Courier New"/>
              </a:rPr>
              <a:t>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ля осуществления потребностей групп люди создают социальные институты.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Courier New"/>
              </a:rPr>
              <a:t>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оциальные институты определяют ту или иную социальную роль индивидов.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Courier New"/>
              </a:rPr>
              <a:t>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порядоченность социальных связей  обусловлена наличием норм и ценносте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мировое сообщество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– объединение людей, народов, государств нашей планеты, имеющих общие цели и интересы, связанные с сохранением человеческой цивилизации и решением глобальных проблем современ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ипология общест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исьменные и дописьменны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остые и сложны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хотников и собирателей, огородничества, земледельцев и скотоводов; промышленное обще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ервобытное, рабовладельческое, феодальное, капиталистическое, коммунистическо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традиционное, индустриальное, информационн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К какому типу общества относятся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даптация к природным условиям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рбанизац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едущие информационные и человеческие ресурс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елигия охватывает все сферы общественной жизни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еление общества на класс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втоматизированные и компьютеризированные системы и коммуникаци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684360" y="1844640"/>
            <a:ext cx="338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1.«Непрерывность» исторического процесса, отсутствие явных – граней между историческими эпохами, резких сдвигов и толч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859280" y="1844640"/>
            <a:ext cx="33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1.История движется неравномерно, «скачками», разрывы между эпохами очевидны, часто это революции разных тип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55640" y="1844640"/>
            <a:ext cx="31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2.Неприменимость европейской концепции линейного прогресса к характеристике особенностей историческ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5003640" y="184464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2.Общественно-исторический прогресс достаточно очевиден и может быть «измерен» посредством разных критерие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6920" y="184464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3.Тип отношений общества и природы построен не на принципе победы над ней, а на идее слияния с н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4716360" y="1773360"/>
            <a:ext cx="33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3.Общество стремиться властвовать над природой, подчиняя ее и извлекая из нее максимально возможн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6920" y="1762200"/>
            <a:ext cx="32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4.Основа экономической системы- общинно-государственные формы собственности при слабом развитии института частной собствен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859280" y="1844640"/>
            <a:ext cx="34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4.Основа экономики- институт достигшей высокого развития частной собственности. Право собственности рассматривается как естественное и неотъемлем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енная группа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юдей, объединившихся для общения и совместного выполнения какой-либо деятельности (общество книголюбов, общество автомобилистов и т.д.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енный этап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торического развития человечества или конкретной страны (первобытное общество, феодальное общество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ецифические особенности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 жизни одной страны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японское общество, светское общество, французское обществ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ество – это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AutoShape 5"/>
          <p:cNvSpPr/>
          <p:nvPr/>
        </p:nvSpPr>
        <p:spPr>
          <a:xfrm rot="5400000">
            <a:off x="4662000" y="2655360"/>
            <a:ext cx="360360" cy="6659640"/>
          </a:xfrm>
          <a:custGeom>
            <a:avLst/>
            <a:gdLst>
              <a:gd name="textAreaLeft" fmla="*/ 0 w 360360"/>
              <a:gd name="textAreaRight" fmla="*/ 129960 w 36036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2484360" y="6237360"/>
            <a:ext cx="482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10bc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узком смысле</a:t>
            </a:r>
            <a:endParaRPr b="0" lang="en-US" sz="2400" spc="1" strike="noStrike">
              <a:ln w="0">
                <a:noFill/>
              </a:ln>
              <a:solidFill>
                <a:srgbClr val="210bc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6920" y="1844640"/>
            <a:ext cx="30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5.Уровень социальной мобильности невысок, границы между социальными общностями(кастами, сословиями) устойчив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4932360" y="177336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5.Социальная мобильность населения высока, возможности социальных перемещений практически неограниченн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755640" y="176220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6.Государство подчиняет себе общество, общества и его контроля не существу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932360" y="176220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6.Общество автономно от государства, сложилось развитое гражданское обще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1484280"/>
            <a:ext cx="374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7.Принцип автономии свободной от государства и социальных общностей личности отсутствует. Человек стремиться включиться в существующую систему социальных общностей и «раствориться» в н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859280" y="1484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7.Автономия, свободы и права личности закреплены конституционно в качестве неотъемлемых и прирожденных. Отношения личности и общества строятся на началах взаимной ответствен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84360" y="176220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8.Главный регулятор общественной жизни- традиция, обычай, следование нормам жизни предшествующих поколен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788000" y="177336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8.Важнейшими социальными ценностями признаны способность и готовность к изменениям, новация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человечество в целом в его историческом и перспективном развитии, это всё население земли, совокупность всех народов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Arial"/>
              </a:rPr>
              <a:t>в широком смысле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то обособившаяся от природы, но тесно связанная с ней часть материального мира, которая включает в себя способы взаимодействия людей и формы их объединен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ество – это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бщество - социальная организация населения, включающая социальные группы и общности, социальные институты и организации, социальные нормы и ценности, на их основе взаимодействуют институты и группы и осуществляется социальный контроль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трана - часть света или территории, которая имеет определенные границы и пользуется государственным суверенитетом (географическая характеристика территори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Государство – организация политической власти в обществе (т.е. форму государственного устройства), органы и форму правления (монархия, республика) и способы осуществления (т.е. политический режим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аны изучае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географ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, государство -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политолог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, а общество -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социолог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аселение. Народ. Нац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аселени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является частью обществ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я в обществе не всегда означают, что изменилось население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е населения не всегда означает, что изменилось общество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е общества при неизменности населения может происходить при происходящих в нем реформах, могут появляться новые социальные группы, изменяться структура обществ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е населения – при массовых миграциях, при завоеваниях (в древние времена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аселение как часть общества занимает определенную территорию. В случае миграции человек утрачивает связь со своим обществом и попадает в ново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8:32:37Z</dcterms:created>
  <dc:creator>Галина Николаевна</dc:creator>
  <dc:description/>
  <dc:language>en-US</dc:language>
  <cp:lastModifiedBy>Olga</cp:lastModifiedBy>
  <dcterms:modified xsi:type="dcterms:W3CDTF">2012-09-13T15:42:06Z</dcterms:modified>
  <cp:revision>122</cp:revision>
  <dc:subject/>
  <dc:title>Единый государственный экзамен</dc:title>
</cp:coreProperties>
</file>