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426-71B5-4AA1-AA8D-F9FDE9EA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39A-212E-4F38-80DC-1DFF5F0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87A-87A9-4BD3-ADEE-D6BBB883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B04-ABF4-49B7-99E5-B4C863C5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A435-9A7C-4760-9F29-BF754E7D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8C11-C75A-40ED-A97F-69D499DE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860-91BA-4FCA-8795-F17B23D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31FA-25B9-4FAD-849C-0F212FB1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B2A-49DA-4F56-AA17-C4BBEB2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03D-92A0-46A8-B4A0-545F609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6022-32A0-4457-B155-38FCEFE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42B-72AF-4764-A6B8-9E462D25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677-8385-4F1E-9312-7499DCC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93C-98D6-45DE-A8D1-1177E30C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1E52-0A5E-4577-A4C4-8E04091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426-103A-438A-8C8E-0A659E6F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0C5E-4D18-490E-A7E7-B720D6FA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65-4E2B-42CC-8FEB-D9BB384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497-9AD6-409C-A748-D4077641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A8D-C593-4902-A071-5674CA5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A38-3D23-48F4-8D82-7BB5C8D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881-F48B-445A-B9B4-68FDAE3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BA2-6FFC-445F-AB52-C0DC6AB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C7A-4AE9-46BF-93A3-E0B58AE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B45-4B54-4072-8BEA-E0A53F0BA0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722-2D88-44DA-8F51-DF45A5ADA0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18920" y="4652640"/>
            <a:ext cx="655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ащиеся 4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ОУ «Семилуженской СОШ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Классный руководитель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одионова Марина Валер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07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391500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1700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Де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1700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3716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Великой  Отечественной 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712980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е  щадя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в огне вой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е жалея с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во  имя Род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Де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героической 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Бы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астоящими героя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ahoma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.Рождеств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ahoma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260280"/>
            <a:ext cx="849780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 войны это были самые обыкновенные мальчишки и девчонки. Учились, помогали старшим, играли, бегали и прыгали, разбивали носы и коленки. Их имена знали только родные, одноклассники да друзь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Пришёл час – они показали, каким огромным может стать маленькое детское сердце, когда разгорается в нём священная любовь к Родине и ненависть к её враг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ленькие герои большой войны. Они сражались рядом со старшими – отцами, братьями. Сражались повсюду. На море, как Боря Кулешин. В небе, как Аркаша Каманин. В партизанском отряде, как Лёня Голиков. В Брестской крепости, как Валя Зенкина. В катакомбах, как Володя Дубин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И ни на миг не дрогнули юные сердца. И назвали их люди геро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ш рассказ о судьбах ваших сверстников, чьё детство пришлось на годы Великой Отечественной войны. Конечно, их было больше, намного больше. Но и рассказ только о некоторых из тех, кого мы зовём теперь юными героями, поможет вам понять, какой великой ценойбыла достигнута Побе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пусть каждый задаст себе вопрос: «А я смог бы поступить так?» -   и, ответив самому себе искренне и честно, подумает, как надо сегодня жить и учиться, чтобы быть достойным памяти своих замечательных ровесников, юных граждан нашей стра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ЛЕНЯ ГОЛИКОВ. Рисунок художника В.Фомина "/>
          <p:cNvPicPr/>
          <p:nvPr/>
        </p:nvPicPr>
        <p:blipFill>
          <a:blip r:embed="rId1"/>
          <a:stretch/>
        </p:blipFill>
        <p:spPr>
          <a:xfrm>
            <a:off x="395280" y="549360"/>
            <a:ext cx="3529080" cy="38163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39640" y="4508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Лёня Гол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33360"/>
            <a:ext cx="44654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ос он в деревне Лукино, на берегу реки Поло, что впадает в легендарное Ильмень –озеро. Когда его родное село захватил враг, мальчик ушёл к партизана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Не раз он ходил в разведку, приносил важные сведения в отряд – и летели под откос вражеские поезда, машины, рушились мосты, горели вражеские склады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ыл в его жизни бой, который Лёня вёл один на один с фашистским генералом. Граната, брошенная мальчиком, подбила машину. Из неё выбрался гитлеровец с портфелем в руках и, отстреливаясь , бросился бежать. Лёня - за ним. Почти километр преследовал он врага и наконец сразил его. В портфеле были важные документы. Штаб переправил их в Моск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22936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А сколько было ещё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оёв в его недолгой жизни! И ни разу не дрогнул юный герой, сражавшийся плечом к плечу со взросл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Этот памятник стоит в центре Новгорода. Здесь Леня настоящий."/>
          <p:cNvPicPr/>
          <p:nvPr/>
        </p:nvPicPr>
        <p:blipFill>
          <a:blip r:embed="rId1"/>
          <a:stretch/>
        </p:blipFill>
        <p:spPr>
          <a:xfrm>
            <a:off x="755640" y="981000"/>
            <a:ext cx="3024360" cy="41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83664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н погиб под селом Острая Лука зимой 1943 года, когда особенно лютовал враг,  почувствовав что горит под ногами у него земля, что не будет ему пощад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772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2 апреля 1944 года был опубликован Указ  о присвоении  пионеру – партизану Лёне Голикову з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544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Советского Союз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ВАЛЯ КОТИК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250920" y="1125360"/>
            <a:ext cx="3024000" cy="309744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9528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Валя Ко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60280"/>
            <a:ext cx="5329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родился 11 февраля 1930года в селе Хмелёвка. Учился в городе Шепетовка, был признанным вожаком своих ровесни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гда в Шепетовку ворвались фашисты, Валя Котик вместе с друзьями решил бороться с врагом. Вале доверили быть связным и разведчиком своей подпольной организации. Он узнавал расположение вражеских постов, порядок смены караула.  Фашисты наметили карательную экспедицию против партизан, а Валя, выследив гитлеровского офицера, возглавлявшего карателей, убил ег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гда в городе начались аресты, Валя с семьёй ушли к партизанам. Шесть вражеских эшелонов, взорванных на пути к фронту, на его счету! Валя Котик был награждён медалью 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«Партизану Отечественной Войны» </a:t>
            </a:r>
            <a:r>
              <a:rPr b="1" i="1" lang="en-US" sz="1600" spc="-1" strike="noStrike">
                <a:solidFill>
                  <a:srgbClr val="00ff00"/>
                </a:solidFill>
                <a:latin typeface="Tahoma"/>
              </a:rPr>
              <a:t>II 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степени, орденом Отечественной войны </a:t>
            </a:r>
            <a:r>
              <a:rPr b="1" i="1" lang="en-US" sz="1600" spc="-1" strike="noStrike">
                <a:solidFill>
                  <a:srgbClr val="00ff00"/>
                </a:solidFill>
                <a:latin typeface="Tahoma"/>
              </a:rPr>
              <a:t>I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 степени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 Валя погиб как герой, и Родина посмертно удостоила его з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80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Verdana"/>
              </a:rPr>
              <a:t>Героя  Советского  Союз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МАРАТ КАЗЕЙ. Рисунок Кирсти Холли "/>
          <p:cNvPicPr/>
          <p:nvPr/>
        </p:nvPicPr>
        <p:blipFill>
          <a:blip r:embed="rId1"/>
          <a:stretch/>
        </p:blipFill>
        <p:spPr>
          <a:xfrm>
            <a:off x="539640" y="1125360"/>
            <a:ext cx="3097440" cy="37436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6836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Марат Ка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333360"/>
            <a:ext cx="4681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йна обрушилась на белорусскую землю. В деревню, где жил Марат, ворвались фашисты. Осенью ему не пришлось уже ходить в 5 класс. Школьное здание превратили в казарму. За связь с партизанами, маму Марта фашисты повесили  . Вместе с сестрой Адой, он ушёл к партизанам в Станьковский лес. Он стал разведчиком в штабе партизанской бригады. Проникал во вражеские гарнизоны и доставлял командованию ценные сведения. Используя эти данные,  партизаны  разработали операцию и разгромили фашистский гарнизон в городе Дзержинске…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месте с опытными подрывниками Марат минировал железную дорогу. Участвовал в боях и неизменно проявлял отвагу, бесстрашие.  Марат погиб в бою. Сражался до последнего патрона, а когда у него осталась лишь одна граната, подпустил врагов поближе и взорвал их … и себ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 мужество и отвагу Марат Казей был удостоен з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734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 Советского  Сою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ВАСЯ КОРОБКО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324000" y="1052640"/>
            <a:ext cx="3240000" cy="3528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95280" y="479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Вася Короб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260280"/>
            <a:ext cx="4968720" cy="60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 окраине села Погорельцы, прикрывая отход наших частей, оборону держала рота. Патроны бойцам подносил мальчик.  Звали его Вася Коробк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очью, к зданию школы, занятому фашистами, подкрадывается Вася. Он пробирается в комнату, выносит пионерское знамя и надёжно прячет е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д мостом Вася. Он вытаскивает железные скобы, подпиливает сваи, а на  рассвете наблюдает,  как рушится мост под тяжестью немецких бронетранспортёров. В те дни партизаны убедились, что ему можно доверять, и  через некоторое время поручили Васе серьёзное дело: стать разведчиком в самом логове врага. Он стал топить печи в штабе, колоть дрова, а сам присматривается, передаёт сведения партизанам.  Вместе с партизанами Вася уничтожил 9 эшелонов,  сотни гитлеровцев. В одном из боёв он был сражён вражеской пул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Маленького героя Родина наградила орденами  Ленина, Красного Знамени, Отечественной войны</a:t>
            </a: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 I </a:t>
            </a: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степени, медалью «Партизану Отечественной войны» </a:t>
            </a: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I</a:t>
            </a: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 степ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АЛЕКСАНДР БОРОДУЛИН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539640" y="836640"/>
            <a:ext cx="3384720" cy="360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79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Александр Бороду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33360"/>
            <a:ext cx="4392360" cy="58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Шла война. Над посёлком, где жил Саша, надрывно гудели вражеские бомбардировщики. Не мог этого вынести Саша Бородулин. Он решил бороться. Раздобыл винтовку. Убив немецкого мотоциклиста, взял первый боевой трофей-настоящий немецкий автомат. Вместе с партизанами ходил он в разведку. Немало вражеских солдат и  машин на его счету. Каратели выследили отряд. Тогда командир вызвал добровольцев – прикрыть отход отряда. Саша первым шагнул вперёд.  Пятеро приняли бой. Один за другим они погибли. Саша остался один. Бой шёл до конца. Он позволил немцам сомкнуть кольцо вокруг себя кольцо. И тогда Саша Бородулин выхватил гранату и взорвал их и себя.  Саша погиб, но память о них ж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За выполнение опасных заданий и проявленное мужество зимой 1941 года Саша Бородулин был награждё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321440" cy="31035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859280" y="0"/>
            <a:ext cx="428472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Отважная юная пионерка была зверски замучена, но до последней минуты оставалась стойкой, мужественной, несгибаемой.    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22936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Tahoma"/>
              </a:rPr>
              <a:t>И Родина  посмертно отметила её подвиг высшим зва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  СОВЕТСКОГО СОЮ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149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Зина  Порт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0:21:08Z</dcterms:created>
  <dc:creator>Admin</dc:creator>
  <dc:description/>
  <dc:language>en-US</dc:language>
  <cp:lastModifiedBy>КарМаН</cp:lastModifiedBy>
  <dcterms:modified xsi:type="dcterms:W3CDTF">2012-01-23T08:31:07Z</dcterms:modified>
  <cp:revision>24</cp:revision>
  <dc:subject/>
  <dc:title>Дети – герои  Великой Отечественной войны.</dc:title>
</cp:coreProperties>
</file>