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722-5727-484B-B55D-6AEDCF22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E9F-7642-4E99-B9D7-F979DCE6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8A1D-BCB7-460B-9789-068452FD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BA3-9BDD-4A23-8C39-EB541E27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BD6A-1258-49D5-95E4-F2495E25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3919-023C-4A81-81FC-E8E4D8D7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9D07-B206-44DE-A475-289C26A6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4F8D-941E-4BF8-BEB8-FFC24B64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DB51-4433-44C2-B650-295CA88C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5D22-7229-406E-B6DE-FDC17980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8AE1-67C0-469D-98C2-3F846A5C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C8C-57E2-4938-B92E-10CC1C27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81E7-2321-4B09-B444-2AB2DA93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0262-5581-43E1-8149-69B88D63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9DFF-38FF-4F56-A73E-BC36D907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D761-6C9B-4092-ADB3-774D97E0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5C9C-C54A-4F0D-85BA-CB806300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5F98-4025-4764-9D0D-7FFBE2B7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CD8-F7F7-42BF-94BC-242FA608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6DD-25DD-408C-9BC8-7A0FBCA1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457-5A89-4F8F-884A-181A0D3D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55A-EC4A-4314-B8C8-FDF2B684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E09-AA5A-49C4-8887-C2D4AE8F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A43-D625-45FA-AE13-2048FA22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CFCF-EA9B-4973-8B05-AF9D35D1AB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8A20-AC97-41F1-B5CE-5C9760BBF5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618920" y="4652640"/>
            <a:ext cx="6553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чащиеся 4 клас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МОУ «Семилуженской СОШ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Классный руководитель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Родионова Марина Валерьев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007 г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71640" y="115920"/>
            <a:ext cx="3915000" cy="3581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1700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Де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1700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геро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3716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Великой  Отечественной  вой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89000"/>
            <a:ext cx="712980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Не  щадя себ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           </a:t>
            </a: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в огне войн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Не жалея с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           </a:t>
            </a: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во  имя Родин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Де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           </a:t>
            </a: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героической  стр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Бы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          </a:t>
            </a:r>
            <a:r>
              <a:rPr b="1" i="1" lang="en-US" sz="3200" spc="-1" strike="noStrike">
                <a:solidFill>
                  <a:srgbClr val="ff9900"/>
                </a:solidFill>
                <a:latin typeface="Tahoma"/>
              </a:rPr>
              <a:t>настоящими героям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ahoma"/>
              </a:rPr>
              <a:t>       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Р.Рождестве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Tahoma"/>
              </a:rPr>
              <a:t>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260280"/>
            <a:ext cx="8497800" cy="62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 войны это были самые обыкновенные мальчишки и девчонки. Учились, помогали старшим, играли, бегали и прыгали, разбивали носы и коленки. Их имена знали только родные, одноклассники да друзь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Пришёл час – они показали, каким огромным может стать маленькое детское сердце, когда разгорается в нём священная любовь к Родине и ненависть к её враг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ленькие герои большой войны. Они сражались рядом со старшими – отцами, братьями. Сражались повсюду. На море, как Боря Кулешин. В небе, как Аркаша Каманин. В партизанском отряде, как Лёня Голиков. В Брестской крепости, как Валя Зенкина. В катакомбах, как Володя Дубини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И ни на миг не дрогнули юные сердца. И назвали их люди геро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ш рассказ о судьбах ваших сверстников, чьё детство пришлось на годы Великой Отечественной войны. Конечно, их было больше, намного больше. Но и рассказ только о некоторых из тех, кого мы зовём теперь юными героями, поможет вам понять, какой великой ценойбыла достигнута Побед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 пусть каждый задаст себе вопрос: «А я смог бы поступить так?» -   и, ответив самому себе искренне и честно, подумает, как надо сегодня жить и учиться, чтобы быть достойным памяти своих замечательных ровесников, юных граждан нашей стра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ЛЕНЯ ГОЛИКОВ. Рисунок художника В.Фомина "/>
          <p:cNvPicPr/>
          <p:nvPr/>
        </p:nvPicPr>
        <p:blipFill>
          <a:blip r:embed="rId1"/>
          <a:stretch/>
        </p:blipFill>
        <p:spPr>
          <a:xfrm>
            <a:off x="395280" y="549360"/>
            <a:ext cx="3529080" cy="381636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539640" y="4508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Лёня Гол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33360"/>
            <a:ext cx="446544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Рос он в деревне Лукино, на берегу реки Поло, что впадает в легендарное Ильмень –озеро. Когда его родное село захватил враг, мальчик ушёл к партизана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Не раз он ходил в разведку, приносил важные сведения в отряд – и летели под откос вражеские поезда, машины, рушились мосты, горели вражеские склады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Был в его жизни бой, который Лёня вёл один на один с фашистским генералом. Граната, брошенная мальчиком, подбила машину. Из неё выбрался гитлеровец с портфелем в руках и, отстреливаясь , бросился бежать. Лёня - за ним. Почти километр преследовал он врага и наконец сразил его. В портфеле были важные документы. Штаб переправил их в Москв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229360"/>
            <a:ext cx="842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А сколько было ещё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боёв в его недолгой жизни! И ни разу не дрогнул юный герой, сражавшийся плечом к плечу со взрослы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Этот памятник стоит в центре Новгорода. Здесь Леня настоящий."/>
          <p:cNvPicPr/>
          <p:nvPr/>
        </p:nvPicPr>
        <p:blipFill>
          <a:blip r:embed="rId1"/>
          <a:stretch/>
        </p:blipFill>
        <p:spPr>
          <a:xfrm>
            <a:off x="755640" y="981000"/>
            <a:ext cx="3024360" cy="410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56000" y="83664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н погиб под селом Острая Лука зимой 1943 года, когда особенно лютовал враг,  почувствовав что горит под ногами у него земля, что не будет ему пощады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3357720"/>
            <a:ext cx="41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ahoma"/>
              </a:rPr>
              <a:t>2 апреля 1944 года был опубликован Указ  о присвоении  пионеру – партизану Лёне Голикову з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544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ahoma"/>
              </a:rPr>
              <a:t>Героя Советского Союз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ВАЛЯ КОТИК. Иллюстрация из книги _Пионеры-герои_ "/>
          <p:cNvPicPr/>
          <p:nvPr/>
        </p:nvPicPr>
        <p:blipFill>
          <a:blip r:embed="rId1"/>
          <a:stretch/>
        </p:blipFill>
        <p:spPr>
          <a:xfrm>
            <a:off x="250920" y="1125360"/>
            <a:ext cx="3024000" cy="309744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395280" y="4365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Валя Кот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260280"/>
            <a:ext cx="532944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н родился 11 февраля 1930года в селе Хмелёвка. Учился в городе Шепетовка, был признанным вожаком своих ровесник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гда в Шепетовку ворвались фашисты, Валя Котик вместе с друзьями решил бороться с врагом. Вале доверили быть связным и разведчиком своей подпольной организации. Он узнавал расположение вражеских постов, порядок смены караула.  Фашисты наметили карательную экспедицию против партизан, а Валя, выследив гитлеровского офицера, возглавлявшего карателей, убил его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гда в городе начались аресты, Валя с семьёй ушли к партизанам. Шесть вражеских эшелонов, взорванных на пути к фронту, на его счету! Валя Котик был награждён медалью </a:t>
            </a:r>
            <a:r>
              <a:rPr b="1" i="1" lang="ru-RU" sz="1600" spc="-1" strike="noStrike">
                <a:solidFill>
                  <a:srgbClr val="00ff00"/>
                </a:solidFill>
                <a:latin typeface="Tahoma"/>
              </a:rPr>
              <a:t>«Партизану Отечественной Войны» </a:t>
            </a:r>
            <a:r>
              <a:rPr b="1" i="1" lang="en-US" sz="1600" spc="-1" strike="noStrike">
                <a:solidFill>
                  <a:srgbClr val="00ff00"/>
                </a:solidFill>
                <a:latin typeface="Tahoma"/>
              </a:rPr>
              <a:t>II </a:t>
            </a:r>
            <a:r>
              <a:rPr b="1" i="1" lang="ru-RU" sz="1600" spc="-1" strike="noStrike">
                <a:solidFill>
                  <a:srgbClr val="00ff00"/>
                </a:solidFill>
                <a:latin typeface="Tahoma"/>
              </a:rPr>
              <a:t>степени, орденом Отечественной войны </a:t>
            </a:r>
            <a:r>
              <a:rPr b="1" i="1" lang="en-US" sz="1600" spc="-1" strike="noStrike">
                <a:solidFill>
                  <a:srgbClr val="00ff00"/>
                </a:solidFill>
                <a:latin typeface="Tahoma"/>
              </a:rPr>
              <a:t>I</a:t>
            </a:r>
            <a:r>
              <a:rPr b="1" i="1" lang="ru-RU" sz="1600" spc="-1" strike="noStrike">
                <a:solidFill>
                  <a:srgbClr val="00ff00"/>
                </a:solidFill>
                <a:latin typeface="Tahoma"/>
              </a:rPr>
              <a:t> степени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 Валя погиб как герой, и Родина посмертно удостоила его з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580536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Verdana"/>
              </a:rPr>
              <a:t>Героя  Советского  Союз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МАРАТ КАЗЕЙ. Рисунок Кирсти Холли "/>
          <p:cNvPicPr/>
          <p:nvPr/>
        </p:nvPicPr>
        <p:blipFill>
          <a:blip r:embed="rId1"/>
          <a:stretch/>
        </p:blipFill>
        <p:spPr>
          <a:xfrm>
            <a:off x="539640" y="1125360"/>
            <a:ext cx="3097440" cy="37436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46836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Марат Каз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333360"/>
            <a:ext cx="4681440" cy="50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ойна обрушилась на белорусскую землю. В деревню, где жил Марат, ворвались фашисты. Осенью ему не пришлось уже ходить в 5 класс. Школьное здание превратили в казарму. За связь с партизанами, маму Марта фашисты повесили  . Вместе с сестрой Адой, он ушёл к партизанам в Станьковский лес. Он стал разведчиком в штабе партизанской бригады. Проникал во вражеские гарнизоны и доставлял командованию ценные сведения. Используя эти данные,  партизаны  разработали операцию и разгромили фашистский гарнизон в городе Дзержинске…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месте с опытными подрывниками Марат минировал железную дорогу. Участвовал в боях и неизменно проявлял отвагу, бесстрашие.  Марат погиб в бою. Сражался до последнего патрона, а когда у него осталась лишь одна граната, подпустил врагов поближе и взорвал их … и себ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За мужество и отвагу Марат Казей был удостоен зв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57340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ahoma"/>
              </a:rPr>
              <a:t>Героя  Советского  Сою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ВАСЯ КОРОБКО. Иллюстрация из книги _Пионеры-герои_ "/>
          <p:cNvPicPr/>
          <p:nvPr/>
        </p:nvPicPr>
        <p:blipFill>
          <a:blip r:embed="rId1"/>
          <a:stretch/>
        </p:blipFill>
        <p:spPr>
          <a:xfrm>
            <a:off x="324000" y="1052640"/>
            <a:ext cx="3240000" cy="35287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395280" y="4797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Вася Короб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260280"/>
            <a:ext cx="4968720" cy="60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а окраине села Погорельцы, прикрывая отход наших частей, оборону держала рота. Патроны бойцам подносил мальчик.  Звали его Вася Коробко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очью, к зданию школы, занятому фашистами, подкрадывается Вася. Он пробирается в комнату, выносит пионерское знамя и надёжно прячет его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од мостом Вася. Он вытаскивает железные скобы, подпиливает сваи, а на  рассвете наблюдает,  как рушится мост под тяжестью немецких бронетранспортёров. В те дни партизаны убедились, что ему можно доверять, и  через некоторое время поручили Васе серьёзное дело: стать разведчиком в самом логове врага. Он стал топить печи в штабе, колоть дрова, а сам присматривается, передаёт сведения партизанам.  Вместе с партизанами Вася уничтожил 9 эшелонов,  сотни гитлеровцев. В одном из боёв он был сражён вражеской пул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Tahoma"/>
              </a:rPr>
              <a:t>Маленького героя Родина наградила орденами  Ленина, Красного Знамени, Отечественной войны</a:t>
            </a:r>
            <a:r>
              <a:rPr b="1" i="1" lang="en-US" sz="2000" spc="-1" strike="noStrike">
                <a:solidFill>
                  <a:srgbClr val="00ff00"/>
                </a:solidFill>
                <a:latin typeface="Tahoma"/>
              </a:rPr>
              <a:t> I </a:t>
            </a:r>
            <a:r>
              <a:rPr b="1" i="1" lang="ru-RU" sz="2000" spc="-1" strike="noStrike">
                <a:solidFill>
                  <a:srgbClr val="00ff00"/>
                </a:solidFill>
                <a:latin typeface="Tahoma"/>
              </a:rPr>
              <a:t>степени, медалью «Партизану Отечественной войны» </a:t>
            </a:r>
            <a:r>
              <a:rPr b="1" i="1" lang="en-US" sz="2000" spc="-1" strike="noStrike">
                <a:solidFill>
                  <a:srgbClr val="00ff00"/>
                </a:solidFill>
                <a:latin typeface="Tahoma"/>
              </a:rPr>
              <a:t>I</a:t>
            </a:r>
            <a:r>
              <a:rPr b="1" i="1" lang="ru-RU" sz="2000" spc="-1" strike="noStrike">
                <a:solidFill>
                  <a:srgbClr val="00ff00"/>
                </a:solidFill>
                <a:latin typeface="Tahoma"/>
              </a:rPr>
              <a:t> степ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АЛЕКСАНДР БОРОДУЛИН. Иллюстрация из книги _Пионеры-герои_ "/>
          <p:cNvPicPr/>
          <p:nvPr/>
        </p:nvPicPr>
        <p:blipFill>
          <a:blip r:embed="rId1"/>
          <a:stretch/>
        </p:blipFill>
        <p:spPr>
          <a:xfrm>
            <a:off x="539640" y="836640"/>
            <a:ext cx="3384720" cy="360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4797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Александр Бородул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333360"/>
            <a:ext cx="4392360" cy="58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Шла война. Над посёлком, где жил Саша, надрывно гудели вражеские бомбардировщики. Не мог этого вынести Саша Бородулин. Он решил бороться. Раздобыл винтовку. Убив немецкого мотоциклиста, взял первый боевой трофей-настоящий немецкий автомат. Вместе с партизанами ходил он в разведку. Немало вражеских солдат и  машин на его счету. Каратели выследили отряд. Тогда командир вызвал добровольцев – прикрыть отход отряда. Саша первым шагнул вперёд.  Пятеро приняли бой. Один за другим они погибли. Саша остался один. Бой шёл до конца. Он позволил немцам сомкнуть кольцо вокруг себя кольцо. И тогда Саша Бородулин выхватил гранату и взорвал их и себя.  Саша погиб, но память о них жи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Tahoma"/>
              </a:rPr>
              <a:t>За выполнение опасных заданий и проявленное мужество зимой 1941 года Саша Бородулин был награждён орденом Красного Зна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4321440" cy="310356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859280" y="0"/>
            <a:ext cx="4284720" cy="55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   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   Отважная юная пионерка была зверски замучена, но до последней минуты оставалась стойкой, мужественной, несгибаемой.    </a:t>
            </a:r>
            <a:br>
              <a:rPr sz="1400"/>
            </a:br>
            <a:br>
              <a:rPr sz="12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5084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22936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00"/>
                </a:solidFill>
                <a:latin typeface="Tahoma"/>
              </a:rPr>
              <a:t>И Родина  посмертно отметила её подвиг высшим зва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ahoma"/>
              </a:rPr>
              <a:t>ГЕРОЯ   СОВЕТСКОГО СОЮ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4149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Зина  Портн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10:21:08Z</dcterms:created>
  <dc:creator>Admin</dc:creator>
  <dc:description/>
  <dc:language>en-US</dc:language>
  <cp:lastModifiedBy>КарМаН</cp:lastModifiedBy>
  <dcterms:modified xsi:type="dcterms:W3CDTF">2012-01-23T08:31:07Z</dcterms:modified>
  <cp:revision>24</cp:revision>
  <dc:subject/>
  <dc:title>Дети – герои  Великой Отечественной войны.</dc:title>
</cp:coreProperties>
</file>