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push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29.png" ContentType="image/png"/>
  <Override PartName="/ppt/media/wind.wav" ContentType="audio/x-wav"/>
  <Override PartName="/ppt/media/image4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40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bomb.wav" ContentType="audio/x-wav"/>
  <Override PartName="/ppt/media/image27.png" ContentType="image/png"/>
  <Override PartName="/ppt/media/image34.png" ContentType="image/png"/>
  <Override PartName="/ppt/media/image4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suction.wav" ContentType="audio/x-wav"/>
  <Override PartName="/ppt/media/image25.png" ContentType="image/png"/>
  <Override PartName="/ppt/media/explode.wav" ContentType="audio/x-wav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9BD-30BE-4AC0-9CAE-944BBF15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106-1F03-44FE-B2D9-F512158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CE4-68F9-4790-8EBB-91CC79EA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49D-884F-4C2B-9248-E8A253C7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843-4693-4FF0-A36D-37D4C39E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630-AECD-4964-8CA1-88A7CEE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59B-F3E1-4F99-A444-BBDAB596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17E-287B-402A-B918-F179F313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471-25D5-4552-8938-B1D53DE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B87-4415-4511-A934-7892FAB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A82-D206-425A-9B4C-6E23AEE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675-4FBA-4ABC-B88F-73932FB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31F-AFD7-4176-B46C-D9EE7DFE6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audio" Target="../media/chimes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audio" Target="../media/bomb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755640" y="749160"/>
            <a:ext cx="7772400" cy="24148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2"/>
          <a:stretch/>
        </p:blipFill>
        <p:spPr>
          <a:xfrm>
            <a:off x="1500120" y="2816280"/>
            <a:ext cx="64976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" descr=""/>
          <p:cNvPicPr/>
          <p:nvPr/>
        </p:nvPicPr>
        <p:blipFill>
          <a:blip r:embed="rId2"/>
          <a:stretch/>
        </p:blipFill>
        <p:spPr>
          <a:xfrm>
            <a:off x="774720" y="2219400"/>
            <a:ext cx="2144520" cy="86508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3"/>
          <a:stretch/>
        </p:blipFill>
        <p:spPr>
          <a:xfrm>
            <a:off x="3511440" y="2219400"/>
            <a:ext cx="2146320" cy="86508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5" descr=""/>
          <p:cNvPicPr/>
          <p:nvPr/>
        </p:nvPicPr>
        <p:blipFill>
          <a:blip r:embed="rId4"/>
          <a:stretch/>
        </p:blipFill>
        <p:spPr>
          <a:xfrm>
            <a:off x="6534000" y="2219400"/>
            <a:ext cx="19083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10" name="Управляющая кнопка: далее 6"/>
          <p:cNvGrpSpPr/>
          <p:nvPr/>
        </p:nvGrpSpPr>
        <p:grpSpPr>
          <a:xfrm>
            <a:off x="6815160" y="4906800"/>
            <a:ext cx="1158840" cy="860760"/>
            <a:chOff x="6815160" y="4906800"/>
            <a:chExt cx="1158840" cy="860760"/>
          </a:xfrm>
        </p:grpSpPr>
        <p:pic>
          <p:nvPicPr>
            <p:cNvPr id="111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815160" y="4906800"/>
              <a:ext cx="115884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"/>
            <p:cNvSpPr/>
            <p:nvPr/>
          </p:nvSpPr>
          <p:spPr>
            <a:xfrm>
              <a:off x="6875640" y="4941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69800" y="353880"/>
            <a:ext cx="8272440" cy="173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258920" y="220500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мф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3203640" y="4869000"/>
            <a:ext cx="26636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050920" y="350028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ю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Управляющая кнопка: далее 5"/>
          <p:cNvGrpSpPr/>
          <p:nvPr/>
        </p:nvGrpSpPr>
        <p:grpSpPr>
          <a:xfrm>
            <a:off x="7102440" y="5334120"/>
            <a:ext cx="1157400" cy="865080"/>
            <a:chOff x="7102440" y="5334120"/>
            <a:chExt cx="1157400" cy="865080"/>
          </a:xfrm>
        </p:grpSpPr>
        <p:pic>
          <p:nvPicPr>
            <p:cNvPr id="11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02440" y="5334120"/>
              <a:ext cx="1157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"/>
            <p:cNvSpPr/>
            <p:nvPr/>
          </p:nvSpPr>
          <p:spPr>
            <a:xfrm>
              <a:off x="7164360" y="5373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669960" y="40176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633240" y="1944720"/>
            <a:ext cx="5670720" cy="7063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3" descr=""/>
          <p:cNvPicPr/>
          <p:nvPr/>
        </p:nvPicPr>
        <p:blipFill>
          <a:blip r:embed="rId3"/>
          <a:stretch/>
        </p:blipFill>
        <p:spPr>
          <a:xfrm>
            <a:off x="665280" y="2762280"/>
            <a:ext cx="3552840" cy="105408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4" descr=""/>
          <p:cNvPicPr/>
          <p:nvPr/>
        </p:nvPicPr>
        <p:blipFill>
          <a:blip r:embed="rId4"/>
          <a:stretch/>
        </p:blipFill>
        <p:spPr>
          <a:xfrm>
            <a:off x="633240" y="4035600"/>
            <a:ext cx="4975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24" name="Управляющая кнопка: далее 5"/>
          <p:cNvGrpSpPr/>
          <p:nvPr/>
        </p:nvGrpSpPr>
        <p:grpSpPr>
          <a:xfrm>
            <a:off x="6961320" y="5267160"/>
            <a:ext cx="1334880" cy="901800"/>
            <a:chOff x="6961320" y="5267160"/>
            <a:chExt cx="1334880" cy="901800"/>
          </a:xfrm>
        </p:grpSpPr>
        <p:pic>
          <p:nvPicPr>
            <p:cNvPr id="12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961320" y="5267160"/>
              <a:ext cx="1334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7"/>
            <p:cNvSpPr/>
            <p:nvPr/>
          </p:nvSpPr>
          <p:spPr>
            <a:xfrm>
              <a:off x="7020000" y="5300640"/>
              <a:ext cx="122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2"/>
          <a:stretch/>
        </p:blipFill>
        <p:spPr>
          <a:xfrm>
            <a:off x="695160" y="1494000"/>
            <a:ext cx="3681720" cy="12855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95160" y="2571840"/>
            <a:ext cx="3681720" cy="1287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4"/>
          <a:stretch/>
        </p:blipFill>
        <p:spPr>
          <a:xfrm>
            <a:off x="695160" y="3657600"/>
            <a:ext cx="36817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7" name="Управляющая кнопка: далее 6"/>
          <p:cNvGrpSpPr/>
          <p:nvPr/>
        </p:nvGrpSpPr>
        <p:grpSpPr>
          <a:xfrm>
            <a:off x="7029360" y="5479920"/>
            <a:ext cx="1054080" cy="901800"/>
            <a:chOff x="7029360" y="5479920"/>
            <a:chExt cx="1054080" cy="901800"/>
          </a:xfrm>
        </p:grpSpPr>
        <p:pic>
          <p:nvPicPr>
            <p:cNvPr id="4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029360" y="547992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7"/>
            <p:cNvSpPr/>
            <p:nvPr/>
          </p:nvSpPr>
          <p:spPr>
            <a:xfrm>
              <a:off x="7093080" y="5516640"/>
              <a:ext cx="934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4940280" y="1479600"/>
            <a:ext cx="31431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63680" y="341280"/>
            <a:ext cx="82422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2" name="Шестиугольник 2"/>
          <p:cNvGrpSpPr/>
          <p:nvPr/>
        </p:nvGrpSpPr>
        <p:grpSpPr>
          <a:xfrm>
            <a:off x="841320" y="2309760"/>
            <a:ext cx="3213000" cy="1262160"/>
            <a:chOff x="841320" y="2309760"/>
            <a:chExt cx="3213000" cy="1262160"/>
          </a:xfrm>
        </p:grpSpPr>
        <p:pic>
          <p:nvPicPr>
            <p:cNvPr id="53" name="Шестиугольник 2" descr=""/>
            <p:cNvPicPr/>
            <p:nvPr/>
          </p:nvPicPr>
          <p:blipFill>
            <a:blip r:embed="rId2"/>
            <a:stretch/>
          </p:blipFill>
          <p:spPr>
            <a:xfrm>
              <a:off x="841320" y="2309760"/>
              <a:ext cx="3213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1392120" y="2481120"/>
              <a:ext cx="23878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ре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Шестиугольник 3"/>
          <p:cNvGrpSpPr/>
          <p:nvPr/>
        </p:nvGrpSpPr>
        <p:grpSpPr>
          <a:xfrm>
            <a:off x="5084640" y="2243160"/>
            <a:ext cx="3211560" cy="1262160"/>
            <a:chOff x="5084640" y="2243160"/>
            <a:chExt cx="3211560" cy="1262160"/>
          </a:xfrm>
        </p:grpSpPr>
        <p:pic>
          <p:nvPicPr>
            <p:cNvPr id="56" name="Шестиугольник 3" descr=""/>
            <p:cNvPicPr/>
            <p:nvPr/>
          </p:nvPicPr>
          <p:blipFill>
            <a:blip r:embed="rId3"/>
            <a:stretch/>
          </p:blipFill>
          <p:spPr>
            <a:xfrm>
              <a:off x="5084640" y="2243160"/>
              <a:ext cx="3211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/>
            <p:cNvSpPr/>
            <p:nvPr/>
          </p:nvSpPr>
          <p:spPr>
            <a:xfrm>
              <a:off x="5502240" y="2408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мор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Шестиугольник 4"/>
          <p:cNvGrpSpPr/>
          <p:nvPr/>
        </p:nvGrpSpPr>
        <p:grpSpPr>
          <a:xfrm>
            <a:off x="3071880" y="4475160"/>
            <a:ext cx="3213000" cy="1260360"/>
            <a:chOff x="3071880" y="4475160"/>
            <a:chExt cx="3213000" cy="1260360"/>
          </a:xfrm>
        </p:grpSpPr>
        <p:pic>
          <p:nvPicPr>
            <p:cNvPr id="59" name="Шестиугольник 4" descr=""/>
            <p:cNvPicPr/>
            <p:nvPr/>
          </p:nvPicPr>
          <p:blipFill>
            <a:blip r:embed="rId4"/>
            <a:stretch/>
          </p:blipFill>
          <p:spPr>
            <a:xfrm>
              <a:off x="3071880" y="4475160"/>
              <a:ext cx="32130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3486240" y="4640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руч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Управляющая кнопка: далее 8"/>
          <p:cNvGrpSpPr/>
          <p:nvPr/>
        </p:nvGrpSpPr>
        <p:grpSpPr>
          <a:xfrm>
            <a:off x="7029360" y="5407200"/>
            <a:ext cx="1127160" cy="901440"/>
            <a:chOff x="7029360" y="5407200"/>
            <a:chExt cx="1127160" cy="901440"/>
          </a:xfrm>
        </p:grpSpPr>
        <p:pic>
          <p:nvPicPr>
            <p:cNvPr id="62" name="Управляющая кнопка: далее 8" descr=""/>
            <p:cNvPicPr/>
            <p:nvPr/>
          </p:nvPicPr>
          <p:blipFill>
            <a:blip r:embed="rId5"/>
            <a:stretch/>
          </p:blipFill>
          <p:spPr>
            <a:xfrm>
              <a:off x="7029360" y="5407200"/>
              <a:ext cx="1127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7093080" y="544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Выезжал ли Бах за пределы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Германии в течение своей жизн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3011400" y="4218120"/>
            <a:ext cx="5735880" cy="1804680"/>
          </a:xfrm>
          <a:prstGeom prst="rect">
            <a:avLst/>
          </a:prstGeom>
          <a:ln w="0">
            <a:noFill/>
          </a:ln>
        </p:spPr>
      </p:pic>
      <p:grpSp>
        <p:nvGrpSpPr>
          <p:cNvPr id="66" name="Управляющая кнопка: далее 5"/>
          <p:cNvGrpSpPr/>
          <p:nvPr/>
        </p:nvGrpSpPr>
        <p:grpSpPr>
          <a:xfrm>
            <a:off x="7524720" y="5751360"/>
            <a:ext cx="1047600" cy="828360"/>
            <a:chOff x="7524720" y="5751360"/>
            <a:chExt cx="1047600" cy="828360"/>
          </a:xfrm>
        </p:grpSpPr>
        <p:pic>
          <p:nvPicPr>
            <p:cNvPr id="6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524720" y="5751360"/>
              <a:ext cx="10476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7584840" y="5789160"/>
              <a:ext cx="93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1828800" y="2968560"/>
            <a:ext cx="2255760" cy="1414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4"/>
          <a:stretch/>
        </p:blipFill>
        <p:spPr>
          <a:xfrm>
            <a:off x="371520" y="1871640"/>
            <a:ext cx="17985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16826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484360" y="170028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Л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2484360" y="3357720"/>
            <a:ext cx="3743280" cy="1366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2484360" y="501336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Ф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4360" y="53737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с двумя скругленными соседними углами 2"/>
          <p:cNvSpPr/>
          <p:nvPr/>
        </p:nvSpPr>
        <p:spPr>
          <a:xfrm>
            <a:off x="1332000" y="1773360"/>
            <a:ext cx="3960720" cy="11509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с двумя скругленными соседними углами 3"/>
          <p:cNvSpPr/>
          <p:nvPr/>
        </p:nvSpPr>
        <p:spPr>
          <a:xfrm>
            <a:off x="1332000" y="342900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иф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соседними углами 4"/>
          <p:cNvSpPr/>
          <p:nvPr/>
        </p:nvSpPr>
        <p:spPr>
          <a:xfrm>
            <a:off x="1332000" y="501336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мофонно-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16436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835200" y="334800"/>
            <a:ext cx="7974000" cy="13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 какой ветви классицизма относится музыка И.С.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32-конечная звезда 2"/>
          <p:cNvGrpSpPr/>
          <p:nvPr/>
        </p:nvGrpSpPr>
        <p:grpSpPr>
          <a:xfrm>
            <a:off x="85680" y="1554120"/>
            <a:ext cx="4430880" cy="2706840"/>
            <a:chOff x="85680" y="1554120"/>
            <a:chExt cx="4430880" cy="2706840"/>
          </a:xfrm>
        </p:grpSpPr>
        <p:pic>
          <p:nvPicPr>
            <p:cNvPr id="83" name="32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85680" y="1554120"/>
              <a:ext cx="44308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1292400" y="2297160"/>
              <a:ext cx="20239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Роко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32-конечная звезда 4"/>
          <p:cNvGrpSpPr/>
          <p:nvPr/>
        </p:nvGrpSpPr>
        <p:grpSpPr>
          <a:xfrm>
            <a:off x="1706400" y="4011480"/>
            <a:ext cx="5585040" cy="2548080"/>
            <a:chOff x="1706400" y="4011480"/>
            <a:chExt cx="5585040" cy="2548080"/>
          </a:xfrm>
        </p:grpSpPr>
        <p:pic>
          <p:nvPicPr>
            <p:cNvPr id="86" name="32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1706400" y="4011480"/>
              <a:ext cx="558504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3201840" y="4711680"/>
              <a:ext cx="2597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Маньериз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32-конечная звезда 5"/>
          <p:cNvGrpSpPr/>
          <p:nvPr/>
        </p:nvGrpSpPr>
        <p:grpSpPr>
          <a:xfrm>
            <a:off x="4406760" y="1481040"/>
            <a:ext cx="4432320" cy="2706840"/>
            <a:chOff x="4406760" y="1481040"/>
            <a:chExt cx="4432320" cy="2706840"/>
          </a:xfrm>
        </p:grpSpPr>
        <p:pic>
          <p:nvPicPr>
            <p:cNvPr id="89" name="32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406760" y="1481040"/>
              <a:ext cx="44323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5611680" y="2225520"/>
              <a:ext cx="202428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Барок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682920"/>
          </a:xfrm>
          <a:custGeom>
            <a:avLst/>
            <a:gdLst>
              <a:gd name="textAreaLeft" fmla="*/ 44280 w 1079640"/>
              <a:gd name="textAreaRight" fmla="*/ 1035360 w 107964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34141" h="21600">
                <a:moveTo>
                  <a:pt x="0" y="0"/>
                </a:moveTo>
                <a:lnTo>
                  <a:pt x="34141" y="0"/>
                </a:lnTo>
                <a:lnTo>
                  <a:pt x="34141" y="21600"/>
                </a:lnTo>
                <a:lnTo>
                  <a:pt x="0" y="21600"/>
                </a:lnTo>
                <a:close/>
              </a:path>
              <a:path fill="lightenLess" w="34141" h="21600">
                <a:moveTo>
                  <a:pt x="0" y="0"/>
                </a:moveTo>
                <a:lnTo>
                  <a:pt x="34141" y="0"/>
                </a:lnTo>
                <a:lnTo>
                  <a:pt x="32741" y="1400"/>
                </a:lnTo>
                <a:lnTo>
                  <a:pt x="1400" y="1400"/>
                </a:lnTo>
                <a:close/>
              </a:path>
              <a:path fill="darken" w="34141" h="21600">
                <a:moveTo>
                  <a:pt x="34141" y="0"/>
                </a:moveTo>
                <a:lnTo>
                  <a:pt x="34141" y="21600"/>
                </a:lnTo>
                <a:lnTo>
                  <a:pt x="32741" y="20200"/>
                </a:lnTo>
                <a:lnTo>
                  <a:pt x="32741" y="1400"/>
                </a:lnTo>
                <a:close/>
              </a:path>
              <a:path fill="darkenLess" w="34141" h="21600">
                <a:moveTo>
                  <a:pt x="3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1" y="20200"/>
                </a:lnTo>
                <a:close/>
              </a:path>
              <a:path fill="lighten" w="3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41" h="21600">
                <a:moveTo>
                  <a:pt x="10064" y="3794"/>
                </a:moveTo>
                <a:lnTo>
                  <a:pt x="24077" y="10800"/>
                </a:lnTo>
                <a:lnTo>
                  <a:pt x="10064" y="17806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3365640" y="4565520"/>
            <a:ext cx="3187440" cy="111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ак еще называют мессу си-мино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2004840" y="3273480"/>
            <a:ext cx="3176640" cy="1109520"/>
          </a:xfrm>
          <a:prstGeom prst="rect">
            <a:avLst/>
          </a:prstGeom>
          <a:ln w="0">
            <a:noFill/>
          </a:ln>
        </p:spPr>
      </p:pic>
      <p:pic>
        <p:nvPicPr>
          <p:cNvPr id="95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920880" y="2048040"/>
            <a:ext cx="3181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96" name="Управляющая кнопка: далее 5"/>
          <p:cNvGrpSpPr/>
          <p:nvPr/>
        </p:nvGrpSpPr>
        <p:grpSpPr>
          <a:xfrm>
            <a:off x="7102440" y="5334120"/>
            <a:ext cx="1193760" cy="901440"/>
            <a:chOff x="7102440" y="5334120"/>
            <a:chExt cx="1193760" cy="901440"/>
          </a:xfrm>
        </p:grpSpPr>
        <p:pic>
          <p:nvPicPr>
            <p:cNvPr id="9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102440" y="5334120"/>
              <a:ext cx="11937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7"/>
            <p:cNvSpPr/>
            <p:nvPr/>
          </p:nvSpPr>
          <p:spPr>
            <a:xfrm>
              <a:off x="7164360" y="5373720"/>
              <a:ext cx="107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63680" y="41436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с двумя скругленными противолежащими углами 3"/>
          <p:cNvSpPr/>
          <p:nvPr/>
        </p:nvSpPr>
        <p:spPr>
          <a:xfrm>
            <a:off x="111600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и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с двумя скругленными противолежащими углами 5"/>
          <p:cNvSpPr/>
          <p:nvPr/>
        </p:nvSpPr>
        <p:spPr>
          <a:xfrm>
            <a:off x="529272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с двумя скругленными противолежащими углами 6"/>
          <p:cNvSpPr/>
          <p:nvPr/>
        </p:nvSpPr>
        <p:spPr>
          <a:xfrm>
            <a:off x="2987640" y="407664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Управляющая кнопка: далее 7"/>
          <p:cNvGrpSpPr/>
          <p:nvPr/>
        </p:nvGrpSpPr>
        <p:grpSpPr>
          <a:xfrm>
            <a:off x="7102440" y="5334120"/>
            <a:ext cx="1054080" cy="834840"/>
            <a:chOff x="7102440" y="5334120"/>
            <a:chExt cx="1054080" cy="834840"/>
          </a:xfrm>
        </p:grpSpPr>
        <p:pic>
          <p:nvPicPr>
            <p:cNvPr id="104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02440" y="5334120"/>
              <a:ext cx="1054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/>
            <p:cNvSpPr/>
            <p:nvPr/>
          </p:nvSpPr>
          <p:spPr>
            <a:xfrm>
              <a:off x="7164360" y="5373720"/>
              <a:ext cx="936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8:54:14Z</dcterms:created>
  <dc:creator>user</dc:creator>
  <dc:description/>
  <dc:language>en-US</dc:language>
  <cp:lastModifiedBy>олеся</cp:lastModifiedBy>
  <dcterms:modified xsi:type="dcterms:W3CDTF">2012-02-23T09:53:18Z</dcterms:modified>
  <cp:revision>51</cp:revision>
  <dc:subject/>
  <dc:title>Тесты по музыке  «Хочу все знать»</dc:title>
</cp:coreProperties>
</file>