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16B-4EFA-42AB-9DC3-F942152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EDE-79DC-4579-9749-A3FE3FC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6B5-B18B-4947-A689-2C0E9314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457-FB62-4C13-B44E-F6EB0E4D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018-265A-4CB0-AAFC-A149AC5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88BF-EA40-4FE9-AB96-BBE806C6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898-C4D8-4AF0-8498-9280FD24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2D97-1312-4DF1-9F22-2845E139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C04-41A7-4C78-9DF9-B08ABEFE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4EB6-925D-45BC-AF9B-2486F32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4384-CA53-407D-9CDD-8213589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583-A9AC-49EF-B2FC-F65C5E49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CB8-7DC4-43D8-8BE6-3EAD88C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FD29-CC24-49D7-8231-20D8090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1A12-816E-4823-90AB-67067EF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32A-5542-47D6-8F3E-D8C79F72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23B2-E819-44EF-9FB4-240E52F7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E80-84A8-4139-9640-3501645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FF1-D9B1-44DD-8E74-B7DE5AF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29B-71E2-4572-BB2E-D7E2CFD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F80-09C0-4A4E-959E-A1444D0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2DD-09BA-488E-9705-C6757C7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0C1-B220-45E4-8053-196AD74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7B0-EFD7-4739-8465-12BABF9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A7F-D542-4E44-A631-6547FA007F0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9F51-C9FB-4AA2-9969-06115F3E3971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Impact"/>
              </a:rPr>
              <a:t>презентация по истории России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3366ff"/>
                </a:solidFill>
                <a:latin typeface="Impact"/>
              </a:rPr>
              <a:t>Петр Аркадьевич Столыпин </a:t>
            </a:r>
            <a:br>
              <a:rPr sz="4400"/>
            </a:br>
            <a:r>
              <a:rPr b="1" lang="ru-RU" sz="4400" spc="-1" strike="noStrike">
                <a:solidFill>
                  <a:srgbClr val="3366ff"/>
                </a:solidFill>
                <a:latin typeface="Impact"/>
              </a:rPr>
              <a:t>и его реформы</a:t>
            </a:r>
            <a:br>
              <a:rPr sz="4400"/>
            </a:b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85680" y="3786120"/>
            <a:ext cx="6072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11класс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выполнила: учитель истории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высшей категор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Путиловская В.В.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1a9a"/>
                </a:solidFill>
                <a:latin typeface="Tahoma"/>
              </a:rPr>
              <a:t>Указ 9 ноября 1906 года</a:t>
            </a:r>
            <a:br>
              <a:rPr sz="3600"/>
            </a:br>
            <a:r>
              <a:rPr b="1" lang="ru-RU" sz="4400" spc="-1" strike="noStrike">
                <a:solidFill>
                  <a:srgbClr val="231a9a"/>
                </a:solidFill>
                <a:latin typeface="Tahoma"/>
              </a:rPr>
              <a:t>                               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Положил начало                   Разреши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столыпинской                    свободный выход аграрной реформе            крестьян из общины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2843280" y="981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300720" y="98100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4" name="Picture 8" descr="Сенокос"/>
          <p:cNvPicPr/>
          <p:nvPr/>
        </p:nvPicPr>
        <p:blipFill>
          <a:blip r:embed="rId1"/>
          <a:stretch/>
        </p:blipFill>
        <p:spPr>
          <a:xfrm>
            <a:off x="2916360" y="3357720"/>
            <a:ext cx="403200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Столыпинская аграрная реформа (1906 – 1911)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Реформа надельного крестьянского землевладени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Цель –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оздание класса земельных собственников как социальной опоры самодержавия и противника революционных движени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7" name="Picture 5" descr="Крест"/>
          <p:cNvPicPr/>
          <p:nvPr/>
        </p:nvPicPr>
        <p:blipFill>
          <a:blip r:embed="rId1"/>
          <a:stretch/>
        </p:blipFill>
        <p:spPr>
          <a:xfrm>
            <a:off x="1066680" y="2633760"/>
            <a:ext cx="3695760" cy="28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31a9a"/>
                </a:solidFill>
                <a:latin typeface="Tahoma"/>
              </a:rPr>
              <a:t>«Дайте государству 20 лет покоя внутреннего и внешнего, и вы не узнаете нынешней России»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231a9a"/>
                </a:solidFill>
                <a:latin typeface="Tahoma"/>
              </a:rPr>
              <a:t>П.А. </a:t>
            </a:r>
            <a:r>
              <a:rPr b="1" i="1" lang="ru-RU" sz="2400" spc="-1" strike="noStrike">
                <a:solidFill>
                  <a:srgbClr val="231a9a"/>
                </a:solidFill>
                <a:latin typeface="Tahoma"/>
              </a:rPr>
              <a:t>Столыпин</a:t>
            </a:r>
            <a:br>
              <a:rPr sz="2000"/>
            </a:b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009900"/>
                </a:solidFill>
                <a:latin typeface="Tahoma"/>
              </a:rPr>
              <a:t>                                                          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149" name="Picture 10" descr="П"/>
          <p:cNvPicPr/>
          <p:nvPr/>
        </p:nvPicPr>
        <p:blipFill>
          <a:blip r:embed="rId1"/>
          <a:stretch/>
        </p:blipFill>
        <p:spPr>
          <a:xfrm>
            <a:off x="3492360" y="2276640"/>
            <a:ext cx="2880000" cy="42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c9800"/>
                </a:solidFill>
                <a:latin typeface="Tahoma"/>
              </a:rPr>
              <a:t>Цели и задачи реформ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600200"/>
          <a:ext cx="8839440" cy="5029200"/>
        </p:xfrm>
        <a:graphic>
          <a:graphicData uri="http://schemas.openxmlformats.org/drawingml/2006/table">
            <a:tbl>
              <a:tblPr/>
              <a:tblGrid>
                <a:gridCol w="2589480"/>
                <a:gridCol w="3203280"/>
                <a:gridCol w="304668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оциальные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40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Group 17"/>
          <p:cNvGrpSpPr/>
          <p:nvPr/>
        </p:nvGrpSpPr>
        <p:grpSpPr>
          <a:xfrm>
            <a:off x="152280" y="2209680"/>
            <a:ext cx="8610840" cy="4114800"/>
            <a:chOff x="152280" y="2209680"/>
            <a:chExt cx="8610840" cy="4114800"/>
          </a:xfrm>
        </p:grpSpPr>
        <p:sp>
          <p:nvSpPr>
            <p:cNvPr id="153" name="Rectangle 18"/>
            <p:cNvSpPr/>
            <p:nvPr/>
          </p:nvSpPr>
          <p:spPr>
            <a:xfrm>
              <a:off x="152280" y="2209680"/>
              <a:ext cx="2438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здание  социальной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поры самодержав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в лице крепкого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ажиточного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ина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2743200" y="3124080"/>
              <a:ext cx="2819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апиталистически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тношений в деревне,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азрушение общины,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ередача крестьянам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емли в частную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бственность, созда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уторских и фермерских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озяйств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бразование широкого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ынка для промышленности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родолжение модернизации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оссии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a25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5943600" y="2362320"/>
              <a:ext cx="28195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ереселение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еволюционно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настроенных,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малоземельных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 из центра на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краины страны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Уравнивание в права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 с другими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словиями и обеспече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ам собственникам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равовую защиту. 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Аграрный вопрос в программах политических партий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1052640"/>
          <a:ext cx="8353440" cy="6060960"/>
        </p:xfrm>
        <a:graphic>
          <a:graphicData uri="http://schemas.openxmlformats.org/drawingml/2006/table">
            <a:tbl>
              <a:tblPr/>
              <a:tblGrid>
                <a:gridCol w="432000"/>
                <a:gridCol w="2448000"/>
                <a:gridCol w="938160"/>
                <a:gridCol w="45352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>
                      <a:noFill/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литические сил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>
                      <a:noFill/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екты решения аграрного вопроса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Большевик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Муниципализация земл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Меньшевик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Национальные земли после насильственного изъятия их у помещиков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Эсер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Использование государственных, удельных, монастырских земель; принудительное отчуждение части помещичьих земель за выкуп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Каде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Продажа крестьянам государственных и удельных земель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Октябрис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Социализация земель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58" name="Line 42"/>
          <p:cNvSpPr/>
          <p:nvPr/>
        </p:nvSpPr>
        <p:spPr>
          <a:xfrm>
            <a:off x="2590920" y="2209680"/>
            <a:ext cx="129528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9" name="Line 43"/>
          <p:cNvSpPr/>
          <p:nvPr/>
        </p:nvSpPr>
        <p:spPr>
          <a:xfrm flipV="1">
            <a:off x="2590920" y="236196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2209680" y="4038480"/>
            <a:ext cx="167652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1" name="Line 45"/>
          <p:cNvSpPr/>
          <p:nvPr/>
        </p:nvSpPr>
        <p:spPr>
          <a:xfrm flipV="1">
            <a:off x="2133720" y="4266720"/>
            <a:ext cx="17524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2" name="Line 46"/>
          <p:cNvSpPr/>
          <p:nvPr/>
        </p:nvSpPr>
        <p:spPr>
          <a:xfrm flipV="1">
            <a:off x="2362320" y="548604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Основные направления аграрной реформы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4920" y="1143000"/>
            <a:ext cx="8839080" cy="2133720"/>
            <a:chOff x="304920" y="1143000"/>
            <a:chExt cx="8839080" cy="2133720"/>
          </a:xfrm>
        </p:grpSpPr>
        <p:sp>
          <p:nvSpPr>
            <p:cNvPr id="165" name="Rectangle 4"/>
            <p:cNvSpPr/>
            <p:nvPr/>
          </p:nvSpPr>
          <p:spPr>
            <a:xfrm>
              <a:off x="304920" y="1295280"/>
              <a:ext cx="20574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Создание новы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форм землевладен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и землепользован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048120" y="1676520"/>
              <a:ext cx="19810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Государственная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помощь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им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хозяйствам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(созда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ого банка)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5410080" y="1143000"/>
              <a:ext cx="1905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Переселе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7315200" y="1447920"/>
              <a:ext cx="1828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ой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9c9800"/>
                  </a:solidFill>
                  <a:uFillTx/>
                  <a:latin typeface="Arial"/>
                  <a:hlinkClick r:id="rId1" action="ppaction://hlinksldjump"/>
                </a:rPr>
                <a:t>кооперации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228600" y="4191120"/>
            <a:ext cx="2362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Разрушение общины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Крестьяне – частные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обственники своего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адела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19520" y="373392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c9800"/>
                </a:solidFill>
                <a:uFillTx/>
                <a:latin typeface="Arial"/>
                <a:hlinkClick r:id="rId2" action="ppaction://hlinksldjump"/>
              </a:rPr>
              <a:t>Хутор,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c9800"/>
                </a:solidFill>
                <a:uFillTx/>
                <a:latin typeface="Arial"/>
                <a:hlinkClick r:id="rId3" action="ppaction://hlinksldjump"/>
              </a:rPr>
              <a:t>Отруб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371600" y="2666880"/>
            <a:ext cx="0" cy="15242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371600" y="2666880"/>
            <a:ext cx="2514600" cy="15242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44640"/>
            <a:ext cx="77202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221d"/>
                </a:solidFill>
                <a:latin typeface="Tahoma"/>
              </a:rPr>
              <a:t>Кооперация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788569"/>
                </a:solidFill>
                <a:latin typeface="Tahoma"/>
              </a:rPr>
              <a:t>это форма организации труда и производства, основанная на групповой собственности членов кооператива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921800" cy="39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221d"/>
                </a:solidFill>
                <a:latin typeface="Tahoma"/>
              </a:rPr>
              <a:t>Хутор -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788569"/>
                </a:solidFill>
                <a:latin typeface="Tahoma"/>
              </a:rPr>
              <a:t>это сельское поселение, состоящее чаще всего из одного двора; обособленная крестьянская усадьба, находящаяся за пределами общин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988640"/>
            <a:ext cx="79218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221d"/>
                </a:solidFill>
                <a:latin typeface="Tahoma"/>
              </a:rPr>
              <a:t>Отруб </a:t>
            </a: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это земельный  участок выделенный  крестьянину взамен отводившихся ему ранее общинных земель, расположенных в разных местах. Усадьба оставалась в пределах деревни</a:t>
            </a: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8" name="AutoShape 3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Составные части аграрной реформы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Разрушение крестьянской общины</a:t>
            </a:r>
            <a:r>
              <a:rPr b="1" lang="ru-RU" sz="28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разрешение выхода крестьян из общины с правом закрепления в частную собственность принадлежавших им земельных наделов в форме хутора или отруба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За 1907-1914 гг. из общины выделилось 2.5 млн.  Крестьян (22 </a:t>
            </a:r>
            <a:r>
              <a:rPr b="0" i="1" lang="en-US" sz="2000" spc="-1" strike="noStrike">
                <a:solidFill>
                  <a:srgbClr val="4a2500"/>
                </a:solidFill>
                <a:latin typeface="Tahoma"/>
                <a:ea typeface="Tahoma"/>
              </a:rPr>
              <a:t>%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 всех крестьянских хозяйств)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- создание хуторов оправдало себя лишь в некоторых западных губерниях, а отрубов – в губерниях Северного Причерноморья, Северного Кавказа и степного Заволжья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1" name="Picture 5" descr="Image3"/>
          <p:cNvPicPr/>
          <p:nvPr/>
        </p:nvPicPr>
        <p:blipFill>
          <a:blip r:embed="rId1"/>
          <a:stretch/>
        </p:blipFill>
        <p:spPr>
          <a:xfrm>
            <a:off x="5796000" y="2349360"/>
            <a:ext cx="309708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етр Столыпин </a:t>
            </a:r>
            <a:br>
              <a:rPr sz="4400"/>
            </a:b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и его реформы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«Противникам государственности хотелось бы избрать путь радикализма. </a:t>
            </a:r>
            <a:r>
              <a:rPr b="1" lang="ru-RU" sz="2400" spc="-1" strike="noStrike">
                <a:solidFill>
                  <a:srgbClr val="4a2500"/>
                </a:solidFill>
                <a:latin typeface="Tahoma"/>
              </a:rPr>
              <a:t>Им нужны великие потрясения, нам нужна великая Россия!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 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.А. Столыпин, </a:t>
            </a: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из обращения ко второй Думе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3" name="Picture 10" descr="Петр Столыпин"/>
          <p:cNvPicPr/>
          <p:nvPr/>
        </p:nvPicPr>
        <p:blipFill>
          <a:blip r:embed="rId1"/>
          <a:stretch/>
        </p:blipFill>
        <p:spPr>
          <a:xfrm>
            <a:off x="5319720" y="2136600"/>
            <a:ext cx="2881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914720" y="2205000"/>
            <a:ext cx="404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Tahoma"/>
              </a:rPr>
              <a:t>В 1906-1916 гг. в Сибирь уехало 3,1 млн. человек </a:t>
            </a: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кредиты переселенцам, бесплатный проезд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Tahoma"/>
              </a:rPr>
              <a:t>На прежние места возвратились 548 тыс. человек, т.е. каждый пят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3" name="Picture 6" descr="Перес"/>
          <p:cNvPicPr/>
          <p:nvPr/>
        </p:nvPicPr>
        <p:blipFill>
          <a:blip r:embed="rId1"/>
          <a:stretch/>
        </p:blipFill>
        <p:spPr>
          <a:xfrm>
            <a:off x="1066680" y="2743200"/>
            <a:ext cx="369576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10568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Переселенческая политика –</a:t>
            </a: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организация переселенческого движения в Западную Сибирь с целью наделения безземельных  и малоземельных крестьян землей</a:t>
            </a:r>
            <a:br>
              <a:rPr sz="2400"/>
            </a:b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Image1"/>
          <p:cNvPicPr/>
          <p:nvPr/>
        </p:nvPicPr>
        <p:blipFill>
          <a:blip r:embed="rId1"/>
          <a:stretch/>
        </p:blipFill>
        <p:spPr>
          <a:xfrm>
            <a:off x="1116000" y="2492280"/>
            <a:ext cx="3095640" cy="3600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720" y="1980720"/>
            <a:ext cx="4680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Кредитная полити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666633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ередача Крестьянскому банку казенных земель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для продажи их нуждающимся крестьянам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Банк продавал крестьянам в кредит казенные земли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Владельцам хуторов и отрубов предоставлялись льготы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932360" y="1988640"/>
            <a:ext cx="396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Социальная политика в деревн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8569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Широкое строительство сельских школ и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вовлечение в систему народного образования огромных масс населения огромных масс населени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8" name="Picture 6" descr="Image6"/>
          <p:cNvPicPr/>
          <p:nvPr/>
        </p:nvPicPr>
        <p:blipFill>
          <a:blip r:embed="rId1"/>
          <a:stretch/>
        </p:blipFill>
        <p:spPr>
          <a:xfrm>
            <a:off x="1042920" y="2781360"/>
            <a:ext cx="3695760" cy="25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Причины незавершенности реформ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Незначительные временные срок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Сопротивление со стороны правых и левых политических сил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Сложные взаимоотношения окружения царя и П.А. Столыпин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Убийство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.А. Столыпина –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 сентября 1911 год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859280" y="436572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Итоги и значение аграрной реформы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539640"/>
          <a:ext cx="8991360" cy="615168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59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. Рост сельскохозяйственного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оизводства и улучшения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ультуры землепользования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 в 1,7 раза увеличился сбор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зерна)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. Рост свободной рабочей силы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за счет выхода крестьян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бедняков из общины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. Развитие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едпринимательств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ельской буржуазии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. Начало формирования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фермерских хозяйств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к 1915 г. 10% от крестьянского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хозяйства).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. Община не была разрушен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25% крестьян)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. Имущественное расслоение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рестьян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. Отрицательное отношение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большинства крестьян к частной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обственности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. Противоречие не только между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рестьянами и помещиками, но и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внутри крестьянства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. Не удалось создать широкий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лой крестьян – фермеров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6. Проблема малоземелья не был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решена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7. Переселенческая  политика не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инесла желаемых результатов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0,5 – 1 млн. человек вернулись).   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04920" y="838080"/>
          <a:ext cx="8534160" cy="579132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133720"/>
                <a:gridCol w="2209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Цели реформ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Значения реформ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Успокоение» страны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оздание слоя земельных собственников -социальной и экономической опоры монарх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должение процесса модерниз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оздание новых форм землевладения и землепользования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осударственная помощь крестьянским хозяйствам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звитие крестьянской коопер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еселенческая политика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ачало создания фермерских хозяйств, рост посевных  площадей, совершенствование агротехники, подъем производительности труда в сельском хозяйстве, развитие производственных кооперативов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о сохраняются проблемы молоземелья крестьян, появляются новые социальные противоречия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есмотря на очевидные трудности и незавершенность преобразований, реформа способствовала развитию страны по пути модерниз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9"/>
          <p:cNvSpPr/>
          <p:nvPr/>
        </p:nvSpPr>
        <p:spPr>
          <a:xfrm>
            <a:off x="380880" y="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Arial"/>
              </a:rPr>
              <a:t>Аграрная реформа П. А. Столыпин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Итоги аграрной реформы</a:t>
            </a:r>
            <a:br>
              <a:rPr sz="4000"/>
            </a:b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Петра Столыпина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197" name="Picture 5" descr="Крест"/>
          <p:cNvPicPr/>
          <p:nvPr/>
        </p:nvPicPr>
        <p:blipFill>
          <a:blip r:embed="rId1"/>
          <a:stretch/>
        </p:blipFill>
        <p:spPr>
          <a:xfrm>
            <a:off x="1979640" y="2276640"/>
            <a:ext cx="604836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Схема покушений 010"/>
          <p:cNvPicPr/>
          <p:nvPr/>
        </p:nvPicPr>
        <p:blipFill>
          <a:blip r:embed="rId1"/>
          <a:stretch/>
        </p:blipFill>
        <p:spPr>
          <a:xfrm>
            <a:off x="1187280" y="1989000"/>
            <a:ext cx="7705800" cy="4462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Выделение крестьян (домохозяев) из общины. </a:t>
            </a:r>
            <a:br>
              <a:rPr sz="3200"/>
            </a:b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1907 – 1915 гг.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Производство зерна в России.</a:t>
            </a:r>
            <a:br>
              <a:rPr sz="3600"/>
            </a:b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1908 – 1912 гг.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201" name="Picture 6" descr="Схема покушений 008"/>
          <p:cNvPicPr/>
          <p:nvPr/>
        </p:nvPicPr>
        <p:blipFill>
          <a:blip r:embed="rId1"/>
          <a:stretch/>
        </p:blipFill>
        <p:spPr>
          <a:xfrm>
            <a:off x="1187280" y="1981080"/>
            <a:ext cx="7705800" cy="461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Сельскохозяйственное производство. 1894 – 1914 гг.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203" name="Picture 6" descr="Схема покушений 009"/>
          <p:cNvPicPr/>
          <p:nvPr/>
        </p:nvPicPr>
        <p:blipFill>
          <a:blip r:embed="rId1"/>
          <a:stretch/>
        </p:blipFill>
        <p:spPr>
          <a:xfrm>
            <a:off x="1187280" y="1981080"/>
            <a:ext cx="7561440" cy="46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етр Аркадьевич Столыпин. 1862 - 1911</a:t>
            </a: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729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Последний крупный государственный деятель царской Росс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Принадлежал к старинному дворянскому роду, давшему России немало дипломатов, военных, государственных деятеле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роюродный брат поэта М.Ю. Лермонтов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Отец его – участник Крымской и русско-турецкой войны 1877-1878 гг. – дослужился до генера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6" name="Picture 7" descr="Столыпин П"/>
          <p:cNvPicPr/>
          <p:nvPr/>
        </p:nvPicPr>
        <p:blipFill>
          <a:blip r:embed="rId1"/>
          <a:stretch/>
        </p:blipFill>
        <p:spPr>
          <a:xfrm>
            <a:off x="5940360" y="227664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102f"/>
                </a:solidFill>
                <a:latin typeface="Tahoma"/>
              </a:rPr>
              <a:t>Одинокий реформатор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В последующие годы после его смерти в разных городах устанавливались памятники Столыпину, а в Государственном  совете проваливались его реформы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ысячью нитей был связан Столыпин со старой дворянской Россией, хотя видел гораздо дальше и глубже многих ее представителе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толыпин пытался приспособить к новым, динамичным и быстро меняющимся временам старую Россию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Он смутно представлял себе то государство, которое был намерен строить, но верил в преобразующую роль бюрократ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В его социальном идеале государство должно было играть ключевую роль, равно возвышаясь над всеми классам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1a9a"/>
                </a:solidFill>
                <a:latin typeface="Tahoma"/>
              </a:rPr>
              <a:t>Он ушел из жизни, не понятый и не принятый ни старой Россией, ни новыми временами …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47530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4a2500"/>
                </a:solidFill>
                <a:latin typeface="Tahoma"/>
              </a:rPr>
              <a:t>Меня вынесла наверх волна событий – вероятно на один миг! Я хочу все же этот миг использовать по мере моих сил, пониманий и чувств на благо людей и моей родины, которую люблю, как  любили ее в старину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         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.А. Столыпин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208" name="Picture 7" descr="Столыпин П"/>
          <p:cNvPicPr/>
          <p:nvPr/>
        </p:nvPicPr>
        <p:blipFill>
          <a:blip r:embed="rId1"/>
          <a:stretch/>
        </p:blipFill>
        <p:spPr>
          <a:xfrm>
            <a:off x="5940360" y="213372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Год имени Петра Столыпина</a:t>
            </a:r>
            <a:br>
              <a:rPr sz="3600"/>
            </a:b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Аграрная элита России 2006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3000"/>
            <a:ext cx="4368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14 апреля в Центральном Доме Литераторов на </a:t>
            </a:r>
            <a:r>
              <a:rPr b="1" lang="en-US" sz="2000" spc="-1" strike="noStrike">
                <a:solidFill>
                  <a:srgbClr val="669900"/>
                </a:solidFill>
                <a:latin typeface="Tahoma"/>
              </a:rPr>
              <a:t>III</a:t>
            </a: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 Торжественной церемонии вручения премии имени Петра Столыпина "Аграрная Элита России" оргкомитетом премии период с 14 апреля 2005 года по 14 апреля 2006 года был объявлен годом Петра Столыпина, в  течение которого проводился ряд интересных мероприятий с участием известных политиков, экономистов, деятелей культуры и искусства, студентов различных вузов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211" name="Picture 7" descr="На главную"/>
          <p:cNvPicPr/>
          <p:nvPr/>
        </p:nvPicPr>
        <p:blipFill>
          <a:blip r:embed="rId1"/>
          <a:stretch/>
        </p:blipFill>
        <p:spPr>
          <a:xfrm>
            <a:off x="5580000" y="2276640"/>
            <a:ext cx="3384720" cy="388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Петр Столыпин – имя Россия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В 2008 году интерес к имени Столыпина очень возрос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П.А. Столыпин вошел в число 12 финалистов «Имя Россия», чей вклад представляет особую ценность в развитии нашего государств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Ученик Менделеева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254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Хотя на родовом гербе Столыпиных было высечено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«На Бога моя надежда», </a:t>
            </a: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Петр Аркадьевич больше надеялся на свои силы и способност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9" name="Picture 7" descr="Герб рода Столыпиных"/>
          <p:cNvPicPr/>
          <p:nvPr/>
        </p:nvPicPr>
        <p:blipFill>
          <a:blip r:embed="rId1"/>
          <a:stretch/>
        </p:blipFill>
        <p:spPr>
          <a:xfrm>
            <a:off x="971640" y="3062160"/>
            <a:ext cx="3038400" cy="28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уть наверх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4 – окончил естественное отделение физико-математического факультета Санкт-Петербургского университета и поступил на службу в МВ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6 – переводится на службу в Министерство государственных имуществ, дослужившись до должности помощника столоначальни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9 – возвращается в МВД (назначен ковенским уездным предводителем дворянства и председателем местного съезда мировых посредников)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уть наверх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99 – назначен предводителем дворянства Ковенской губерни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902 – получил пост гродненского губернатор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903 – назначен саратовским губернатором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26 апреля 1906 – назначен на пост министра внутренних дел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8 июля 1906 – назначен председателем Совета министров при сохранении поста главы МВ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6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c9800"/>
                </a:solidFill>
                <a:latin typeface="comic"/>
              </a:rPr>
              <a:t>Выбор пути России в 1906 году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AutoShape 3"/>
          <p:cNvSpPr/>
          <p:nvPr/>
        </p:nvSpPr>
        <p:spPr>
          <a:xfrm flipV="1">
            <a:off x="1981080" y="2590560"/>
            <a:ext cx="4114800" cy="3581280"/>
          </a:xfrm>
          <a:prstGeom prst="pie">
            <a:avLst/>
          </a:prstGeom>
          <a:gradFill rotWithShape="0">
            <a:gsLst>
              <a:gs pos="0">
                <a:srgbClr val="4a2500"/>
              </a:gs>
              <a:gs pos="50000">
                <a:srgbClr val="777777"/>
              </a:gs>
              <a:gs pos="100000">
                <a:srgbClr val="4a2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Прямо пойдешь…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Направо пойдешь…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Налево пойдешь…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28600" y="380988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Революция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00800" y="37339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Контрреволюция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124080" y="13716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Реформы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«Сначала успокоение, потом реформы»</a:t>
            </a:r>
            <a:br>
              <a:rPr sz="2800"/>
            </a:b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                 </a:t>
            </a:r>
            <a:r>
              <a:rPr b="1" i="1" lang="ru-RU" sz="2800" spc="-1" strike="noStrike">
                <a:solidFill>
                  <a:srgbClr val="9c9800"/>
                </a:solidFill>
                <a:latin typeface="Tahoma"/>
              </a:rPr>
              <a:t>П.А. Столыпин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6820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12 августа 1906 – первое покушение на П.А. Столыпин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19 августа – в чрезвычайном порядке, по 87-й статье, был принят указ о военно-полевых судах (</a:t>
            </a: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в их состав назначались строевые офицеры, которые должны были решать дела о «мятежниках» по законам военного времени не более 48 часов, а приговоры приводить в исполнение в течение 24 часов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), который действовал до 20 апреля 1907 г.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За восемь месяцев военно-полевые суды вынесли около 1100 смертных приговоров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Но…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толыпин стремился не только подавить революцию при помощи репрессий, но и путем реформ в угодном для правительства и правящих кругов духе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6d00"/>
                </a:solidFill>
                <a:latin typeface="Tahoma"/>
              </a:rPr>
              <a:t>Реформы Столыпина:</a:t>
            </a:r>
            <a:br>
              <a:rPr sz="3200"/>
            </a:br>
            <a:r>
              <a:rPr b="1" lang="ru-RU" sz="3200" spc="-1" strike="noStrike">
                <a:solidFill>
                  <a:srgbClr val="706d00"/>
                </a:solidFill>
                <a:latin typeface="Tahoma"/>
              </a:rPr>
              <a:t> «тихая революция»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grpSp>
        <p:nvGrpSpPr>
          <p:cNvPr id="132" name="Organization Chart 7"/>
          <p:cNvGrpSpPr/>
          <p:nvPr/>
        </p:nvGrpSpPr>
        <p:grpSpPr>
          <a:xfrm>
            <a:off x="250920" y="1844640"/>
            <a:ext cx="8641440" cy="4678560"/>
            <a:chOff x="250920" y="1844640"/>
            <a:chExt cx="8641440" cy="4678560"/>
          </a:xfrm>
        </p:grpSpPr>
        <p:cxnSp>
          <p:nvCxnSpPr>
            <p:cNvPr id="133" name="_s102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615280" y="2670840"/>
              <a:ext cx="936360" cy="302508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4a25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flipV="1">
              <a:off x="4571280" y="3715200"/>
              <a:ext cx="3960" cy="936360"/>
            </a:xfrm>
            <a:prstGeom prst="bentConnector2">
              <a:avLst/>
            </a:prstGeom>
            <a:ln w="28440">
              <a:solidFill>
                <a:srgbClr val="4a25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2590920" y="2670840"/>
              <a:ext cx="936360" cy="302508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4a2500"/>
              </a:solidFill>
              <a:miter/>
            </a:ln>
          </p:spPr>
        </p:cxnSp>
        <p:sp>
          <p:nvSpPr>
            <p:cNvPr id="135" name="_s1031"/>
            <p:cNvSpPr/>
            <p:nvPr/>
          </p:nvSpPr>
          <p:spPr>
            <a:xfrm>
              <a:off x="3275280" y="184464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Программа 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реформ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25092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Успокоение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страны</a:t>
              </a: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 при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помощи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чрезвычайных мер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7" name="_s1033"/>
            <p:cNvSpPr/>
            <p:nvPr/>
          </p:nvSpPr>
          <p:spPr>
            <a:xfrm>
              <a:off x="327528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Аграрная 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реформа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/немедленно/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630000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Подготовка</a:t>
              </a:r>
              <a:endParaRPr b="0" lang="en-US" sz="16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законопроектов о:</a:t>
              </a:r>
              <a:endParaRPr b="0" lang="en-US" sz="16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свободе вероисповедания,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гражданском равноправии,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улучшении быта рабочих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реформах местного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самоуправления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образования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подоходном налоге и др.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6:30:06Z</dcterms:created>
  <dc:creator>USB</dc:creator>
  <dc:description/>
  <dc:language>en-US</dc:language>
  <cp:lastModifiedBy>Учитель</cp:lastModifiedBy>
  <dcterms:modified xsi:type="dcterms:W3CDTF">2009-10-27T06:46:46Z</dcterms:modified>
  <cp:revision>9</cp:revision>
  <dc:subject/>
  <dc:title>Петр Столыпин  и его реформы</dc:title>
</cp:coreProperties>
</file>