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15.gif" ContentType="image/gif"/>
  <Override PartName="/ppt/media/image28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16.gif" ContentType="image/gif"/>
  <Override PartName="/ppt/media/image21.png" ContentType="image/png"/>
  <Override PartName="/ppt/media/image18.jpeg" ContentType="image/jpeg"/>
  <Override PartName="/ppt/media/image1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38F8-DA1F-4186-86DC-F8E93C81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BE0-283D-4E14-A651-043B208A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865-5F09-4AEC-A179-5A4AE826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BF5-4C74-47E6-8235-95E33B42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895D-2B7A-4B9F-B9C8-D8F2A75D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7D31-67AC-4FF2-9F97-930E3602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2D34-39AF-4314-B836-EFE3DC1C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B1E8-8F71-48C8-B788-57BEB774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9632-04D5-4E08-8E57-BA930E27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D1B6-38BA-4728-AC73-6CB65994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A939-4783-46AF-971A-928B997A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FE12-3411-4D86-A33D-F43C5387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55CF-9BDB-4EC9-8847-F9C54DD6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068B-ECDC-4201-8708-D8F4AEB0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C3D5-0152-4613-921A-7526057F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93B2-639B-4435-943B-8B16DE3B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CEFD-3834-4725-8D79-2363B3C8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B667D-194A-43E9-BCB6-8AF7BEE7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36A3E-ADF0-4C64-95C9-639F1901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B85B6-7F49-434C-BFC8-0938AF99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7BD80-A408-4218-8DC8-9BED0CA0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03B75-382A-41E5-99D1-B812C0D0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4D9-1FA9-4033-9F85-82C5145F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7E52C-6F9F-4CD9-ABA5-40D80A3D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725A2-3526-4DAE-901E-5F9794D1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7F503-5975-4185-B6F8-460DE8F6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AB260-4DF7-4CD6-AF7F-13DE9B61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881EF-68E9-4F2C-98C6-B8363641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B4DC9-44B1-4E6D-B81F-FA5A1E38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22CC3-99C3-4F60-92B1-83838473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7546C-B6CC-401E-8DA4-13069D19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D93C7-73FF-4957-BD1B-68F4A9FB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5759A-06B7-4D66-B6D8-A66876FC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2DA1-170F-489C-AB7D-5F59C0AF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0BFBA-D993-41B3-A79E-AABED029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67460-2E8D-4E48-BE3C-CAF56D7A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D9133-0B39-42D3-8308-34F77BC8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4C5B8-5C5C-4FEE-9ED1-C509EFF1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22E0B-F4F2-4D2A-B60D-C914E586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AD832-B062-467A-B7E5-B58E314F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B6755-EA31-4E1D-8276-95B0955D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72E07-2C1F-4E26-AC8E-B40373FF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97E7F-4DA4-4A75-BBDA-4241205B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9EF2-EE9F-4B9A-BE93-5CF51944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507A-964F-4EDD-934F-3EAD5388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48C-EF90-4FE7-B149-8201D8FA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1C36-C5F1-4E96-815D-BEFCE29D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4349-FF3F-4D6E-8501-C2564E94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004A-44B3-4851-B70D-99DE796CC77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5302-A466-43AF-A163-24FE48A2955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BC0C-CA58-4713-AB48-1FCCB253422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068F-1ABB-4C42-A1C9-F2DCCF0C02E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Ribbon_of_Saint_George.sv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8;&#1076;&#1077;&#1085;_&#1057;&#1074;&#1103;&#1090;&#1086;&#1075;&#1086;_&#1043;&#1077;&#1086;&#1088;&#1075;&#1080;&#1103;" TargetMode="External"/><Relationship Id="rId2" Type="http://schemas.openxmlformats.org/officeDocument/2006/relationships/hyperlink" Target="http://ru.wikipedia.org/wiki/&#1054;&#1088;&#1076;&#1077;&#1085;_&#1057;&#1074;&#1103;&#1090;&#1086;&#1075;&#1086;_&#1043;&#1077;&#1086;&#1088;&#1075;&#1080;&#1103;" TargetMode="External"/><Relationship Id="rId3" Type="http://schemas.openxmlformats.org/officeDocument/2006/relationships/hyperlink" Target="http://ru.wikipedia.org/wiki/&#1047;&#1085;&#1072;&#1082;_&#1054;&#1090;&#1083;&#1080;&#1095;&#1080;&#1103;_&#1042;&#1086;&#1077;&#1085;&#1085;&#1086;&#1075;&#1086;_&#1086;&#1088;&#1076;&#1077;&#1085;&#1072;_&#1089;&#1074;&#1103;&#1090;&#1086;&#1075;&#1086;_&#1043;&#1077;&#1086;&#1088;&#1075;&#1080;&#1103;" TargetMode="External"/><Relationship Id="rId4" Type="http://schemas.openxmlformats.org/officeDocument/2006/relationships/hyperlink" Target="http://ru.wikipedia.org/wiki/&#1043;&#1077;&#1086;&#1088;&#1075;&#1080;&#1077;&#1074;&#1089;&#1082;&#1072;&#1103;_&#1084;&#1077;&#1076;&#1072;&#1083;&#1100;" TargetMode="External"/><Relationship Id="rId5" Type="http://schemas.openxmlformats.org/officeDocument/2006/relationships/hyperlink" Target="http://ru.wikipedia.org/wiki/&#1041;&#1077;&#1089;&#1082;&#1086;&#1079;&#1099;&#1088;&#1082;&#1072;" TargetMode="External"/><Relationship Id="rId6" Type="http://schemas.openxmlformats.org/officeDocument/2006/relationships/hyperlink" Target="http://ru.wikipedia.org/wiki/&#1052;&#1072;&#1090;&#1088;&#1086;&#1089;" TargetMode="External"/><Relationship Id="rId7" Type="http://schemas.openxmlformats.org/officeDocument/2006/relationships/hyperlink" Target="http://ru.wikipedia.org/wiki/&#1043;&#1077;&#1086;&#1088;&#1075;&#1080;&#1077;&#1074;&#1089;&#1082;&#1080;&#1081;_&#1092;&#1083;&#1072;&#1075;" TargetMode="External"/><Relationship Id="rId8" Type="http://schemas.openxmlformats.org/officeDocument/2006/relationships/hyperlink" Target="http://ru.wikipedia.org/wiki/&#1057;&#1057;&#1057;&#1056;" TargetMode="External"/><Relationship Id="rId9" Type="http://schemas.openxmlformats.org/officeDocument/2006/relationships/hyperlink" Target="http://ru.wikipedia.org/wiki/&#1054;&#1088;&#1076;&#1077;&#1085;_&#1057;&#1083;&#1072;&#1074;&#1099;" TargetMode="External"/><Relationship Id="rId10" Type="http://schemas.openxmlformats.org/officeDocument/2006/relationships/hyperlink" Target="http://ru.wikipedia.org/wiki/&#1052;&#1077;&#1076;&#1072;&#1083;&#1100;_&#171;&#1047;&#1072;_&#1087;&#1086;&#1073;&#1077;&#1076;&#1091;_&#1085;&#1072;&#1076;_&#1043;&#1077;&#1088;&#1084;&#1072;&#1085;&#1080;&#1077;&#1081;_&#1074;_&#1042;&#1077;&#1083;&#1080;&#1082;&#1086;&#1081;_&#1054;&#1090;&#1077;&#1095;&#1077;&#1089;&#1090;&#1074;&#1077;&#1085;&#1085;&#1086;&#1081;_&#1074;&#1086;&#1081;&#1085;&#1077;_1941-1945_&#1075;&#1075;.&#187;" TargetMode="External"/><Relationship Id="rId11" Type="http://schemas.openxmlformats.org/officeDocument/2006/relationships/hyperlink" Target="http://ru.wikipedia.org/wiki/&#1063;&#1105;&#1088;&#1085;&#1099;&#1081;_&#1094;&#1074;&#1077;&#1090;" TargetMode="External"/><Relationship Id="rId12" Type="http://schemas.openxmlformats.org/officeDocument/2006/relationships/hyperlink" Target="http://ru.wikipedia.org/wiki/&#1054;&#1088;&#1072;&#1085;&#1078;&#1077;&#1074;&#1099;&#1081;_&#1094;&#1074;&#1077;&#1090;" TargetMode="External"/><Relationship Id="rId13" Type="http://schemas.openxmlformats.org/officeDocument/2006/relationships/hyperlink" Target="http://upload.wikimedia.org/wikipedia/commons/4/47/Order_of_St._George.jpg" TargetMode="External"/><Relationship Id="rId14" Type="http://schemas.openxmlformats.org/officeDocument/2006/relationships/image" Target="../media/image10.jpeg"/><Relationship Id="rId15" Type="http://schemas.openxmlformats.org/officeDocument/2006/relationships/hyperlink" Target="http://upload.wikimedia.org/wikipedia/commons/a/a6/Za_pobedu_nad_germanie.jpg" TargetMode="External"/><Relationship Id="rId16" Type="http://schemas.openxmlformats.org/officeDocument/2006/relationships/image" Target="../media/image11.jpeg"/><Relationship Id="rId17" Type="http://schemas.openxmlformats.org/officeDocument/2006/relationships/hyperlink" Target="http://upload.wikimedia.org/wikipedia/commons/e/ec/Orderglory_rib.png" TargetMode="External"/><Relationship Id="rId18" Type="http://schemas.openxmlformats.org/officeDocument/2006/relationships/image" Target="../media/image12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5;&#1100;_&#1055;&#1086;&#1073;&#1077;&#1076;&#1099;" TargetMode="External"/><Relationship Id="rId2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" TargetMode="External"/><Relationship Id="rId3" Type="http://schemas.openxmlformats.org/officeDocument/2006/relationships/hyperlink" Target="http://ru.wikipedia.org/wiki/2005_&#1075;&#1086;&#1076;" TargetMode="External"/><Relationship Id="rId4" Type="http://schemas.openxmlformats.org/officeDocument/2006/relationships/hyperlink" Target="http://ru.wikipedia.org/wiki/24_&#1072;&#1087;&#1088;&#1077;&#1083;&#1103;" TargetMode="External"/><Relationship Id="rId5" Type="http://schemas.openxmlformats.org/officeDocument/2006/relationships/hyperlink" Target="http://ru.wikipedia.org/wiki/12_&#1084;&#1072;&#1103;" TargetMode="External"/><Relationship Id="rId6" Type="http://schemas.openxmlformats.org/officeDocument/2006/relationships/hyperlink" Target="http://ru.wikipedia.org/wiki/2008_&#1075;&#1086;&#1076;" TargetMode="External"/><Relationship Id="rId7" Type="http://schemas.openxmlformats.org/officeDocument/2006/relationships/hyperlink" Target="http://ru.wikipedia.org/wiki/45" TargetMode="External"/><Relationship Id="rId8" Type="http://schemas.openxmlformats.org/officeDocument/2006/relationships/hyperlink" Target="http://ru.wikipedia.org/wiki/&#1052;&#1080;&#1083;&#1083;&#1080;&#1086;&#1085;" TargetMode="External"/><Relationship Id="rId9" Type="http://schemas.openxmlformats.org/officeDocument/2006/relationships/hyperlink" Target="http://ru.wikipedia.org/wiki/&#1056;&#1086;&#1089;&#1089;&#1080;&#1103;" TargetMode="External"/><Relationship Id="rId10" Type="http://schemas.openxmlformats.org/officeDocument/2006/relationships/hyperlink" Target="http://ru.wikipedia.org/wiki/&#1043;&#1088;&#1077;&#1094;&#1080;&#1103;" TargetMode="External"/><Relationship Id="rId11" Type="http://schemas.openxmlformats.org/officeDocument/2006/relationships/hyperlink" Target="http://ru.wikipedia.org/wiki/&#1059;&#1082;&#1088;&#1072;&#1080;&#1085;&#1072;" TargetMode="External"/><Relationship Id="rId12" Type="http://schemas.openxmlformats.org/officeDocument/2006/relationships/hyperlink" Target="http://ru.wikipedia.org/wiki/&#1060;&#1088;&#1072;&#1085;&#1094;&#1080;&#1103;" TargetMode="External"/><Relationship Id="rId13" Type="http://schemas.openxmlformats.org/officeDocument/2006/relationships/hyperlink" Target="http://ru.wikipedia.org/wiki/&#1048;&#1090;&#1072;&#1083;&#1080;&#1103;" TargetMode="External"/><Relationship Id="rId14" Type="http://schemas.openxmlformats.org/officeDocument/2006/relationships/hyperlink" Target="http://ru.wikipedia.org/wiki/&#1069;&#1089;&#1090;&#1086;&#1085;&#1080;&#1103;" TargetMode="External"/><Relationship Id="rId15" Type="http://schemas.openxmlformats.org/officeDocument/2006/relationships/hyperlink" Target="http://ru.wikipedia.org/wiki/&#1051;&#1072;&#1090;&#1074;&#1080;&#1103;" TargetMode="External"/><Relationship Id="rId16" Type="http://schemas.openxmlformats.org/officeDocument/2006/relationships/hyperlink" Target="http://ru.wikipedia.org/wiki/&#1042;&#1077;&#1083;&#1080;&#1082;&#1086;&#1073;&#1088;&#1080;&#1090;&#1072;&#1085;&#1080;&#1103;" TargetMode="External"/><Relationship Id="rId17" Type="http://schemas.openxmlformats.org/officeDocument/2006/relationships/hyperlink" Target="http://ru.wikipedia.org/wiki/&#1057;&#1064;&#1040;" TargetMode="External"/><Relationship Id="rId18" Type="http://schemas.openxmlformats.org/officeDocument/2006/relationships/hyperlink" Target="http://ru.wikipedia.org/wiki/&#1043;&#1077;&#1088;&#1084;&#1072;&#1085;&#1080;&#1103;" TargetMode="External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7925040" cy="1279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1905120" y="1523880"/>
            <a:ext cx="5181480" cy="4046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http://www.pobediteli.ru/img/blank.gif"/>
          <p:cNvPicPr/>
          <p:nvPr/>
        </p:nvPicPr>
        <p:blipFill>
          <a:blip r:embed="rId3"/>
          <a:stretch/>
        </p:blipFill>
        <p:spPr>
          <a:xfrm>
            <a:off x="0" y="0"/>
            <a:ext cx="371520" cy="1047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http://www.pobediteli.ru/img/sys/dot.gif"/>
          <p:cNvPicPr/>
          <p:nvPr/>
        </p:nvPicPr>
        <p:blipFill>
          <a:blip r:embed="rId4"/>
          <a:stretch/>
        </p:blipFill>
        <p:spPr>
          <a:xfrm>
            <a:off x="0" y="0"/>
            <a:ext cx="7620120" cy="9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http://www.pobediteli.ru/img/blank.gif"/>
          <p:cNvPicPr/>
          <p:nvPr/>
        </p:nvPicPr>
        <p:blipFill>
          <a:blip r:embed="rId5"/>
          <a:stretch/>
        </p:blipFill>
        <p:spPr>
          <a:xfrm>
            <a:off x="0" y="0"/>
            <a:ext cx="4362480" cy="1047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www.pobediteli.ru/img/blank.gif"/>
          <p:cNvPicPr/>
          <p:nvPr/>
        </p:nvPicPr>
        <p:blipFill>
          <a:blip r:embed="rId6"/>
          <a:stretch/>
        </p:blipFill>
        <p:spPr>
          <a:xfrm>
            <a:off x="0" y="0"/>
            <a:ext cx="371520" cy="1047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http://www.pobediteli.ru/img/sys/dot.gif"/>
          <p:cNvPicPr/>
          <p:nvPr/>
        </p:nvPicPr>
        <p:blipFill>
          <a:blip r:embed="rId7"/>
          <a:stretch/>
        </p:blipFill>
        <p:spPr>
          <a:xfrm>
            <a:off x="0" y="0"/>
            <a:ext cx="7620120" cy="9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http://www.pobediteli.ru/img/blank.gif"/>
          <p:cNvPicPr/>
          <p:nvPr/>
        </p:nvPicPr>
        <p:blipFill>
          <a:blip r:embed="rId8"/>
          <a:stretch/>
        </p:blipFill>
        <p:spPr>
          <a:xfrm>
            <a:off x="0" y="0"/>
            <a:ext cx="4362480" cy="1047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http://www.pobediteli.ru/img/blank.gif"/>
          <p:cNvPicPr/>
          <p:nvPr/>
        </p:nvPicPr>
        <p:blipFill>
          <a:blip r:embed="rId9"/>
          <a:stretch/>
        </p:blipFill>
        <p:spPr>
          <a:xfrm>
            <a:off x="0" y="0"/>
            <a:ext cx="371520" cy="1047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http://www.pobediteli.ru/img/sys/dot.gif"/>
          <p:cNvPicPr/>
          <p:nvPr/>
        </p:nvPicPr>
        <p:blipFill>
          <a:blip r:embed="rId10"/>
          <a:stretch/>
        </p:blipFill>
        <p:spPr>
          <a:xfrm>
            <a:off x="0" y="0"/>
            <a:ext cx="7620120" cy="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http://www.pobediteli.ru/img/blank.gif"/>
          <p:cNvPicPr/>
          <p:nvPr/>
        </p:nvPicPr>
        <p:blipFill>
          <a:blip r:embed="rId11"/>
          <a:stretch/>
        </p:blipFill>
        <p:spPr>
          <a:xfrm>
            <a:off x="0" y="0"/>
            <a:ext cx="436248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2"/>
          <p:cNvSpPr txBox="1"/>
          <p:nvPr/>
        </p:nvSpPr>
        <p:spPr>
          <a:xfrm>
            <a:off x="826920" y="260280"/>
            <a:ext cx="745200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БЛОКА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395280" y="1413000"/>
            <a:ext cx="8748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Зимой 1941- 42 гг. Ленинград сковала лютая стужа. Не было топлива и электричеств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От голода люди умирали прямо на улица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 день рабочие получали лишь до 250 граммов суррогатного хлеба, а служащие, иждивенцы и дети всего 125 граммов! Муки в этом хлебе не было. Его выпекали из мякины, отрубей, целлюлозы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24000" y="40464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9dd9"/>
                </a:solidFill>
                <a:latin typeface="Arial"/>
              </a:rPr>
              <a:t>125 блокадных грамм… С огнём и кровью пополам”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4643280" y="3789360"/>
            <a:ext cx="429768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Таня1"/>
          <p:cNvPicPr/>
          <p:nvPr/>
        </p:nvPicPr>
        <p:blipFill>
          <a:blip r:embed="rId1"/>
          <a:stretch/>
        </p:blipFill>
        <p:spPr>
          <a:xfrm>
            <a:off x="611280" y="1131840"/>
            <a:ext cx="7993080" cy="548640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4" name="WordArt 4"/>
          <p:cNvSpPr txBox="1"/>
          <p:nvPr/>
        </p:nvSpPr>
        <p:spPr>
          <a:xfrm>
            <a:off x="971640" y="260280"/>
            <a:ext cx="73436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БЛОКА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580000" y="206064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ле налета вражеской ави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3" descr="в тылу 2"/>
          <p:cNvPicPr/>
          <p:nvPr/>
        </p:nvPicPr>
        <p:blipFill>
          <a:blip r:embed="rId1"/>
          <a:stretch/>
        </p:blipFill>
        <p:spPr>
          <a:xfrm>
            <a:off x="179280" y="260280"/>
            <a:ext cx="4600800" cy="640872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7" name="WordArt 4"/>
          <p:cNvSpPr txBox="1"/>
          <p:nvPr/>
        </p:nvSpPr>
        <p:spPr>
          <a:xfrm>
            <a:off x="5219640" y="333360"/>
            <a:ext cx="363528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ТЫЛ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РАГА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в тылу 3"/>
          <p:cNvPicPr/>
          <p:nvPr/>
        </p:nvPicPr>
        <p:blipFill>
          <a:blip r:embed="rId1"/>
          <a:stretch/>
        </p:blipFill>
        <p:spPr>
          <a:xfrm>
            <a:off x="755640" y="1197000"/>
            <a:ext cx="7843680" cy="511164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9" name="Text Box 3"/>
          <p:cNvSpPr/>
          <p:nvPr/>
        </p:nvSpPr>
        <p:spPr>
          <a:xfrm>
            <a:off x="611280" y="64008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ежен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WordArt 4"/>
          <p:cNvSpPr txBox="1"/>
          <p:nvPr/>
        </p:nvSpPr>
        <p:spPr>
          <a:xfrm>
            <a:off x="1332000" y="260280"/>
            <a:ext cx="6784920" cy="5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ТЫЛУ ВРАГА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2"/>
          <p:cNvSpPr txBox="1"/>
          <p:nvPr/>
        </p:nvSpPr>
        <p:spPr>
          <a:xfrm>
            <a:off x="682560" y="165240"/>
            <a:ext cx="777708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КОНЦЛАГЕРЕЙ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539640" y="1052640"/>
            <a:ext cx="828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 фашистских концлагерях содержалось более 20 миллионов человек из 30 стран мир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реди них около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2  миллионов детей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5" descr="konzlager1"/>
          <p:cNvPicPr/>
          <p:nvPr/>
        </p:nvPicPr>
        <p:blipFill>
          <a:blip r:embed="rId1"/>
          <a:stretch/>
        </p:blipFill>
        <p:spPr>
          <a:xfrm>
            <a:off x="1332000" y="2949480"/>
            <a:ext cx="6769080" cy="369108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971640" y="189000"/>
            <a:ext cx="777708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КОНЦЛАГЕРЕЙ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5" name="Picture 3" descr="konzlager"/>
          <p:cNvPicPr/>
          <p:nvPr/>
        </p:nvPicPr>
        <p:blipFill>
          <a:blip r:embed="rId1"/>
          <a:stretch/>
        </p:blipFill>
        <p:spPr>
          <a:xfrm>
            <a:off x="395280" y="1644480"/>
            <a:ext cx="8354880" cy="476424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Ничего не может быть страшнее смерти детей, даже на войне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7" name="Picture 4" descr="смерть детей на войне фото"/>
          <p:cNvPicPr/>
          <p:nvPr/>
        </p:nvPicPr>
        <p:blipFill>
          <a:blip r:embed="rId1"/>
          <a:stretch/>
        </p:blipFill>
        <p:spPr>
          <a:xfrm>
            <a:off x="905040" y="1986120"/>
            <a:ext cx="7333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Пионеры – герои</a:t>
            </a:r>
            <a:br>
              <a:rPr sz="3400"/>
            </a:b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4" descr="леня голиков фото"/>
          <p:cNvPicPr/>
          <p:nvPr/>
        </p:nvPicPr>
        <p:blipFill>
          <a:blip r:embed="rId1"/>
          <a:stretch/>
        </p:blipFill>
        <p:spPr>
          <a:xfrm>
            <a:off x="0" y="642960"/>
            <a:ext cx="2428920" cy="30351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7"/>
          <p:cNvSpPr/>
          <p:nvPr/>
        </p:nvSpPr>
        <p:spPr>
          <a:xfrm>
            <a:off x="-156240" y="3714840"/>
            <a:ext cx="33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ёня Голик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6" descr="марат казей фото"/>
          <p:cNvPicPr/>
          <p:nvPr/>
        </p:nvPicPr>
        <p:blipFill>
          <a:blip r:embed="rId2"/>
          <a:stretch/>
        </p:blipFill>
        <p:spPr>
          <a:xfrm>
            <a:off x="6435720" y="785880"/>
            <a:ext cx="1994040" cy="25002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6"/>
          <p:cNvSpPr/>
          <p:nvPr/>
        </p:nvSpPr>
        <p:spPr>
          <a:xfrm>
            <a:off x="6643800" y="3500280"/>
            <a:ext cx="15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арат Каз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7" descr="вася коробко фото"/>
          <p:cNvPicPr/>
          <p:nvPr/>
        </p:nvPicPr>
        <p:blipFill>
          <a:blip r:embed="rId3"/>
          <a:stretch/>
        </p:blipFill>
        <p:spPr>
          <a:xfrm>
            <a:off x="3000240" y="4000680"/>
            <a:ext cx="2433600" cy="23731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9"/>
          <p:cNvSpPr/>
          <p:nvPr/>
        </p:nvSpPr>
        <p:spPr>
          <a:xfrm>
            <a:off x="3214800" y="3286080"/>
            <a:ext cx="20001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сили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робк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укцион добрых де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981080"/>
            <a:ext cx="842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злагать цветы к обелискам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раздни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здравлять ветеранов Великой Отечественной войн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 знаменательными дат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знакомиться с историей жизни и подвига участника войны, проживающего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вашем район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беда в Великой Отечественной войне — подвиг и слава нашего народа. Как бы ни менялись за последние годы оценки и даже факты нашей истории, 9 мая — День Победы — остается неизменным. Вечная слава победителям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шим проектом мы хотим поименно поблагодарить солдат Великой Отечественной Войны и рассказать об их подвиг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5" descr="165px-Ribbon_of_Saint_George">
            <a:hlinkClick r:id="rId1"/>
          </p:cNvPr>
          <p:cNvPicPr/>
          <p:nvPr/>
        </p:nvPicPr>
        <p:blipFill>
          <a:blip r:embed="rId2"/>
          <a:stretch/>
        </p:blipFill>
        <p:spPr>
          <a:xfrm rot="5207400">
            <a:off x="685080" y="-604800"/>
            <a:ext cx="18687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0560" y="27756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4617b"/>
                </a:solidFill>
                <a:latin typeface="Calibri"/>
              </a:rPr>
              <a:t>Медаль «За Победу над Германией в Великой Отечественной войне 1941—1945 гг.»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92000" y="1766880"/>
            <a:ext cx="699444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о́ргиевская ле́н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двухцветная лента к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ордену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Святого Георгия</a:t>
            </a:r>
            <a:r>
              <a:rPr b="0" lang="ru-RU" sz="2000" spc="-1" strike="noStrike">
                <a:solidFill>
                  <a:srgbClr val="0f6fc6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Георгиевскому кресту</a:t>
            </a:r>
            <a:r>
              <a:rPr b="0" lang="ru-RU" sz="2000" spc="-1" strike="noStrike">
                <a:solidFill>
                  <a:srgbClr val="0f6fc6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4"/>
              </a:rPr>
              <a:t>Георгиевской медали</a:t>
            </a:r>
            <a:r>
              <a:rPr b="0" lang="ru-RU" sz="2000" spc="-1" strike="noStrike">
                <a:solidFill>
                  <a:srgbClr val="0f6fc6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акже георгиевские ленты на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5"/>
              </a:rPr>
              <a:t>бескозыр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осили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6"/>
              </a:rPr>
              <a:t>матрос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вардейского экипажа корабля, награждённого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7"/>
              </a:rPr>
              <a:t>Георгиевским флаг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нта с незначительными изменениями вошла в советскую наградную систему под название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Гвардейской ленты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 особого знака отличия. В период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8"/>
              </a:rPr>
              <a:t>ССС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вардейская лента использовалась при оформлении колодки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9"/>
              </a:rPr>
              <a:t>ордена Сла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0"/>
              </a:rPr>
              <a:t>медали «За победу над Германией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Кроме того, изображение гвардейской ленты размещалось на знамёнах гвардейских войсковых частей и корабл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а ленты —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1"/>
              </a:rPr>
              <a:t>чёр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жёлто-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2"/>
              </a:rPr>
              <a:t>оранжев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значают «дым и пламя» и являются знаком личной доблести солдата на поле бо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6" descr="Файл:Order of St. George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79280" y="260280"/>
            <a:ext cx="1809720" cy="2924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Файл:Za pobedu nad germanie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50920" y="3357720"/>
            <a:ext cx="174132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Файл:Orderglory rib.pn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716360" y="1268280"/>
            <a:ext cx="421344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о́ргиевская ле́нточ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общественная акция, посвящённая празднованию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Дня Побе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Великой Отечественной вой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оходящая с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2005 г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 тех пор акция стала традиционной и проводится ежегодно с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4"/>
              </a:rPr>
              <a:t>24 апр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5"/>
              </a:rPr>
              <a:t>12 м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6"/>
              </a:rPr>
              <a:t>2008 г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еоргиевские ленточки распространялись в более чем 30 странах. За четыре года проведения акции было распространено более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7"/>
              </a:rPr>
              <a:t>4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8"/>
              </a:rPr>
              <a:t>миллио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енточек по всему миру. Страны, в которых акция проходит наиболее активно, -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9"/>
              </a:rPr>
              <a:t>Росс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0"/>
              </a:rPr>
              <a:t>Гре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1"/>
              </a:rPr>
              <a:t>Украи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2"/>
              </a:rPr>
              <a:t>Фра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3"/>
              </a:rPr>
              <a:t>Итал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4"/>
              </a:rPr>
              <a:t>Эсто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5"/>
              </a:rPr>
              <a:t>Ла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6"/>
              </a:rPr>
              <a:t>Великобрит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7"/>
              </a:rPr>
              <a:t>СШ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8"/>
              </a:rPr>
              <a:t>Гер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итай, Вьетнам, Бельгия, и Афганистан[2]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ой целью 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стало стремление во что бы то ни стало не дать забыть новым поколениям, кто и какой ценой выиграл самую страшную войну прошлого века, чьими наследниками мы остаемся, чем и кем должны гордиться, о ком помнить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ция приходит под лозунгами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Победа деда — моя Побед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Повяжи. Если помнишь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Я помню! Я горжусь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Мы — наследники Великой Победы!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5" descr="165px-Ribbon_of_Saint_George"/>
          <p:cNvPicPr/>
          <p:nvPr/>
        </p:nvPicPr>
        <p:blipFill>
          <a:blip r:embed="rId19"/>
          <a:stretch/>
        </p:blipFill>
        <p:spPr>
          <a:xfrm rot="5207400">
            <a:off x="612000" y="-402120"/>
            <a:ext cx="19209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1941 год 22 июн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6" descr="Утренняя слеза"/>
          <p:cNvPicPr/>
          <p:nvPr/>
        </p:nvPicPr>
        <p:blipFill>
          <a:blip r:embed="rId1"/>
          <a:stretch/>
        </p:blipFill>
        <p:spPr>
          <a:xfrm>
            <a:off x="4064040" y="3367080"/>
            <a:ext cx="1015920" cy="1523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31"/>
          <p:cNvPicPr/>
          <p:nvPr/>
        </p:nvPicPr>
        <p:blipFill>
          <a:blip r:embed="rId2"/>
          <a:stretch/>
        </p:blipFill>
        <p:spPr>
          <a:xfrm>
            <a:off x="1047600" y="1806480"/>
            <a:ext cx="5685120" cy="4265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003,"/>
          <p:cNvPicPr/>
          <p:nvPr/>
        </p:nvPicPr>
        <p:blipFill>
          <a:blip r:embed="rId3"/>
          <a:stretch/>
        </p:blipFill>
        <p:spPr>
          <a:xfrm>
            <a:off x="5724360" y="1844640"/>
            <a:ext cx="2613240" cy="1760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1b3"/>
          <p:cNvPicPr/>
          <p:nvPr/>
        </p:nvPicPr>
        <p:blipFill>
          <a:blip r:embed="rId4"/>
          <a:stretch/>
        </p:blipFill>
        <p:spPr>
          <a:xfrm>
            <a:off x="3419640" y="1844640"/>
            <a:ext cx="2293920" cy="1695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3640" y="301320"/>
            <a:ext cx="856908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дна у человека родная мать, одна у него и Родин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6" descr="сканирование0008"/>
          <p:cNvPicPr/>
          <p:nvPr/>
        </p:nvPicPr>
        <p:blipFill>
          <a:blip r:embed="rId1"/>
          <a:stretch/>
        </p:blipFill>
        <p:spPr>
          <a:xfrm>
            <a:off x="0" y="2124000"/>
            <a:ext cx="8461440" cy="4734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плакат СПАСИ"/>
          <p:cNvPicPr/>
          <p:nvPr/>
        </p:nvPicPr>
        <p:blipFill>
          <a:blip r:embed="rId2"/>
          <a:stretch/>
        </p:blipFill>
        <p:spPr>
          <a:xfrm>
            <a:off x="395280" y="1682640"/>
            <a:ext cx="3675240" cy="5175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родина-мать зовёт"/>
          <p:cNvPicPr/>
          <p:nvPr/>
        </p:nvPicPr>
        <p:blipFill>
          <a:blip r:embed="rId3"/>
          <a:stretch/>
        </p:blipFill>
        <p:spPr>
          <a:xfrm>
            <a:off x="5219640" y="1700280"/>
            <a:ext cx="3538440" cy="5157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3"/>
          <p:cNvSpPr txBox="1"/>
          <p:nvPr/>
        </p:nvSpPr>
        <p:spPr>
          <a:xfrm>
            <a:off x="1042920" y="189000"/>
            <a:ext cx="7056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ВОЙН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5" name="Picture 4" descr="сын полка"/>
          <p:cNvPicPr/>
          <p:nvPr/>
        </p:nvPicPr>
        <p:blipFill>
          <a:blip r:embed="rId1"/>
          <a:srcRect l="18358" t="0" r="18398" b="0"/>
          <a:stretch/>
        </p:blipFill>
        <p:spPr>
          <a:xfrm>
            <a:off x="611280" y="2276640"/>
            <a:ext cx="3082680" cy="36576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grpSp>
        <p:nvGrpSpPr>
          <p:cNvPr id="226" name="Group 7"/>
          <p:cNvGrpSpPr/>
          <p:nvPr/>
        </p:nvGrpSpPr>
        <p:grpSpPr>
          <a:xfrm>
            <a:off x="179280" y="189000"/>
            <a:ext cx="8856720" cy="6551640"/>
            <a:chOff x="179280" y="189000"/>
            <a:chExt cx="8856720" cy="6551640"/>
          </a:xfrm>
        </p:grpSpPr>
        <p:sp>
          <p:nvSpPr>
            <p:cNvPr id="227" name="Line 8"/>
            <p:cNvSpPr/>
            <p:nvPr/>
          </p:nvSpPr>
          <p:spPr>
            <a:xfrm>
              <a:off x="395280" y="551664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8" name="Line 9"/>
            <p:cNvSpPr/>
            <p:nvPr/>
          </p:nvSpPr>
          <p:spPr>
            <a:xfrm>
              <a:off x="539640" y="6381720"/>
              <a:ext cx="1368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9" name="Line 10"/>
            <p:cNvSpPr/>
            <p:nvPr/>
          </p:nvSpPr>
          <p:spPr>
            <a:xfrm>
              <a:off x="179280" y="652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0" name="Line 11"/>
            <p:cNvSpPr/>
            <p:nvPr/>
          </p:nvSpPr>
          <p:spPr>
            <a:xfrm>
              <a:off x="7738920" y="40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>
              <a:off x="8820000" y="18900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232" name="Ленингр мальчишки Мзиури.mp3" descr=""/>
          <p:cNvPicPr/>
          <p:nvPr/>
        </p:nvPicPr>
        <p:blipFill>
          <a:blip r:embed="rId2"/>
          <a:stretch/>
        </p:blipFill>
        <p:spPr>
          <a:xfrm>
            <a:off x="8459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"/>
          <p:cNvPicPr/>
          <p:nvPr/>
        </p:nvPicPr>
        <p:blipFill>
          <a:blip r:embed="rId3"/>
          <a:stretch/>
        </p:blipFill>
        <p:spPr>
          <a:xfrm>
            <a:off x="4067280" y="2637000"/>
            <a:ext cx="4824360" cy="32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468360" y="620640"/>
            <a:ext cx="8136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29 мая 1942 года ЦК ВЛКСМ обратился ко всем учащимся с призывом: наравне с отцами и матерями, работать для фронт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 этот призыв школьники ответили активным участием во всех патриотических движения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3"/>
          <p:cNvSpPr txBox="1"/>
          <p:nvPr/>
        </p:nvSpPr>
        <p:spPr>
          <a:xfrm>
            <a:off x="468360" y="189000"/>
            <a:ext cx="833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В ТЫЛУ: ВМЕСТО ОТЦ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6" name="Picture 4" descr="19"/>
          <p:cNvPicPr/>
          <p:nvPr/>
        </p:nvPicPr>
        <p:blipFill>
          <a:blip r:embed="rId1"/>
          <a:stretch/>
        </p:blipFill>
        <p:spPr>
          <a:xfrm>
            <a:off x="1403280" y="2852640"/>
            <a:ext cx="6553440" cy="373248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18"/>
          <p:cNvPicPr/>
          <p:nvPr/>
        </p:nvPicPr>
        <p:blipFill>
          <a:blip r:embed="rId1"/>
          <a:stretch/>
        </p:blipFill>
        <p:spPr>
          <a:xfrm>
            <a:off x="1042920" y="1197000"/>
            <a:ext cx="7201080" cy="530712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8" name="WordArt 3"/>
          <p:cNvSpPr txBox="1"/>
          <p:nvPr/>
        </p:nvSpPr>
        <p:spPr>
          <a:xfrm>
            <a:off x="468360" y="260280"/>
            <a:ext cx="8334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В ТЫЛУ: ВМЕСТО ОТЦ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chetkovaS</cp:lastModifiedBy>
  <dcterms:modified xsi:type="dcterms:W3CDTF">2010-05-05T08:32:18Z</dcterms:modified>
  <cp:revision>5</cp:revision>
  <dc:subject/>
  <dc:title>Никто не забыт, ничто не забыто</dc:title>
</cp:coreProperties>
</file>