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973-DD17-4169-B2C6-78D5A6BB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75E-2862-46FB-B977-0538AD9F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C29-D00F-498D-AD31-2D5EFDF6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B24-F91C-4480-BCDE-8E690BA8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B8E8-4F48-4887-ABBC-CE64BAFF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E428-F6CE-4775-BD48-53E73CA7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A8E7-1E44-4323-8908-185CA91D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71A8-5CA8-43E2-8C16-D2D4CBAD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8689-26BB-43F0-8378-6C8430FB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0BB8-F7C0-4341-8FFB-CDF169F2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D42A-D217-499D-8C1F-E205411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C98-3F33-419E-B6C7-F6C53A29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B8C5-7E91-48D3-8D53-ECE3332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98ED-B1C1-4B17-86EB-C8DC3EA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9F5F-8115-4AA2-8373-2665E500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16F4-7007-4E0C-8BFF-89F1CC15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2713-4ED2-447E-A2FB-1B5D9119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14F-4B0B-4678-9BF0-FD40D7DB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8DE-ABBA-46E9-BCE4-63E9B547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DDA-2581-46C6-905B-154EC672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C14-6385-4098-AF1A-E386E29C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885-C453-42CA-9650-CB628D4A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2FB-8351-4346-AEFE-60426E9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003-D181-40FA-89D2-D48938B9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30E8-DB99-45E4-8D57-52F715707E0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064F-8F56-4BA7-983C-EC4F17BE20A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рок литературы в 10 класс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 роману Л.Н. Толстого «Война и мир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: Амантурлиева Балкия Шотовна МОАУ «Ветлянская средняя общеобразовательная школа» Соль-Илецкий район  Орнбургская обла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Традиции семьи Ростовых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( праздники)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878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Традиции семьи Ростовых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( балы, рауты)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Рисунок 7" descr="http://www.a4format.ru/index_pic.php?data=photos/41f36ec4.jpg&amp;percenta="/>
          <p:cNvPicPr/>
          <p:nvPr/>
        </p:nvPicPr>
        <p:blipFill>
          <a:blip r:embed="rId1"/>
          <a:stretch/>
        </p:blipFill>
        <p:spPr>
          <a:xfrm>
            <a:off x="2700360" y="1557360"/>
            <a:ext cx="37432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Проект: Семья Болконских- толстовский идеал аристократической семьи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Цель проект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толстовский идеал аристократической семьи с патриархальными устоя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ект выполнили ученицы 10 класса- Полякова Юлия; Дусаева Ами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емья Болконски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ристократиз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ысокий интеллек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бота у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ребовательность к себ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орячая любовь и забота друг о друг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лизость к языку и народ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емейная честь и достоинств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радиции семьи Болконски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олстовские семейные предания легли в основу сцены благословления князя Андрея княжной Мари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i-tmb-0x" descr="http://im6-tub-ru.yandex.net/i?id=391090125-11-72"/>
          <p:cNvPicPr/>
          <p:nvPr/>
        </p:nvPicPr>
        <p:blipFill>
          <a:blip r:embed="rId1"/>
          <a:stretch/>
        </p:blipFill>
        <p:spPr>
          <a:xfrm>
            <a:off x="1031760" y="1341360"/>
            <a:ext cx="3108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Незаурядная личность старшего князя Болконского – прототип прадеда Толстого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Жизненные принципы князя Болконск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еятельность и у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еустанная работа в усадьб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исание мемуар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значение премии для академии тому. Кто напишет историю суворовских вой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здание ополч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31" descr="http://900igr.net/datai/literatura/Tolstoj/0007-007-Printsipy-starogo-knjazja-Bolkonskogo.jpg"/>
          <p:cNvPicPr/>
          <p:nvPr/>
        </p:nvPicPr>
        <p:blipFill>
          <a:blip r:embed="rId6"/>
          <a:stretch/>
        </p:blipFill>
        <p:spPr>
          <a:xfrm>
            <a:off x="539640" y="1413000"/>
            <a:ext cx="331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Быть с русским народом в грозные годы и отдать за него жизнь– в этом видят свое назначение семьи Ростовых и Болконских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i-main-pic" descr="Картинка 45 из 223"/>
          <p:cNvPicPr/>
          <p:nvPr/>
        </p:nvPicPr>
        <p:blipFill>
          <a:blip r:embed="rId1"/>
          <a:stretch/>
        </p:blipFill>
        <p:spPr>
          <a:xfrm>
            <a:off x="566640" y="1557360"/>
            <a:ext cx="3855960" cy="4568760"/>
          </a:xfrm>
          <a:prstGeom prst="rect">
            <a:avLst/>
          </a:prstGeom>
          <a:ln w="0">
            <a:noFill/>
          </a:ln>
        </p:spPr>
      </p:pic>
      <p:pic>
        <p:nvPicPr>
          <p:cNvPr id="227" name="i-main-pic" descr="Картинка 146 из 673"/>
          <p:cNvPicPr/>
          <p:nvPr/>
        </p:nvPicPr>
        <p:blipFill>
          <a:blip r:embed="rId2"/>
          <a:stretch/>
        </p:blipFill>
        <p:spPr>
          <a:xfrm>
            <a:off x="5076720" y="1557360"/>
            <a:ext cx="34959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Толстовский идеал настоящей семьи воплотили в жизни любимые героини автора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32000" y="1773000"/>
            <a:ext cx="3617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i-main-pic" descr="Картинка 83 из 673"/>
          <p:cNvPicPr/>
          <p:nvPr/>
        </p:nvPicPr>
        <p:blipFill>
          <a:blip r:embed="rId1"/>
          <a:stretch/>
        </p:blipFill>
        <p:spPr>
          <a:xfrm>
            <a:off x="263520" y="1803240"/>
            <a:ext cx="3616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871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ознанное родительст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читаете ли вы, что быть родителем почетно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огласны ли вы с тем, что воспитанием детей должны заниматься оба родителя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ужно ли готовить себя к исполнению родительского долга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 какого возраста, по-вашему, стоит готовить себя к достойному исполнению роли отца, роли матери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Где вы чаще всего черпаете знания на заданную тему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еседуете ли вы на тему: взаимоотношения полов, материнства, отцовства, воспитания ( нужное подчеркнуть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а; нет; затрудняюсь ответи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а;  нет;  затрудняюсь ответи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а;  нет;  затрудняюсь ответи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 детства; с подросткового возраста; когда решили создать семью;  когда станешь родителе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 книгах; в газетах; от друзей; от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а: с мамой, с папой, с друзьями. С родственника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одель моей будущей семь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частливая   семья-  это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Любовь;   счастье;   благополучие;  дети;  понимание между   родителями  и детьми;   тепло;   лас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Что вы положите в основу своей семьи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Урок-Проект: Семья-это то, что всегда с тобой! ( по роману Л.Н. Толстого «Война и мир»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«Счастлив то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то у себя дома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Л.Н. Толстой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91080" y="3500280"/>
            <a:ext cx="21430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размышлять над моделью  своей будущей семьи, используя для этого материалы урока( анкета № 1. анкета №2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дготовиться к сочинению по роману по темам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) «Мысль семейная в романе Толстого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) « Нет величия там, где нет добра и простот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) «Истинная красота человека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Г) «Нравственные искания любимых героев Толстого»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урока-проект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 примере семей Ростовых и Болконских по роману «Война и мир» показать, что семья- носитель и хранитель духов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дтолкнуть старшеклассников к размышлению о модели своей будущей семь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ннотация 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рок литературы обладает очень большим воспитательным потенциалом, реализация которого зависит от продуманной организации взаимодействия учащихся и учителя. И в этом помогает нам удостовериться проектно- исследовательская деятельность на уроке. Урок- проект позволяет сделать урок более интересным, быстрым, простым, а полученные знания- более глубокими и обобщенными, если презентации готовят сами ученики, проявляя свои творческие способности. Ученики 10 класса находили и отбирали нужную информацию, а это важный шаг на пути к самостоятельной работе с информационными источниками. Это урок несет в себе еще и большой воспитательный потенциал, потому что формирует у старшеклассников нравственные ценности: дом, семья. Заставляет их задуматься о модели своей будущей семь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ч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Эффективное использование проектной технологии для повышения мотивации в изучении предмета, развития и совершенствования исследовательской деятель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Формировать у учащихся умения ставить перед собой определенные цели и намечать пути их реш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Формировать у старшеклассников нравственные ценности: дом. Семь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дукт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толкнуть старшеклассников к размышлениям об осознанном родительст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ь модель своей будущей семь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боснование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.Н. Толстой утверждал, что «люди как реки: у каждого свое русло, свой исток. Исток этот – родной дом, семья, ее традиции, уклад». Какое выражение находят мысли о семье у Толстого-философа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 этом мы сегодня поговорим, перелистывая страницы романа. Л.Н. Толстой стоит у истоков народной философии и придерживается народной точки зрения на семью- с ее патриархальным укладом, авторитетом родителей, их заботой о детях. Поэтому в центре внимания два семейства: Ростовы и Болконские. Мы познакомимся с укладом этих семей и докажем, что семья- носитель и хранитель духовности. И в конце урока вы попробуете выстроить модель своей будущей семь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Проект: семья Ротовых- толстовский идеал патриархальной семьи.( по роману л.Н. Толстого «война и мир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Цель проект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казать, что семья Ростовых – идеал патриархальной семьи с ее святой заботой старших о младших, младших о старших, с взаимоотношениями, построенными на добре и правд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ект выполнили  Болдырева Анастасия, Шляпников Петр -10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емья Ростов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росто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душ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ердечнос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заимная любовь в семь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лагородств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лизость к народ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Естественнос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Хлебосольств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Рисунок 13" descr="http://shkolazhizni.ru/img/content/i54/54195_or.jpg"/>
          <p:cNvPicPr/>
          <p:nvPr/>
        </p:nvPicPr>
        <p:blipFill>
          <a:blip r:embed="rId9"/>
          <a:stretch/>
        </p:blipFill>
        <p:spPr>
          <a:xfrm>
            <a:off x="500040" y="1654200"/>
            <a:ext cx="31021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19:12Z</dcterms:created>
  <dc:creator>work</dc:creator>
  <dc:description/>
  <dc:language>en-US</dc:language>
  <cp:lastModifiedBy>UserXP</cp:lastModifiedBy>
  <dcterms:modified xsi:type="dcterms:W3CDTF">2011-11-19T15:44:54Z</dcterms:modified>
  <cp:revision>9</cp:revision>
  <dc:subject/>
  <dc:title>Урок-Проект: Семья-это то, что всегда с тобой! ( по роману Л.Н. Толстого «Война и мир»)</dc:title>
</cp:coreProperties>
</file>