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ECE-9B07-4F04-8CEF-0D4B435A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31EE-9DF1-42FA-8B2D-56A49CFB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98D-BAAE-4D9F-A6C0-A51E2EB2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9E6-1575-4E14-AC81-BC48D415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05E3-996B-4B2D-8D5C-B751BEF2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99D1-78C8-4579-A692-9C17F420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777F-CB2E-42E1-88D8-7F6A5E06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E786-BB38-4DE8-9A87-C897F20A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3940-3204-47DF-AE06-76665BC6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27B4-2FED-4431-829D-743EDCDF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42FC-FC93-4F7A-B4BB-E5EAEAB0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29B-8E51-4DE3-8797-7A5CE208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AABC-DD70-43D6-B410-EE1ECBAA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D21F-011A-4EDE-A923-5C425D53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CD00-D72A-48F4-BF28-8CF00EC7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602A-05E2-443F-B086-2E7A94BD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3D5C-FDD7-4E63-A396-BFF4E633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351-7153-483E-BE0D-5D82D54F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BB1-AAB4-47C2-B11D-DDF7787D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E6D-A436-467D-8F5B-D5FA497D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FB6-D60F-4B5C-9BE3-04B6560B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111D-6332-4EE6-8220-40E3035D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4B1-85AC-4F54-85A3-26F8A512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3A10-D257-488B-BC11-869C8781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FBB5-189D-480E-8BB1-5AC87731965C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D0AB-06A4-41F8-8BF7-8DF3AFC4F05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рок литературы в 10 класс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 роману Л.Н. Толстого «Война и мир»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ь: Амантурлиева Балкия Шотовна МОАУ «Ветлянская средняя общеобразовательная школа» Соль-Илецкий район  Орнбургская облас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Традиции семьи Ростовых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( праздники)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68785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Традиции семьи Ростовых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( балы, рауты)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4" name="Рисунок 7" descr="http://www.a4format.ru/index_pic.php?data=photos/41f36ec4.jpg&amp;percenta="/>
          <p:cNvPicPr/>
          <p:nvPr/>
        </p:nvPicPr>
        <p:blipFill>
          <a:blip r:embed="rId1"/>
          <a:stretch/>
        </p:blipFill>
        <p:spPr>
          <a:xfrm>
            <a:off x="2700360" y="1557360"/>
            <a:ext cx="374328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Проект: Семья Болконских- толстовский идеал аристократической семьи.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Цель проект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казать толстовский идеал аристократической семьи с патриархальными устоя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ект выполнили ученицы 10 класса- Полякова Юлия; Дусаева Амин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емья Болконских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Аристократиз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ысокий интеллек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абота ум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Требовательность к себ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Горячая любовь и забота друг о друг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Близость к языку и народ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емейная честь и достоинств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Традиции семьи Болконских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Толстовские семейные предания легли в основу сцены благословления князя Андрея княжной Марие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i-tmb-0x" descr="http://im6-tub-ru.yandex.net/i?id=391090125-11-72"/>
          <p:cNvPicPr/>
          <p:nvPr/>
        </p:nvPicPr>
        <p:blipFill>
          <a:blip r:embed="rId1"/>
          <a:stretch/>
        </p:blipFill>
        <p:spPr>
          <a:xfrm>
            <a:off x="1031760" y="1341360"/>
            <a:ext cx="3108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Незаурядная личность старшего князя Болконского – прототип прадеда Толстого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Жизненные принципы князя Болконског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Деятельность и у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Неустанная работа в усадьб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исание мемуаро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Назначение премии для академии тому. Кто напишет историю суворовских вой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оздание ополче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Рисунок 31" descr="http://900igr.net/datai/literatura/Tolstoj/0007-007-Printsipy-starogo-knjazja-Bolkonskogo.jpg"/>
          <p:cNvPicPr/>
          <p:nvPr/>
        </p:nvPicPr>
        <p:blipFill>
          <a:blip r:embed="rId6"/>
          <a:stretch/>
        </p:blipFill>
        <p:spPr>
          <a:xfrm>
            <a:off x="539640" y="1413000"/>
            <a:ext cx="331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Быть с русским народом в грозные годы и отдать за него жизнь– в этом видят свое назначение семьи Ростовых и Болконских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6" name="i-main-pic" descr="Картинка 45 из 223"/>
          <p:cNvPicPr/>
          <p:nvPr/>
        </p:nvPicPr>
        <p:blipFill>
          <a:blip r:embed="rId1"/>
          <a:stretch/>
        </p:blipFill>
        <p:spPr>
          <a:xfrm>
            <a:off x="566640" y="1557360"/>
            <a:ext cx="3855960" cy="4568760"/>
          </a:xfrm>
          <a:prstGeom prst="rect">
            <a:avLst/>
          </a:prstGeom>
          <a:ln w="0">
            <a:noFill/>
          </a:ln>
        </p:spPr>
      </p:pic>
      <p:pic>
        <p:nvPicPr>
          <p:cNvPr id="227" name="i-main-pic" descr="Картинка 146 из 673"/>
          <p:cNvPicPr/>
          <p:nvPr/>
        </p:nvPicPr>
        <p:blipFill>
          <a:blip r:embed="rId2"/>
          <a:stretch/>
        </p:blipFill>
        <p:spPr>
          <a:xfrm>
            <a:off x="5076720" y="1557360"/>
            <a:ext cx="34959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Толстовский идеал настоящей семьи воплотили в жизни любимые героини автора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032000" y="1773000"/>
            <a:ext cx="36176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i-main-pic" descr="Картинка 83 из 673"/>
          <p:cNvPicPr/>
          <p:nvPr/>
        </p:nvPicPr>
        <p:blipFill>
          <a:blip r:embed="rId1"/>
          <a:stretch/>
        </p:blipFill>
        <p:spPr>
          <a:xfrm>
            <a:off x="263520" y="1803240"/>
            <a:ext cx="36162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871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сознанное родительств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Считаете ли вы, что быть родителем почетно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Согласны ли вы с тем, что воспитанием детей должны заниматься оба родителя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ужно ли готовить себя к исполнению родительского долга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С какого возраста, по-вашему, стоит готовить себя к достойному исполнению роли отца, роли матери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Где вы чаще всего черпаете знания на заданную тему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Беседуете ли вы на тему: взаимоотношения полов, материнства, отцовства, воспитания ( нужное подчеркнуть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1341360"/>
            <a:ext cx="40384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а; нет; затрудняюсь ответит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а;  нет;  затрудняюсь ответит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а;  нет;  затрудняюсь ответит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С детства; с подросткового возраста; когда решили создать семью;  когда станешь родителе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В книгах; в газетах; от друзей; от родителе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а: с мамой, с папой, с друзьями. С родственникам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одель моей будущей семь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частливая   семья-  это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Любовь;   счастье;   благополучие;  дети;  понимание между   родителями  и детьми;   тепло;   ласк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Что вы положите в основу своей семьи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Урок-Проект: Семья-это то, что всегда с тобой! ( по роману Л.Н. Толстого «Война и мир»)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«Счастлив тот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кто у себя дома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Л.Н. Толстой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491080" y="3500280"/>
            <a:ext cx="21430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оразмышлять над моделью  своей будущей семьи, используя для этого материалы урока( анкета № 1. анкета №2)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одготовиться к сочинению по роману по темам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) «Мысль семейная в романе Толстого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Б) « Нет величия там, где нет добра и простоты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) «Истинная красота человека»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Г) «Нравственные искания любимых героев Толстого»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Цели урока-проекта: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 примере семей Ростовых и Болконских по роману «Война и мир» показать, что семья- носитель и хранитель духов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дтолкнуть старшеклассников к размышлению о модели своей будущей семь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Аннотация 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Урок литературы обладает очень большим воспитательным потенциалом, реализация которого зависит от продуманной организации взаимодействия учащихся и учителя. И в этом помогает нам удостовериться проектно- исследовательская деятельность на уроке. Урок- проект позволяет сделать урок более интересным, быстрым, простым, а полученные знания- более глубокими и обобщенными, если презентации готовят сами ученики, проявляя свои творческие способности. Ученики 10 класса находили и отбирали нужную информацию, а это важный шаг на пути к самостоятельной работе с информационными источниками. Это урок несет в себе еще и большой воспитательный потенциал, потому что формирует у старшеклассников нравственные ценности: дом, семья. Заставляет их задуматься о модели своей будущей семь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дачи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Эффективное использование проектной технологии для повышения мотивации в изучении предмета, развития и совершенствования исследовательской деятельно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Формировать у учащихся умения ставить перед собой определенные цели и намечать пути их реше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Формировать у старшеклассников нравственные ценности: дом. Семь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одукт проек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дтолкнуть старшеклассников к размышлениям об осознанном родительств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здать модель своей будущей семь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боснование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.Н. Толстой утверждал, что «люди как реки: у каждого свое русло, свой исток. Исток этот – родной дом, семья, ее традиции, уклад». Какое выражение находят мысли о семье у Толстого-философа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б этом мы сегодня поговорим, перелистывая страницы романа. Л.Н. Толстой стоит у истоков народной философии и придерживается народной точки зрения на семью- с ее патриархальным укладом, авторитетом родителей, их заботой о детях. Поэтому в центре внимания два семейства: Ростовы и Болконские. Мы познакомимся с укладом этих семей и докажем, что семья- носитель и хранитель духовности. И в конце урока вы попробуете выстроить модель своей будущей семь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Проект: семья Ротовых- толстовский идеал патриархальной семьи.( по роману л.Н. Толстого «война и мир»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Цель проект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казать, что семья Ростовых – идеал патриархальной семьи с ее святой заботой старших о младших, младших о старших, с взаимоотношениями, построенными на добре и правд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роект выполнили  Болдырева Анастасия, Шляпников Петр -10 клас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емья Ростовых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ростот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Радуш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ердечност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заимная любовь в семь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Благородств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Близость к народ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Естественност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Хлебосольств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Рисунок 13" descr="http://shkolazhizni.ru/img/content/i54/54195_or.jpg"/>
          <p:cNvPicPr/>
          <p:nvPr/>
        </p:nvPicPr>
        <p:blipFill>
          <a:blip r:embed="rId9"/>
          <a:stretch/>
        </p:blipFill>
        <p:spPr>
          <a:xfrm>
            <a:off x="500040" y="1654200"/>
            <a:ext cx="31021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5:19:12Z</dcterms:created>
  <dc:creator>work</dc:creator>
  <dc:description/>
  <dc:language>en-US</dc:language>
  <cp:lastModifiedBy>UserXP</cp:lastModifiedBy>
  <dcterms:modified xsi:type="dcterms:W3CDTF">2011-11-19T15:44:54Z</dcterms:modified>
  <cp:revision>9</cp:revision>
  <dc:subject/>
  <dc:title>Урок-Проект: Семья-это то, что всегда с тобой! ( по роману Л.Н. Толстого «Война и мир»)</dc:title>
</cp:coreProperties>
</file>