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7BE8-7584-4883-A224-39AC9D8C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92E1-C1CD-4051-ABBE-0C3D94F0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CA08-B9CD-44C8-8FB6-2C36A130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408B-8CC2-4B4B-A884-43375309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7B88-D29A-4998-8ACF-106C7F2C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8C41-7ACA-4B66-884E-148C1616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90AE-CDF0-4402-9332-A6164803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23A9-5BF4-48E9-BBFD-BDFC727F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26BB-3915-4138-85FA-A747AC30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F421-CCAE-4D6F-8951-6A51AC43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781D-0DEA-4319-B9ED-152B51F8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0620-6E8B-4893-9E9B-15D4BC03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F5AF-76A5-4759-96B9-A07F6D11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03BC-8F22-4C37-9745-633EC215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3F48-999F-453D-9DA1-54511ECB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3256-17B4-4DF7-B072-25BB0BE2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B742-1810-4B8C-AEF3-CB85CA13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1433-EE10-476F-BDA4-E2BBFFA4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93E5-930C-40E9-92DF-BE8AE2A9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F715-6E9F-45E1-9746-08E4BC54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4B9E-BDFE-403D-8002-ECCFB988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E8D3-7215-4B23-B455-3B253EEC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8A07-D68B-4F64-8A2F-17C074B5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A779-D301-4C50-A31D-2A807A14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67A8-A308-4B83-A5DE-EDF53A2F7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9B08-8544-401D-AB6F-27D06AC19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Рациональное питание.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781680" y="4267080"/>
            <a:ext cx="2362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боту выполнил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удентка групп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-1071 А.В.Атуч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Витамины.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тамин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органические химические соединения, необходимые организму для нормального роста, развития и обмена вещест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ольшинство витаминов быстро разрушается в организме, и поэтому необходимо постоянное их поступление изв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4120" y="4572000"/>
            <a:ext cx="281916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Минеральные вещества.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неральные вещест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неорганические соединения, на долю приходится около 5% массы тела. Они служат структурными компонентами зубов, мышц, клеток крови и костей. Минеральные вещества необходимые для мышечного сокращения, свёртывания крови, синтеза белков и проницаемости клеточной мембра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инеральные вещества организм получает с пищей. Их подразделяют на два класса: макроэлементы и микроэлемен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кроэлементы (кальций, фосфор, калий, сера, натрий, хлор и магний) требуются организму в относительно больших количеств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требность в микроэлементах (железо, марганец, медь, йод, кальбат, цинк, и фтор) в несколько раз меньш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Вода.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да - это один из наиболее важных компонентов организма, составляющий ⅔ ег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ассы. Вода являетс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лавным компонентом всех биологических жидкостей. Она служит растворителем питательных веществ и шлаков. Велика роль воды в регуляции температуры тела и поддержании кислотно-щелочного равновесия. Она участвует во всех протекающих в организме химических реакц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Основные законы питания.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Потребности человека в энергии и пищевых веществах зависят от возраста, пола и характера выполняемой работы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2. Расход организмом энергии пищевых веществ должен уравновешиваться поступлением их с пищей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3. Органические и минеральные вещества пищи должны быть сбалансированы между собой применительно к потребностям организма, то есть представлены в определенных соотношениях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4. Организм человека нуждается в поступлении ряда органических веществ в готовом виде (витамины, ряд аминокислот и полиненасыщенных жирных кислот), не имея возможности синтезировать их из других веществ пищ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Сбалансированность пищи достигается за счет ее разнообразия, включения в рацион пищевых продуктов разных групп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Состав пищи и, соответственно, набор пищевых продуктов должны отвечать индивидуальным особенностям организма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7. Воздействие пищи может усилить или ослабить работу систем организма. Усиление под действием пищи одних функций может сопровождаться ослаблением других. Человек поставлен природой перед выбором целей питания: ему приходится решать, какую из функций он желает усилить, а чем можно поступиться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8. Пища должна быть безопасной для человека, а применяемые кулинарные приемы ее обработки не должны ему вредить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9. Работа организма подчинена биоритмам. Следуя им, человек должен соблюдать режим пита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Основные требования.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достаточная энергетическая ценность пищ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оптимальный качественный и в меньшей степен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количественный состав пищ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достаточный объем пищи и жидк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деление суточного рациона на ча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прием совместимых пищевых продукт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употребление свежих продуктов, не подвергнутых различным обработка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максимальное исключение из употребления соли, сахара, алкоголя, кофе, какао, чая, шоколад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систематическое очищение организма от шлак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едики проделали огромную работу, опросив тысячи людей, которым удалось сбросить вес. Опрос показал что их объединяет одно и то ж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сбалансированное питание"/>
          <p:cNvPicPr/>
          <p:nvPr/>
        </p:nvPicPr>
        <p:blipFill>
          <a:blip r:embed="rId1"/>
          <a:stretch/>
        </p:blipFill>
        <p:spPr>
          <a:xfrm>
            <a:off x="5867280" y="28195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38080" y="2819520"/>
            <a:ext cx="45720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ый день они начинают с завтра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ерживаются низкожировой дие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женедельно взвешивают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еляют физической активности около часа в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Содержание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то такое рациональное питани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чем нужно рациональное питани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итательные веще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новные законы пит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новные требования, предъявляемые к рациональному питани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циональное питание - это и своевременное снабжение организма пищей, содержащей жизненно важные для него питательные вещества в оптимальных количествах, с учетом характера труда человека и его индивидуальных особенностей: возраста, пола, роста, вес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29200" y="3962520"/>
            <a:ext cx="365760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последнее время очень много внимания стало уделяться рациональному питанию как одному из важных компонентов здорового образа жизни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 пищей человек получает необходимые элементы, которые обеспечивают организм энергией, и требуется для роста и поддержания жизнедеятельности тканей. Все питательные вещества подразделяются на шесть основных типов: углеводы, жиры, белки, витамины, минеральные элементы и вода. Правильное питание позволяет организму максимально реализовать его генетический потенциал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Питательные вещества.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белк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жиры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углеводы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витамины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минеральные веществ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вод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елк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обязательная составная часть всех клеток. В организме присутствует около 50 тыс. различных типов белк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пищеварительном тракте белки расщепляются до аминокислот, которые всасываются в кровь и попадают в клети. В клетках из них строятся собственные белки, характерные для данного организм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362320" y="480060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181480" y="4724280"/>
            <a:ext cx="25146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Жиры.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Жир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главные из веществ, с помощью них организм запасает энергию. Жиров организм способен запасти гораздо больше, чем гликогена. Когда жира потребляется больше, чем нужно организму, он откладывается в жировых клетках. Если этот процесс идёт интенсивно, человек становится тучны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Углеводы.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глеводами называют органические соединения, состоящие из углерода, водорода и кислорода. Углеводы содержатся во всех пищевых продуктах, но особенно много их в крупах, фруктах и овощах. Углеводы по сложности их химической структуры подразделяются на две группы: простые и сложн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457200" y="457200"/>
          <a:ext cx="8229600" cy="5398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стые углев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жные углев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лебные и макаронные изделия из белой муки, выпе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леб и макароны из муки грубого пом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ботанные кру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ичневый рис, гречка, овся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руктовые соки, сладкая газ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жие фру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феты, шокола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нозерновой хле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х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вощ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ё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бы, фасоль, горох, чечев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er</cp:lastModifiedBy>
  <dcterms:modified xsi:type="dcterms:W3CDTF">2012-05-19T13:04:5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