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F542-5AB4-4581-B52D-BB9DECC5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94F3-EDDC-4965-8AF5-A07780A3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598D-BDFC-4290-96CB-C3ABA88A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3ADE-8E70-4051-B0B5-2D6CD909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3EF4-5A50-450C-8315-A1CD5E5A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ADA6-E468-48BD-B804-6E897924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E4A4-40E2-45E1-9455-663FE696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F57B-84F0-452B-B661-8E70EA84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9746-9A26-4C97-BE93-334E5763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79EB-0D1D-4920-9E2D-01C8272A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9ABF-F0EC-469D-9E3D-7D9438C1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CA02-35AB-45D2-AC50-E08262D0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6AEC-BAEC-4188-A575-0F35205D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6702-39B8-480A-BE9D-C0E98151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5CE9-5FC8-4CE5-B59F-0DD02EA9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9F39-0640-4D99-8C99-66CC2C50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F7FC-59CC-4328-8FC6-C744B6E6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9FF-DF8F-4DF9-AD72-9928981F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C6D-E2E1-4FE0-848E-D5B3885C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C600-89EC-4DEF-B70F-DFF6E8A7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5A0E-C781-407E-AC5E-91C4530A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6253-E755-4970-BC0A-E5DBA536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954-4585-43D6-BE3C-BCCA825C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EA08-2D3C-4B51-B514-21008B58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0A87-C893-4D97-8618-363159BAD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E96C-0BA6-4987-B122-A019C46A5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Рациональное питание.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781680" y="4267080"/>
            <a:ext cx="2362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боту выполнил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удентка групп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-1071 А.В.Атуч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Витамины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тамин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органические химические соединения, необходимые организму для нормального роста, развития и обмена вещест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льшинство витаминов быстро разрушается в организме, и поэтому необходимо постоянное их поступление изв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4120" y="4572000"/>
            <a:ext cx="281916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Минеральные вещества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неральные вещест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неорганические соединения, на долю приходится около 5% массы тела. Они служат структурными компонентами зубов, мышц, клеток крови и костей. Минеральные вещества необходимые для мышечного сокращения, свёртывания крови, синтеза белков и проницаемости клеточной мембра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инеральные вещества организм получает с пищей. Их подразделяют на два класса: макроэлементы и микроэлем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роэлементы (кальций, фосфор, калий, сера, натрий, хлор и магний) требуются организму в относительно больших количеств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требность в микроэлементах (железо, марганец, медь, йод, кальбат, цинк, и фтор) в несколько раз меньш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Вода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да - это один из наиболее важных компонентов организма, составляющий ⅔ ег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ассы. Вода являетс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лавным компонентом всех биологических жидкостей. Она служит растворителем питательных веществ и шлаков. Велика роль воды в регуляции температуры тела и поддержании кислотно-щелочного равновесия. Она участвует во всех протекающих в организме химических реакц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Основные законы питания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Потребности человека в энергии и пищевых веществах зависят от возраста, пола и характера выполняемой работы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2. Расход организмом энергии пищевых веществ должен уравновешиваться поступлением их с пищей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3. Органические и минеральные вещества пищи должны быть сбалансированы между собой применительно к потребностям организма, то есть представлены в определенных соотношениях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4. Организм человека нуждается в поступлении ряда органических веществ в готовом виде (витамины, ряд аминокислот и полиненасыщенных жирных кислот), не имея возможности синтезировать их из других веществ пищ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Сбалансированность пищи достигается за счет ее разнообразия, включения в рацион пищевых продуктов разных групп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Состав пищи и, соответственно, набор пищевых продуктов должны отвечать индивидуальным особенностям организм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7. Воздействие пищи может усилить или ослабить работу систем организма. Усиление под действием пищи одних функций может сопровождаться ослаблением других. Человек поставлен природой перед выбором целей питания: ему приходится решать, какую из функций он желает усилить, а чем можно поступиться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8. Пища должна быть безопасной для человека, а применяемые кулинарные приемы ее обработки не должны ему вредить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9. Работа организма подчинена биоритмам. Следуя им, человек должен соблюдать режим пита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Основные требования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достаточная энергетическая ценность пищ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оптимальный качественный и в меньшей степен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количественный состав пищ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достаточный объем пищи и жидк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деление суточного рациона на ча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прием совместимых пищевых продук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употребление свежих продуктов, не подвергнутых различным обработка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максимальное исключение из употребления соли, сахара, алкоголя, кофе, какао, чая, шоколад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систематическое очищение организма от шлак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едики проделали огромную работу, опросив тысячи людей, которым удалось сбросить вес. Опрос показал что их объединяет одно и то ж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сбалансированное питание"/>
          <p:cNvPicPr/>
          <p:nvPr/>
        </p:nvPicPr>
        <p:blipFill>
          <a:blip r:embed="rId1"/>
          <a:stretch/>
        </p:blipFill>
        <p:spPr>
          <a:xfrm>
            <a:off x="5867280" y="28195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2819520"/>
            <a:ext cx="4572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день они начинают с завтра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ерживаются низкожировой дие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женедельно взвешивают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еляют физической активности около часа в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Содержание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 такое рациональное пита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чем нужно рациональное пита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итательные веще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ые законы пит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ые требования, предъявляемые к рациональному питан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циональное питание - это и своевременное снабжение организма пищей, содержащей жизненно важные для него питательные вещества в оптимальных количествах, с учетом характера труда человека и его индивидуальных особенностей: возраста, пола, роста, вес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365760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последнее время очень много внимания стало уделяться рациональному питанию как одному из важных компонентов здорового образа жизни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 пищей человек получает необходимые элементы, которые обеспечивают организм энергией, и требуется для роста и поддержания жизнедеятельности тканей. Все питательные вещества подразделяются на шесть основных типов: углеводы, жиры, белки, витамины, минеральные элементы и вода. Правильное питание позволяет организму максимально реализовать его генетический потенциа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Питательные вещества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белк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жиры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углеводы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витамины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минеральные веществ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во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ел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обязательная составная часть всех клеток. В организме присутствует около 50 тыс. различных типов бел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пищеварительном тракте белки расщепляются до аминокислот, которые всасываются в кровь и попадают в клети. В клетках из них строятся собственные белки, характерные для данного организ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362320" y="480060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81480" y="4724280"/>
            <a:ext cx="25146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Жиры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Жир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главные из веществ, с помощью них организм запасает энергию. Жиров организм способен запасти гораздо больше, чем гликогена. Когда жира потребляется больше, чем нужно организму, он откладывается в жировых клетках. Если этот процесс идёт интенсивно, человек становится тучны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Углеводы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глеводами называют органические соединения, состоящие из углерода, водорода и кислорода. Углеводы содержатся во всех пищевых продуктах, но особенно много их в крупах, фруктах и овощах. Углеводы по сложности их химической структуры подразделяются на две группы: простые и сложн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457200" y="457200"/>
          <a:ext cx="8229600" cy="5398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тые углев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жные углев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ебные и макаронные изделия из белой муки, выпе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еб и макароны из муки грубого пом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ботанные кру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ичневый рис, гречка, овся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уктовые соки, сладкая газ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жие фр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еты, шокола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нозерновой хле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х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вощ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ё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бы, фасоль, горох, чечев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er</cp:lastModifiedBy>
  <dcterms:modified xsi:type="dcterms:W3CDTF">2012-05-19T13:04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