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8.gif" ContentType="image/gif"/>
  <Override PartName="/ppt/media/image5.gif" ContentType="image/gif"/>
  <Override PartName="/ppt/media/image7.jpeg" ContentType="image/jpeg"/>
  <Override PartName="/ppt/media/image15.gif" ContentType="image/gif"/>
  <Override PartName="/ppt/media/image20.png" ContentType="image/png"/>
  <Override PartName="/ppt/media/image11.png" ContentType="image/png"/>
  <Override PartName="/ppt/media/image29.png" ContentType="image/png"/>
  <Override PartName="/ppt/media/image6.gif" ContentType="image/gif"/>
  <Override PartName="/ppt/media/image27.gif" ContentType="image/gif"/>
  <Override PartName="/ppt/media/image4.gif" ContentType="image/gif"/>
  <Override PartName="/ppt/media/image13.png" ContentType="image/png"/>
  <Override PartName="/ppt/media/image8.jpeg" ContentType="image/jpeg"/>
  <Override PartName="/ppt/media/image9.gif" ContentType="image/gif"/>
  <Override PartName="/ppt/media/image12.gif" ContentType="image/gif"/>
  <Override PartName="/ppt/media/image10.png" ContentType="image/png"/>
  <Override PartName="/ppt/media/image14.png" ContentType="image/png"/>
  <Override PartName="/ppt/media/image16.gif" ContentType="image/gif"/>
  <Override PartName="/ppt/media/image19.png" ContentType="image/png"/>
  <Override PartName="/ppt/media/image21.png" ContentType="image/png"/>
  <Override PartName="/ppt/media/image17.gif" ContentType="image/gif"/>
  <Override PartName="/ppt/media/image22.png" ContentType="image/png"/>
  <Override PartName="/ppt/media/image18.jpeg" ContentType="image/jpeg"/>
  <Override PartName="/ppt/media/image30.gif" ContentType="image/gif"/>
  <Override PartName="/ppt/media/image23.png" ContentType="image/png"/>
  <Override PartName="/ppt/media/image31.gif" ContentType="image/gif"/>
  <Override PartName="/ppt/media/image1.gif" ContentType="image/gif"/>
  <Override PartName="/ppt/media/image24.png" ContentType="image/png"/>
  <Override PartName="/ppt/media/image2.gif" ContentType="image/gif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907-3D30-43AC-889E-71BF5E34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095-1D0A-42BE-9D69-D9DC26D0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108E-74F8-4182-AC02-A7C17419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099-3FA8-4462-9BD6-EA89796C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070E-E603-48EC-A5E5-E5732A63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252F-ACBE-46B1-A855-8A55D114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C1F3-C9CB-4E0E-94B2-BBB05084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8282-A264-4D1B-9A1F-317C99FF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55CE-7679-4713-BC4B-DD79160A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CC75-5F21-46D0-8673-7C612389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E0CD-DFC4-4AE3-B9D2-3E2C9C91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ECF-A9E9-4A27-9523-DC3D2E2D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871C-D550-44D3-ABD0-CA0623EA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BCF1-4845-489B-9CAB-94A6D878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4A45-36E8-40E9-88B4-B444DD79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49C5-E330-4959-A451-1FAB92DA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A364-60D6-4731-84F8-083ADC6F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492-A161-43BF-A7CD-2CC906F9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84D-836C-467F-AA77-81AF8AB8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572-0C9C-4289-9FBC-EAE0468E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0C1-37A7-47DD-9C6F-423260D3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BB3-4C7A-482E-A3CC-C194099B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99F-4ED8-45FD-B060-24189ED2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62F-0AB6-4C3F-8812-D9B08975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8EB4-C81F-4D46-BE7A-24A6C6BB58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F965-20C8-410F-9434-A6AECE1275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5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ОСЕННИЙ АУКЦИОН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4360" y="3886200"/>
            <a:ext cx="748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cc00"/>
                </a:solidFill>
                <a:latin typeface="Times New Roman"/>
              </a:rPr>
              <a:t>ОСЕНЬ- ПЕРЕМЕН ВОСЕМЬ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6003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eec94"/>
                </a:solidFill>
                <a:latin typeface="Times New Roman"/>
              </a:rPr>
              <a:t>ВТОРОЙ ЭТАП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СЕНЬ-ВДОХНОВЕНИ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3306600" cy="2706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143160" y="2857680"/>
            <a:ext cx="285768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143160" y="2857680"/>
            <a:ext cx="2857680" cy="1143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364000" y="1052640"/>
            <a:ext cx="2857680" cy="1143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оминации второго этап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.Разгадай изображение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тавка 1ж-10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. Зарифмуй стихотворение.                 ставка 2ж-10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. Дорисуй произведение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тавка  3ж-6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колько образов спряталось в этой картинке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21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РИФМУЙ СЛ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Все,  ели, деревья, только, облетели, зеленеют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гадай, что же нарисовал автор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2723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РЕТИЙ ЭТАП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3213000"/>
            <a:ext cx="7618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ОСЕНЬ-НЕПОГОДУШКА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2808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98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оминации третьего этап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Осень перемен восемь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ставки 2ж-10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Осень милости просим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ставки 2ж-10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АЗГАДАЙ  РЕБУ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632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8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АЗГАДАЙ  РЕБУ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80643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тгадай  шарад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не не пройти в ветвистый лес 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ои рога в ветвях застряли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о обменяй мне Л на С 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листья леса все завяну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948360" y="3860640"/>
            <a:ext cx="177660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етыре этапа иг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ОСЕНЬ -КРАСА</a:t>
            </a:r>
            <a:br>
              <a:rPr sz="4800"/>
            </a:b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ОСЕНЬ-ВДОХНОВЕНИЕ</a:t>
            </a:r>
            <a:br>
              <a:rPr sz="4800"/>
            </a:b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ОСЕНЬ- НЕПОГОДУШКА</a:t>
            </a:r>
            <a:br>
              <a:rPr sz="4800"/>
            </a:b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ОСЕНЬ-ХОЗЯЮШК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533760" cy="2808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43280" y="12679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тгадай  шарад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Там, где буква Г и розы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Там бывают часто 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4103640" cy="2665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 rot="20674200">
            <a:off x="250920" y="836280"/>
            <a:ext cx="4228920" cy="85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ЕТВЕРТЫЙ ЭТАП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ОСЕНЬ- ХОЗЯЮШКА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56360" y="1268280"/>
            <a:ext cx="2879640" cy="4969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оминации четвёртого этап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Узнай овощ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тавка 2ж-8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Какой ягоды не существует в природ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тавка 2ж-10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Рецепт борщ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тавка 4ж-8б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йди брюссельскую капусту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059280" y="1413000"/>
            <a:ext cx="2089080" cy="1969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2521080" cy="2735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755640" y="1341360"/>
            <a:ext cx="1868400" cy="2087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5580000" y="1484280"/>
            <a:ext cx="2013120" cy="1944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6659640" y="3789360"/>
            <a:ext cx="2016000" cy="259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3924360" y="4005360"/>
            <a:ext cx="230040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ЙДИ КАПУСТУ КОЛЬРАБ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635280" y="1484280"/>
            <a:ext cx="2449440" cy="2592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2303640" cy="2520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572000" y="4076640"/>
            <a:ext cx="1655640" cy="1954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6659640" y="2349360"/>
            <a:ext cx="1944720" cy="2347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900000" y="3860640"/>
            <a:ext cx="2880000" cy="2697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6588000" y="4797360"/>
            <a:ext cx="191160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акой ягоды не существует в природе?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рыжовника, смородины, брусники, клубники, земляника, снеженика, шиповник малина, ежевика, арони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1439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акой ягоды не существует в природе?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люква, черника ,голубика, синика, боярышник, шиповник, костяника, морошка, земляника, рябина, бузина, черная смородина, черемух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11280" y="5084640"/>
            <a:ext cx="1296720" cy="129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акие овощи нужны для приготовления борща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1526040"/>
            <a:ext cx="21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Сост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ртофе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у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орков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ек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мидор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16360" y="2326320"/>
            <a:ext cx="2332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2.Сост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пус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ртофе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у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орков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ек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мидор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бач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84720" y="1774080"/>
            <a:ext cx="230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3.Сост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пус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ртофе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у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орков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ек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мидор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 rot="20893800">
            <a:off x="468000" y="4149360"/>
            <a:ext cx="1655640" cy="2443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ИГРА ОКОНЧЕНА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084720" y="4149720"/>
            <a:ext cx="208764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4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Первый этап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2205000"/>
            <a:ext cx="73454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cc00"/>
                </a:solidFill>
                <a:latin typeface="Times New Roman"/>
              </a:rPr>
              <a:t>ОСЕНЬ - КРАСА</a:t>
            </a:r>
            <a:br>
              <a:rPr sz="48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19755000">
            <a:off x="7164000" y="47592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4307400">
            <a:off x="328680" y="615600"/>
            <a:ext cx="1552320" cy="1419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443640" y="3933720"/>
            <a:ext cx="1552680" cy="1419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700360" y="3860640"/>
            <a:ext cx="1552680" cy="1419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оминации первого этап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64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оэзия –  ставка 3-8 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ословицы и поговорки-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тавка 1-7 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Загадки-  ставка 1-10 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20000" y="4005360"/>
            <a:ext cx="19447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ОЭЗ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одолжи стихотвор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ж.   Унылая пора! Очей очарованье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ятна мне твоя прощальная краса —………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ж.     Скучная картина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учи без конц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ождик так и льется,……………………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ж .     Осень наступил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ысохли цветы,…………………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ж.     Лес, точно терем расписно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иловый, золотой, багряный,………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ж.      Есть в осени первоначаль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ороткая, но дивная пора —…………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ж.       Поспевает брусник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тали дни холоднее,………………………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 rot="21038400">
            <a:off x="6227640" y="3213000"/>
            <a:ext cx="273708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Пословицы и поговорки.</a:t>
            </a:r>
            <a:br>
              <a:rPr sz="40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ж.Цыплят по ……….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ж.Осень - запасиха, ………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ж.Весна красна цветами, а осень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ж.Как потопаешь,…….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5ж.Осень идёт, за собою……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6ж.Осень – перемен……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7ж.В осеннем ненастье семь погод на дворе…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948360" y="2637000"/>
            <a:ext cx="1582920" cy="129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ec94"/>
                </a:solidFill>
                <a:latin typeface="Times New Roman"/>
              </a:rPr>
              <a:t>Загадки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093080" y="333360"/>
            <a:ext cx="1873080" cy="2160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1341360"/>
            <a:ext cx="754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ж.  Лес разделс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еба просин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Это время года -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ж.   Солнца нет, на небе туч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етер вредный и колючи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ует так, спасенья н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Что такое? Дай отв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ж .Кто всю ночь по крыше бьё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а постукивае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 бормочет, и поёт, убаюкива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ж.Тучи нагоняе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оет, задува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 свету рыще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ет да свищ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ec94"/>
                </a:solidFill>
                <a:latin typeface="Times New Roman"/>
              </a:rPr>
              <a:t>Загадки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387800"/>
            <a:ext cx="896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ж. Осень в гости к нам приш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 с собою принесла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Что? Скажите наугад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у, конечно 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ж. Не колючий, светло-си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о кустам развешан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ж. Холода их так пугаю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 теплым странам улетаю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ть не могут, весел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то собрался в стайки?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Times New Roman"/>
              </a:rPr>
              <a:t>Загадки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ж.Вслед за августом приходит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 листопадом хороводи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богат он урожае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ы его, конечно, знаем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ж.  Солнце больше нас не греет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Холодком поземка веет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унул в лужу ветер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сковал ее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ж. Дождь и слякоть, грязь и ветер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сень, ты за все в ответе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ерзнет, мерзнет человек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пал первый белый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4:18:48Z</dcterms:created>
  <dc:creator>Bill Gates</dc:creator>
  <dc:description/>
  <dc:language>en-US</dc:language>
  <cp:lastModifiedBy>Bill Gates</cp:lastModifiedBy>
  <dcterms:modified xsi:type="dcterms:W3CDTF">2009-10-11T16:12:26Z</dcterms:modified>
  <cp:revision>3</cp:revision>
  <dc:subject/>
  <dc:title>ОСЕННИЙ АУКЦИОН</dc:title>
</cp:coreProperties>
</file>