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8.gif" ContentType="image/gif"/>
  <Override PartName="/ppt/media/image5.gif" ContentType="image/gif"/>
  <Override PartName="/ppt/media/image7.jpeg" ContentType="image/jpeg"/>
  <Override PartName="/ppt/media/image15.gif" ContentType="image/gif"/>
  <Override PartName="/ppt/media/image20.png" ContentType="image/png"/>
  <Override PartName="/ppt/media/image11.png" ContentType="image/png"/>
  <Override PartName="/ppt/media/image29.png" ContentType="image/png"/>
  <Override PartName="/ppt/media/image6.gif" ContentType="image/gif"/>
  <Override PartName="/ppt/media/image27.gif" ContentType="image/gif"/>
  <Override PartName="/ppt/media/image4.gif" ContentType="image/gif"/>
  <Override PartName="/ppt/media/image13.png" ContentType="image/png"/>
  <Override PartName="/ppt/media/image8.jpeg" ContentType="image/jpeg"/>
  <Override PartName="/ppt/media/image9.gif" ContentType="image/gif"/>
  <Override PartName="/ppt/media/image12.gif" ContentType="image/gif"/>
  <Override PartName="/ppt/media/image10.png" ContentType="image/png"/>
  <Override PartName="/ppt/media/image14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gif" ContentType="image/gif"/>
  <Override PartName="/ppt/media/image22.png" ContentType="image/png"/>
  <Override PartName="/ppt/media/image18.jpeg" ContentType="image/jpeg"/>
  <Override PartName="/ppt/media/image30.gif" ContentType="image/gif"/>
  <Override PartName="/ppt/media/image23.png" ContentType="image/png"/>
  <Override PartName="/ppt/media/image31.gif" ContentType="image/gif"/>
  <Override PartName="/ppt/media/image1.gif" ContentType="image/gif"/>
  <Override PartName="/ppt/media/image24.png" ContentType="image/png"/>
  <Override PartName="/ppt/media/image2.gif" ContentType="image/gi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566-0196-4F44-BE54-BC9EC739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583-7468-4175-AF0B-52B4695D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55F-F6F1-440F-A662-3695368F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AFD-A05D-43D6-8C6C-6B635AF5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D653-75C7-4A65-9255-31D8F11C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5CD-B545-49BB-BE21-E856C54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67D9-BF45-4304-8BDA-568E5037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CA4F-75CD-4C20-AAD3-5E69701A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905A-6AFA-4FA3-8569-ACF9DFF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B0B3-FB56-4A34-9394-DFFE78DB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778F-CCDB-4BA7-AB58-5B81099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C67-67D7-4AB0-B8F7-5B9B1053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7441-7084-420A-AAEC-A567F64D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43E0-3C2D-446F-9B1E-987AF52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D1CA-423B-468A-9B78-D13362CA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8163-5D37-4D97-A11F-8B36B240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3F70-148E-41BC-ABA1-C0E5A744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458-6938-4064-9065-600F07C6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FB8-C259-446A-8B4B-075AE46F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305-9EB0-485F-8DA8-01FB8E0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D3A-BD31-47CF-AC9D-37C552E0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778-0FD5-4C3A-84F6-9AF0043B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746-2736-457B-821A-339B6D4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FC1-1F09-4B8F-B2C2-CE8C90A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3781-6C70-4609-9D2E-CB8FE07FC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62EB-43E7-42DC-89E9-085DE0505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ОСЕННИЙ АУКЦИОН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48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00"/>
                </a:solidFill>
                <a:latin typeface="Times New Roman"/>
              </a:rPr>
              <a:t>ОСЕНЬ- ПЕРЕМЕН ВОСЕМЬ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600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ВТОРОЙ ЭТАП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СЕНЬ-ВДОХНОВЕ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306600" cy="2706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43160" y="2857680"/>
            <a:ext cx="285768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143160" y="2857680"/>
            <a:ext cx="285768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364000" y="1052640"/>
            <a:ext cx="2857680" cy="114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минации второго эта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.Разгадай изображение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тавка 1ж-10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. Зарифмуй стихотворение.                 ставка 2ж-10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. Дорисуй произведени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тавка  3ж-6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колько образов спряталось в этой картинке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РИФМУЙ С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Все,  ели, деревья, только, облетели, зеленеют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гадай, что же нарисовал автор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72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РЕТИ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3213000"/>
            <a:ext cx="7618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ОСЕНЬ-НЕПОГОДУШ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минации третьего эта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Осень перемен восемь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ставки 2ж-10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Осень милости просим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ставки 2ж-10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ГАДАЙ  РЕБУ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ГАДАЙ  РЕБУ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гадай  шара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е не пройти в ветвистый лес 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ои рога в ветвях застряли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 обменяй мне Л на С 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стья леса все завяну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48360" y="3860640"/>
            <a:ext cx="177660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тыре этапа иг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ОСЕНЬ -КРАСА</a:t>
            </a:r>
            <a:br>
              <a:rPr sz="4800"/>
            </a:b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ОСЕНЬ-ВДОХНОВЕНИЕ</a:t>
            </a:r>
            <a:br>
              <a:rPr sz="4800"/>
            </a:b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ОСЕНЬ- НЕПОГОДУШКА</a:t>
            </a:r>
            <a:br>
              <a:rPr sz="4800"/>
            </a:b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ОСЕНЬ-ХОЗЯЮШ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33760" cy="280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43280" y="12679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гадай  шара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Там, где буква Г и розы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Там бывают часто 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4103640" cy="2665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 rot="20674200">
            <a:off x="250920" y="836280"/>
            <a:ext cx="422892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ТВЕРТЫЙ ЭТАП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ОСЕНЬ- ХОЗЯЮШКА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879640" cy="496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минации четвёртого эта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Узнай овощ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вка 2ж-8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Какой ягоды не существует в природ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вка 2ж-10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Рецепт борщ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вка 4ж-8б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йди брюссельскую капуст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2089080" cy="1969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252108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1868400" cy="208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2013120" cy="194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659640" y="378936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3924360" y="4005360"/>
            <a:ext cx="23004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ЙДИ КАПУСТУ КОЛЬРАБ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2449440" cy="2592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2303640" cy="252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1655640" cy="195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659640" y="234936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900000" y="3860640"/>
            <a:ext cx="2880000" cy="2697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6588000" y="4797360"/>
            <a:ext cx="191160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ой ягоды не существует в природе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ыжовника, смородины, брусники, клубники, земляника, снеженика, шиповник малина, ежевика, арони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1439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ой ягоды не существует в природе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люква, черника ,голубика, синика, боярышник, шиповник, костяника, морошка, земляника, рябина, бузина, черная смородина, черемух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5084640"/>
            <a:ext cx="1296720" cy="12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ие овощи нужны для приготовления борща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526040"/>
            <a:ext cx="21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Сост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ртоф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орков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ек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мидор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6360" y="2326320"/>
            <a:ext cx="2332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Сост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пус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ртоф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орков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ек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мидо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бач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1774080"/>
            <a:ext cx="23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Сост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пус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ртоф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орков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ек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мидо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 rot="20893800">
            <a:off x="468000" y="4149360"/>
            <a:ext cx="1655640" cy="24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ИГРА ОКОНЧЕНА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208764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Первый этап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205000"/>
            <a:ext cx="73454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cc00"/>
                </a:solidFill>
                <a:latin typeface="Times New Roman"/>
              </a:rPr>
              <a:t>ОСЕНЬ - КРАСА</a:t>
            </a:r>
            <a:br>
              <a:rPr sz="48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9755000">
            <a:off x="7164000" y="47592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4307400">
            <a:off x="328680" y="615600"/>
            <a:ext cx="1552320" cy="1419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1552680" cy="141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700360" y="386064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минации первого эта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эзия –  ставка 3-8 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словицы и поговорки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тавка 1-7 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гадки-  ставка 1-10 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20000" y="4005360"/>
            <a:ext cx="19447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ЭЗ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должи стихотвор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ж.   Унылая пора! Очей очаровань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ятна мне твоя прощальная краса —………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ж.     Скучная картин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учи без конц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ждик так и льется,…………………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ж .     Осень наступил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сохли цветы,………………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ж.     Лес, точно терем расписн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иловый, золотой, багряный,……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ж.      Есть в осени первоначаль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роткая, но дивная пора —………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ж.       Поспевает брусник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али дни холоднее,……………………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rot="21038400">
            <a:off x="6227640" y="3213000"/>
            <a:ext cx="2737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ословицы и поговорки.</a:t>
            </a:r>
            <a:br>
              <a:rPr sz="40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ж.Цыплят по ………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ж.Осень - запасиха, ………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ж.Весна красна цветами, а осень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ж.Как потопаешь,……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ж.Осень идёт, за собою……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ж.Осень – перемен……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7ж.В осеннем ненастье семь погод на дворе…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948360" y="2637000"/>
            <a:ext cx="1582920" cy="12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Загадки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873080" cy="216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1341360"/>
            <a:ext cx="754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ж.  Лес раздел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ба просин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Это время года -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ж.   Солнца нет, на небе туч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етер вредный и колюч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ует так, спасенья н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Что такое? Дай отв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ж .Кто всю ночь по крыше бьё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а постукива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 бормочет, и поёт, убаюкив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ж.Тучи нагоня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ет, задув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 свету рыщ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ет да свищ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Загадки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387800"/>
            <a:ext cx="89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ж. Осень в гости к нам приш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 с собою принесл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Что? Скажите наугад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у, конечно 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ж. Не колючий, светло-си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 кустам развешан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ж. Холода их так пугаю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 теплым странам улетаю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ть не могут, весел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то собрался в стайки?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Times New Roman"/>
              </a:rPr>
              <a:t>Загадк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ж.Вслед за августом приходи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листопадом хоровод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богат он урожае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ы его, конечно, знаем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ж.  Солнце больше нас не грее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олодком поземка веет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унул в лужу ветер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сковал ее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ж. Дождь и слякоть, грязь и вет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ень, ты за все в ответ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рзнет, мерзнет челове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пал первый белый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4:18:48Z</dcterms:created>
  <dc:creator>Bill Gates</dc:creator>
  <dc:description/>
  <dc:language>en-US</dc:language>
  <cp:lastModifiedBy>Bill Gates</cp:lastModifiedBy>
  <dcterms:modified xsi:type="dcterms:W3CDTF">2009-10-11T16:12:26Z</dcterms:modified>
  <cp:revision>3</cp:revision>
  <dc:subject/>
  <dc:title>ОСЕННИЙ АУКЦИОН</dc:title>
</cp:coreProperties>
</file>