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5.jpeg" ContentType="image/jpeg"/>
  <Override PartName="/ppt/media/image23.gif" ContentType="image/gif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029D-D849-400A-89AF-EF9516011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ArtScrip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7400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85920" y="3964320"/>
            <a:ext cx="7400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282A-8BBC-4D3E-BDB6-9119F78B7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ArtScrip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78520" y="160020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85920" y="396432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78520" y="396432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D4B0-2CDC-4479-9AFE-076366389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ArtScrip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238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280" y="1600200"/>
            <a:ext cx="238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90640" y="1600200"/>
            <a:ext cx="238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85920" y="3964320"/>
            <a:ext cx="238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280" y="3964320"/>
            <a:ext cx="238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90640" y="3964320"/>
            <a:ext cx="238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1BA3-A841-439D-A28C-4DD088652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ArtScrip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85920" y="1600200"/>
            <a:ext cx="7400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6031-F38D-47B9-9E70-D69DF4D03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ArtScrip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7400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2228-1899-4315-B6B9-CC65026A6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ArtScrip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361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78520" y="1600200"/>
            <a:ext cx="361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7965-DEB3-460C-90CE-71CF3D400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Art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BD2D-F901-4B75-895D-65B9A8485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85520" y="274320"/>
            <a:ext cx="790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5EB1-EF54-48D7-9A4E-C10E02AAE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ArtScrip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78520" y="1600200"/>
            <a:ext cx="361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85920" y="396432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EFA2-98CF-4B51-9F0F-7984D398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ArtScrip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361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8520" y="160020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78520" y="396432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9857-2B9A-470C-8121-5FF13501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ArtScrip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8520" y="160020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85920" y="3964320"/>
            <a:ext cx="7400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7502-5FFE-45D6-81E0-B87798A3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ArtScript"/>
              </a:rPr>
              <a:t>Click to edit the title text format</a:t>
            </a:r>
            <a:endParaRPr b="1" lang="en-US" sz="6000" spc="-1" strike="noStrike">
              <a:solidFill>
                <a:srgbClr val="c00000"/>
              </a:solidFill>
              <a:latin typeface="ArtScrip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85920" y="1600200"/>
            <a:ext cx="7400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sellaris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sellaris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sellaris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sellaris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sellaris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sellaris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sellaris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9d9d9"/>
                </a:solidFill>
                <a:latin typeface="Cansellaris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9d9d9"/>
                </a:solidFill>
                <a:latin typeface="Cansellaris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9d9d9"/>
                </a:solidFill>
                <a:latin typeface="Cansellaris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F704E-3B2C-4DCA-851B-6AC76AA68E9D}" type="slidenum">
              <a:rPr b="0" lang="ru-RU" sz="1200" spc="-1" strike="noStrike">
                <a:solidFill>
                  <a:srgbClr val="d9d9d9"/>
                </a:solidFill>
                <a:latin typeface="Cansellaris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sellaris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3857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tScript"/>
              </a:rPr>
              <a:t>Гоголь и его «Вечера на хуторе близ ДиканькиНиколай Васильевич »</a:t>
            </a:r>
            <a:endParaRPr b="1" lang="en-US" sz="4400" spc="-1" strike="noStrike">
              <a:solidFill>
                <a:srgbClr val="c00000"/>
              </a:solidFill>
              <a:latin typeface="ArtScrip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4280" y="57146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54545"/>
                </a:solidFill>
                <a:latin typeface="Cansellarist"/>
              </a:rPr>
              <a:t>1809 - 1852</a:t>
            </a:r>
            <a:endParaRPr b="0" lang="en-US" sz="4800" spc="-1" strike="noStrike">
              <a:solidFill>
                <a:srgbClr val="000000"/>
              </a:solidFill>
              <a:latin typeface="Cansellarist"/>
            </a:endParaRPr>
          </a:p>
        </p:txBody>
      </p:sp>
      <p:pic>
        <p:nvPicPr>
          <p:cNvPr id="43" name="Picture 2" descr="C:\Documents and Settings\1\Мои документы\Мои рисунки\EQCAZRURGQCAY9JK1XCAQHFUSOCAX7KP8FCA3QC1DOCAC6Z1RGCA5EIYIFCACYZZO9CA9A8KTVCAMOGP6TCAO6D6JJCALCSEIUCA2C917QCAB85O7RCABEIP47CA7M67Z1CAFARK1ECAPEU1GOCAZ8Y8UJCAAOH9MN.jpg"/>
          <p:cNvPicPr/>
          <p:nvPr/>
        </p:nvPicPr>
        <p:blipFill>
          <a:blip r:embed="rId1"/>
          <a:stretch/>
        </p:blipFill>
        <p:spPr>
          <a:xfrm>
            <a:off x="2992320" y="420840"/>
            <a:ext cx="2944800" cy="33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13840" y="285480"/>
            <a:ext cx="471492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nsellarist"/>
              </a:rPr>
              <a:t>19 (20) мая 1831 г. Гоголь познакомился с Пушкиным. Общение с Пушкиным имело огромное значение для творческого развития молодого Гоголя. Пушкин внимательно следил за работой Гоголя, вникал в его замыслы, был требовательным, но чутким наставником и руководителем своего молодого литературного друга. Во многом именно Пушкин помог Гоголю стать великим писателем.</a:t>
            </a:r>
            <a:endParaRPr b="0" lang="en-US" sz="2700" spc="-1" strike="noStrike">
              <a:solidFill>
                <a:srgbClr val="000000"/>
              </a:solidFill>
              <a:latin typeface="Cansellarist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nsellarist"/>
            </a:endParaRPr>
          </a:p>
        </p:txBody>
      </p:sp>
      <p:pic>
        <p:nvPicPr>
          <p:cNvPr id="69" name="Picture 2" descr="C:\Documents and Settings\1\Мои документы\Мои рисунки\IUCALWT5ZVCAUJJ9VFCAHRUVWMCAA6DT39CAII2796CA35UM3PCA0G0QWLCAGR529DCA61D3FGCAZWJRXLCAA2CGF7CA6UEVMBCAANRL24CANE5C15CAY5Q22SCATTHZYVCA0PAGRDCA3XHDKJCA69P6NHCA25ZQ09.jpg"/>
          <p:cNvPicPr/>
          <p:nvPr/>
        </p:nvPicPr>
        <p:blipFill>
          <a:blip r:embed="rId1"/>
          <a:stretch/>
        </p:blipFill>
        <p:spPr>
          <a:xfrm>
            <a:off x="4761000" y="987480"/>
            <a:ext cx="386532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tScript"/>
              </a:rPr>
              <a:t>Сборник «Вечера на хуторе близ Диканьки»</a:t>
            </a:r>
            <a:endParaRPr b="1" lang="en-US" sz="4000" spc="-1" strike="noStrike">
              <a:solidFill>
                <a:srgbClr val="c00000"/>
              </a:solidFill>
              <a:latin typeface="ArtScript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99680" y="4857480"/>
            <a:ext cx="818676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sellarist"/>
              </a:rPr>
              <a:t>В 1831 г. вышла первая книга “Вечеров”. С восторгом встретил появление сборника А.С. Пушкин: “Сейчас прочёл “Вечера близ Диканьки”. Они изумили меня. Вот настоящая весёлость, искренняя, непринуждённая. А местами какая поэзия! Какая чувствительность!”. Через год (в1832 г.) вышла вторая книга “Вечеров”.</a:t>
            </a:r>
            <a:endParaRPr b="0" lang="en-US" sz="2200" spc="-1" strike="noStrike">
              <a:solidFill>
                <a:srgbClr val="000000"/>
              </a:solidFill>
              <a:latin typeface="Cansellarist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sellarist"/>
            </a:endParaRPr>
          </a:p>
        </p:txBody>
      </p:sp>
      <p:pic>
        <p:nvPicPr>
          <p:cNvPr id="72" name="Picture 4" descr="C:\Documents and Settings\1\Мои документы\Мои рисунки\fac3d78b5a0d.jpg"/>
          <p:cNvPicPr/>
          <p:nvPr/>
        </p:nvPicPr>
        <p:blipFill>
          <a:blip r:embed="rId1"/>
          <a:stretch/>
        </p:blipFill>
        <p:spPr>
          <a:xfrm>
            <a:off x="3071880" y="1500120"/>
            <a:ext cx="2214360" cy="2952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3" name="Picture 3" descr="C:\Documents and Settings\1\Мои документы\Мои рисунки\1252320439.jpg"/>
          <p:cNvPicPr/>
          <p:nvPr/>
        </p:nvPicPr>
        <p:blipFill>
          <a:blip r:embed="rId2"/>
          <a:stretch/>
        </p:blipFill>
        <p:spPr>
          <a:xfrm rot="20604600">
            <a:off x="1515600" y="1844280"/>
            <a:ext cx="1830600" cy="2876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4" name="Picture 2" descr="C:\Documents and Settings\1\Мои документы\Мои рисунки\p1010515.jpg"/>
          <p:cNvPicPr/>
          <p:nvPr/>
        </p:nvPicPr>
        <p:blipFill>
          <a:blip r:embed="rId3"/>
          <a:stretch/>
        </p:blipFill>
        <p:spPr>
          <a:xfrm rot="1210200">
            <a:off x="4925520" y="1918800"/>
            <a:ext cx="1677960" cy="2767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85520" y="42840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tScript"/>
              </a:rPr>
              <a:t>Композиция сборника “Вечера на хуторе близ Диканьки”.</a:t>
            </a:r>
            <a:br>
              <a:rPr sz="3600"/>
            </a:br>
            <a:endParaRPr b="1" lang="en-US" sz="3600" spc="-1" strike="noStrike">
              <a:solidFill>
                <a:srgbClr val="c00000"/>
              </a:solidFill>
              <a:latin typeface="ArtScript"/>
            </a:endParaRPr>
          </a:p>
        </p:txBody>
      </p:sp>
      <p:pic>
        <p:nvPicPr>
          <p:cNvPr id="76" name="Таблица 7" descr=""/>
          <p:cNvPicPr/>
          <p:nvPr/>
        </p:nvPicPr>
        <p:blipFill>
          <a:blip r:embed="rId1"/>
          <a:stretch/>
        </p:blipFill>
        <p:spPr>
          <a:xfrm>
            <a:off x="853920" y="1785960"/>
            <a:ext cx="750420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571560" y="571680"/>
            <a:ext cx="507204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nsellarist"/>
              </a:rPr>
              <a:t>В 1835 г. великий критик В.Г. Белинский дал такой отзыв о повестях Гоголя: “Это были поэтические очерки Малороссии, очерки, полные жизни и очарования. Всё, что может иметь природа прекрасного, всё, что может иметь народ оригинального, типического, всё это радужными цветами блестит в этих первых поэтических грёзах г. Гоголя. Это была поэзия юная, свежая, благоуханная, роскошная, упоительная…”.</a:t>
            </a:r>
            <a:endParaRPr b="0" lang="en-US" sz="2700" spc="-1" strike="noStrike">
              <a:solidFill>
                <a:srgbClr val="000000"/>
              </a:solidFill>
              <a:latin typeface="Cansellarist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nsellarist"/>
            </a:endParaRPr>
          </a:p>
        </p:txBody>
      </p:sp>
      <p:pic>
        <p:nvPicPr>
          <p:cNvPr id="78" name="Picture 4" descr="C:\Documents and Settings\1\Мои документы\Мои рисунки\belinski.jpg"/>
          <p:cNvPicPr/>
          <p:nvPr/>
        </p:nvPicPr>
        <p:blipFill>
          <a:blip r:embed="rId1"/>
          <a:stretch/>
        </p:blipFill>
        <p:spPr>
          <a:xfrm>
            <a:off x="222120" y="928800"/>
            <a:ext cx="3327480" cy="4286160"/>
          </a:xfrm>
          <a:prstGeom prst="rect">
            <a:avLst/>
          </a:prstGeom>
          <a:ln w="0">
            <a:noFill/>
          </a:ln>
        </p:spPr>
      </p:pic>
      <p:sp>
        <p:nvSpPr>
          <p:cNvPr id="79" name="TextBox 7"/>
          <p:cNvSpPr/>
          <p:nvPr/>
        </p:nvSpPr>
        <p:spPr>
          <a:xfrm>
            <a:off x="214200" y="5572080"/>
            <a:ext cx="32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nsellarist"/>
              </a:rPr>
              <a:t>В.Г.Белинский</a:t>
            </a:r>
            <a:endParaRPr b="0" lang="en-US" sz="2800" spc="-1" strike="noStrike">
              <a:solidFill>
                <a:srgbClr val="000000"/>
              </a:solidFill>
              <a:latin typeface="Cansellaris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tScript"/>
              </a:rPr>
              <a:t>Смысл названия повести.</a:t>
            </a:r>
            <a:endParaRPr b="1" lang="en-US" sz="3600" spc="-1" strike="noStrike">
              <a:solidFill>
                <a:srgbClr val="c00000"/>
              </a:solidFill>
              <a:latin typeface="ArtScript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714240" y="1600200"/>
            <a:ext cx="7972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nsellarist"/>
              </a:rPr>
              <a:t>Название сборнику “Вечеров” подсказал П.А. Плетнёв: “Повести, изданные пасичником Рудым Паньком”, который будто бы жил возле Диканьки. Как вы думаете, ребята, была ли такая деревня на самом деле?</a:t>
            </a:r>
            <a:endParaRPr b="0" lang="en-US" sz="3000" spc="-1" strike="noStrike">
              <a:solidFill>
                <a:srgbClr val="000000"/>
              </a:solidFill>
              <a:latin typeface="Cansellarist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nsellarist"/>
              </a:rPr>
              <a:t>Как вы понимаете название этой деревни? </a:t>
            </a:r>
            <a:endParaRPr b="0" lang="en-US" sz="3000" spc="-1" strike="noStrike">
              <a:solidFill>
                <a:srgbClr val="000000"/>
              </a:solidFill>
              <a:latin typeface="Cansellarist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nsellarist"/>
              </a:rPr>
              <a:t>Почему же Рудый Панько? </a:t>
            </a:r>
            <a:endParaRPr b="0" lang="en-US" sz="3000" spc="-1" strike="noStrike">
              <a:solidFill>
                <a:srgbClr val="000000"/>
              </a:solidFill>
              <a:latin typeface="Cansellarist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nsellarist"/>
              </a:rPr>
              <a:t>Итак, чего же боялся пасичник при издании своих произведений? </a:t>
            </a:r>
            <a:endParaRPr b="0" lang="en-US" sz="3000" spc="-1" strike="noStrike">
              <a:solidFill>
                <a:srgbClr val="000000"/>
              </a:solidFill>
              <a:latin typeface="Cansellaris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Documents and Settings\1\Мои документы\Мои рисунки\sgogol.jpg"/>
          <p:cNvPicPr/>
          <p:nvPr/>
        </p:nvPicPr>
        <p:blipFill>
          <a:blip r:embed="rId1"/>
          <a:stretch/>
        </p:blipFill>
        <p:spPr>
          <a:xfrm>
            <a:off x="1143000" y="500040"/>
            <a:ext cx="7000920" cy="57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C:\Documents and Settings\1\Мои документы\Мои рисунки\134173.jpg"/>
          <p:cNvPicPr/>
          <p:nvPr/>
        </p:nvPicPr>
        <p:blipFill>
          <a:blip r:embed="rId1"/>
          <a:stretch/>
        </p:blipFill>
        <p:spPr>
          <a:xfrm>
            <a:off x="20520" y="0"/>
            <a:ext cx="91234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Box 7"/>
          <p:cNvSpPr/>
          <p:nvPr/>
        </p:nvSpPr>
        <p:spPr>
          <a:xfrm>
            <a:off x="4500720" y="857160"/>
            <a:ext cx="38574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sellarist"/>
              </a:rPr>
              <a:t>Итак, откройте повесть Н.В. Гоголя “Майская ночь, или Утопленница”. Впервые напечатана в 1831 г. в сборнике “Вечера…” и открывалась она эпиграфом на украинском языке. Почему? Ведь вся повесть написана на русском.</a:t>
            </a:r>
            <a:endParaRPr b="0" lang="en-US" sz="2800" spc="-1" strike="noStrike">
              <a:solidFill>
                <a:srgbClr val="000000"/>
              </a:solidFill>
              <a:latin typeface="Cansellaris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85520" y="-36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tScript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ArtScript"/>
              </a:rPr>
              <a:t>Анализ 1-й главы. </a:t>
            </a:r>
            <a:endParaRPr b="1" lang="en-US" sz="3600" spc="-1" strike="noStrike">
              <a:solidFill>
                <a:srgbClr val="c00000"/>
              </a:solidFill>
              <a:latin typeface="ArtScrip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28400" y="1214280"/>
            <a:ext cx="82580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nsellarist"/>
              </a:rPr>
              <a:t>С чего начинается глава? Какое время суток описывается? </a:t>
            </a:r>
            <a:endParaRPr b="0" lang="en-US" sz="2700" spc="-1" strike="noStrike">
              <a:solidFill>
                <a:srgbClr val="000000"/>
              </a:solidFill>
              <a:latin typeface="Cansellarist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nsellarist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nsellarist"/>
              </a:rPr>
              <a:t>Как вы понимаете фразу – Парубки и девушки стремились “выливать своё веселье в звуки, всегда неразлучные с уныньем”? </a:t>
            </a:r>
            <a:endParaRPr b="0" lang="en-US" sz="2700" spc="-1" strike="noStrike">
              <a:solidFill>
                <a:srgbClr val="000000"/>
              </a:solidFill>
              <a:latin typeface="Cansellarist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nsellarist"/>
              </a:rPr>
              <a:t>С кем мы встречаемся? С какими героями? Какие они? Как они относятся друг к другу? Почему мы так считаем?</a:t>
            </a:r>
            <a:endParaRPr b="0" lang="en-US" sz="2700" spc="-1" strike="noStrike">
              <a:solidFill>
                <a:srgbClr val="000000"/>
              </a:solidFill>
              <a:latin typeface="Cansellarist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nsellarist"/>
              </a:rPr>
              <a:t>Как Левко и Ганна обращаются друг к другу? Как герой называет Ганну?</a:t>
            </a:r>
            <a:r>
              <a:rPr b="1" lang="ru-RU" sz="2700" spc="-1" strike="noStrike">
                <a:solidFill>
                  <a:srgbClr val="000000"/>
                </a:solidFill>
                <a:latin typeface="Cansellarist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nsellarist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nsellarist"/>
              </a:rPr>
              <a:t>Как она называет Левко, своего возлюбленного?  </a:t>
            </a:r>
            <a:endParaRPr b="0" lang="en-US" sz="2700" spc="-1" strike="noStrike">
              <a:solidFill>
                <a:srgbClr val="000000"/>
              </a:solidFill>
              <a:latin typeface="Cansellaris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1071720" y="499680"/>
            <a:ext cx="740088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sellarist"/>
              </a:rPr>
              <a:t>Нарисуйте словесный портрет героев. Как они выглядят? Каковы черты их лица, одежда, украшения? Что мы вообще узнаём о героях?</a:t>
            </a: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pic>
        <p:nvPicPr>
          <p:cNvPr id="88" name="Picture 2" descr="C:\Documents and Settings\1\Мои документы\Мои рисунки\4092_big.jpg"/>
          <p:cNvPicPr/>
          <p:nvPr/>
        </p:nvPicPr>
        <p:blipFill>
          <a:blip r:embed="rId1"/>
          <a:stretch/>
        </p:blipFill>
        <p:spPr>
          <a:xfrm>
            <a:off x="928800" y="2928960"/>
            <a:ext cx="752004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Таблица 3" descr=""/>
          <p:cNvPicPr/>
          <p:nvPr/>
        </p:nvPicPr>
        <p:blipFill>
          <a:blip r:embed="rId1"/>
          <a:stretch/>
        </p:blipFill>
        <p:spPr>
          <a:xfrm>
            <a:off x="139680" y="139680"/>
            <a:ext cx="8864640" cy="64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tScript"/>
              </a:rPr>
              <a:t>Слово о Гоголе</a:t>
            </a:r>
            <a:endParaRPr b="1" lang="en-US" sz="6000" spc="-1" strike="noStrike">
              <a:solidFill>
                <a:srgbClr val="c00000"/>
              </a:solidFill>
              <a:latin typeface="ArtScrip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143240" y="1714680"/>
            <a:ext cx="45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sellarist"/>
              </a:rPr>
              <a:t>Родился на Украине </a:t>
            </a:r>
            <a:endParaRPr b="0" lang="en-US" sz="2800" spc="-1" strike="noStrike">
              <a:solidFill>
                <a:srgbClr val="000000"/>
              </a:solidFill>
              <a:latin typeface="Cansellarist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sellarist"/>
              </a:rPr>
              <a:t>1 апреля в селе Большие Сорочинцы Миргородского уезда Полтавской губернии, в семье небогатых украинских помещиков.</a:t>
            </a:r>
            <a:endParaRPr b="0" lang="en-US" sz="2800" spc="-1" strike="noStrike">
              <a:solidFill>
                <a:srgbClr val="000000"/>
              </a:solidFill>
              <a:latin typeface="Cansellaris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pic>
        <p:nvPicPr>
          <p:cNvPr id="46" name="Picture 2" descr="C:\Documents and Settings\1\Мои документы\Мои рисунки\дом, где родился Гоголь.jpg"/>
          <p:cNvPicPr/>
          <p:nvPr/>
        </p:nvPicPr>
        <p:blipFill>
          <a:blip r:embed="rId1"/>
          <a:stretch/>
        </p:blipFill>
        <p:spPr>
          <a:xfrm>
            <a:off x="285840" y="1928880"/>
            <a:ext cx="4143240" cy="2928960"/>
          </a:xfrm>
          <a:prstGeom prst="rect">
            <a:avLst/>
          </a:prstGeom>
          <a:ln w="0">
            <a:noFill/>
          </a:ln>
        </p:spPr>
      </p:pic>
      <p:sp>
        <p:nvSpPr>
          <p:cNvPr id="47" name="TextBox 6"/>
          <p:cNvSpPr/>
          <p:nvPr/>
        </p:nvSpPr>
        <p:spPr>
          <a:xfrm>
            <a:off x="285840" y="514368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nsellarist"/>
              </a:rPr>
              <a:t>Дом, где родился Н.В.Гоголь</a:t>
            </a:r>
            <a:endParaRPr b="0" lang="en-US" sz="2400" spc="-1" strike="noStrike">
              <a:solidFill>
                <a:srgbClr val="000000"/>
              </a:solidFill>
              <a:latin typeface="Cansellaris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C:\Documents and Settings\1\Мои документы\Мои рисунки\1_4-3.jpg"/>
          <p:cNvPicPr/>
          <p:nvPr/>
        </p:nvPicPr>
        <p:blipFill>
          <a:blip r:embed="rId1"/>
          <a:stretch/>
        </p:blipFill>
        <p:spPr>
          <a:xfrm>
            <a:off x="4500720" y="185760"/>
            <a:ext cx="4201920" cy="5743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213840" y="214200"/>
            <a:ext cx="442908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nsellarist"/>
              </a:rPr>
              <a:t>А если бы вам пришлось нарисовать портреты героев, это было бы трудное задание? Почему?</a:t>
            </a:r>
            <a:endParaRPr b="0" lang="en-US" sz="2700" spc="-1" strike="noStrike">
              <a:solidFill>
                <a:srgbClr val="000000"/>
              </a:solidFill>
              <a:latin typeface="Cansellarist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nsellarist"/>
              </a:rPr>
              <a:t>Посмотрите иллюстрацию палехского художника А. Куркина “Левко и Ганна”. Но прежде, что значит “палехский”? </a:t>
            </a:r>
            <a:endParaRPr b="0" lang="en-US" sz="2700" spc="-1" strike="noStrike">
              <a:solidFill>
                <a:srgbClr val="000000"/>
              </a:solidFill>
              <a:latin typeface="Cansellarist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nsellarist"/>
              </a:rPr>
              <a:t>Чем художник Куркин дополнил портреты героев?</a:t>
            </a:r>
            <a:endParaRPr b="0" lang="en-US" sz="2700" spc="-1" strike="noStrike">
              <a:solidFill>
                <a:srgbClr val="000000"/>
              </a:solidFill>
              <a:latin typeface="Cansellarist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nsellarist"/>
              </a:rPr>
              <a:t>Где конкретнее портрет: в повести или на иллюстрации?</a:t>
            </a:r>
            <a:endParaRPr b="0" lang="en-US" sz="2700" spc="-1" strike="noStrike">
              <a:solidFill>
                <a:srgbClr val="000000"/>
              </a:solidFill>
              <a:latin typeface="Cansellarist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nsellarist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nsellaris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571320" y="357120"/>
            <a:ext cx="80722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nsellarist"/>
              </a:rPr>
              <a:t>Итак, портрет героев в повести дан в духе народной песни, сказки, в нём больше сравнений, чем конкретных деталей. Обратите внимание: фольклорные традиции проявляются не только в портрете, но и в характерах. Какими словами можно охарактеризовать Ганну?</a:t>
            </a:r>
            <a:endParaRPr b="0" lang="en-US" sz="3000" spc="-1" strike="noStrike">
              <a:solidFill>
                <a:srgbClr val="000000"/>
              </a:solidFill>
              <a:latin typeface="Cansellarist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nsellarist"/>
              </a:rPr>
              <a:t>Похожи ли Левко и Ганна на обычных героев волшебных сказок? </a:t>
            </a:r>
            <a:endParaRPr b="0" lang="en-US" sz="3000" spc="-1" strike="noStrike">
              <a:solidFill>
                <a:srgbClr val="000000"/>
              </a:solidFill>
              <a:latin typeface="Cansellarist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nsellarist"/>
              </a:rPr>
              <a:t>Но всё-таки эти герои необычны. Чем же?</a:t>
            </a:r>
            <a:endParaRPr b="0" lang="en-US" sz="3000" spc="-1" strike="noStrike">
              <a:solidFill>
                <a:srgbClr val="000000"/>
              </a:solidFill>
              <a:latin typeface="Cansellarist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nsellarist"/>
              </a:rPr>
              <a:t>Вы внимательно слушали мой рассказ о Гоголе? Как писателю удалось нарисовать портреты такого казака и молодой казачки?  </a:t>
            </a:r>
            <a:endParaRPr b="0" lang="en-US" sz="3000" spc="-1" strike="noStrike">
              <a:solidFill>
                <a:srgbClr val="000000"/>
              </a:solidFill>
              <a:latin typeface="Cansellaris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57120" y="357120"/>
            <a:ext cx="8501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sellarist"/>
              </a:rPr>
              <a:t>Почему у Ганны недобрые предчувствия?</a:t>
            </a: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sellarist"/>
              </a:rPr>
              <a:t>Что её волнует? </a:t>
            </a: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sellarist"/>
              </a:rPr>
              <a:t>Что ответил ей Левко? Почему “унывно” зазвучало в его устах слово “говорил”?</a:t>
            </a: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sellarist"/>
              </a:rPr>
              <a:t>Как Ганна укрепляет решимость Левко, ободряет его?</a:t>
            </a:r>
            <a:r>
              <a:rPr b="1" lang="ru-RU" sz="3200" spc="-1" strike="noStrike">
                <a:solidFill>
                  <a:srgbClr val="000000"/>
                </a:solidFill>
                <a:latin typeface="Cansellaris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sellarist"/>
              </a:rPr>
              <a:t>Найдите слова, подтверждающие, что Ганна и Левко тонко чувствуют природу, любят её.</a:t>
            </a: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790092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tScript"/>
              </a:rPr>
              <a:t>Проверка домашнего задания</a:t>
            </a:r>
            <a:endParaRPr b="1" lang="en-US" sz="3600" spc="-1" strike="noStrike">
              <a:solidFill>
                <a:srgbClr val="c00000"/>
              </a:solidFill>
              <a:latin typeface="ArtScrip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929120" y="2286000"/>
            <a:ext cx="375768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sellarist"/>
              </a:rPr>
              <a:t>Пересказать легенду об утопленнице</a:t>
            </a: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pic>
        <p:nvPicPr>
          <p:cNvPr id="96" name="Picture 1" descr="C:\Documents and Settings\1\Мои документы\Мои рисунки\636769.jpg"/>
          <p:cNvPicPr/>
          <p:nvPr/>
        </p:nvPicPr>
        <p:blipFill>
          <a:blip r:embed="rId1"/>
          <a:stretch/>
        </p:blipFill>
        <p:spPr>
          <a:xfrm>
            <a:off x="571680" y="1143000"/>
            <a:ext cx="3643200" cy="5468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:\Documents and Settings\1\Рабочий стол\Мои документы\Мои рисунки\разделители\a252d3f962bc.gif"/>
          <p:cNvPicPr/>
          <p:nvPr/>
        </p:nvPicPr>
        <p:blipFill>
          <a:blip r:embed="rId2"/>
          <a:stretch/>
        </p:blipFill>
        <p:spPr>
          <a:xfrm>
            <a:off x="4357800" y="5786280"/>
            <a:ext cx="4309920" cy="857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:\Documents and Settings\1\Рабочий стол\Мои документы\Мои рисунки\разделители\a252d3f962bc.gif"/>
          <p:cNvPicPr/>
          <p:nvPr/>
        </p:nvPicPr>
        <p:blipFill>
          <a:blip r:embed="rId3"/>
          <a:stretch/>
        </p:blipFill>
        <p:spPr>
          <a:xfrm>
            <a:off x="4357800" y="1000080"/>
            <a:ext cx="395280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tScript"/>
              </a:rPr>
              <a:t>Домашнее задание</a:t>
            </a:r>
            <a:endParaRPr b="1" lang="en-US" sz="6000" spc="-1" strike="noStrike">
              <a:solidFill>
                <a:srgbClr val="c00000"/>
              </a:solidFill>
              <a:latin typeface="ArtScrip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285920" y="1600200"/>
            <a:ext cx="7400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sellarist"/>
              </a:rPr>
              <a:t>Перечитать 2-ую главу; подготовить выразительное чтение отрывка об украинской ночи (индивидуально); вспомнить определения слов: “эпитет”, “сравнение”, “олицетворение”; выписать из первого абзаца 2-ой главы эпитеты, сравнения, олицетворения, оформив в виде таблицы.</a:t>
            </a: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500040" y="285480"/>
            <a:ext cx="804384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sellarist"/>
              </a:rPr>
              <a:t>В семье любили литературу, старинные предания, народные песни, сказки, театр.</a:t>
            </a:r>
            <a:endParaRPr b="0" lang="en-US" sz="2800" spc="-1" strike="noStrike">
              <a:solidFill>
                <a:srgbClr val="000000"/>
              </a:solidFill>
              <a:latin typeface="Cansellaris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pic>
        <p:nvPicPr>
          <p:cNvPr id="49" name="Picture 2" descr="C:\Documents and Settings\1\Мои документы\Мои рисунки\рол.jpg"/>
          <p:cNvPicPr/>
          <p:nvPr/>
        </p:nvPicPr>
        <p:blipFill>
          <a:blip r:embed="rId1"/>
          <a:stretch/>
        </p:blipFill>
        <p:spPr>
          <a:xfrm>
            <a:off x="4714920" y="1428840"/>
            <a:ext cx="3357360" cy="4265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:\Documents and Settings\1\Мои документы\Мои рисунки\отец Гоголя.jpg"/>
          <p:cNvPicPr/>
          <p:nvPr/>
        </p:nvPicPr>
        <p:blipFill>
          <a:blip r:embed="rId2"/>
          <a:stretch/>
        </p:blipFill>
        <p:spPr>
          <a:xfrm>
            <a:off x="928800" y="1403280"/>
            <a:ext cx="3357360" cy="4345200"/>
          </a:xfrm>
          <a:prstGeom prst="rect">
            <a:avLst/>
          </a:prstGeom>
          <a:ln w="0">
            <a:noFill/>
          </a:ln>
        </p:spPr>
      </p:pic>
      <p:sp>
        <p:nvSpPr>
          <p:cNvPr id="51" name="TextBox 5"/>
          <p:cNvSpPr/>
          <p:nvPr/>
        </p:nvSpPr>
        <p:spPr>
          <a:xfrm>
            <a:off x="714240" y="5786280"/>
            <a:ext cx="37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nsellarist"/>
              </a:rPr>
              <a:t>Отец </a:t>
            </a:r>
            <a:endParaRPr b="0" lang="en-US" sz="2400" spc="-1" strike="noStrike">
              <a:solidFill>
                <a:srgbClr val="000000"/>
              </a:solidFill>
              <a:latin typeface="Cansellaris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nsellarist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ansellarist"/>
              </a:rPr>
              <a:t>Василий Афанасьевич</a:t>
            </a:r>
            <a:endParaRPr b="0" lang="en-US" sz="24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4857840" y="585792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nsellarist"/>
              </a:rPr>
              <a:t>Мать </a:t>
            </a:r>
            <a:endParaRPr b="0" lang="en-US" sz="2400" spc="-1" strike="noStrike">
              <a:solidFill>
                <a:srgbClr val="000000"/>
              </a:solidFill>
              <a:latin typeface="Cansellaris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nsellarist"/>
              </a:rPr>
              <a:t>Мария Ивановна</a:t>
            </a:r>
            <a:endParaRPr b="0" lang="en-US" sz="2400" spc="-1" strike="noStrike">
              <a:solidFill>
                <a:srgbClr val="000000"/>
              </a:solidFill>
              <a:latin typeface="Cansellaris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42600" y="1213920"/>
            <a:ext cx="47149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sellarist"/>
              </a:rPr>
              <a:t>Украина – колыбель великого писателя. «Малороссийские» предания и песни – мир гоголевского детства</a:t>
            </a: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pic>
        <p:nvPicPr>
          <p:cNvPr id="54" name="Picture 2" descr="C:\Documents and Settings\1\Мои документы\Мои рисунки\ukrainci.jpg"/>
          <p:cNvPicPr/>
          <p:nvPr/>
        </p:nvPicPr>
        <p:blipFill>
          <a:blip r:embed="rId1"/>
          <a:stretch/>
        </p:blipFill>
        <p:spPr>
          <a:xfrm>
            <a:off x="4925880" y="1206360"/>
            <a:ext cx="3621240" cy="46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785840" y="1600200"/>
            <a:ext cx="39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sellarist"/>
              </a:rPr>
              <a:t>Начальное образование родители дали дома, затем учился в полтавской гимназии.</a:t>
            </a:r>
            <a:endParaRPr b="0" lang="en-US" sz="2800" spc="-1" strike="noStrike">
              <a:solidFill>
                <a:srgbClr val="000000"/>
              </a:solidFill>
              <a:latin typeface="Cansellaris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pic>
        <p:nvPicPr>
          <p:cNvPr id="56" name="Picture 3" descr="C:\Documents and Settings\1\Мои документы\Мои рисунки\28890.jpg"/>
          <p:cNvPicPr/>
          <p:nvPr/>
        </p:nvPicPr>
        <p:blipFill>
          <a:blip r:embed="rId1"/>
          <a:stretch/>
        </p:blipFill>
        <p:spPr>
          <a:xfrm>
            <a:off x="428760" y="1643040"/>
            <a:ext cx="457200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28400" y="356760"/>
            <a:ext cx="835812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sellarist"/>
              </a:rPr>
              <a:t>В 1821 г. в 12 лет поступил в Нежинскую гимназию. Больше всего увлекала его русская история и литература. Особенно любил поэзию Пушкина и поэта-декабриста К.Ф. Рылеева. Другим увлечением стал театр.</a:t>
            </a:r>
            <a:endParaRPr b="0" lang="en-US" sz="2800" spc="-1" strike="noStrike">
              <a:solidFill>
                <a:srgbClr val="000000"/>
              </a:solidFill>
              <a:latin typeface="Cansellaris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pic>
        <p:nvPicPr>
          <p:cNvPr id="58" name="Picture 2" descr="C:\Documents and Settings\1\Мои документы\Мои рисунки\nezin.jpg"/>
          <p:cNvPicPr/>
          <p:nvPr/>
        </p:nvPicPr>
        <p:blipFill>
          <a:blip r:embed="rId1"/>
          <a:stretch/>
        </p:blipFill>
        <p:spPr>
          <a:xfrm>
            <a:off x="1500120" y="2714760"/>
            <a:ext cx="5786640" cy="3348000"/>
          </a:xfrm>
          <a:prstGeom prst="rect">
            <a:avLst/>
          </a:prstGeom>
          <a:ln w="0">
            <a:noFill/>
          </a:ln>
        </p:spPr>
      </p:pic>
      <p:sp>
        <p:nvSpPr>
          <p:cNvPr id="59" name="TextBox 4"/>
          <p:cNvSpPr/>
          <p:nvPr/>
        </p:nvSpPr>
        <p:spPr>
          <a:xfrm>
            <a:off x="1143000" y="6286680"/>
            <a:ext cx="63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nsellarist"/>
              </a:rPr>
              <a:t>Г. Нежин. Гимназия высших наук.</a:t>
            </a:r>
            <a:endParaRPr b="0" lang="en-US" sz="2400" spc="-1" strike="noStrike">
              <a:solidFill>
                <a:srgbClr val="000000"/>
              </a:solidFill>
              <a:latin typeface="Cansellaris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285840" y="1143000"/>
            <a:ext cx="52862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sellaris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есколько месяцев Гоголь жил в Германии. Приехав из-за границы, он снова стал заниматься литературным трудом, познакомился с В.А. Жуковским и П.А. Плетнёвым, который устроил Гоголя работать учителем истории в институт.</a:t>
            </a:r>
            <a:endParaRPr b="0" lang="en-US" sz="2800" spc="-1" strike="noStrike">
              <a:solidFill>
                <a:srgbClr val="000000"/>
              </a:solidFill>
              <a:latin typeface="Cansellaris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sellarist"/>
            </a:endParaRPr>
          </a:p>
        </p:txBody>
      </p:sp>
      <p:pic>
        <p:nvPicPr>
          <p:cNvPr id="61" name="Picture 2" descr="C:\Documents and Settings\1\Мои документы\Мои рисунки\gogol_04.jpg"/>
          <p:cNvPicPr/>
          <p:nvPr/>
        </p:nvPicPr>
        <p:blipFill>
          <a:blip r:embed="rId1"/>
          <a:stretch/>
        </p:blipFill>
        <p:spPr>
          <a:xfrm>
            <a:off x="4998960" y="706320"/>
            <a:ext cx="3571920" cy="4542120"/>
          </a:xfrm>
          <a:prstGeom prst="rect">
            <a:avLst/>
          </a:prstGeom>
          <a:ln w="0">
            <a:noFill/>
          </a:ln>
        </p:spPr>
      </p:pic>
      <p:sp>
        <p:nvSpPr>
          <p:cNvPr id="62" name="TextBox 4"/>
          <p:cNvSpPr/>
          <p:nvPr/>
        </p:nvSpPr>
        <p:spPr>
          <a:xfrm>
            <a:off x="500040" y="285840"/>
            <a:ext cx="76438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После окончания гимназии– Петербург, государственная служба.</a:t>
            </a:r>
            <a:endParaRPr b="0" lang="en-US" sz="3000" spc="-1" strike="noStrike">
              <a:solidFill>
                <a:srgbClr val="000000"/>
              </a:solidFill>
              <a:latin typeface="Cansellaris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sellaris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42600" y="357120"/>
            <a:ext cx="8001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nsellarist"/>
              </a:rPr>
              <a:t>Гоголь много писал, работал над сборником “Вечера…”. Причём работал только в свободное от службы и прочих дел время, поздно, когда уже никто не мешал. Вечер – время вдохновения, располагающего к задумчивости и мечтательности, единению с окружающим миром. Вечер – время таинственного, чудесного, иррационального. Это значение указано предисловием к гоголевской книге: “Боже ты мой! Чего только не расскажут! Откуда старины не выкопают! Каких страхов не нанесут!”. Вечер неудержимо впадает в ночь, а это уже вершина таинственного и чудесного. Ночь – время высших философских откровений, но одновременно и пик иррационального, когда сам древний хаос встречается с нашей душой.</a:t>
            </a:r>
            <a:endParaRPr b="0" lang="en-US" sz="2700" spc="-1" strike="noStrike">
              <a:solidFill>
                <a:srgbClr val="000000"/>
              </a:solidFill>
              <a:latin typeface="Cansellarist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nsellaris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5000400" y="213840"/>
            <a:ext cx="385740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так, Гоголь работал над “Вечерами…” вечером, ночью, в свободное время. Может быть, поэтому в них так вдохновенны сны. Гоголь – поэт ночи: “Ночь перед Рождеством”, “Майская ночь, или Утопленница”. </a:t>
            </a:r>
            <a:endParaRPr b="0" lang="en-US" sz="2400" spc="-1" strike="noStrike">
              <a:solidFill>
                <a:srgbClr val="000000"/>
              </a:solidFill>
              <a:latin typeface="Cansellaris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sellarist"/>
            </a:endParaRPr>
          </a:p>
        </p:txBody>
      </p:sp>
      <p:pic>
        <p:nvPicPr>
          <p:cNvPr id="65" name="Picture 2" descr="C:\Documents and Settings\1\Мои документы\Мои рисунки\tr82dnepr.jpg"/>
          <p:cNvPicPr/>
          <p:nvPr/>
        </p:nvPicPr>
        <p:blipFill>
          <a:blip r:embed="rId1"/>
          <a:stretch/>
        </p:blipFill>
        <p:spPr>
          <a:xfrm>
            <a:off x="214200" y="285840"/>
            <a:ext cx="4846680" cy="3565440"/>
          </a:xfrm>
          <a:prstGeom prst="rect">
            <a:avLst/>
          </a:prstGeom>
          <a:ln w="0">
            <a:noFill/>
          </a:ln>
        </p:spPr>
      </p:pic>
      <p:sp>
        <p:nvSpPr>
          <p:cNvPr id="66" name="TextBox 4"/>
          <p:cNvSpPr/>
          <p:nvPr/>
        </p:nvSpPr>
        <p:spPr>
          <a:xfrm>
            <a:off x="214200" y="4500720"/>
            <a:ext cx="8643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 ночь падают фантастические события “Сорочинской ярмарки”, ночью совершается убийство в “Вечере накануне Ивана Купала”, месть в “Страшной мести”. По ночам морочат черти героев в “Пропавшей грамоте” и “Заколдованном месте”.</a:t>
            </a:r>
            <a:endParaRPr b="0" lang="en-US" sz="24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285840" y="4000680"/>
            <a:ext cx="46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nsellarist"/>
              </a:rPr>
              <a:t>А.Куинджи. Ночь на Днепре.</a:t>
            </a:r>
            <a:endParaRPr b="0" lang="en-US" sz="2000" spc="-1" strike="noStrike">
              <a:solidFill>
                <a:srgbClr val="000000"/>
              </a:solidFill>
              <a:latin typeface="Cansellaris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1T20:08:20Z</dcterms:created>
  <dc:creator>1</dc:creator>
  <dc:description/>
  <dc:language>en-US</dc:language>
  <cp:lastModifiedBy>Admin</cp:lastModifiedBy>
  <dcterms:modified xsi:type="dcterms:W3CDTF">2010-08-23T11:50:08Z</dcterms:modified>
  <cp:revision>25</cp:revision>
  <dc:subject/>
  <dc:title>Николай Васильевич Гогол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59801049</vt:lpwstr>
  </property>
</Properties>
</file>