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EA7-4BB4-421F-9E34-26A0C804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810-1EED-4078-BA87-529B4FDA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05D-2F74-4DBF-819D-BAACD07F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327-0A0F-4B94-AF1F-0D62B1D2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2DF-EFF6-43A7-BCFF-F14CD4E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376-F28E-4CAE-9381-0CABF28A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9D1-09A2-4628-8196-183D6FB0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B12-E1D0-4587-974E-A5751FF8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520" y="274320"/>
            <a:ext cx="79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DA6-76AC-4CC9-9AC1-BE1379EC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FBB-CC36-4058-BF03-DB2B0322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4E8-6F42-4CF4-9928-27D51D2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5DD-CCC7-479B-9E99-13F13036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tScript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9d9"/>
                </a:solidFill>
                <a:latin typeface="Cansellaris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9d9"/>
                </a:solidFill>
                <a:latin typeface="Cansellaris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9d9"/>
                </a:solidFill>
                <a:latin typeface="Cansellaris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5A0A-A4B1-4DBC-B9BC-6A2A966A243F}" type="slidenum">
              <a:rPr b="0" lang="ru-RU" sz="1200" spc="-1" strike="noStrike">
                <a:solidFill>
                  <a:srgbClr val="d9d9d9"/>
                </a:solidFill>
                <a:latin typeface="Cansellaris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85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tScript"/>
              </a:rPr>
              <a:t>Гоголь и его «Вечера на хуторе близ ДиканькиНиколай Васильевич »</a:t>
            </a:r>
            <a:endParaRPr b="1" lang="en-US" sz="44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54545"/>
                </a:solidFill>
                <a:latin typeface="Cansellarist"/>
              </a:rPr>
              <a:t>1809 - 1852</a:t>
            </a:r>
            <a:endParaRPr b="0" lang="en-US" sz="4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43" name="Picture 2" descr="C:\Documents and Settings\1\Мои документы\Мои рисунки\EQCAZRURGQCAY9JK1XCAQHFUSOCAX7KP8FCA3QC1DOCAC6Z1RGCA5EIYIFCACYZZO9CA9A8KTVCAMOGP6TCAO6D6JJCALCSEIUCA2C917QCAB85O7RCABEIP47CA7M67Z1CAFARK1ECAPEU1GOCAZ8Y8UJCAAOH9MN.jpg"/>
          <p:cNvPicPr/>
          <p:nvPr/>
        </p:nvPicPr>
        <p:blipFill>
          <a:blip r:embed="rId1"/>
          <a:stretch/>
        </p:blipFill>
        <p:spPr>
          <a:xfrm>
            <a:off x="2992320" y="420840"/>
            <a:ext cx="29448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840" y="285480"/>
            <a:ext cx="47149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19 (20) мая 1831 г. Гоголь познакомился с Пушкиным. Общение с Пушкиным имело огромное значение для творческого развития молодого Гоголя. Пушкин внимательно следил за работой Гоголя, вникал в его замыслы, был требовательным, но чутким наставником и руководителем своего молодого литературного друга. Во многом именно Пушкин помог Гоголю стать великим писателем.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69" name="Picture 2" descr="C:\Documents and Settings\1\Мои документы\Мои рисунки\IUCALWT5ZVCAUJJ9VFCAHRUVWMCAA6DT39CAII2796CA35UM3PCA0G0QWLCAGR529DCA61D3FGCAZWJRXLCAA2CGF7CA6UEVMBCAANRL24CANE5C15CAY5Q22SCATTHZYVCA0PAGRDCA3XHDKJCA69P6NHCA25ZQ09.jpg"/>
          <p:cNvPicPr/>
          <p:nvPr/>
        </p:nvPicPr>
        <p:blipFill>
          <a:blip r:embed="rId1"/>
          <a:stretch/>
        </p:blipFill>
        <p:spPr>
          <a:xfrm>
            <a:off x="4761000" y="987480"/>
            <a:ext cx="38653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tScript"/>
              </a:rPr>
              <a:t>Сборник «Вечера на хуторе близ Диканьки»</a:t>
            </a:r>
            <a:endParaRPr b="1" lang="en-US" sz="4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99680" y="4857480"/>
            <a:ext cx="81867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sellarist"/>
              </a:rPr>
              <a:t>В 1831 г. вышла первая книга “Вечеров”. С восторгом встретил появление сборника А.С. Пушкин: “Сейчас прочёл “Вечера близ Диканьки”. Они изумили меня. Вот настоящая весёлость, искренняя, непринуждённая. А местами какая поэзия! Какая чувствительность!”. Через год (в1832 г.) вышла вторая книга “Вечеров”.</a:t>
            </a:r>
            <a:endParaRPr b="0" lang="en-US" sz="2200" spc="-1" strike="noStrike">
              <a:solidFill>
                <a:srgbClr val="000000"/>
              </a:solidFill>
              <a:latin typeface="Cansellarist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72" name="Picture 4" descr="C:\Documents and Settings\1\Мои документы\Мои рисунки\fac3d78b5a0d.jpg"/>
          <p:cNvPicPr/>
          <p:nvPr/>
        </p:nvPicPr>
        <p:blipFill>
          <a:blip r:embed="rId1"/>
          <a:stretch/>
        </p:blipFill>
        <p:spPr>
          <a:xfrm>
            <a:off x="3071880" y="1500120"/>
            <a:ext cx="221436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3" descr="C:\Documents and Settings\1\Мои документы\Мои рисунки\1252320439.jpg"/>
          <p:cNvPicPr/>
          <p:nvPr/>
        </p:nvPicPr>
        <p:blipFill>
          <a:blip r:embed="rId2"/>
          <a:stretch/>
        </p:blipFill>
        <p:spPr>
          <a:xfrm rot="20604600">
            <a:off x="1515600" y="1844280"/>
            <a:ext cx="1830600" cy="287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2" descr="C:\Documents and Settings\1\Мои документы\Мои рисунки\p1010515.jpg"/>
          <p:cNvPicPr/>
          <p:nvPr/>
        </p:nvPicPr>
        <p:blipFill>
          <a:blip r:embed="rId3"/>
          <a:stretch/>
        </p:blipFill>
        <p:spPr>
          <a:xfrm rot="1210200">
            <a:off x="4925520" y="1918800"/>
            <a:ext cx="1677960" cy="276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520" y="42840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tScript"/>
              </a:rPr>
              <a:t>Композиция сборника “Вечера на хуторе близ Диканьки”.</a:t>
            </a:r>
            <a:br>
              <a:rPr sz="3600"/>
            </a:br>
            <a:endParaRPr b="1" lang="en-US" sz="36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76" name="Таблица 7" descr=""/>
          <p:cNvPicPr/>
          <p:nvPr/>
        </p:nvPicPr>
        <p:blipFill>
          <a:blip r:embed="rId1"/>
          <a:stretch/>
        </p:blipFill>
        <p:spPr>
          <a:xfrm>
            <a:off x="853920" y="1785960"/>
            <a:ext cx="75042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571560" y="571680"/>
            <a:ext cx="50720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В 1835 г. великий критик В.Г. Белинский дал такой отзыв о повестях Гоголя: “Это были поэтические очерки Малороссии, очерки, полные жизни и очарования. Всё, что может иметь природа прекрасного, всё, что может иметь народ оригинального, типического, всё это радужными цветами блестит в этих первых поэтических грёзах г. Гоголя. Это была поэзия юная, свежая, благоуханная, роскошная, упоительная…”.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78" name="Picture 4" descr="C:\Documents and Settings\1\Мои документы\Мои рисунки\belinski.jpg"/>
          <p:cNvPicPr/>
          <p:nvPr/>
        </p:nvPicPr>
        <p:blipFill>
          <a:blip r:embed="rId1"/>
          <a:stretch/>
        </p:blipFill>
        <p:spPr>
          <a:xfrm>
            <a:off x="222120" y="928800"/>
            <a:ext cx="3327480" cy="428616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214200" y="55720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sellarist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tScript"/>
              </a:rPr>
              <a:t>Смысл названия повести.</a:t>
            </a:r>
            <a:endParaRPr b="1" lang="en-US" sz="36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Название сборнику “Вечеров” подсказал П.А. Плетнёв: “Повести, изданные пасичником Рудым Паньком”, который будто бы жил возле Диканьки. Как вы думаете, ребята, была ли такая деревня на самом деле?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Как вы понимаете название этой деревни?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Почему же Рудый Панько?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Итак, чего же боялся пасичник при издании своих произведений?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1\Мои документы\Мои рисунки\sgogol.jpg"/>
          <p:cNvPicPr/>
          <p:nvPr/>
        </p:nvPicPr>
        <p:blipFill>
          <a:blip r:embed="rId1"/>
          <a:stretch/>
        </p:blipFill>
        <p:spPr>
          <a:xfrm>
            <a:off x="1143000" y="500040"/>
            <a:ext cx="70009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Documents and Settings\1\Мои документы\Мои рисунки\134173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4500720" y="857160"/>
            <a:ext cx="3857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Итак, откройте повесть Н.В. Гоголя “Майская ночь, или Утопленница”. Впервые напечатана в 1831 г. в сборнике “Вечера…” и открывалась она эпиграфом на украинском языке. Почему? Ведь вся повесть написана на русском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tScript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tScript"/>
              </a:rPr>
              <a:t>Анализ 1-й главы. </a:t>
            </a:r>
            <a:endParaRPr b="1" lang="en-US" sz="36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400" y="121428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С чего начинается глава? Какое время суток описывается?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Как вы понимаете фразу – Парубки и девушки стремились “выливать своё веселье в звуки, всегда неразлучные с уныньем”?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С кем мы встречаемся? С какими героями? Какие они? Как они относятся друг к другу? Почему мы так считаем?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Как Левко и Ганна обращаются друг к другу? Как герой называет Ганну?</a:t>
            </a:r>
            <a:r>
              <a:rPr b="1" lang="ru-RU" sz="2700" spc="-1" strike="noStrike">
                <a:solidFill>
                  <a:srgbClr val="000000"/>
                </a:solidFill>
                <a:latin typeface="Cansellaris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Как она называет Левко, своего возлюбленного? 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71720" y="499680"/>
            <a:ext cx="74008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Нарисуйте словесный портрет героев. Как они выглядят? Каковы черты их лица, одежда, украшения? Что мы вообще узнаём о героях?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88" name="Picture 2" descr="C:\Documents and Settings\1\Мои документы\Мои рисунки\4092_big.jpg"/>
          <p:cNvPicPr/>
          <p:nvPr/>
        </p:nvPicPr>
        <p:blipFill>
          <a:blip r:embed="rId1"/>
          <a:stretch/>
        </p:blipFill>
        <p:spPr>
          <a:xfrm>
            <a:off x="928800" y="2928960"/>
            <a:ext cx="75200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Таблица 3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64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tScript"/>
              </a:rPr>
              <a:t>Слово о Гоголе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43240" y="171468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Родился на Украине 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1 апреля в селе Большие Сорочинцы Миргородского уезда Полтавской губернии, в семье небогатых украинских помещиков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46" name="Picture 2" descr="C:\Documents and Settings\1\Мои документы\Мои рисунки\дом, где родился Гоголь.jpg"/>
          <p:cNvPicPr/>
          <p:nvPr/>
        </p:nvPicPr>
        <p:blipFill>
          <a:blip r:embed="rId1"/>
          <a:stretch/>
        </p:blipFill>
        <p:spPr>
          <a:xfrm>
            <a:off x="285840" y="1928880"/>
            <a:ext cx="4143240" cy="2928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285840" y="51436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Дом, где родился Н.В.Гоголь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1\Мои документы\Мои рисунки\1_4-3.jpg"/>
          <p:cNvPicPr/>
          <p:nvPr/>
        </p:nvPicPr>
        <p:blipFill>
          <a:blip r:embed="rId1"/>
          <a:stretch/>
        </p:blipFill>
        <p:spPr>
          <a:xfrm>
            <a:off x="4500720" y="185760"/>
            <a:ext cx="4201920" cy="574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А если бы вам пришлось нарисовать портреты героев, это было бы трудное задание? Почему?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Посмотрите иллюстрацию палехского художника А. Куркина “Левко и Ганна”. Но прежде, что значит “палехский”?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Чем художник Куркин дополнил портреты героев?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Где конкретнее портрет: в повести или на иллюстрации?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71320" y="357120"/>
            <a:ext cx="8072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Итак, портрет героев в повести дан в духе народной песни, сказки, в нём больше сравнений, чем конкретных деталей. Обратите внимание: фольклорные традиции проявляются не только в портрете, но и в характерах. Какими словами можно охарактеризовать Ганну?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Похожи ли Левко и Ганна на обычных героев волшебных сказок?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Но всё-таки эти герои необычны. Чем же?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Вы внимательно слушали мой рассказ о Гоголе? Как писателю удалось нарисовать портреты такого казака и молодой казачки? 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57120" y="3571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Почему у Ганны недобрые предчувствия?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Что её волнует? 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Что ответил ей Левко? Почему “унывно” зазвучало в его устах слово “говорил”?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Как Ганна укрепляет решимость Левко, ободряет его?</a:t>
            </a:r>
            <a:r>
              <a:rPr b="1" lang="ru-RU" sz="3200" spc="-1" strike="noStrike">
                <a:solidFill>
                  <a:srgbClr val="000000"/>
                </a:solidFill>
                <a:latin typeface="Cansellaris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Найдите слова, подтверждающие, что Ганна и Левко тонко чувствуют природу, любят её.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tScript"/>
              </a:rPr>
              <a:t>Проверка домашнего задания</a:t>
            </a:r>
            <a:endParaRPr b="1" lang="en-US" sz="36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29120" y="2286000"/>
            <a:ext cx="37576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Пересказать легенду об утопленнице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96" name="Picture 1" descr="C:\Documents and Settings\1\Мои документы\Мои рисунки\636769.jpg"/>
          <p:cNvPicPr/>
          <p:nvPr/>
        </p:nvPicPr>
        <p:blipFill>
          <a:blip r:embed="rId1"/>
          <a:stretch/>
        </p:blipFill>
        <p:spPr>
          <a:xfrm>
            <a:off x="571680" y="1143000"/>
            <a:ext cx="3643200" cy="546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1\Рабочий стол\Мои документы\Мои рисунки\разделители\a252d3f962bc.gif"/>
          <p:cNvPicPr/>
          <p:nvPr/>
        </p:nvPicPr>
        <p:blipFill>
          <a:blip r:embed="rId2"/>
          <a:stretch/>
        </p:blipFill>
        <p:spPr>
          <a:xfrm>
            <a:off x="4357800" y="5786280"/>
            <a:ext cx="4309920" cy="8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1\Рабочий стол\Мои документы\Мои рисунки\разделители\a252d3f962bc.gif"/>
          <p:cNvPicPr/>
          <p:nvPr/>
        </p:nvPicPr>
        <p:blipFill>
          <a:blip r:embed="rId3"/>
          <a:stretch/>
        </p:blipFill>
        <p:spPr>
          <a:xfrm>
            <a:off x="4357800" y="1000080"/>
            <a:ext cx="39528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tScript"/>
              </a:rPr>
              <a:t>Домашнее задание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Перечитать 2-ую главу; подготовить выразительное чтение отрывка об украинской ночи (индивидуально); вспомнить определения слов: “эпитет”, “сравнение”, “олицетворение”; выписать из первого абзаца 2-ой главы эпитеты, сравнения, олицетворения, оформив в виде таблицы.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285480"/>
            <a:ext cx="80438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В семье любили литературу, старинные предания, народные песни, сказки, театр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49" name="Picture 2" descr="C:\Documents and Settings\1\Мои документы\Мои рисунки\рол.jpg"/>
          <p:cNvPicPr/>
          <p:nvPr/>
        </p:nvPicPr>
        <p:blipFill>
          <a:blip r:embed="rId1"/>
          <a:stretch/>
        </p:blipFill>
        <p:spPr>
          <a:xfrm>
            <a:off x="4714920" y="1428840"/>
            <a:ext cx="3357360" cy="426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1\Мои документы\Мои рисунки\отец Гоголя.jpg"/>
          <p:cNvPicPr/>
          <p:nvPr/>
        </p:nvPicPr>
        <p:blipFill>
          <a:blip r:embed="rId2"/>
          <a:stretch/>
        </p:blipFill>
        <p:spPr>
          <a:xfrm>
            <a:off x="928800" y="1403280"/>
            <a:ext cx="3357360" cy="4345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714240" y="578628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Отец 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Василий Афанасьевич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57840" y="5857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Мать 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Мария Ивановна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42600" y="1213920"/>
            <a:ext cx="47149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Украина – колыбель великого писателя. «Малороссийские» предания и песни – мир гоголевского детства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4" name="Picture 2" descr="C:\Documents and Settings\1\Мои документы\Мои рисунки\ukrainci.jpg"/>
          <p:cNvPicPr/>
          <p:nvPr/>
        </p:nvPicPr>
        <p:blipFill>
          <a:blip r:embed="rId1"/>
          <a:stretch/>
        </p:blipFill>
        <p:spPr>
          <a:xfrm>
            <a:off x="4925880" y="1206360"/>
            <a:ext cx="362124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785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Начальное образование родители дали дома, затем учился в полтавской гимназии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6" name="Picture 3" descr="C:\Documents and Settings\1\Мои документы\Мои рисунки\28890.jpg"/>
          <p:cNvPicPr/>
          <p:nvPr/>
        </p:nvPicPr>
        <p:blipFill>
          <a:blip r:embed="rId1"/>
          <a:stretch/>
        </p:blipFill>
        <p:spPr>
          <a:xfrm>
            <a:off x="428760" y="1643040"/>
            <a:ext cx="4572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400" y="356760"/>
            <a:ext cx="83581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В 1821 г. в 12 лет поступил в Нежинскую гимназию. Больше всего увлекала его русская история и литература. Особенно любил поэзию Пушкина и поэта-декабриста К.Ф. Рылеева. Другим увлечением стал театр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8" name="Picture 2" descr="C:\Documents and Settings\1\Мои документы\Мои рисунки\nezin.jpg"/>
          <p:cNvPicPr/>
          <p:nvPr/>
        </p:nvPicPr>
        <p:blipFill>
          <a:blip r:embed="rId1"/>
          <a:stretch/>
        </p:blipFill>
        <p:spPr>
          <a:xfrm>
            <a:off x="1500120" y="2714760"/>
            <a:ext cx="5786640" cy="334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1143000" y="628668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Г. Нежин. Гимназия высших наук.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5840" y="1143000"/>
            <a:ext cx="5286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месяцев Гоголь жил в Германии. Приехав из-за границы, он снова стал заниматься литературным трудом, познакомился с В.А. Жуковским и П.А. Плетнёвым, который устроил Гоголя работать учителем истории в институт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61" name="Picture 2" descr="C:\Documents and Settings\1\Мои документы\Мои рисунки\gogol_04.jpg"/>
          <p:cNvPicPr/>
          <p:nvPr/>
        </p:nvPicPr>
        <p:blipFill>
          <a:blip r:embed="rId1"/>
          <a:stretch/>
        </p:blipFill>
        <p:spPr>
          <a:xfrm>
            <a:off x="4998960" y="706320"/>
            <a:ext cx="3571920" cy="4542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00040" y="28584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сле окончания гимназии– Петербург, государственная служба.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42600" y="357120"/>
            <a:ext cx="8001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Гоголь много писал, работал над сборником “Вечера…”. Причём работал только в свободное от службы и прочих дел время, поздно, когда уже никто не мешал. Вечер – время вдохновения, располагающего к задумчивости и мечтательности, единению с окружающим миром. Вечер – время таинственного, чудесного, иррационального. Это значение указано предисловием к гоголевской книге: “Боже ты мой! Чего только не расскажут! Откуда старины не выкопают! Каких страхов не нанесут!”. Вечер неудержимо впадает в ночь, а это уже вершина таинственного и чудесного. Ночь – время высших философских откровений, но одновременно и пик иррационального, когда сам древний хаос встречается с нашей душой.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0" y="21384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ак, Гоголь работал над “Вечерами…” вечером, ночью, в свободное время. Может быть, поэтому в них так вдохновенны сны. Гоголь – поэт ночи: “Ночь перед Рождеством”, “Майская ночь, или Утопленница”. 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65" name="Picture 2" descr="C:\Documents and Settings\1\Мои документы\Мои рисунки\tr82dnepr.jpg"/>
          <p:cNvPicPr/>
          <p:nvPr/>
        </p:nvPicPr>
        <p:blipFill>
          <a:blip r:embed="rId1"/>
          <a:stretch/>
        </p:blipFill>
        <p:spPr>
          <a:xfrm>
            <a:off x="214200" y="285840"/>
            <a:ext cx="4846680" cy="3565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14200" y="450072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ночь падают фантастические события “Сорочинской ярмарки”, ночью совершается убийство в “Вечере накануне Ивана Купала”, месть в “Страшной мести”. По ночам морочат черти героев в “Пропавшей грамоте” и “Заколдованном месте”.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85840" y="400068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sellarist"/>
              </a:rPr>
              <a:t>А.Куинджи. Ночь на Днепре.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20:08:20Z</dcterms:created>
  <dc:creator>1</dc:creator>
  <dc:description/>
  <dc:language>en-US</dc:language>
  <cp:lastModifiedBy>Admin</cp:lastModifiedBy>
  <dcterms:modified xsi:type="dcterms:W3CDTF">2010-08-23T11:50:08Z</dcterms:modified>
  <cp:revision>25</cp:revision>
  <dc:subject/>
  <dc:title>Николай Васильевич Гог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9801049</vt:lpwstr>
  </property>
</Properties>
</file>