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FF5-D9E0-42F3-9E04-601480D7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760-4153-4831-A682-FA34F6D3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CBD-1530-4C10-9BF7-D585AD94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C0D-775C-4588-A252-F2235C97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F47-C331-4384-9B38-976CA5CC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4D7-8F63-4098-AA0C-58DD1CF7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082-675F-4DC1-97DF-302C6A4D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BAA-6B9D-4028-9FCD-AED4BC24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0FB-5250-4332-A5F5-AF8E57D9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5BB-9DD7-4F88-A3EF-801D1A6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F22-1D63-4BB5-9B97-A5150436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503-81DD-4A6B-B74F-DC695942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B511-5690-4481-8802-606581C17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estravel.ru/upload/information_system_286/1/4/9/item_1490/information_items_1196106036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ir-map.ru/map460030_0_0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9520" y="95400"/>
            <a:ext cx="87249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ные зоны Укра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80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родные зоны Укра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9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ографическая карта Укра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Географическая карта Украин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7921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пографическая 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а Украины"/>
          <p:cNvPicPr/>
          <p:nvPr/>
        </p:nvPicPr>
        <p:blipFill>
          <a:blip r:embed="rId1"/>
          <a:stretch/>
        </p:blipFill>
        <p:spPr>
          <a:xfrm>
            <a:off x="1835280" y="2349360"/>
            <a:ext cx="571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ая карта Укра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дминистративная карта Укра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67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мобильная 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197000"/>
            <a:ext cx="76197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9:01:59Z</dcterms:created>
  <dc:creator>WiZaRd</dc:creator>
  <dc:description/>
  <dc:language>en-US</dc:language>
  <cp:lastModifiedBy>WiZaRd</cp:lastModifiedBy>
  <dcterms:modified xsi:type="dcterms:W3CDTF">2012-01-09T17:00:06Z</dcterms:modified>
  <cp:revision>4</cp:revision>
  <dc:subject/>
  <dc:title>Слайд 1</dc:title>
</cp:coreProperties>
</file>