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064-1D78-41F5-A2BA-201BDC1C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913-B953-4E48-83ED-5BEDB2E3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28C-4769-4680-AA8A-20A45DAD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C74-CE3B-4203-B4FB-C895917A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9C0-65D8-4BA8-9BC2-B49D8E02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B22-7184-4059-966A-8344562F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505-5511-49AF-A652-027CA467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C83-AB84-4770-BE75-AAAE5644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9CC-F05A-4B01-938F-2A3A5EAC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A0D-3089-4F4C-B762-0F8854B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2E3-F87B-4371-B9CD-2C40D6F0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FD4-D284-4893-9BCF-64AD75F0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6248-A454-4282-B4D8-9A048E92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estravel.ru/upload/information_system_286/1/4/9/item_1490/information_items_1196106036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ir-map.ru/map460030_0_0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9520" y="95400"/>
            <a:ext cx="87249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ные зоны Укра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80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родные зоны Укра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9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ографическая карта Укра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Географическая карта Украин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7921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пографическая 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а Украины"/>
          <p:cNvPicPr/>
          <p:nvPr/>
        </p:nvPicPr>
        <p:blipFill>
          <a:blip r:embed="rId1"/>
          <a:stretch/>
        </p:blipFill>
        <p:spPr>
          <a:xfrm>
            <a:off x="1835280" y="2349360"/>
            <a:ext cx="571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ая карта Укра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дминистративная карта Укра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67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мобильная 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197000"/>
            <a:ext cx="76197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9:01:59Z</dcterms:created>
  <dc:creator>WiZaRd</dc:creator>
  <dc:description/>
  <dc:language>en-US</dc:language>
  <cp:lastModifiedBy>WiZaRd</cp:lastModifiedBy>
  <dcterms:modified xsi:type="dcterms:W3CDTF">2012-01-09T17:00:06Z</dcterms:modified>
  <cp:revision>4</cp:revision>
  <dc:subject/>
  <dc:title>Слайд 1</dc:title>
</cp:coreProperties>
</file>