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794-8001-4E6A-AFE5-76ECC40F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31F-9E4F-484C-A58B-E6803707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9E549-6B41-4730-B6CB-6B7D2252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0A077-4650-4503-B211-3A11B9B8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6B134-6D9B-4CB6-AAA8-13ADC777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8D0B6-68BB-48FB-BEA2-D12D772F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D0A43-D8F1-4324-8E48-83A276A9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74709-3108-4F5D-A58E-1D308E58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1AD6C-B91B-45E7-8DC2-C649E08E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85FE8-5768-4C3A-9ACA-9007A9AE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BB686-3822-4F4A-BB2D-88BA5F1B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FBB05-6D29-48A8-B66A-6D5E3175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D20C-DE9A-4250-9F7C-C545DAF6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6483B-3286-4A23-A057-2327F970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92AEE-A95B-4F8E-B4A3-9A1C0106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DA00D-9590-4C31-BA8F-A879E0A4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5EF35-D8B9-4899-8DB4-B8DC88DA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BE300-71C5-43D4-B82C-29BF7386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B5D43-A83D-444D-90FE-2AB9CB3F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8D0AB-6FA1-4E61-9575-C93B7916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07154-6265-4716-A85D-9F414765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7C41A-8A3B-44EF-AA18-946D6CBE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16854-74D6-47B4-A2B5-D90E39DB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49A-7223-41AE-AC1C-5CF346A3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05A2E-3997-42C6-99D8-AB307424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24E82-A6B8-41D1-A643-7297E2D5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BD168-A34A-4601-A321-9F965727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8BB46-004B-4009-B0BB-315467FD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69521-8E0C-4BA7-9024-EDA9E4E2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CB6DF-606E-4AA8-8C07-FCEBC566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B9C4B-510D-41A7-8CB3-A703F987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B43AE-26EB-4B74-AADD-C42344A0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BF3A1-4029-43FA-A459-6D855A2A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B6ABC-7EDC-4340-B38A-3A9E6388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D925-D589-4F74-BCEC-45E42981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2CC18-7D27-4CD5-B4E6-F0EC3124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A9076-E41B-490E-AAB6-37A16A8E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77E5A-6E47-4582-82B1-1E5B5CDC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E7F24-4761-4DA0-987B-F68654D4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71CB6-5533-44D1-B3D9-AF4717B2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5B2DC-8735-4405-9BD3-E6CBF440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9E526-9110-4B98-8EF4-2BAA88D2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A990D-A1A8-4DD0-AB55-385554A5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0A77E-F79F-46C5-BEDE-FD1B1AA8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30C3C-FE0C-49D2-AC2E-07EA9A79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2D7D-97B7-4636-A081-75260E4E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CA044-2DA7-4300-B4EA-CD2AD078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0A96E-7111-4C8A-B8E2-659AE4F1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51EEE-E517-47D7-AD00-2E2C9939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B5313-0D74-47A6-876A-78C8E3D0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F9A86-B084-49BF-A96A-F3276A9D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CC18-5EF9-48DD-9CB5-B78E2C6A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B267-4E38-43F3-969F-C693DCC6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DFC9-7C3F-4EC8-8162-CB32CBB4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EF15-CB99-4876-A109-7BBF398E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71C4-679A-4EC0-A79B-8D2497B5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57E-7187-41F3-AE25-78AE9C86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D766-65FF-4CCA-A226-60BD208D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2A64-59A5-4CE5-8F00-4BAA1841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01F4-33C7-404A-A4CD-398FD48E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7DB9-5E82-426D-BE3F-C1A00D9E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E1FF-D6E6-4273-87E0-40961D4B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283F4-0EDA-4B19-B86B-0208251B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957C0-7C6B-457F-A35A-B8A74E81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58052-90D5-49CC-BCC8-09CD019D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7CB09-08E6-4794-9EDD-FFD6C3A6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6014C-D8D5-462C-B418-54497E9C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87F-41F4-4F7C-A2EE-EDE1ECA3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547AD-9AF5-48C0-B4E1-13F732F4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66F3E-9587-4B78-A6E5-E80B55C5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FC82F-F0F8-41F0-9630-13A9E27B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554A8-30CF-44C9-B825-1E5F0903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9AAD6-7D3C-463F-AB61-37CB52DF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CE148-A13D-4861-B10B-A08FF55B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7BEFB-1F9A-41C2-83CE-BDA6D8A8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7FB09-FDDB-4C9A-A578-FF049552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B9147-04BA-44C5-B367-99001051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B19EC-C73C-4689-9268-3251F936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474C-90D8-468A-993B-5C74E35B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4AA48-1ED0-4BEF-BD82-0FE03B91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8B4A3-81C3-41F6-8B9B-7595B914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2C829-695A-4593-942F-463B3E55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8526E-B2E8-432A-91AB-42EFEEDD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B6255-9B57-4BB8-9A2F-3E69AB94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6A9BF-6A17-4437-9F35-836AF965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D01D0-256B-40CD-8099-49C5865D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516F-35AE-4657-9C2F-A4DBCEB8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3ED01-C620-473E-B095-5B34D55E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9935A-9E8F-4B48-9564-2F2BB9D3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5A02-7F68-4A66-991E-1D5EFD2D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7E6A1-6600-4310-9D9A-A4D24C1C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26410-9395-43C6-B46C-12CE82C3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8EA9B-12B6-4CC8-ACA0-163B2628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BF92B-8FE9-445E-8B20-125CF3C7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D366D-11CB-4CD8-81C2-CF1B68E6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48B96-5108-4E5C-9BE1-7FFBBE35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BF409-4059-47E2-ACF5-0CE31220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01458-EC94-4423-B2B5-B291D877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93EAC-CBCD-409C-9A17-E61CD501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2081A-53F0-42FC-9BE3-494A31E0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9D1-4225-4E2D-B2D3-C39B8763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6DF02-F613-40F6-BE86-326023E0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74446-A99C-48B1-A80F-66C4359F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8BC2B-7F7B-4A95-B754-1B56A097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58DAA-89A5-45EB-9D84-4ADC1283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FBECC-213A-4B49-AE7F-24257E13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AC45F-3E51-4BAA-8E6B-E6F4345E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02A5C-15C2-4CF0-8ADA-939C8AF6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C4626-F1A9-46EC-858B-0874FCF1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B6C2A-1C39-4DFB-A19D-B78FEDE0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EA5A8-DA97-431B-9753-C1A267C9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4972-E0EE-426C-8821-31A52B15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4C943-032D-41CD-96F6-2677335A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74104-ED3F-400F-B235-3C19F4D9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F6D89-55AF-447D-9854-9D279512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7A6CD-F959-484F-B5D6-FF25DC40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2B68B-373C-4FBA-A5AA-C4EDD0C9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548C9-F000-4BCC-8774-71118EA8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65C73-BCFA-4889-84A8-24571FD7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3E7E1-B99A-485A-9CC8-E3F04D6B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E71C7-9A05-47E4-8BCF-5E3EF404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C0B44-4FB9-47BC-AB8F-9F43EB4B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013-331F-40F3-8CC5-E15EC37B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2F674-2936-4CC0-9055-8991A1F2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4FF63-7E4A-4657-B0B7-3D6B16A6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A994C-B095-4407-B219-69D8D852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D757F-993C-4E9E-81B0-2B5D6F6C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BAE07-2C23-45F5-BC0C-F75A17FB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745F7-02F5-4843-BCB9-F75F4148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58577-E722-48EE-A96B-0506132D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D63D6-3AD1-4026-8E12-AAD3F3A2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293E9-8875-4E8B-AFB4-82E0FB0D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DA17F-986A-4743-A673-E47C6D58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3D2-C3E3-474D-8CD8-EEE0ED93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68858-875D-4400-9AF8-B737EBC1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8FB5E-C8C8-42ED-97D4-55BDA60E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CAC4C-60BC-4050-8974-A0E7F73C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18A10-CD00-43CC-93C8-D151FF4D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20B1B-80F9-4F6B-B0BC-FAC58656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88F25-949D-4011-981B-7274955D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C13D4-2B43-4C21-B2EC-6C604DA8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61871-0F9C-47BD-9AA2-679200AF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6A428-1EEB-4483-9156-45820165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DD4F7-E189-48B6-A3AB-593E36FD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63BF-A88C-418D-BEBB-192D064A534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0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1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B8F2-FE4B-4B2D-94BB-6817C9C792B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DAA8-0FEF-40E7-9F87-540F95B0A1F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4DD4-B6BD-4A8B-8A67-1C8D759EC7C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1960" cy="15271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1960" cy="1206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1960" cy="11124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72F5-4620-4014-9029-E514D47C390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81CF-9C58-485D-ACD5-E854308C271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33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34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36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CE72-01AD-4DD0-9712-BC59E06089A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598D-99F2-469C-BF5B-56D444B0184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7BC0-EBA7-459D-A4C5-76F7688F914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497C-9364-40A3-9E02-CC7860D25F6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173E-883E-4952-878D-4766F5CBEF9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B4DA-E404-4285-A623-143D76BED45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www.c-cafe.ru/days/bio/000154.php" TargetMode="External"/><Relationship Id="rId3" Type="http://schemas.openxmlformats.org/officeDocument/2006/relationships/hyperlink" Target="http://www.freefileszone.ru/software/kids-jigsaw-puzzles.html" TargetMode="External"/><Relationship Id="rId4" Type="http://schemas.openxmlformats.org/officeDocument/2006/relationships/hyperlink" Target="http://bloganet.ru/" TargetMode="External"/><Relationship Id="rId5" Type="http://schemas.openxmlformats.org/officeDocument/2006/relationships/hyperlink" Target="http://www.animationfactory.com/" TargetMode="External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Заголовок 1" descr=""/>
          <p:cNvPicPr/>
          <p:nvPr/>
        </p:nvPicPr>
        <p:blipFill>
          <a:blip r:embed="rId1"/>
          <a:stretch/>
        </p:blipFill>
        <p:spPr>
          <a:xfrm>
            <a:off x="615960" y="749160"/>
            <a:ext cx="8051760" cy="1774800"/>
          </a:xfrm>
          <a:prstGeom prst="rect">
            <a:avLst/>
          </a:prstGeom>
          <a:ln w="0">
            <a:noFill/>
          </a:ln>
        </p:spPr>
      </p:pic>
      <p:pic>
        <p:nvPicPr>
          <p:cNvPr id="530" name="Текст 2" descr=""/>
          <p:cNvPicPr/>
          <p:nvPr/>
        </p:nvPicPr>
        <p:blipFill>
          <a:blip r:embed="rId2"/>
          <a:stretch/>
        </p:blipFill>
        <p:spPr>
          <a:xfrm>
            <a:off x="3402000" y="5175360"/>
            <a:ext cx="5413320" cy="13586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C:\Users\Елена\Desktop\Колледж\фото на документы.jpg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7308720" y="3213000"/>
            <a:ext cx="14479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Заголовок 1" descr=""/>
          <p:cNvPicPr/>
          <p:nvPr/>
        </p:nvPicPr>
        <p:blipFill>
          <a:blip r:embed="rId1"/>
          <a:stretch/>
        </p:blipFill>
        <p:spPr>
          <a:xfrm>
            <a:off x="719280" y="353880"/>
            <a:ext cx="7772400" cy="2565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C:\Users\Елена\Desktop\What colour\PENS.png"/>
          <p:cNvPicPr/>
          <p:nvPr/>
        </p:nvPicPr>
        <p:blipFill>
          <a:blip r:embed="rId2"/>
          <a:stretch/>
        </p:blipFill>
        <p:spPr>
          <a:xfrm>
            <a:off x="468360" y="2919240"/>
            <a:ext cx="4319640" cy="35276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C:\Users\Елена\Desktop\What colour\HOMEWORK.png"/>
          <p:cNvPicPr/>
          <p:nvPr/>
        </p:nvPicPr>
        <p:blipFill>
          <a:blip r:embed="rId3"/>
          <a:stretch/>
        </p:blipFill>
        <p:spPr>
          <a:xfrm>
            <a:off x="4427640" y="2708280"/>
            <a:ext cx="4429080" cy="36781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C:\Users\Елена\Desktop\What colour\Карточка по цветам цветная.png"/>
          <p:cNvPicPr/>
          <p:nvPr/>
        </p:nvPicPr>
        <p:blipFill>
          <a:blip r:embed="rId4"/>
          <a:stretch/>
        </p:blipFill>
        <p:spPr>
          <a:xfrm rot="1854600">
            <a:off x="6657840" y="3841920"/>
            <a:ext cx="16671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Заголовок 1" descr=""/>
          <p:cNvPicPr/>
          <p:nvPr/>
        </p:nvPicPr>
        <p:blipFill>
          <a:blip r:embed="rId1"/>
          <a:stretch/>
        </p:blipFill>
        <p:spPr>
          <a:xfrm>
            <a:off x="603360" y="622440"/>
            <a:ext cx="8010360" cy="18954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324000" y="2420640"/>
            <a:ext cx="849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575"/>
              </a:spcBef>
              <a:buClr>
                <a:srgbClr val="7fd13b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8803"/>
                </a:solidFill>
                <a:uFillTx/>
                <a:latin typeface="Cambria"/>
                <a:hlinkClick r:id="rId2"/>
              </a:rPr>
              <a:t>http://www.c-cafe.ru/days/bio/000154.php</a:t>
            </a:r>
            <a:r>
              <a:rPr b="0" lang="ru-RU" sz="2000" spc="-1" strike="noStrike">
                <a:solidFill>
                  <a:srgbClr val="ffc000"/>
                </a:solidFill>
                <a:latin typeface="Cambria"/>
              </a:rPr>
              <a:t>  </a:t>
            </a:r>
            <a:r>
              <a:rPr b="0" lang="ru-RU" sz="2000" spc="-1" strike="noStrike">
                <a:solidFill>
                  <a:srgbClr val="898989"/>
                </a:solidFill>
                <a:latin typeface="Cambria"/>
              </a:rPr>
              <a:t>биограф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 algn="just">
              <a:spcBef>
                <a:spcPts val="575"/>
              </a:spcBef>
              <a:buClr>
                <a:srgbClr val="7fd13b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8803"/>
                </a:solidFill>
                <a:uFillTx/>
                <a:latin typeface="Cambria"/>
                <a:hlinkClick r:id="rId3"/>
              </a:rPr>
              <a:t>http://www.freefileszone.ru/software/kids-jigsaw-puzzles.html</a:t>
            </a:r>
            <a:r>
              <a:rPr b="0" lang="ru-RU" sz="2000" spc="-1" strike="noStrike">
                <a:solidFill>
                  <a:srgbClr val="ffc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898989"/>
                </a:solidFill>
                <a:latin typeface="Cambria"/>
              </a:rPr>
              <a:t>- программа для создания пазлов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>
              <a:spcBef>
                <a:spcPts val="575"/>
              </a:spcBef>
              <a:buClr>
                <a:srgbClr val="7fd13b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8803"/>
                </a:solidFill>
                <a:uFillTx/>
                <a:latin typeface="Cambria"/>
                <a:hlinkClick r:id="rId4"/>
              </a:rPr>
              <a:t>http://bloganet.ru</a:t>
            </a:r>
            <a:r>
              <a:rPr b="0" lang="ru-RU" sz="2000" spc="-1" strike="noStrike">
                <a:solidFill>
                  <a:srgbClr val="898989"/>
                </a:solidFill>
                <a:latin typeface="Cambria"/>
              </a:rPr>
              <a:t> рисунк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 algn="just">
              <a:spcBef>
                <a:spcPts val="575"/>
              </a:spcBef>
              <a:buClr>
                <a:srgbClr val="7fd13b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b8803"/>
                </a:solidFill>
                <a:uFillTx/>
                <a:latin typeface="Cambria"/>
                <a:hlinkClick r:id="rId5"/>
              </a:rPr>
              <a:t>www.animationfactory.com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7f7f7f"/>
                </a:solidFill>
                <a:latin typeface="Cambria"/>
              </a:rPr>
              <a:t>шаблоны и темы для создания слайдов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 algn="just">
              <a:lnSpc>
                <a:spcPct val="100000"/>
              </a:lnSpc>
              <a:spcBef>
                <a:spcPts val="575"/>
              </a:spcBef>
              <a:buClr>
                <a:srgbClr val="7fd13b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Perpetua"/>
              </a:rPr>
              <a:t>Word by Word picture dictionary</a:t>
            </a:r>
            <a:r>
              <a:rPr b="0" lang="ru-RU" sz="2000" spc="-1" strike="noStrike">
                <a:solidFill>
                  <a:srgbClr val="898989"/>
                </a:solidFill>
                <a:latin typeface="Cambria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Perpetua"/>
              </a:rPr>
              <a:t>by Steven J</a:t>
            </a:r>
            <a:r>
              <a:rPr b="0" lang="ru-RU" sz="2000" spc="-1" strike="noStrike">
                <a:solidFill>
                  <a:srgbClr val="898989"/>
                </a:solidFill>
                <a:latin typeface="Cambria"/>
              </a:rPr>
              <a:t>.</a:t>
            </a:r>
            <a:r>
              <a:rPr b="0" lang="en-US" sz="2000" spc="-1" strike="noStrike">
                <a:solidFill>
                  <a:srgbClr val="898989"/>
                </a:solidFill>
                <a:latin typeface="Perpetua"/>
              </a:rPr>
              <a:t>Molinsky</a:t>
            </a:r>
            <a:r>
              <a:rPr b="0" lang="ru-RU" sz="2000" spc="-1" strike="noStrike">
                <a:solidFill>
                  <a:srgbClr val="898989"/>
                </a:solidFill>
                <a:latin typeface="Cambria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Perpetua"/>
              </a:rPr>
              <a:t>Bill Bliss (+Audio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 algn="just">
              <a:lnSpc>
                <a:spcPct val="100000"/>
              </a:lnSpc>
              <a:spcBef>
                <a:spcPts val="575"/>
              </a:spcBef>
              <a:buClr>
                <a:srgbClr val="7fd13b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Perpetua"/>
              </a:rPr>
              <a:t>English Puzzles 1</a:t>
            </a:r>
            <a:r>
              <a:rPr b="0" lang="en-US" sz="2000" spc="-1" strike="noStrike">
                <a:solidFill>
                  <a:srgbClr val="898989"/>
                </a:solidFill>
                <a:latin typeface="Perpetua"/>
              </a:rPr>
              <a:t>, Heinemann Games Seri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 algn="just">
              <a:lnSpc>
                <a:spcPct val="100000"/>
              </a:lnSpc>
              <a:spcBef>
                <a:spcPts val="575"/>
              </a:spcBef>
              <a:buClr>
                <a:srgbClr val="7fd13b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Perpetua"/>
              </a:rPr>
              <a:t>English Puzzles 2</a:t>
            </a:r>
            <a:r>
              <a:rPr b="0" lang="en-US" sz="2000" spc="-1" strike="noStrike">
                <a:solidFill>
                  <a:srgbClr val="898989"/>
                </a:solidFill>
                <a:latin typeface="Perpetua"/>
              </a:rPr>
              <a:t>, Heinemann Games Seri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5880" indent="-335880" algn="just">
              <a:spcBef>
                <a:spcPts val="575"/>
              </a:spcBef>
              <a:buClr>
                <a:srgbClr val="7fd13b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mbria"/>
              </a:rPr>
              <a:t>Программа</a:t>
            </a:r>
            <a:r>
              <a:rPr b="0" lang="ru-RU" sz="2000" spc="-1" strike="noStrike">
                <a:solidFill>
                  <a:srgbClr val="898989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ffc000"/>
                </a:solidFill>
                <a:latin typeface="Perpetua"/>
              </a:rPr>
              <a:t>Paint</a:t>
            </a:r>
            <a:r>
              <a:rPr b="0" lang="en-US" sz="2000" spc="-1" strike="noStrike">
                <a:solidFill>
                  <a:srgbClr val="898989"/>
                </a:solidFill>
                <a:latin typeface="Perpetua"/>
              </a:rPr>
              <a:t> </a:t>
            </a:r>
            <a:r>
              <a:rPr b="0" lang="ru-RU" sz="2000" spc="-1" strike="noStrike">
                <a:solidFill>
                  <a:srgbClr val="898989"/>
                </a:solidFill>
                <a:latin typeface="Cambria"/>
              </a:rPr>
              <a:t> - для оформления рисунков, преобразования черно-белых рисунков в цветные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35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Заголовок 1" descr=""/>
          <p:cNvPicPr/>
          <p:nvPr/>
        </p:nvPicPr>
        <p:blipFill>
          <a:blip r:embed="rId1"/>
          <a:stretch/>
        </p:blipFill>
        <p:spPr>
          <a:xfrm>
            <a:off x="828720" y="828720"/>
            <a:ext cx="8029440" cy="3073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"/>
          <p:cNvPicPr/>
          <p:nvPr/>
        </p:nvPicPr>
        <p:blipFill>
          <a:blip r:embed="rId2"/>
          <a:stretch/>
        </p:blipFill>
        <p:spPr>
          <a:xfrm>
            <a:off x="1187280" y="3068640"/>
            <a:ext cx="2954520" cy="33940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150660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3" descr="C:\Users\Елена\Desktop\What colour\карандаши.png"/>
          <p:cNvPicPr/>
          <p:nvPr/>
        </p:nvPicPr>
        <p:blipFill>
          <a:blip r:embed="rId1"/>
          <a:stretch/>
        </p:blipFill>
        <p:spPr>
          <a:xfrm>
            <a:off x="1979640" y="981000"/>
            <a:ext cx="5113440" cy="5516640"/>
          </a:xfrm>
          <a:prstGeom prst="rect">
            <a:avLst/>
          </a:prstGeom>
          <a:ln w="0">
            <a:noFill/>
          </a:ln>
        </p:spPr>
      </p:pic>
      <p:pic>
        <p:nvPicPr>
          <p:cNvPr id="536" name="Заголовок 5" descr=""/>
          <p:cNvPicPr/>
          <p:nvPr/>
        </p:nvPicPr>
        <p:blipFill>
          <a:blip r:embed="rId2"/>
          <a:stretch/>
        </p:blipFill>
        <p:spPr>
          <a:xfrm>
            <a:off x="914400" y="189000"/>
            <a:ext cx="7772400" cy="1073160"/>
          </a:xfrm>
          <a:prstGeom prst="rect">
            <a:avLst/>
          </a:prstGeom>
          <a:ln w="0">
            <a:noFill/>
          </a:ln>
        </p:spPr>
      </p:pic>
      <p:pic>
        <p:nvPicPr>
          <p:cNvPr id="537" name="19 Colours 19.mp3" descr=""/>
          <p:cNvPicPr/>
          <p:nvPr/>
        </p:nvPicPr>
        <p:blipFill>
          <a:blip r:embed="rId3"/>
          <a:stretch/>
        </p:blipFill>
        <p:spPr>
          <a:xfrm>
            <a:off x="755640" y="5950080"/>
            <a:ext cx="59220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59794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C:\Users\Елена\Desktop\What colour\Безымянный.png"/>
          <p:cNvPicPr/>
          <p:nvPr/>
        </p:nvPicPr>
        <p:blipFill>
          <a:blip r:embed="rId1"/>
          <a:stretch/>
        </p:blipFill>
        <p:spPr>
          <a:xfrm>
            <a:off x="1187280" y="907920"/>
            <a:ext cx="6632640" cy="5445360"/>
          </a:xfrm>
          <a:prstGeom prst="rect">
            <a:avLst/>
          </a:prstGeom>
          <a:ln w="0">
            <a:noFill/>
          </a:ln>
        </p:spPr>
      </p:pic>
      <p:sp>
        <p:nvSpPr>
          <p:cNvPr id="539" name="TextBox 2"/>
          <p:cNvSpPr/>
          <p:nvPr/>
        </p:nvSpPr>
        <p:spPr>
          <a:xfrm>
            <a:off x="-2268360" y="83664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0" name="TextBox 3"/>
          <p:cNvSpPr/>
          <p:nvPr/>
        </p:nvSpPr>
        <p:spPr>
          <a:xfrm>
            <a:off x="-2413080" y="2276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1" name="TextBox 4"/>
          <p:cNvSpPr/>
          <p:nvPr/>
        </p:nvSpPr>
        <p:spPr>
          <a:xfrm>
            <a:off x="-2484360" y="328464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purpl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2" name="TextBox 5"/>
          <p:cNvSpPr/>
          <p:nvPr/>
        </p:nvSpPr>
        <p:spPr>
          <a:xfrm>
            <a:off x="-2629080" y="4508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grey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TextBox 6"/>
          <p:cNvSpPr/>
          <p:nvPr/>
        </p:nvSpPr>
        <p:spPr>
          <a:xfrm>
            <a:off x="9144000" y="5157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-2844720" y="5516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5" name="TextBox 8"/>
          <p:cNvSpPr/>
          <p:nvPr/>
        </p:nvSpPr>
        <p:spPr>
          <a:xfrm>
            <a:off x="9468000" y="292428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6" name="TextBox 9"/>
          <p:cNvSpPr/>
          <p:nvPr/>
        </p:nvSpPr>
        <p:spPr>
          <a:xfrm>
            <a:off x="9540720" y="1700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7" name="TextBox 10"/>
          <p:cNvSpPr/>
          <p:nvPr/>
        </p:nvSpPr>
        <p:spPr>
          <a:xfrm>
            <a:off x="9540720" y="836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8" name="TextBox 11"/>
          <p:cNvSpPr/>
          <p:nvPr/>
        </p:nvSpPr>
        <p:spPr>
          <a:xfrm>
            <a:off x="9468000" y="436572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pink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9" name="Заголовок 13" descr=""/>
          <p:cNvPicPr/>
          <p:nvPr/>
        </p:nvPicPr>
        <p:blipFill>
          <a:blip r:embed="rId2"/>
          <a:stretch/>
        </p:blipFill>
        <p:spPr>
          <a:xfrm>
            <a:off x="914400" y="262080"/>
            <a:ext cx="77724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8762E-007 L 0.57865 0.19408 E">
                                      <p:cBhvr>
                                        <p:cTn id="70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8.68762E-007 L -0.53941 0.19408 E">
                                      <p:cBhvr>
                                        <p:cTn id="74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65 0.03674 L -0.22448 0.06816 E">
                                      <p:cBhvr>
                                        <p:cTn id="78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66359E-006 L -0.18507 0.10467 E">
                                      <p:cBhvr>
                                        <p:cTn id="82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939E-006 L -0.22431 0.07879 E">
                                      <p:cBhvr>
                                        <p:cTn id="86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045E-016 2.95749E-006 L -0.46458 0.13124 E">
                                      <p:cBhvr>
                                        <p:cTn id="90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8928E-006 L 0.64167 0.09958 E">
                                      <p:cBhvr>
                                        <p:cTn id="94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8281E-006 L 0.32674 0.09958 E">
                                      <p:cBhvr>
                                        <p:cTn id="9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8928E-006 L 0.31892 0.08942 E">
                                      <p:cBhvr>
                                        <p:cTn id="102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75046E-006 L 0.30313 0.04737 E">
                                      <p:cBhvr>
                                        <p:cTn id="106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Заголовок 1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772400" cy="11332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025800" cy="14284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"/>
          <p:cNvPicPr/>
          <p:nvPr/>
        </p:nvPicPr>
        <p:blipFill>
          <a:blip r:embed="rId3"/>
          <a:stretch/>
        </p:blipFill>
        <p:spPr>
          <a:xfrm>
            <a:off x="5651640" y="4869000"/>
            <a:ext cx="3078000" cy="15033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"/>
          <p:cNvPicPr/>
          <p:nvPr/>
        </p:nvPicPr>
        <p:blipFill>
          <a:blip r:embed="rId4"/>
          <a:stretch/>
        </p:blipFill>
        <p:spPr>
          <a:xfrm>
            <a:off x="3059280" y="3068640"/>
            <a:ext cx="3151080" cy="15127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3227400" cy="15098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"/>
          <p:cNvPicPr/>
          <p:nvPr/>
        </p:nvPicPr>
        <p:blipFill>
          <a:blip r:embed="rId6"/>
          <a:stretch/>
        </p:blipFill>
        <p:spPr>
          <a:xfrm>
            <a:off x="5651640" y="1413000"/>
            <a:ext cx="3049560" cy="1523880"/>
          </a:xfrm>
          <a:prstGeom prst="rect">
            <a:avLst/>
          </a:prstGeom>
          <a:ln w="0">
            <a:noFill/>
          </a:ln>
        </p:spPr>
      </p:pic>
      <p:sp>
        <p:nvSpPr>
          <p:cNvPr id="556" name="Овал 10"/>
          <p:cNvSpPr/>
          <p:nvPr/>
        </p:nvSpPr>
        <p:spPr>
          <a:xfrm>
            <a:off x="-1765440" y="907920"/>
            <a:ext cx="936720" cy="333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7" name="Овал 11"/>
          <p:cNvSpPr/>
          <p:nvPr/>
        </p:nvSpPr>
        <p:spPr>
          <a:xfrm>
            <a:off x="9828360" y="5229360"/>
            <a:ext cx="1081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Овал 12"/>
          <p:cNvSpPr/>
          <p:nvPr/>
        </p:nvSpPr>
        <p:spPr>
          <a:xfrm>
            <a:off x="9756720" y="1413000"/>
            <a:ext cx="936720" cy="331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Овал 13"/>
          <p:cNvSpPr/>
          <p:nvPr/>
        </p:nvSpPr>
        <p:spPr>
          <a:xfrm>
            <a:off x="-1332000" y="3573360"/>
            <a:ext cx="935280" cy="331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0" name="Овал 14"/>
          <p:cNvSpPr/>
          <p:nvPr/>
        </p:nvSpPr>
        <p:spPr>
          <a:xfrm>
            <a:off x="-1692360" y="5732640"/>
            <a:ext cx="1224000" cy="360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5.59279E-007 L 0.24028 0.09106 E">
                                      <p:cBhvr>
                                        <p:cTn id="137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60527E-007 L -0.43715 0.07026 E">
                                      <p:cBhvr>
                                        <p:cTn id="141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00901E-006 L 0.72048 0.00739 E">
                                      <p:cBhvr>
                                        <p:cTn id="145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47747E-006 L 0.46841 0.00555 E">
                                      <p:cBhvr>
                                        <p:cTn id="149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9034E-006 L -0.45277 0.09452 E">
                                      <p:cBhvr>
                                        <p:cTn id="153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Заголовок 1" descr=""/>
          <p:cNvPicPr/>
          <p:nvPr/>
        </p:nvPicPr>
        <p:blipFill>
          <a:blip r:embed="rId1"/>
          <a:stretch/>
        </p:blipFill>
        <p:spPr>
          <a:xfrm>
            <a:off x="914400" y="262080"/>
            <a:ext cx="7772400" cy="10731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tretch/>
        </p:blipFill>
        <p:spPr>
          <a:xfrm>
            <a:off x="2268360" y="981000"/>
            <a:ext cx="4992840" cy="32194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2087280" cy="2981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4"/>
          <a:stretch/>
        </p:blipFill>
        <p:spPr>
          <a:xfrm>
            <a:off x="6372360" y="3789360"/>
            <a:ext cx="22748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"/>
          <p:cNvPicPr/>
          <p:nvPr/>
        </p:nvPicPr>
        <p:blipFill>
          <a:blip r:embed="rId1"/>
          <a:stretch/>
        </p:blipFill>
        <p:spPr>
          <a:xfrm>
            <a:off x="1222200" y="1484280"/>
            <a:ext cx="7464600" cy="4951440"/>
          </a:xfrm>
          <a:prstGeom prst="rect">
            <a:avLst/>
          </a:prstGeom>
          <a:ln w="0">
            <a:noFill/>
          </a:ln>
        </p:spPr>
      </p:pic>
      <p:pic>
        <p:nvPicPr>
          <p:cNvPr id="566" name="Заголовок 3" descr=""/>
          <p:cNvPicPr/>
          <p:nvPr/>
        </p:nvPicPr>
        <p:blipFill>
          <a:blip r:embed="rId2"/>
          <a:stretch/>
        </p:blipFill>
        <p:spPr>
          <a:xfrm>
            <a:off x="914400" y="274680"/>
            <a:ext cx="77724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Заголовок 1" descr=""/>
          <p:cNvPicPr/>
          <p:nvPr/>
        </p:nvPicPr>
        <p:blipFill>
          <a:blip r:embed="rId1"/>
          <a:stretch/>
        </p:blipFill>
        <p:spPr>
          <a:xfrm>
            <a:off x="914400" y="189000"/>
            <a:ext cx="7772400" cy="10731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" descr="C:\Users\Елена\Desktop\What colour\Wordsearch.png"/>
          <p:cNvPicPr/>
          <p:nvPr/>
        </p:nvPicPr>
        <p:blipFill>
          <a:blip r:embed="rId2"/>
          <a:stretch/>
        </p:blipFill>
        <p:spPr>
          <a:xfrm>
            <a:off x="2230560" y="1052640"/>
            <a:ext cx="428616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2268360" y="1158840"/>
            <a:ext cx="5616720" cy="5532480"/>
          </a:xfrm>
          <a:prstGeom prst="rect">
            <a:avLst/>
          </a:prstGeom>
          <a:ln w="0">
            <a:noFill/>
          </a:ln>
        </p:spPr>
      </p:pic>
      <p:pic>
        <p:nvPicPr>
          <p:cNvPr id="570" name="Заголовок 2" descr=""/>
          <p:cNvPicPr/>
          <p:nvPr/>
        </p:nvPicPr>
        <p:blipFill>
          <a:blip r:embed="rId2"/>
          <a:stretch/>
        </p:blipFill>
        <p:spPr>
          <a:xfrm>
            <a:off x="914400" y="262080"/>
            <a:ext cx="77724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6:24:35Z</dcterms:created>
  <dc:creator>Пользователь Windows</dc:creator>
  <dc:description/>
  <dc:language>en-US</dc:language>
  <cp:lastModifiedBy>Лена</cp:lastModifiedBy>
  <dcterms:modified xsi:type="dcterms:W3CDTF">2012-05-04T18:15:38Z</dcterms:modified>
  <cp:revision>37</cp:revision>
  <dc:subject/>
  <dc:title>What colour is it?</dc:title>
</cp:coreProperties>
</file>