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6C6-6243-4C5A-BE85-60234119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0C1-B577-4681-A44A-661F7AD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75B06-C437-4286-9006-EEEB2429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EC88-6249-4CE1-9B07-ACC7B8BC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10169-4DF5-4C81-9082-82652C15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91DE-84B2-422E-908D-1830E25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54634-26F4-49B4-829F-A4D5D7D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73368-A77C-4D99-97DC-58D9ADE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4AB67-2ABE-4A15-AF54-6B008D6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6E79E-DE9A-4618-9AA7-FB47685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64407-387E-493A-A030-E1A648B5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530D1-C8B1-410A-8CB8-BFBD9114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3C2-1936-46A9-8BB6-8A0BC2E3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497F-1A4B-4A95-8B38-45B59C4C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91726-E47F-4CF7-8F58-0D000206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70E54-A945-438C-988C-4F0BEC2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6310B-F69D-4414-A357-D39ED64C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B163E-2238-410D-9C6E-78563A2D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52F6F-2690-425C-A66E-9EC4EBE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05AB6-2A45-4C49-B4F6-0F836C4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0A22C-4009-4B46-9E40-C95CA8D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65237-D343-4D70-9FBF-D4624FC0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D8576-72CF-4F46-9645-301D5AE0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FD1-E6C4-46F6-863E-0B611AE0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8D81-1115-46E4-9D5B-B2C038C0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92940-33C5-4631-8447-51FEEAE1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A3CA4-6024-4F50-B6A7-B5BBE8B8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24385-4653-454B-90B0-62F0CF0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B4D45-1EDE-4F6A-BD6F-DFEE46C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A0CF5-3454-4737-86E8-619B9214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C2004-D7D8-4098-8628-6F1FDAE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559BC-EC0C-4EAA-BDAF-24FE489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36FA-01EF-49A5-9C75-E5623B6A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07E5-3E5D-4638-896E-46314B7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7837-CFEC-4496-8A79-84B2BA7E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63C20-AF28-4258-89A7-1EDD790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88559-7E86-424C-9757-98326761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7A66C-ACB4-4B1A-ABF9-AEFCA7EA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1661C-E57D-4533-878B-A70AA3B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372C7-89D2-4036-B798-0E425BD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E00D7-0585-48D5-A799-68B28F9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1699A-9498-4670-B6C4-8C60CA0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AB2D7-668F-483E-BBB6-7A08114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64ACA-4F76-4915-B20F-3D3EF63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ED7B-65F0-4A44-B57D-DDD225C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7E09-37F4-4632-8B0B-D228E269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8729B-E2A9-43D0-8AA0-370D66D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42CFE-3B57-4BFF-8851-5DF2D53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E1BFC-1E64-44AC-BF97-FFA2E9CB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C6E82-6445-4715-B847-A2E5A39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A13D0-9018-4880-9D9A-B468FB71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C0AF-64A5-453E-A2D2-01163A49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2E68-CFD8-4857-BFF7-CD060A9F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D62-6C4E-482D-976F-D4CA157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AD8D-A34C-41C9-9170-C5E61B5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B218-0E3F-4D9F-8700-9A2436B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877-ADFE-4BE4-999D-5E22B884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E5D-B901-4EE9-9DCF-E058F7C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B55-419C-4AD9-BF5E-DE09D99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2B9-AFE5-4053-9ED7-A1BFF32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B7E-03DC-453B-80BE-B92C2E61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42C2-5C66-4AE2-9B79-FEBE78D1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676D-1C9D-4251-9AB0-AEEAC06D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3A07-443C-4DE8-B1E7-7D87D3BA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A8AD-B23C-4126-B295-6CDC3092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4FA9-35E6-4A83-9635-937D9CC9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BF53-5F79-4CC0-B9AD-65FFC666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9A0-E814-4AD6-AA06-24CB6CB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9482-D0B7-4952-9A52-49AD9B89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7755-8F53-453C-9744-8966A58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04ED-8C2C-45D9-86D3-736C6DF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6CF3-F948-49E7-8B1D-A986681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6D690-7B9E-4D55-ADCC-C9ADD8E0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7D58-A8C9-4707-9737-19EEB8A0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99B6-7823-4432-BF7C-F05E5CBC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B528-64C7-4810-82D8-A93B5B99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315D-52EE-4171-BBE9-3978D32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DC0E-525D-4802-B389-A617B985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9FE-D207-40D3-BAA8-6F5D1E5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7E19-6F0E-40CA-A6BE-5F84E02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B7F6-4A5A-4550-B102-5F994A2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7B2C-4532-428A-B828-61E06B51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EC71-33DE-41A9-BE1F-8D4EA53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1ACC-F3C5-4B97-B78E-7E0B685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3A3A-6B57-4064-9EF7-4933F4C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C03F-2A00-4D23-9222-9752BA04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D9FE-F59A-4874-88FD-FE2F48E7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28A3-4636-4F16-94D4-93082AEE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2FFD-F4CA-464A-9DC3-7B4D50E0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C0E-6F7C-4E3E-AB9E-235EF857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43684-6CAB-45A3-B5A6-4DC19723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4E5C-8950-4932-A5A9-9BBB2BB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95F6-E17F-44BD-A16C-A185B0E2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2973-C370-49F6-BFD8-5F352E3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B552-2AD6-476C-A586-687BC1C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1B6B-DBCE-4695-A69B-184BDBF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4055-5AEB-4054-A3EE-3C00EB0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582F-1536-4B2B-B23B-259782E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063D-C077-40AA-86DE-D5832F2B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549DA-0711-4112-A698-6985B7D2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571-3FB9-4685-8E79-42D6350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F114-4C79-44C4-AA42-E2321FEF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71FC4-0449-47CB-B884-0E446460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24F1-8D99-41CB-9019-039026D7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FB9B-8D9B-4C63-BBA9-47F9BF3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016B5-B999-42EA-82FF-3F2ADB53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3A3F-44D1-4C08-8C15-98D9EBEE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3025-9467-44B9-8841-1845DF99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FEDF-1488-4577-9159-E607430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43C3-EB93-4F5E-ACEA-F4E0A95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CE54-42E9-4263-9196-8B8B3A7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AAB-D7A3-4947-BE38-BF1ECFB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1248-679A-4D77-AF62-4441FCC1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9313-1143-42FA-BB6A-83CE5C79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C7C02-F9FA-4085-B0D6-0CD98347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D87AD-71FA-47A6-9F9E-E3C04A8C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3D80-1F82-4FC2-AEDF-9FF1BB02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92C9-208F-4708-B619-39DDDD78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43BFE-F9D1-4B76-8C02-6D94039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1703-8057-45B1-885E-ABD2551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DFB40-9BD5-49D1-9781-1EF55A7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488A-E230-4CBE-9274-B2C639F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D26-1587-41A0-8D63-E89A1C3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8DBFD-DB25-42C6-A429-D4F8E0F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72B3-2545-4754-B32F-2B4F1C6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A46B-2A17-4A28-911A-BCB57A7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B34B2-3E81-441B-B89E-86A3A858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9798-310F-410D-A538-7602FA53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28C17-1AB9-4828-BA58-E1A4A7E0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53074-4A5B-4CD4-B426-19D827B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D4DCB-82C1-4AFB-B1B7-4C2485A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CA91-3865-471F-85DB-DF6EBFC4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268C6-9824-4889-BD89-155A3728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1D4-108E-494E-9752-2534352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D5613-468B-4A8D-8162-02D0ED31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5C74-97B9-474A-BFEE-5A3A35A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C248E-6EBC-4DA4-BAC3-BBC6E70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0A0F-15BA-4711-8AED-FB473ED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FAD1-BAB4-4C66-98BD-31DCEA45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7B5B3-E7C7-4503-933B-D43B9468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D91B2-FDBA-40EA-8B71-0FB682DB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8D639-7356-4575-961B-EB78C872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4D5D2-641E-4134-AAFD-316D55D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730DF-B6C2-46C9-9B46-8B65115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AB55-0161-4C48-83CC-C2D5DD7997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70B3-CF3D-4FC1-9318-B5E117E1A1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C4C-2501-4C66-A492-C7C8234CB0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643C-08A0-4644-B7EE-246892E064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BA2C-00F0-4620-A319-534A15C53C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FC4-CDE3-44EE-957E-6211165EF4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33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24DF-E1F5-49EF-B35A-E84ABD96FD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C2D5-50BD-4DC0-898D-CEA33260A2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EBE-01DD-4FA3-9F25-15B271577C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964-BFC4-45DC-B8AB-E6B7BD0F32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734-E055-49D1-8AA2-5E54B8FC92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D86F-48CF-474E-AF54-1F48FC3422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c-cafe.ru/days/bio/000154.php" TargetMode="External"/><Relationship Id="rId3" Type="http://schemas.openxmlformats.org/officeDocument/2006/relationships/hyperlink" Target="http://www.freefileszone.ru/software/kids-jigsaw-puzzles.html" TargetMode="External"/><Relationship Id="rId4" Type="http://schemas.openxmlformats.org/officeDocument/2006/relationships/hyperlink" Target="http://bloganet.ru/" TargetMode="External"/><Relationship Id="rId5" Type="http://schemas.openxmlformats.org/officeDocument/2006/relationships/hyperlink" Target="http://www.animationfactory.com/" TargetMode="External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615960" y="749160"/>
            <a:ext cx="8051760" cy="1774800"/>
          </a:xfrm>
          <a:prstGeom prst="rect">
            <a:avLst/>
          </a:prstGeom>
          <a:ln w="0">
            <a:noFill/>
          </a:ln>
        </p:spPr>
      </p:pic>
      <p:pic>
        <p:nvPicPr>
          <p:cNvPr id="530" name="Текст 2" descr=""/>
          <p:cNvPicPr/>
          <p:nvPr/>
        </p:nvPicPr>
        <p:blipFill>
          <a:blip r:embed="rId2"/>
          <a:stretch/>
        </p:blipFill>
        <p:spPr>
          <a:xfrm>
            <a:off x="3402000" y="5175360"/>
            <a:ext cx="5413320" cy="1358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Users\Елена\Desktop\Колледж\фото на документы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7308720" y="3213000"/>
            <a:ext cx="14479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Заголовок 1" descr=""/>
          <p:cNvPicPr/>
          <p:nvPr/>
        </p:nvPicPr>
        <p:blipFill>
          <a:blip r:embed="rId1"/>
          <a:stretch/>
        </p:blipFill>
        <p:spPr>
          <a:xfrm>
            <a:off x="719280" y="353880"/>
            <a:ext cx="7772400" cy="2565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Users\Елена\Desktop\What colour\PENS.png"/>
          <p:cNvPicPr/>
          <p:nvPr/>
        </p:nvPicPr>
        <p:blipFill>
          <a:blip r:embed="rId2"/>
          <a:stretch/>
        </p:blipFill>
        <p:spPr>
          <a:xfrm>
            <a:off x="468360" y="2919240"/>
            <a:ext cx="4319640" cy="3527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Users\Елена\Desktop\What colour\HOMEWORK.png"/>
          <p:cNvPicPr/>
          <p:nvPr/>
        </p:nvPicPr>
        <p:blipFill>
          <a:blip r:embed="rId3"/>
          <a:stretch/>
        </p:blipFill>
        <p:spPr>
          <a:xfrm>
            <a:off x="4427640" y="2708280"/>
            <a:ext cx="4429080" cy="3678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Users\Елена\Desktop\What colour\Карточка по цветам цветная.png"/>
          <p:cNvPicPr/>
          <p:nvPr/>
        </p:nvPicPr>
        <p:blipFill>
          <a:blip r:embed="rId4"/>
          <a:stretch/>
        </p:blipFill>
        <p:spPr>
          <a:xfrm rot="1854600">
            <a:off x="6657840" y="3841920"/>
            <a:ext cx="1667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Заголовок 1" descr=""/>
          <p:cNvPicPr/>
          <p:nvPr/>
        </p:nvPicPr>
        <p:blipFill>
          <a:blip r:embed="rId1"/>
          <a:stretch/>
        </p:blipFill>
        <p:spPr>
          <a:xfrm>
            <a:off x="603360" y="622440"/>
            <a:ext cx="8010360" cy="18954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4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2"/>
              </a:rPr>
              <a:t>http://www.c-cafe.ru/days/bio/000154.php</a:t>
            </a:r>
            <a:r>
              <a:rPr b="0" lang="ru-RU" sz="2000" spc="-1" strike="noStrike">
                <a:solidFill>
                  <a:srgbClr val="ffc000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3"/>
              </a:rPr>
              <a:t>http://www.freefileszone.ru/software/kids-jigsaw-puzzles.html</a:t>
            </a:r>
            <a:r>
              <a:rPr b="0" lang="ru-RU" sz="20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- программа для создания пазл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4"/>
              </a:rPr>
              <a:t>http://bloganet.ru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 рисун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5"/>
              </a:rPr>
              <a:t>www.animationfactory.com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7f7f7f"/>
                </a:solidFill>
                <a:latin typeface="Cambria"/>
              </a:rPr>
              <a:t>шаблоны и темы для создания слайд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Word by Word picture dictionary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by Steven J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.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Molinsky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Bill Bliss (+Audio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English Puzzles 1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, Heinemann Games Se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English Puzzles 2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, Heinemann Games Se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mbria"/>
              </a:rPr>
              <a:t>Программа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Paint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 - для оформления рисунков, преобразования черно-белых рисунков в цветны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828720" y="828720"/>
            <a:ext cx="8029440" cy="3073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2954520" cy="3394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50660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C:\Users\Елена\Desktop\What colour\карандаши.png"/>
          <p:cNvPicPr/>
          <p:nvPr/>
        </p:nvPicPr>
        <p:blipFill>
          <a:blip r:embed="rId1"/>
          <a:stretch/>
        </p:blipFill>
        <p:spPr>
          <a:xfrm>
            <a:off x="1979640" y="981000"/>
            <a:ext cx="5113440" cy="5516640"/>
          </a:xfrm>
          <a:prstGeom prst="rect">
            <a:avLst/>
          </a:prstGeom>
          <a:ln w="0">
            <a:noFill/>
          </a:ln>
        </p:spPr>
      </p:pic>
      <p:pic>
        <p:nvPicPr>
          <p:cNvPr id="536" name="Заголовок 5" descr=""/>
          <p:cNvPicPr/>
          <p:nvPr/>
        </p:nvPicPr>
        <p:blipFill>
          <a:blip r:embed="rId2"/>
          <a:stretch/>
        </p:blipFill>
        <p:spPr>
          <a:xfrm>
            <a:off x="914400" y="1890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37" name="19 Colours 19.mp3" descr=""/>
          <p:cNvPicPr/>
          <p:nvPr/>
        </p:nvPicPr>
        <p:blipFill>
          <a:blip r:embed="rId3"/>
          <a:stretch/>
        </p:blipFill>
        <p:spPr>
          <a:xfrm>
            <a:off x="755640" y="5950080"/>
            <a:ext cx="5922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9794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Users\Елена\Desktop\What colour\Безымянный.png"/>
          <p:cNvPicPr/>
          <p:nvPr/>
        </p:nvPicPr>
        <p:blipFill>
          <a:blip r:embed="rId1"/>
          <a:stretch/>
        </p:blipFill>
        <p:spPr>
          <a:xfrm>
            <a:off x="1187280" y="907920"/>
            <a:ext cx="6632640" cy="5445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"/>
          <p:cNvSpPr/>
          <p:nvPr/>
        </p:nvSpPr>
        <p:spPr>
          <a:xfrm>
            <a:off x="-2268360" y="836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-2413080" y="227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-2484360" y="3284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-2629080" y="450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grey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9144000" y="5157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-2844720" y="551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9468000" y="29242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TextBox 9"/>
          <p:cNvSpPr/>
          <p:nvPr/>
        </p:nvSpPr>
        <p:spPr>
          <a:xfrm>
            <a:off x="9540720" y="1700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9540720" y="836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TextBox 11"/>
          <p:cNvSpPr/>
          <p:nvPr/>
        </p:nvSpPr>
        <p:spPr>
          <a:xfrm>
            <a:off x="9468000" y="436572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9" name="Заголовок 13" descr=""/>
          <p:cNvPicPr/>
          <p:nvPr/>
        </p:nvPicPr>
        <p:blipFill>
          <a:blip r:embed="rId2"/>
          <a:stretch/>
        </p:blipFill>
        <p:spPr>
          <a:xfrm>
            <a:off x="914400" y="262080"/>
            <a:ext cx="7772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8762E-007 L 0.57865 0.19408 E">
                                      <p:cBhvr>
                                        <p:cTn id="70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68762E-007 L -0.53941 0.19408 E">
                                      <p:cBhvr>
                                        <p:cTn id="74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0.03674 L -0.22448 0.06816 E">
                                      <p:cBhvr>
                                        <p:cTn id="78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66359E-006 L -0.18507 0.10467 E">
                                      <p:cBhvr>
                                        <p:cTn id="82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939E-006 L -0.22431 0.07879 E">
                                      <p:cBhvr>
                                        <p:cTn id="86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2.95749E-006 L -0.46458 0.13124 E">
                                      <p:cBhvr>
                                        <p:cTn id="90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8928E-006 L 0.64167 0.09958 E">
                                      <p:cBhvr>
                                        <p:cTn id="94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8281E-006 L 0.32674 0.09958 E">
                                      <p:cBhvr>
                                        <p:cTn id="9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8928E-006 L 0.31892 0.08942 E">
                                      <p:cBhvr>
                                        <p:cTn id="102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5046E-006 L 0.30313 0.04737 E">
                                      <p:cBhvr>
                                        <p:cTn id="106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772400" cy="1133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025800" cy="1428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3078000" cy="1503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3059280" y="3068640"/>
            <a:ext cx="3151080" cy="1512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3227400" cy="1509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"/>
          <p:cNvPicPr/>
          <p:nvPr/>
        </p:nvPicPr>
        <p:blipFill>
          <a:blip r:embed="rId6"/>
          <a:stretch/>
        </p:blipFill>
        <p:spPr>
          <a:xfrm>
            <a:off x="5651640" y="1413000"/>
            <a:ext cx="3049560" cy="1523880"/>
          </a:xfrm>
          <a:prstGeom prst="rect">
            <a:avLst/>
          </a:prstGeom>
          <a:ln w="0">
            <a:noFill/>
          </a:ln>
        </p:spPr>
      </p:pic>
      <p:sp>
        <p:nvSpPr>
          <p:cNvPr id="556" name="Овал 10"/>
          <p:cNvSpPr/>
          <p:nvPr/>
        </p:nvSpPr>
        <p:spPr>
          <a:xfrm>
            <a:off x="-1765440" y="907920"/>
            <a:ext cx="936720" cy="333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Овал 11"/>
          <p:cNvSpPr/>
          <p:nvPr/>
        </p:nvSpPr>
        <p:spPr>
          <a:xfrm>
            <a:off x="9828360" y="5229360"/>
            <a:ext cx="1081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Овал 12"/>
          <p:cNvSpPr/>
          <p:nvPr/>
        </p:nvSpPr>
        <p:spPr>
          <a:xfrm>
            <a:off x="9756720" y="1413000"/>
            <a:ext cx="9367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Овал 13"/>
          <p:cNvSpPr/>
          <p:nvPr/>
        </p:nvSpPr>
        <p:spPr>
          <a:xfrm>
            <a:off x="-1332000" y="3573360"/>
            <a:ext cx="93528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Овал 14"/>
          <p:cNvSpPr/>
          <p:nvPr/>
        </p:nvSpPr>
        <p:spPr>
          <a:xfrm>
            <a:off x="-1692360" y="5732640"/>
            <a:ext cx="1224000" cy="360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9279E-007 L 0.24028 0.09106 E">
                                      <p:cBhvr>
                                        <p:cTn id="137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60527E-007 L -0.43715 0.07026 E">
                                      <p:cBhvr>
                                        <p:cTn id="141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00901E-006 L 0.72048 0.00739 E">
                                      <p:cBhvr>
                                        <p:cTn id="145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7747E-006 L 0.46841 0.00555 E">
                                      <p:cBhvr>
                                        <p:cTn id="149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9034E-006 L -0.45277 0.09452 E">
                                      <p:cBhvr>
                                        <p:cTn id="15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914400" y="26208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4992840" cy="3219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087280" cy="298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6372360" y="3789360"/>
            <a:ext cx="2274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1222200" y="1484280"/>
            <a:ext cx="7464600" cy="4951440"/>
          </a:xfrm>
          <a:prstGeom prst="rect">
            <a:avLst/>
          </a:prstGeom>
          <a:ln w="0">
            <a:noFill/>
          </a:ln>
        </p:spPr>
      </p:pic>
      <p:pic>
        <p:nvPicPr>
          <p:cNvPr id="566" name="Заголовок 3" descr=""/>
          <p:cNvPicPr/>
          <p:nvPr/>
        </p:nvPicPr>
        <p:blipFill>
          <a:blip r:embed="rId2"/>
          <a:stretch/>
        </p:blipFill>
        <p:spPr>
          <a:xfrm>
            <a:off x="914400" y="274680"/>
            <a:ext cx="77724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1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C:\Users\Елена\Desktop\What colour\Wordsearch.png"/>
          <p:cNvPicPr/>
          <p:nvPr/>
        </p:nvPicPr>
        <p:blipFill>
          <a:blip r:embed="rId2"/>
          <a:stretch/>
        </p:blipFill>
        <p:spPr>
          <a:xfrm>
            <a:off x="2230560" y="1052640"/>
            <a:ext cx="428616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268360" y="1158840"/>
            <a:ext cx="5616720" cy="5532480"/>
          </a:xfrm>
          <a:prstGeom prst="rect">
            <a:avLst/>
          </a:prstGeom>
          <a:ln w="0">
            <a:noFill/>
          </a:ln>
        </p:spPr>
      </p:pic>
      <p:pic>
        <p:nvPicPr>
          <p:cNvPr id="570" name="Заголовок 2" descr=""/>
          <p:cNvPicPr/>
          <p:nvPr/>
        </p:nvPicPr>
        <p:blipFill>
          <a:blip r:embed="rId2"/>
          <a:stretch/>
        </p:blipFill>
        <p:spPr>
          <a:xfrm>
            <a:off x="914400" y="262080"/>
            <a:ext cx="7772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6:24:35Z</dcterms:created>
  <dc:creator>Пользователь Windows</dc:creator>
  <dc:description/>
  <dc:language>en-US</dc:language>
  <cp:lastModifiedBy>Лена</cp:lastModifiedBy>
  <dcterms:modified xsi:type="dcterms:W3CDTF">2012-05-04T18:15:38Z</dcterms:modified>
  <cp:revision>37</cp:revision>
  <dc:subject/>
  <dc:title>What colour is it?</dc:title>
</cp:coreProperties>
</file>