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0BC-F882-45C5-A8C2-2FAE10C8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AB4-9681-4178-8454-B5ACC099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D5F-E142-4756-A3EA-F31D76E4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686-E259-41C4-9DA1-105CE5A7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ADF-8BDF-4F3B-ACE0-390C7C3B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4AD-93F2-4B16-82C4-A1C19D3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54B-1C61-4296-947E-7C0D0E98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650-4CB9-45A9-84E7-DAB5101D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CA9-606F-44D8-BC18-74C6752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6F8-7378-4BA9-A41F-2EA1208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F42-8809-408B-AD4C-17BD367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ABB-DFDA-4D43-8612-DBF0B50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0213-A6E8-4472-A7D7-913D7F572E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43000" y="1700280"/>
            <a:ext cx="8658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висимость силы тока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напряжения.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ическое сопротивление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одников.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908000" y="2637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Ом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72000" y="191628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716360" y="3068640"/>
            <a:ext cx="1297080" cy="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716360" y="3357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476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Это сопротивление проводника, между конц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которого при силе тока 1 А возник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напряжение 1 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124000" y="5877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c"/>
                </a:solidFill>
                <a:latin typeface="Bookman Old Style"/>
              </a:rPr>
              <a:t>Омме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DefaultOcx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40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c"/>
                </a:solidFill>
                <a:latin typeface="Tahoma"/>
              </a:rPr>
              <a:t>1 мОм = 0,001 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c"/>
                </a:solidFill>
                <a:latin typeface="Tahoma"/>
              </a:rPr>
              <a:t>1 кОм = 1000 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c"/>
                </a:solidFill>
                <a:latin typeface="Tahoma"/>
              </a:rPr>
              <a:t>1 Мом = 1000000 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c"/>
                </a:solidFill>
                <a:latin typeface="Tahoma"/>
              </a:rPr>
              <a:t>Сопротивление однородного проводника постоянного сечения зависит от материала проводника, его длины </a:t>
            </a:r>
            <a:r>
              <a:rPr b="1" lang="en-US" sz="3600" spc="-1" strike="noStrike">
                <a:solidFill>
                  <a:srgbClr val="00000c"/>
                </a:solidFill>
                <a:latin typeface="Tahoma"/>
              </a:rPr>
              <a:t>L </a:t>
            </a:r>
            <a:r>
              <a:rPr b="1" lang="ru-RU" sz="3600" spc="-1" strike="noStrike">
                <a:solidFill>
                  <a:srgbClr val="00000c"/>
                </a:solidFill>
                <a:latin typeface="Tahoma"/>
              </a:rPr>
              <a:t>и площади поперечного сечения </a:t>
            </a:r>
            <a:r>
              <a:rPr b="1" lang="en-US" sz="3600" spc="-1" strike="noStrike">
                <a:solidFill>
                  <a:srgbClr val="00000c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4" descr="ф6"/>
          <p:cNvPicPr/>
          <p:nvPr/>
        </p:nvPicPr>
        <p:blipFill>
          <a:blip r:embed="rId1"/>
          <a:stretch/>
        </p:blipFill>
        <p:spPr>
          <a:xfrm>
            <a:off x="1979640" y="3213000"/>
            <a:ext cx="52704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ф7"/>
          <p:cNvPicPr/>
          <p:nvPr/>
        </p:nvPicPr>
        <p:blipFill>
          <a:blip r:embed="rId1"/>
          <a:stretch/>
        </p:blipFill>
        <p:spPr>
          <a:xfrm>
            <a:off x="1692360" y="1125360"/>
            <a:ext cx="5040360" cy="3929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95280" y="5229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 Black"/>
              </a:rPr>
              <a:t>ПОЧЕМУ ПТИЦ, ДАЖЕ СИДЯЩИХ НА ВЫСОКОВОЛЬТНЫХ ПРОВОДАХ, НЕ УБИВАЕТ ТОК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0755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Unicode MS"/>
                <a:ea typeface="Arial Unicode MS"/>
              </a:rPr>
              <a:t>Сила тока на участке электрической цепи прямо пропорциональна напряжению на концах этого участка и обратно пропорциональна его электрическому сопротивл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Unicode MS"/>
                <a:ea typeface="Arial Unicode MS"/>
              </a:rPr>
              <a:t>Сила тока в проводнике зависит от его свойств, поскольку разные проводники могут оказывать току различное электрическое сопротивл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Unicode MS"/>
                <a:ea typeface="Arial Unicode MS"/>
              </a:rPr>
              <a:t>Сопротивление измеряется в Омах. 1 Ом – это сопротивления проводника, в котором под напряжением 1В сила тока составляет 1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42, 43; упр.18 №2, дополнительно для удовольствия распутайте «Спираль сл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179280" y="242100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ановить зависимость силы тока от напря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вольт - амперную характеристи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268360" y="69228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Цели урока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9280" y="3933720"/>
            <a:ext cx="885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ознакомиться с электрическим сопротивление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физическ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яснить природу электрического сопротивл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основании электронной те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856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ление зависимости силы тока от напряжения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  Составление вольт - амперной характеристики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ф3"/>
          <p:cNvPicPr/>
          <p:nvPr/>
        </p:nvPicPr>
        <p:blipFill>
          <a:blip r:embed="rId1"/>
          <a:stretch/>
        </p:blipFill>
        <p:spPr>
          <a:xfrm>
            <a:off x="2411280" y="2865600"/>
            <a:ext cx="44643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1052640"/>
          <a:ext cx="8229600" cy="54450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669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1700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Arial Black"/>
              </a:rPr>
              <a:t>Сила тока прямо пропорциональна напряж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30686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Сила тока в цепи зависит не только от напряжения, но и от свойств провод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916360" y="549360"/>
            <a:ext cx="3456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Вывод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ф4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именение резисто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ф5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Электрическое сопротивление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физическая величина, характеризующая противодействие, оказываемое проводником электрическому току, обозначается буквой </a:t>
            </a:r>
            <a:r>
              <a:rPr b="1" i="1" lang="en-US" sz="4000" spc="-1" strike="noStrike">
                <a:solidFill>
                  <a:srgbClr val="000099"/>
                </a:solidFill>
                <a:latin typeface="Bookman Old Style"/>
              </a:rPr>
              <a:t>R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6720" y="380520"/>
            <a:ext cx="3672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ahoma"/>
              </a:rPr>
              <a:t>Единицей электрического сопротивления является Ом. Единица названа в честь немецкого физика Ома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DefaultOcx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89440" cy="540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8:14:41Z</dcterms:created>
  <dc:creator>Пользователь</dc:creator>
  <dc:description/>
  <dc:language>en-US</dc:language>
  <cp:lastModifiedBy>Пользователь</cp:lastModifiedBy>
  <dcterms:modified xsi:type="dcterms:W3CDTF">2013-12-14T11:24:30Z</dcterms:modified>
  <cp:revision>6</cp:revision>
  <dc:subject/>
  <dc:title>Слайд 1</dc:title>
</cp:coreProperties>
</file>