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478-89C9-4864-9FBA-E44167C2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5D1-42FB-4879-B2D3-11728E96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E5C-3EDE-40A3-BA4B-558316BF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C48-4D8C-43BB-8D3A-E0E76AA4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7019-F3EC-4B90-93F2-8382D133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F838-F053-4441-AC2D-C4B3D35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3356-AE30-45BB-A9DB-99FA2B5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9A84-6E38-44F0-8A2B-ABFFA9D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A579-BB39-45DA-BC4F-94B9EB8A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D13B-8449-419B-9B8E-CB6E0A92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0F46-45FD-482B-9230-14460BD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EC8-24D6-48DB-A0CB-0C4C8E7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8AE-5D25-4261-A1D7-BDEC51B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2673-F0D0-427A-BD80-339A658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9291-3521-47B8-9425-AE280AD9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F9B3-0C35-4C5F-B728-3FD02FCB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80D2-200B-46A3-8F28-40EC5219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B1F-A06F-4947-B005-116CEE8F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65A-4162-492A-B839-8DA2C3D7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B11-41FF-4FDF-9BE0-8E57637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064-2ECB-4E63-ADB6-E19AC700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C29-C272-4BFB-A70F-A5D5B69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AA2-86DB-4F92-ACBC-009FA3E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07F-96D3-422E-B607-4766655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0349-4EA7-4755-9B5E-EC91D7081D50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799E-ED91-4EB0-A9C8-272D6F3D92A5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ЕДПРИЯТИЕ КАК СУБЪЕКТ ХОЗЯЙСТВОВАН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РЕДПРИЯТИЕ И ПРЕДПРИНИМАТЕЛЬСТВО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ИДЫ ПРЕДПРИЯТ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ЪЕДИНЕНИЯ ПРЕДПРИЯТ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ТРУКТУРА ПРЕДПРИЯТ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721-A69C-4297-BA7B-C0C9C72F32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МАЛЫЕ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00000" y="1371600"/>
          <a:ext cx="7920000" cy="4394160"/>
        </p:xfrm>
        <a:graphic>
          <a:graphicData uri="http://schemas.openxmlformats.org/drawingml/2006/table">
            <a:tbl>
              <a:tblPr/>
              <a:tblGrid>
                <a:gridCol w="4219560"/>
                <a:gridCol w="3700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ОТРАСЛИ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ЧИСЛЕННОСТЬ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ПРОМЫШЛЕННОСТЬ,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ТРОИТЕЛЬСТВ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2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ДРУГИЕ ПРОИЗВОДСТВЕН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5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НАУКА И НАУЧНОЕ ОБСЛУЖИВАН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1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НЕПРОИЗВОДСТВЕН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2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РОЗНИЧНАЯ ТОРГОВЛ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>
                      <a:noFill/>
                    </a:lnB>
                    <a:solidFill>
                      <a:srgbClr val="fdfba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E9D-DAB7-4A0F-8821-2C547562D7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820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3.ОБЪЕДИНЕНИЯ ПРЕДПРИЯТИЙ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0756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РЕДПРИЯТИЯ ИМЕЮТ ПРАВО НА ДОБРОВОЛЬНЫХ НАЧАЛАХ ОБЪЕДИНЯТЬ СВОЮ ПРОИЗВОДСТВЕННУЮ, НАУЧНУЮ, КОММЕРЧЕСКУЮ И ДРУГИЕ ВИДЫ ДЕЯТЕЛЬНОСТ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 ЦЕЛЬЮ ОПТИМИЗАЦИИ ФУНКЦИОНИРОВАНИЯ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ОБЛЮДАЯ ТРЕБОВАНИЯ АНТИМОНОПОЛЬНОГО ЗАКОНОДАТЕЛЬСТВА (НЕ БОЛЕЕ 35% ОБЪЕМА ПРОИЗВОДСТВА И РЫНКА ОПРЕДЕЛЕННОГО ТОВАРА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357720"/>
            <a:ext cx="77724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d3f"/>
                </a:solidFill>
                <a:latin typeface="Arial"/>
              </a:rPr>
              <a:t>ЧЛЕНЫ ХОЗЯЙСТВЕННОГО ОБЪЕДИН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3716280"/>
            <a:ext cx="8388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ЮРИДИЧЕСКИЕ ЛИЦ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БСТВЕННИКИ ПЕРЕДАННОГО УЧРЕДИТЕЛЯМИ И ПРИОБРЕТЕННОГО СМОСТОЯТЕЛЬНО ИМУЩЕСТВ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СПОРЯЖАЮТСЯ ПРИБЫЛЬЮ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ЕЯТЕЛЬНОСТЬ,  НЕ ЗАПРЕЩЕННАЯ ЗАКОНОМ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СУТ ОТВЕТСТВЕННОСТЬ В СООТВЕТСТВИИ С ДОГОВОРАМ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E36-EFE0-4303-A2E6-93C8B2B97D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ОБЪЕДИНЕНИЯ ПРЕДПРИЯТИЙ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828800"/>
            <a:ext cx="3733920" cy="1143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ДОГОВОРНЫ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3733920" cy="1143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УСТАВНЫ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505320"/>
            <a:ext cx="3048120" cy="53316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АССОЦИ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4495680"/>
            <a:ext cx="3048120" cy="53352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РПОР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581280"/>
            <a:ext cx="3200400" cy="60984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НСОРЦИУ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572000"/>
            <a:ext cx="3048120" cy="68580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НЦЕР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971800"/>
            <a:ext cx="0" cy="53352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2971800"/>
            <a:ext cx="0" cy="160020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3048120"/>
            <a:ext cx="0" cy="53316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3048120"/>
            <a:ext cx="0" cy="152388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endCxn id="148" idx="0"/>
          </p:cNvCxnSpPr>
          <p:nvPr/>
        </p:nvCxnSpPr>
        <p:spPr>
          <a:xfrm flipH="1">
            <a:off x="2704680" y="1142640"/>
            <a:ext cx="2248560" cy="68652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endCxn id="149" idx="0"/>
          </p:cNvCxnSpPr>
          <p:nvPr/>
        </p:nvCxnSpPr>
        <p:spPr>
          <a:xfrm>
            <a:off x="4952880" y="1142640"/>
            <a:ext cx="1867680" cy="76284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35B-8CB6-4717-96AA-2D844CA38F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ДОГОВОРНЫЕ </a:t>
            </a:r>
            <a:br>
              <a:rPr sz="4000"/>
            </a:b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ОБЪЕДИНЕНИЯ  ПРЕДПРИЯТИ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СУЩЕСТВЛЯЕТ КООРДИНАЦИЮ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ТДЕЛЬНЫХ ВИДОВ ДЕЯТЕЛЬНОСТИ СУБЪЕКТОВ ХОЗЯЙСТВОВАН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БЕЗ ВМЕШАТЕЛЬСТВА В ОСНОВНУЮ ПРОИЗВОДСТВЕННУЮ И КОММЕРЧЕСКУЮ ДЕЯТЕЛЬНОСТЬ ЕЕ УЧАСТНИК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14800" y="22096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ЕДПОЛАГАЕТ ДЕЛЕГИРОВАНИЕ ОТДЕЛЬНЫХ ПОЛНОМОЧИЙ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ЛЯ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ЦЕНТРАЛИЗОВАННОГО РЕГУЛИРОВАН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ЕЯТЕЛЬОСТИ ЧЛЕНОВ ОБЪЕДИН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ПРОИЗВОДСТВЕННОЙ, НАУЧНОЙ, КОММЕРЧЕСКО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5560" y="1375560"/>
            <a:ext cx="291636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АССОЦИА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6560" y="1375560"/>
            <a:ext cx="284940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КОРПОРА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2"/>
            <a:endCxn id="163" idx="0"/>
          </p:cNvCxnSpPr>
          <p:nvPr/>
        </p:nvCxnSpPr>
        <p:spPr>
          <a:xfrm flipH="1">
            <a:off x="2832840" y="1142640"/>
            <a:ext cx="2120040" cy="229320"/>
          </a:xfrm>
          <a:prstGeom prst="straightConnector1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2"/>
            <a:endCxn id="164" idx="0"/>
          </p:cNvCxnSpPr>
          <p:nvPr/>
        </p:nvCxnSpPr>
        <p:spPr>
          <a:xfrm>
            <a:off x="4952880" y="1142640"/>
            <a:ext cx="1890000" cy="229320"/>
          </a:xfrm>
          <a:prstGeom prst="straightConnector1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294-65E5-40CC-942A-28471F1110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УСТАВНЫЕ</a:t>
            </a:r>
            <a:r>
              <a:rPr b="0" lang="ru-RU" sz="4400" spc="-1" strike="noStrike">
                <a:solidFill>
                  <a:srgbClr val="fffd3f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ОБЪЕДИНЕНИЯ ПРЕДПРИЯТИ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РЕМЕННЫЕ ОБЪЕДИНЕНИЯ ПРОМЫШЛЕННОГО И БАНКОВСКОГО КАПИТАЛА ДЛЯ ДОСТИЖЕНИЯ ОПРЕДЕЛЕННОЙ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ЦЕ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19360" y="228564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ЕДПОЛАГАЕТ ПОЛНУЮ ФИНАНСОВУЮ ЗАВИСИМОСТЬ СУБЪЕКТОВ ПРЕДПРИНИМАТЕЛЬСТВА, ВХОДЯЩИХ В ОБЪЕДИНЕНИЕ,  ОТ ОДНОГО ИЛИ ГРУППЫ ПРЕДПРИЯТ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0600" y="1451880"/>
            <a:ext cx="287352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КОНСОРЦИУ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8680" y="1451880"/>
            <a:ext cx="201708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КОНЦЕР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7" idx="2"/>
            <a:endCxn id="170" idx="0"/>
          </p:cNvCxnSpPr>
          <p:nvPr/>
        </p:nvCxnSpPr>
        <p:spPr>
          <a:xfrm flipH="1">
            <a:off x="2908440" y="1142640"/>
            <a:ext cx="2349720" cy="30564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7" idx="2"/>
            <a:endCxn id="171" idx="0"/>
          </p:cNvCxnSpPr>
          <p:nvPr/>
        </p:nvCxnSpPr>
        <p:spPr>
          <a:xfrm>
            <a:off x="5257800" y="1142640"/>
            <a:ext cx="1931040" cy="30564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334-8B27-4499-92AB-F30D592AA7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ОБЪЕДИНЕНИЯ. </a:t>
            </a: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РАЗЛИЧИЯ В   ЦЕНТРАЛИЗАЦИИ</a:t>
            </a:r>
            <a:r>
              <a:rPr b="1" lang="ru-RU" sz="4400" spc="-1" strike="noStrike">
                <a:solidFill>
                  <a:srgbClr val="fffd3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УПРАВЛЕНИЯ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АССОЦИА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ООРДИНИРУЮТ ОТДЕЛЬНЫЕ ЗАДАЧИ, ВЫПОЛНЯЮТ НЕОСНОВНЫЕ ФУНКЦИИ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ОГРАНИЧЕННЫЕ СВЯЗИ – НЕВОЗМОЖНОСТЬ ОТВЕТСТВЕННОСТИ ПО  СОВМЕСТНЫМ ДОЛГ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КОРПОРАЦИЯ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ОЖЕТ БЫТЬ ОРГАН УПРАВЛЕНИЯ – ЦЕНТР КООРДИНАЦИИ, ИНФОРМАЦИИ, АККУМУЛЯЦИИ СРЕДСТ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ПОЛНЯЕТ ДОБРОВОЛЬНО ПЕРЕДАННЫЕ ДЕЙСТВ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КОНЦЕРН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ЭКОНОМИЧЕСКАЯ ЗАВИСИМОСТЬ ОГРАНИЧИВАЕТ ВОЗМОЖНОСТЬ ВЫХОД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9AF-0985-4F2D-9D33-606A9CBA64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ФИНАНСОВО-ПРОМЫШЛЕННЫЕ ГРУППЫ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893080" cy="230364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"/>
              </a:rPr>
              <a:t>ДОЛЖНЫ СПОСОБСТВОВАТЬ РАЗВИТИЮ ПРИОРИТЕТНЫХ ОТРАСЛЕЙ ПРОИЗВОДСТВА НА БАЗЕ СТРУКТУРНОЙ ПЕРЕСТРОЙКИ ПРОИЗВОДСТВА, ОБЕСПЕЧИВАЮЩЕЙ ИЗГОТОВЛЕНИЕ  ПРОДУКЦИИ, ИМЕЮЩЕЙ КОНЕЧНЫХ ПОТРЕБИТЕЛЕЙ , В ТОМ ЧИСЛЕ ПО МЕЖДУНАРОДНЫМ ДОГОВОРА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71592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ГЛАВНОЕ ПРЕДПРИЯТИЕ ИЗГОТАВЛИВАЕТ КОНЕЧНУЮ ПРОДУКЦИЮ, СБЫВАЕТ ЕЕ, УПЛАЧИВАЕТ НАЛОГИ В УКРАИНЕ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СОСТАВЕ ПРОМЫШЛЕННЫЕ И СЕЛЬХОЗПРЕДПРИЯТИЯ, БАНКИ, НАУЧНЫЕ И ПРОЕКТНЫЕ ОРГАНИЗАЦИИ, ДР., ПРОИЗВОДЯЩИЕ ПРОДУКЦИЮ И УСЛУГИ ДЛЯ ГЛАВНОГО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ЦЕЛЬ- ПОЛУЧЕНИЕ ПРИБЫЛИ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ТРОИТСЯ ПО РЕГИОНАЛЬНОМУ ПРИЗНАК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Закон «О ФПГ в Украине»,1996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DA0-73B7-45ED-9D53-1EB2F1504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ХОЛДИНГОВАЯ КОМПАН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236232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"/>
              </a:rPr>
              <a:t>ХОЗЯЙСТВУЮЩИЙ СУБЪЕКТ, ВЛАДЕЮЩИЙ КОНТРОЛЬНЫМИ ПАКЕТАМИ АКЦИЙ ИНЫХ, ОДНОГО ИЛИ БОЛЕЕ ХОЗЯЙСТВУЮЩИХ СУБЪЕКТОВ, КОТОРЫЕ ДАЮТ ЕЙ ПРАВО ОСУЩЕСТВЛЯТЬ ФАКТИЧЕСКИЙ КОНТРОЛЬ ЗА НИМ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40384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ОСНОВЕ – ДОБРОВОЛЬНОСТЬ ОБЪЕДИНЕНИЯ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ОХРАНЯЕТСЯ ЮРИДИЧЕСКАЯ САМОСТОЯТЕЛЬНОСТЬ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ОЗДАЕТСЯ ПОГЛОЩЕНИЕМ ОДНОГО СУБЪЕКТА ДРУГИ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5D6-E1D4-4C0B-B457-A5F7BC4D4F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268280"/>
            <a:ext cx="8640720" cy="439272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9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4.</a:t>
            </a:r>
            <a:r>
              <a:rPr b="1" lang="en-US" sz="4000" spc="-1" strike="noStrike">
                <a:solidFill>
                  <a:srgbClr val="fffd3f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ТРУКТУРА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341360"/>
            <a:ext cx="85262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ЕГО ВНУТРЕННЕЕ УСТРОЙСТВО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ХАРАКТЕРИЗУЮЩЕ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СОСТАВ ПОДРАЗДЕЛЕНИ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ФОРМЫ ИХ ПОСТРОЕНИЯ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РАЗМЕРЫ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КОЛИЧЕСТВЕННЫЕ СООТНОШЕНИЯ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СИСТЕМЫ СВЯЗЕ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ПОДЧИНЕННОСТЬ И ВЗАИМОДЕЙСТВ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9EA-7F7B-48A3-84DB-E8AB3C7FF3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ФАКТОРЫ, ВЛИЯЮЩИЕ НА ПРОИЗВОДСТВЕННУЮ СТРУКТУРУ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ХАРАКТЕР ВЫПУСКАЕМОЙ ПРОДУКЦИИ И МЕТОДЫ ЕЕ ИЗГОТОВЛЕНИ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ХАРАКТЕР ПРОИЗВОДСТВЕННОГО ПРОЦЕСС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АСШТАБЫ ПРОИЗВОДСТВ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ПЕЦИАЛИЗАЦИЯ И КООПЕРИРОВАНИЕ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ТЕПЕНЬ ОХВАТА СТАДИЙ ЖИЗНЕННОГО ЦИКЛА ИЗДЕЛИ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ЗМЕЩЕНИЕ ПРЕДПРИЯТИЙ (РАЗВИТЫЙ, ОСВАИВАЕМЫЙ РАЙОН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1DD-8514-4212-B360-C03EB4C5A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989000"/>
            <a:ext cx="8642520" cy="345780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772400" cy="117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1.ПРЕДПРИЯТИЕ И ПРЕДПРИНИМАТЕЛЬСТВО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2060280"/>
            <a:ext cx="883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САМОСТОЯТЕЛЬНЫ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ХОЗЯЙСТВУЮЩИЙ УСТАВНОЙ ОБЪЕКТ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ИМЕЕТ ПРАВА ЮРИДИЧЕСКОГО ЛИЦ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ОСУЩЕСТВЛЯЕТ ПРОИЗВОДСТВЕННУЮ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НАУЧНО-ИССЛЕДОВАТЕЛЬСКУЮ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КОММЕРЧЕСКУЮ ДЕЯТЕЛЬНОС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С ЦЕЛЬЮ ПОЛУЧЕНИЯ ПРИБЫЛИ.</a:t>
            </a: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661000"/>
            <a:ext cx="8748720" cy="720720"/>
          </a:xfrm>
          <a:prstGeom prst="rect">
            <a:avLst/>
          </a:prstGeom>
          <a:solidFill>
            <a:srgbClr val="555bad"/>
          </a:solidFill>
          <a:ln w="9360">
            <a:solidFill>
              <a:srgbClr val="ff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ebd189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ba1"/>
                </a:solidFill>
                <a:latin typeface="Arial Narrow"/>
              </a:rPr>
              <a:t>Закон Украины «Про</a:t>
            </a:r>
            <a:r>
              <a:rPr b="1" lang="uk-UA" sz="2800" spc="-1" strike="noStrike">
                <a:solidFill>
                  <a:srgbClr val="fdfba1"/>
                </a:solidFill>
                <a:latin typeface="Arial Narrow"/>
              </a:rPr>
              <a:t> підприємства в Україні” от 27.01.9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1268280"/>
            <a:ext cx="3743640" cy="71136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ПРЕДПРИЯТ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57C-9088-40F8-A5AE-7DAF130F48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СТРУКТУРНО- ЛОГИЧЕСКАЯ СХЕМА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752480"/>
          <a:ext cx="8305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05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384-0B42-41F9-9D4C-60D6D6A081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ЭЛЕМЕНТЫ ПРОСТРАНСТВЕННОЙ ОРГАНИЗАЦИИ ПРОИЗВОДСТВА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57480" y="1371600"/>
            <a:ext cx="6629400" cy="4914720"/>
            <a:chOff x="1257480" y="1371600"/>
            <a:chExt cx="6629400" cy="4914720"/>
          </a:xfrm>
        </p:grpSpPr>
        <p:sp>
          <p:nvSpPr>
            <p:cNvPr id="192" name="Pyr1"/>
            <p:cNvSpPr/>
            <p:nvPr/>
          </p:nvSpPr>
          <p:spPr>
            <a:xfrm>
              <a:off x="3837240" y="1371600"/>
              <a:ext cx="1486080" cy="10893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Pyr2"/>
            <p:cNvSpPr/>
            <p:nvPr/>
          </p:nvSpPr>
          <p:spPr>
            <a:xfrm>
              <a:off x="2976840" y="2460960"/>
              <a:ext cx="3198960" cy="1278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Pyr3"/>
            <p:cNvSpPr/>
            <p:nvPr/>
          </p:nvSpPr>
          <p:spPr>
            <a:xfrm>
              <a:off x="2125800" y="3738960"/>
              <a:ext cx="4900680" cy="12762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Pyr4"/>
            <p:cNvSpPr/>
            <p:nvPr/>
          </p:nvSpPr>
          <p:spPr>
            <a:xfrm>
              <a:off x="1257480" y="5008680"/>
              <a:ext cx="6629400" cy="1277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ПРЕДПРИ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ЦЕХ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</a:t>
            </a: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КОРПУС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УЧАСТКИ, СЛУЖБ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РАБОЧИЕ МЕС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24280" y="2438280"/>
            <a:ext cx="533520" cy="1295640"/>
          </a:xfrm>
          <a:prstGeom prst="line">
            <a:avLst/>
          </a:prstGeom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D60-7B8C-4EED-95D4-86C486EC48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ЛАНИРОВК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ГЕНЕРАЛЬНЫЙ ПЛАН ПРЕДПРИЯТИЯ –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графическое изображение территории со всеми зданиями, сооружениями, коммуникациями, путями сообщения, привязанными к местност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120" y="400500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ЛАНИРОВКА ЦЕХА, УЧАСТКА, СЛУЖБ ПРЕДПРИЯТИЯ –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лан размещения помещений, строительных элементов, оборудования и рабочих мес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0DD-4B0D-42FF-9B16-9FF41F718B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ab40"/>
                </a:solidFill>
                <a:latin typeface="Arial"/>
              </a:rPr>
              <a:t>ТИПЫ ПРОИЗВОДСТВА</a:t>
            </a: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76040" y="3051360"/>
            <a:ext cx="3601440" cy="1069200"/>
          </a:xfrm>
          <a:prstGeom prst="flowChartPredefinedProcess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ЕРИЙ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(ВАРИАНТНО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1440" y="1364760"/>
            <a:ext cx="2881080" cy="1328400"/>
          </a:xfrm>
          <a:prstGeom prst="flowChartInternalStorage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ЕДИНИЧ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(ШТУЧНО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4724280"/>
            <a:ext cx="3505320" cy="1447920"/>
          </a:xfrm>
          <a:prstGeom prst="flowChartMultidocument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МАССОВ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1" idx="2"/>
            <a:endCxn id="204" idx="0"/>
          </p:cNvCxnSpPr>
          <p:nvPr/>
        </p:nvCxnSpPr>
        <p:spPr>
          <a:xfrm flipH="1">
            <a:off x="2341080" y="990720"/>
            <a:ext cx="2612160" cy="38160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1" idx="2"/>
            <a:endCxn id="203" idx="0"/>
          </p:cNvCxnSpPr>
          <p:nvPr/>
        </p:nvCxnSpPr>
        <p:spPr>
          <a:xfrm flipH="1">
            <a:off x="3776040" y="990360"/>
            <a:ext cx="1176840" cy="205776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1" idx="2"/>
            <a:endCxn id="205" idx="0"/>
          </p:cNvCxnSpPr>
          <p:nvPr/>
        </p:nvCxnSpPr>
        <p:spPr>
          <a:xfrm>
            <a:off x="4952520" y="990360"/>
            <a:ext cx="1753560" cy="373428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568-5213-4A4D-834F-4BB4B46FFC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ab40"/>
                </a:solidFill>
                <a:latin typeface="Arial"/>
              </a:rPr>
              <a:t>СТРУКТУРА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9560" y="1487880"/>
            <a:ext cx="396036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РОИЗВОДСТВЕН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62480" y="2352960"/>
            <a:ext cx="37393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РГАНИЗАЦИОН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484280"/>
            <a:ext cx="2666880" cy="58896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36147" dir="2700000" blurRad="0" rotWithShape="0">
              <a:srgbClr val="fffd3f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БЩ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2"/>
            <a:endCxn id="210" idx="0"/>
          </p:cNvCxnSpPr>
          <p:nvPr/>
        </p:nvCxnSpPr>
        <p:spPr>
          <a:xfrm>
            <a:off x="4952880" y="1066680"/>
            <a:ext cx="1967760" cy="41832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9" idx="2"/>
            <a:endCxn id="212" idx="0"/>
          </p:cNvCxnSpPr>
          <p:nvPr/>
        </p:nvCxnSpPr>
        <p:spPr>
          <a:xfrm flipH="1">
            <a:off x="1583640" y="1066680"/>
            <a:ext cx="3369240" cy="41832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9" idx="2"/>
            <a:endCxn id="211" idx="0"/>
          </p:cNvCxnSpPr>
          <p:nvPr/>
        </p:nvCxnSpPr>
        <p:spPr>
          <a:xfrm flipH="1">
            <a:off x="4431960" y="1066320"/>
            <a:ext cx="521280" cy="128340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038560" y="3500280"/>
            <a:ext cx="4105440" cy="2376720"/>
          </a:xfrm>
          <a:prstGeom prst="rect">
            <a:avLst/>
          </a:prstGeom>
          <a:solidFill>
            <a:srgbClr val="555bad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СТЕМА УПРАВЛЕНИЯ, ОБЕСПЕЧИВАЮЩАЯ ВЫПОЛНЕНИЕ ОСНОВНЫХ  ПРОИЗВОДСТВЕННЫХ ФУНКЦИЙ: стратегия; маркетинг; финансы; кадры; инновации; други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213000"/>
            <a:ext cx="4392360" cy="2448000"/>
          </a:xfrm>
          <a:prstGeom prst="rect">
            <a:avLst/>
          </a:prstGeom>
          <a:solidFill>
            <a:srgbClr val="555bad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ИЗВОДСТВЕННАЯ СТРУКТУР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АППАРАТ УПРАВЛЕНИЯ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ЪЕКТЫ СОЦИАЛЬНО-БЫТОВОГО НАЗНАЧЕНИЯ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РУГИЕ НЕПРОИЗВОДСТВЕННЫЕ ПОДРАЗДЕЛЕ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2"/>
            <a:endCxn id="216" idx="0"/>
          </p:cNvCxnSpPr>
          <p:nvPr/>
        </p:nvCxnSpPr>
        <p:spPr>
          <a:xfrm>
            <a:off x="4432320" y="2937960"/>
            <a:ext cx="2659680" cy="56268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2"/>
            <a:endCxn id="217" idx="0"/>
          </p:cNvCxnSpPr>
          <p:nvPr/>
        </p:nvCxnSpPr>
        <p:spPr>
          <a:xfrm>
            <a:off x="1584000" y="2073240"/>
            <a:ext cx="864360" cy="114048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838-ABB7-4654-9177-EEF86FFA43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ab40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05680" y="2989080"/>
            <a:ext cx="4007880" cy="187056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36147" dir="2700000" blurRad="0" rotWithShape="0">
              <a:srgbClr val="fffd3f"/>
            </a:outerShdw>
          </a:effectLst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ПРЕДЕЛЯЕТСЯ ПОДРАЗДЕЛЕНИЕМ В ОСНОВЕ ПОСТРО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560" y="3634200"/>
            <a:ext cx="18511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ОВ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11800" y="1984680"/>
            <a:ext cx="25534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БЕСЦЕХОВ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720" y="3661200"/>
            <a:ext cx="22777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РПУС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0560" y="5261400"/>
            <a:ext cx="30124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МБИНАТСК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d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B46-12CB-406B-AE8C-8B3C258473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71600" y="1878120"/>
            <a:ext cx="6248520" cy="2770200"/>
          </a:xfrm>
          <a:prstGeom prst="downArrowCallout">
            <a:avLst>
              <a:gd name="adj1" fmla="val 19363"/>
              <a:gd name="adj2" fmla="val 65674"/>
              <a:gd name="adj3" fmla="val 31750"/>
              <a:gd name="adj4" fmla="val 53523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А ПО ВИДУ УЧАСТИЯ В ПРОИЗВОДСТВЕННОМ ПРОЦЕСС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5800" y="3813480"/>
            <a:ext cx="22168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СНОВ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0640" y="3889800"/>
            <a:ext cx="38368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ВСПОМОГАТЕЛЬ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575600"/>
            <a:ext cx="4724280" cy="155628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БСЛУЖИВАЮЩ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(ПРОИЗВОДСТВЕННАЯ ИНФРАСТРУКТУРА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493-A70B-4E73-9BE5-7579127A46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09480" y="1693800"/>
            <a:ext cx="8534520" cy="1603080"/>
          </a:xfrm>
          <a:prstGeom prst="downArrowCallout">
            <a:avLst>
              <a:gd name="adj1" fmla="val -108042"/>
              <a:gd name="adj2" fmla="val 133096"/>
              <a:gd name="adj3" fmla="val 16667"/>
              <a:gd name="adj4" fmla="val 66667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Т НАЛИЧИЯ И ПОЛНОТЫ ОХВАТА ОСНОВНЫХ И ВСПОМОГАТЕЛЬНЫХ ПРОЦЕСС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124080"/>
            <a:ext cx="3886200" cy="22878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МПЛЕКСНАЯ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ВЕСЬ КОМПЛЕКС ОСНОВНЫХ И ВСПОМОГАТЕЛЬНЫХ ЦЕХ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124080"/>
            <a:ext cx="3200400" cy="22860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ПЕЦИАЛИЗИРО-ВАННАЯ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ТОЛЬКО ЧАС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5AC-3E98-4D7C-9E81-0A7C8FC529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19320" y="1968480"/>
            <a:ext cx="7391160" cy="3065040"/>
          </a:xfrm>
          <a:prstGeom prst="downArrowCallout">
            <a:avLst>
              <a:gd name="adj1" fmla="val 60291"/>
              <a:gd name="adj2" fmla="val 60286"/>
              <a:gd name="adj3" fmla="val 16667"/>
              <a:gd name="adj4" fmla="val 66667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СПОСОБУ ОРГАНИЗАЦИИ ПРОИЗВОДСТВА В ПРОСТРАНСТВЕ 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5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ПУТИ ИЗДЕЛ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5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РАСПОЛОЖЕНИЮ РАБОЧИХ МЕ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724280"/>
            <a:ext cx="2895840" cy="11430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ТОЧНЫ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21120" y="4761360"/>
            <a:ext cx="2654280" cy="106884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ОВЫЙ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НЕПОТОЧНЫ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B0B-CACA-4E7A-B97B-A17CBFF4C8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828800" y="2192400"/>
            <a:ext cx="4946760" cy="3010680"/>
          </a:xfrm>
          <a:custGeom>
            <a:avLst/>
            <a:gdLst>
              <a:gd name="textAreaLeft" fmla="*/ 794160 w 4946760"/>
              <a:gd name="textAreaRight" fmla="*/ 4152600 w 4946760"/>
              <a:gd name="textAreaTop" fmla="*/ 483480 h 3010680"/>
              <a:gd name="textAreaBottom" fmla="*/ 2527200 h 3010680"/>
            </a:gdLst>
            <a:ahLst/>
            <a:rect l="textAreaLeft" t="textAreaTop" r="textAreaRight" b="textAreaBottom"/>
            <a:pathLst>
              <a:path w="21600" h="21600">
                <a:moveTo>
                  <a:pt x="3469" y="3469"/>
                </a:moveTo>
                <a:lnTo>
                  <a:pt x="8840" y="3469"/>
                </a:lnTo>
                <a:lnTo>
                  <a:pt x="8840" y="2705"/>
                </a:lnTo>
                <a:lnTo>
                  <a:pt x="6761" y="2705"/>
                </a:lnTo>
                <a:lnTo>
                  <a:pt x="10800" y="0"/>
                </a:lnTo>
                <a:lnTo>
                  <a:pt x="14839" y="2705"/>
                </a:lnTo>
                <a:lnTo>
                  <a:pt x="12760" y="2705"/>
                </a:lnTo>
                <a:lnTo>
                  <a:pt x="12760" y="3469"/>
                </a:lnTo>
                <a:lnTo>
                  <a:pt x="18131" y="3469"/>
                </a:lnTo>
                <a:lnTo>
                  <a:pt x="18131" y="8840"/>
                </a:lnTo>
                <a:lnTo>
                  <a:pt x="18895" y="8840"/>
                </a:lnTo>
                <a:lnTo>
                  <a:pt x="18895" y="6761"/>
                </a:lnTo>
                <a:lnTo>
                  <a:pt x="21600" y="10800"/>
                </a:lnTo>
                <a:lnTo>
                  <a:pt x="18895" y="14839"/>
                </a:lnTo>
                <a:lnTo>
                  <a:pt x="18895" y="12760"/>
                </a:lnTo>
                <a:lnTo>
                  <a:pt x="18131" y="12760"/>
                </a:lnTo>
                <a:lnTo>
                  <a:pt x="18131" y="18131"/>
                </a:lnTo>
                <a:lnTo>
                  <a:pt x="12760" y="18131"/>
                </a:lnTo>
                <a:lnTo>
                  <a:pt x="12760" y="18895"/>
                </a:lnTo>
                <a:lnTo>
                  <a:pt x="14839" y="18895"/>
                </a:lnTo>
                <a:lnTo>
                  <a:pt x="10800" y="21600"/>
                </a:lnTo>
                <a:lnTo>
                  <a:pt x="6761" y="18895"/>
                </a:lnTo>
                <a:lnTo>
                  <a:pt x="8840" y="18895"/>
                </a:lnTo>
                <a:lnTo>
                  <a:pt x="8840" y="18131"/>
                </a:lnTo>
                <a:lnTo>
                  <a:pt x="3469" y="18131"/>
                </a:lnTo>
                <a:lnTo>
                  <a:pt x="3469" y="12760"/>
                </a:lnTo>
                <a:lnTo>
                  <a:pt x="2705" y="12760"/>
                </a:lnTo>
                <a:lnTo>
                  <a:pt x="2705" y="14839"/>
                </a:lnTo>
                <a:lnTo>
                  <a:pt x="0" y="10800"/>
                </a:lnTo>
                <a:lnTo>
                  <a:pt x="2705" y="6761"/>
                </a:lnTo>
                <a:lnTo>
                  <a:pt x="2705" y="8840"/>
                </a:lnTo>
                <a:lnTo>
                  <a:pt x="3469" y="8840"/>
                </a:lnTo>
                <a:close/>
              </a:path>
            </a:pathLst>
          </a:cu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А ПО СТАДИЯМ ПРОИЗВОДСТВА ПРОДУ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432600"/>
            <a:ext cx="244476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БОРОЧ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1676520"/>
            <a:ext cx="3733920" cy="6858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ЗАГОТОВИТЕЛЬ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8440" y="5109120"/>
            <a:ext cx="37864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БРАБАТЫВАЮЩ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03800" y="3432600"/>
            <a:ext cx="30337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ВЫПУСКАЮЩ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361-F2F9-440B-A777-77E2A36446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3f"/>
                </a:solidFill>
                <a:latin typeface="Arial"/>
              </a:rPr>
              <a:t>ПРЕДПРИЯТ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СНОВНОЕ ОРГАНИЗАЦИОННОЕ ЗВЕНО ЭКОНОМИКИ УКРАИН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МЕЕТ САМОСТОЯТЕЛЬНЫЙ БАЛАНС, РАСЧЕТНЫЙ И ДРУГИЕ СЧЕТА В БАНКАХ, ПЕЧАТЬ, ТОВАРНЫЙ ЗНАК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ИМЕЕТ В СВОЕМ СОСТАВЕ ДРУГИЕ ЮРИДИЧЕСКИЕ ЛИЦ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ОЗДАНО СО ДНЯ ГОСРЕГИСТРА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ЕЯТЕЛЬНОСТЬ НА ОСНОВЕ ПРЕДПРИНИМАТЕЛЬСТВ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A2D-8F47-4043-B8FF-1632F62C3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28800" y="1676520"/>
            <a:ext cx="6095880" cy="2895480"/>
          </a:xfrm>
          <a:prstGeom prst="downArrowCallout">
            <a:avLst>
              <a:gd name="adj1" fmla="val 24896"/>
              <a:gd name="adj2" fmla="val 52633"/>
              <a:gd name="adj3" fmla="val 24458"/>
              <a:gd name="adj4" fmla="val 43917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ФОРМЕ СПЕЦИАЛИЗАЦИИ ОСНОВНЫХ ЦЕХ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584880"/>
            <a:ext cx="38098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ТЕХНОЛОГИЧЕСК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3661200"/>
            <a:ext cx="342900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РЕДМЕТ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63800" y="4586760"/>
            <a:ext cx="246060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МЕШАН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B88-16B6-4F7E-AEAB-4FD7B8E013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3573360"/>
            <a:ext cx="8964720" cy="251964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8381880" cy="237672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ПРЕДПРИНИМАТЕЛЬСТВО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068640"/>
            <a:ext cx="5724720" cy="720720"/>
          </a:xfrm>
          <a:prstGeom prst="rect">
            <a:avLst/>
          </a:prstGeom>
          <a:solidFill>
            <a:srgbClr val="555bad"/>
          </a:solidFill>
          <a:ln w="9360">
            <a:solidFill>
              <a:srgbClr val="ff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Narrow"/>
              </a:rPr>
              <a:t>Закон Украины «О предпринимательстве» от 26.02.1991г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07920"/>
            <a:ext cx="82296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Е ЗАПРЕЩЕННАЯ ЗАКОНОМ  САМОСТОЯТЕЛЬНАЯ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А СОБСТВЕННЫЙ РИСК  ДЕЯТЕЛЬНОСТЬ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ПО ПРОИЗВОДСТВУ ПРОДУКЦИИ, ВЫПОЛНЕНИЮ РАБОТ, ОКАЗАНИЮ УСЛУГ И ТОРГОВЛЕ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С ЦЕЛЬЮ ПОЛУЧЕНИЯ ПРИБЫЛИ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А ОСНОВЕ УДОВЛЕТВОРЕНИЯ ПОТРЕБНОСТЕЙ КОНКРЕТНЫХ ПОТРЕБИТЕЛЕ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716280"/>
            <a:ext cx="88930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Е ОПОСРЕДОВАННАЯ САМОСТОЯТЕЛЬНАЯ, СИСТЕМАТИЧЕСКАЯ, НА СОБСТВЕННЫЙ РИСК ДЕЯТЕЛЬНОСТЬ ПО ПРОИЗВОДСТВУ ПРОДУКЦИИ, ВЫПОЛНЕНИЮ РАБОТ, ПРЕДОСТАВЛЕНИЮ УСЛУГ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С ЦЕЛЬЮ ПОЛУЧЕНИЯ ПРИБЫЛИ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ОСУЩЕСТВЛЯЕМАЯ ФИЗИЧЕСКИМИ И ЮРИДИЧЕСКИМИ ЛИЦАМИ, ЗАРЕГЕСТРИРОВАННЫМИ КАК СУБЪЕКТЫ ПРЕДПРИНИМАТЕЛЬСКОЙ ДЕЯТЕЛЬНОСТИ В ПОРЯДКЕ, УСТАНОВЛЕНОМ ЗАКОНОДАТЕЛЬСТВОМ.</a:t>
            </a:r>
            <a:r>
              <a:rPr b="0" lang="ru-RU" sz="32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37280"/>
            <a:ext cx="7091280" cy="720720"/>
          </a:xfrm>
          <a:prstGeom prst="rect">
            <a:avLst/>
          </a:prstGeom>
          <a:solidFill>
            <a:srgbClr val="555bad"/>
          </a:solidFill>
          <a:ln w="9360">
            <a:solidFill>
              <a:srgbClr val="ff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Narrow"/>
              </a:rPr>
              <a:t>Изменения к Закону Украины «О предпринимательстве» от 22.02.2000г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F0B-E11E-4FAA-8B15-2FD192D2C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ПРИНЦИПЫ ПРЕДПРИНИМАТЕЛЬСКОЙ ДЕЯТЕЛЬНОСТИ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125360"/>
            <a:ext cx="9396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ободный на собственный риск выбор видов деятельност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амостоятельное формирование программы деятельности , выбор поставщиков и потребителей, установление цен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ивлечение на добровольных началах имущества и средств других граждан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ободный наем работников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ивлечение и использование материально-технических, трудовых, природных и других ресурсов в соответствии с законодательств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ободное распоряжение прибылью после уплаты налогов и платеж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амостоятельное осуществление внешнеэкономической деятель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B7A-E6EB-4CCF-B9F1-22FD60787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15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СУБЪЕКТЫ ПРЕДПРИНИМАТЕЛЬСКОЙ ДЕЯТЕЛЬНОСТИ (предприниматели):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РАЖДАНЕ УКРАИНЫ И ДРУГИХ ГОСУДАРСТВ, НЕ ОГРАНИЧЕННЫЕ ЗАКОНОМ В ПРАВАХ ИЛИ ДЕЕСПОСОБНОСТ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ЮРИДИЧЕСКИЕ ЛИЦА ВСЕХ ФОРМ СОБСТВЕННОСТИ, ВВЕДЕННЫХ В УКРАИНЕ ЗАКОНОМ «О СОБСТВЕННОСТИ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ОСУЩЕСТВЛЯЮТ СВОЮ ДЕЯТЕЛЬНОСТЬ НА ОСНОВЕ СОЗДАНИЯ ДЛЯ ЭТИХ ЦЕЛЕЙ ПРЕДПРИЯТ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A45-9705-4E8B-A542-6F250BF47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8154720" cy="67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ФУНКЦИИ ПРЕДПРИНИМАТЕЛЯ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1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Берет  на себя инициативу соединения экономических ресурсов – земли, капитала, труда для производства товаров и услуг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ринимает решения по ведению бизнес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Новатор, вводящий новые продукты, технологии, формы организации бизнес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Человек, идущий на риск, рискует не только своим временем, трудом, деловой репутацией, но и средствами, своими и компаньон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CFE-8F5C-4640-9170-170193B496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059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ОГРАНИЧЕНИЯ ПО СОЗДАНИЮ ПРЕДПРИЯТИ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280" y="119700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Ы ДЕЯТЕЛЬНОСТИ, ПОДЛЕЖАЩИЕ ЛИЦЕНЗИРОВАНИЮ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ЗВЕДКА И ДОБЫЧА ПОЛЕЗНЫХ ИСКОПАЕМЫХ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ЕМОНТ ОРУЖ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ГОТОВЛЕНИЕ И РЕАЛИЗАЦИЯ МЕДИКАМЕНТОВ И ХИМИКАТОВ, АЛКОГОЛЬНЫХ И ТАБАЧНЫХ ИЗДЕЛИЙ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ЕДИЦИНСКАЯ ПРАКТИК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ДЕРЖАНИЕ ИГОРНЫХ ЗАВЕДЕНИ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ЗАПРЕТ НА ДЕЯТЕЛЬНОСТЬ В СВЯЗИ С ПОВЫШЕННЫМИ ТРЕБОВАНИЯМИ К БЕЗОПАСНОСТИ РАБОТ И НЕОБХОДИМОСТИ ЦЕНТРАЛИЗАЦИИ ФУНКЦИЙ УПРАВЛЕНИ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ГОТОВЛЕНИЕ И РЕАЛИЗАЦИЯ НАРКОТИКОВ, ОРУЖИЯ, ВЗРЫВЧАТЫХ ВЕЩЕСТ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ГОТОВЛЕНИЕ ЦЕННЫХ БУМАГ И ДЕНЕЖНЫХ ЗНАК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BC3-5D91-457F-95D3-B337E01A9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2.ВИДЫ ПРЕДПРИЯТИЙ</a:t>
            </a:r>
            <a:br>
              <a:rPr sz="3600"/>
            </a:b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О ФОРМЕ СОБСТВЕННОСТ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9240" y="1604160"/>
            <a:ext cx="314820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ИНДИВИДУАЛЬНОЕ</a:t>
            </a: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9640" y="1985040"/>
            <a:ext cx="186012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СЕМЕЙ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8320" y="2823480"/>
            <a:ext cx="161496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ЧАСТ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85920" y="3128040"/>
            <a:ext cx="259488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КОЛЛЕКТИВ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6720" y="4195080"/>
            <a:ext cx="583632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ГОСУДАРСТВЕННОЕ КОММУНАЛЬ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8080" y="4880880"/>
            <a:ext cx="278532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СОВМЕСТНОЕ С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320" y="5871240"/>
            <a:ext cx="774144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СОБСТВЕННОСТЬ ГРАЖДАН ДРУГИХ ГОСУДАРСТ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81480"/>
            <a:ext cx="5715000" cy="1191240"/>
          </a:xfrm>
          <a:prstGeom prst="wedgeRectCallout">
            <a:avLst>
              <a:gd name="adj1" fmla="val 62185"/>
              <a:gd name="adj2" fmla="val -48671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БАЗЕ ОБЪЕДИНЕНИЯ ИМУЩЕСТВА РАЗНЫХ СОБСТВЕННИКОВ, ТОМ ЧИСЛЕ ИНОСТРАННЫ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581280"/>
            <a:ext cx="6096240" cy="1191240"/>
          </a:xfrm>
          <a:prstGeom prst="wedgeRectCallout">
            <a:avLst>
              <a:gd name="adj1" fmla="val -1175"/>
              <a:gd name="adj2" fmla="val -135675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ЛИЧНОЙ СОБСТВЕННОСТИ И ТРУДЕ ГРАЖДАН УКРАИНЫ – ЧЛЕНОВ ОДНОЙ СЕМЬИ, ПРОЖИВАЮЩИХ ВМЕС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343400"/>
            <a:ext cx="5715000" cy="1191240"/>
          </a:xfrm>
          <a:prstGeom prst="wedgeRectCallout">
            <a:avLst>
              <a:gd name="adj1" fmla="val -32587"/>
              <a:gd name="adj2" fmla="val -120087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ЛИЧНОЙ СОБСТВЕННОСТИ ОТДЕЛЬНОГО ГРАЖДАНИНА УКРАИНЫ С ПРАВОМ НАЙМА РАБОЧЕЙ СИЛ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181480"/>
            <a:ext cx="6934320" cy="825480"/>
          </a:xfrm>
          <a:prstGeom prst="wedgeRectCallout">
            <a:avLst>
              <a:gd name="adj1" fmla="val -50379"/>
              <a:gd name="adj2" fmla="val -110763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 СОБСТВЕННОСТИ АДМИНИСТРАТИВНО-ТЕРРИТОРИАЛЬНЫХ ЕДИНИ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590920"/>
            <a:ext cx="5943600" cy="1191240"/>
          </a:xfrm>
          <a:prstGeom prst="wedgeRectCallout">
            <a:avLst>
              <a:gd name="adj1" fmla="val -49444"/>
              <a:gd name="adj2" fmla="val -96370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ЛИЧНОЙ СОБСТВЕННОСТИ ФИЗИЧЕСКОГО ЛИЦА И ИСКЛЮЧИТЕЛЬНО НА ЕГО ТРУД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114800"/>
            <a:ext cx="7391160" cy="1557000"/>
          </a:xfrm>
          <a:prstGeom prst="wedgeRectCallout">
            <a:avLst>
              <a:gd name="adj1" fmla="val 10305"/>
              <a:gd name="adj2" fmla="val -84277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4"/>
                </a:solidFill>
                <a:latin typeface="Arial Narrow"/>
              </a:rPr>
              <a:t>ОСНОВАНО НА СОБСТВЕННОСТИ ТРУДОВОГО КОЛЛЕКТИВА ПРЕДПРИЯТИЯ, КООПЕРАТИВА, ДРУГОГО УСТАВНОГО ОБЩЕСТВА, ОБЩЕСТВЕННОЙ, РЕЛИГИОЗНОЙ ОРГАНИЗАЦИИ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8A3-4E72-4DE0-94B9-D5B6B39056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2:43:33Z</dcterms:created>
  <dc:creator>в</dc:creator>
  <dc:description/>
  <dc:language>en-US</dc:language>
  <cp:lastModifiedBy>IRINA</cp:lastModifiedBy>
  <dcterms:modified xsi:type="dcterms:W3CDTF">2012-01-24T19:48:10Z</dcterms:modified>
  <cp:revision>27</cp:revision>
  <dc:subject/>
  <dc:title>ПРЕДПРИЯТИЕ КАК СУБЪЕКТ ХОЗЯЙСТВОВАНИЯ</dc:title>
</cp:coreProperties>
</file>