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392-C688-40C4-AFC3-073C126E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1B1-F89C-4727-8002-7D649979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B5E-18CA-41DE-B507-3202988A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2E4-AA54-41E9-BB53-8A7A709B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4F0-EABB-431E-9612-53F82BB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FF8B-1A5E-4D10-930D-790569FE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BA7-680C-4B28-8044-5435425D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AC28-C2E7-470E-B81F-A3A6EA8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029-DFB5-4C74-817F-B9E3DFC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2EC8-2E5D-4D77-83BD-C987F8B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A9E-61D9-47E3-8575-ECD16A9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F65-AB92-42DE-A076-5CBF726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AA73-0E64-49D6-8D0A-B6B28A1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B1A-5BFB-4B8B-B42D-0EB1010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91B-5550-4BCB-B03A-F637F01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DD13-9FC9-4E7F-8249-87E61AB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C1C-B42D-421B-9D18-07E5A756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46A-21C5-4705-B3C2-26545839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0B3-B3EA-422F-BA46-3FB297F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5DC-A406-4389-B25A-276C8FB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D52-DFB2-4038-A3E0-E36E129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48C-9415-4189-975F-1806F22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923-79C0-4202-918E-311C6806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DF3-E129-4310-B939-58AD65C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DC94-190A-4C59-8118-808D8535691F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DF9-F40E-43E3-BA2B-85487CDB7F45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ЕДПРИЯТИЕ КАК СУБЪЕКТ ХОЗЯЙСТВОВАН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РЕДПРИЯТИЕ И ПРЕДПРИНИМАТЕЛЬСТВО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ИДЫ ПРЕДПРИЯТ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ЪЕДИНЕНИЯ ПРЕДПРИЯТ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ТРУКТУРА ПРЕДПРИЯТ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E18-5681-4E35-86D1-96F6B44F6A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МАЛЫЕ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00000" y="1371600"/>
          <a:ext cx="7920000" cy="4394160"/>
        </p:xfrm>
        <a:graphic>
          <a:graphicData uri="http://schemas.openxmlformats.org/drawingml/2006/table">
            <a:tbl>
              <a:tblPr/>
              <a:tblGrid>
                <a:gridCol w="4219560"/>
                <a:gridCol w="3700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ОТРАСЛИ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ЧИСЛЕННОСТЬ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ПРОМЫШЛЕННОСТЬ,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СТРОИТЕЛЬСТВ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2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ДРУГИЕ ПРОИЗВОДСТВЕН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НАУКА И НАУЧНОЕ ОБСЛУЖИВАН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НЕПРОИЗВОДСТВЕН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2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 w="93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РОЗНИЧНАЯ ТОРГОВЛ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5760">
                      <a:solidFill>
                        <a:srgbClr val="00007a"/>
                      </a:solidFill>
                    </a:lnT>
                    <a:lnB w="5760">
                      <a:solidFill>
                        <a:srgbClr val="00007a"/>
                      </a:solidFill>
                    </a:lnB>
                    <a:solidFill>
                      <a:srgbClr val="fdfb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 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a"/>
                      </a:solidFill>
                    </a:lnL>
                    <a:lnR w="5760">
                      <a:solidFill>
                        <a:srgbClr val="00007a"/>
                      </a:solidFill>
                    </a:lnR>
                    <a:lnT w="9360">
                      <a:solidFill>
                        <a:srgbClr val="00007a"/>
                      </a:solidFill>
                    </a:lnT>
                    <a:lnB>
                      <a:noFill/>
                    </a:lnB>
                    <a:solidFill>
                      <a:srgbClr val="fdfba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4EC-895D-43E9-A9F5-0AB3FB3CA3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820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3.ОБЪЕДИНЕНИЯ ПРЕДПРИЯТИЙ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0756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ЕДПРИЯТИЯ ИМЕЮТ ПРАВО НА ДОБРОВОЛЬНЫХ НАЧАЛАХ ОБЪЕДИНЯТЬ СВОЮ ПРОИЗВОДСТВЕННУЮ, НАУЧНУЮ, КОММЕРЧЕСКУЮ И ДРУГИЕ ВИДЫ ДЕЯТЕЛЬНОСТ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 ЦЕЛЬЮ ОПТИМИЗАЦИИ ФУНКЦИОНИРОВАНИЯ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БЛЮДАЯ ТРЕБОВАНИЯ АНТИМОНОПОЛЬНОГО ЗАКОНОДАТЕЛЬСТВА (НЕ БОЛЕЕ 35% ОБЪЕМА ПРОИЗВОДСТВА И РЫНКА ОПРЕДЕЛЕННОГО ТОВАРА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357720"/>
            <a:ext cx="77724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d3f"/>
                </a:solidFill>
                <a:latin typeface="Arial"/>
              </a:rPr>
              <a:t>ЧЛЕНЫ ХОЗЯЙСТВЕННОГО ОБЪЕДИН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3716280"/>
            <a:ext cx="8388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ЮРИДИЧЕСКИЕ ЛИЦ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БСТВЕННИКИ ПЕРЕДАННОГО УЧРЕДИТЕЛЯМИ И ПРИОБРЕТЕННОГО СМОСТОЯТЕЛЬНО ИМУЩЕСТВ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СПОРЯЖАЮТСЯ ПРИБЫЛЬЮ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ЕЯТЕЛЬНОСТЬ,  НЕ ЗАПРЕЩЕННАЯ ЗАКОНОМ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ЕСУТ ОТВЕТСТВЕННОСТЬ В СООТВЕТСТВИИ С ДОГОВОРАМ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496-E134-4B0B-9A7E-6A519AF8BF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ОБЪЕДИНЕНИЯ ПРЕДПРИЯТИЙ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828800"/>
            <a:ext cx="3733920" cy="1143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ДОГОВОРНЫ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3733920" cy="1143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УСТАВНЫ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505320"/>
            <a:ext cx="3048120" cy="5331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АССОЦИ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495680"/>
            <a:ext cx="3048120" cy="53352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РПОР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581280"/>
            <a:ext cx="3200400" cy="60984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НСОРЦИУ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572000"/>
            <a:ext cx="3048120" cy="6858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НЦЕР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971800"/>
            <a:ext cx="0" cy="53352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2971800"/>
            <a:ext cx="0" cy="160020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048120"/>
            <a:ext cx="0" cy="53316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3048120"/>
            <a:ext cx="0" cy="1523880"/>
          </a:xfrm>
          <a:prstGeom prst="line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endCxn id="148" idx="0"/>
          </p:cNvCxnSpPr>
          <p:nvPr/>
        </p:nvCxnSpPr>
        <p:spPr>
          <a:xfrm flipH="1">
            <a:off x="2704680" y="1142640"/>
            <a:ext cx="2248560" cy="6865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endCxn id="149" idx="0"/>
          </p:cNvCxnSpPr>
          <p:nvPr/>
        </p:nvCxnSpPr>
        <p:spPr>
          <a:xfrm>
            <a:off x="4952880" y="1142640"/>
            <a:ext cx="1867680" cy="7628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71F-5A82-4E69-987A-917140CBD2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ДОГОВОРНЫЕ </a:t>
            </a:r>
            <a:br>
              <a:rPr sz="4000"/>
            </a:b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БЪЕДИНЕНИЯ 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СУЩЕСТВЛЯЕТ КООРДИНАЦИЮ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ТДЕЛЬНЫХ ВИДОВ ДЕЯТЕЛЬНОСТИ СУБЪЕКТОВ ХОЗЯЙСТВОВА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БЕЗ ВМЕШАТЕЛЬСТВА В ОСНОВНУЮ ПРОИЗВОДСТВЕННУЮ И КОММЕРЧЕСКУЮ ДЕЯТЕЛЬНОСТЬ ЕЕ УЧАСТНИК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14800" y="22096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ДПОЛАГАЕТ ДЕЛЕГИРОВАНИЕ ОТДЕЛЬНЫХ ПОЛНОМОЧИЙ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ЛЯ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ЦЕНТРАЛИЗОВАННОГО РЕГУЛИРОВАНИЯ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ЕЯТЕЛЬОСТИ ЧЛЕНОВ ОБЪЕДИ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ПРОИЗВОДСТВЕННОЙ, НАУЧНОЙ, КОММЕРЧЕСКОЙ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5560" y="1375560"/>
            <a:ext cx="291636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АССОЦИА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6560" y="1375560"/>
            <a:ext cx="284940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РПОРА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2"/>
            <a:endCxn id="163" idx="0"/>
          </p:cNvCxnSpPr>
          <p:nvPr/>
        </p:nvCxnSpPr>
        <p:spPr>
          <a:xfrm flipH="1">
            <a:off x="2832840" y="1142640"/>
            <a:ext cx="2120040" cy="229320"/>
          </a:xfrm>
          <a:prstGeom prst="straightConnector1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2"/>
            <a:endCxn id="164" idx="0"/>
          </p:cNvCxnSpPr>
          <p:nvPr/>
        </p:nvCxnSpPr>
        <p:spPr>
          <a:xfrm>
            <a:off x="4952880" y="1142640"/>
            <a:ext cx="1890000" cy="229320"/>
          </a:xfrm>
          <a:prstGeom prst="straightConnector1">
            <a:avLst/>
          </a:prstGeom>
          <a:ln w="9360">
            <a:solidFill>
              <a:srgbClr val="fffd3f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10D-19AC-4DC7-B25B-080770714E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УСТАВНЫЕ</a:t>
            </a:r>
            <a:r>
              <a:rPr b="0" lang="ru-RU" sz="4400" spc="-1" strike="noStrike">
                <a:solidFill>
                  <a:srgbClr val="fffd3f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БЪЕДИНЕНИЯ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РЕМЕННЫЕ ОБЪЕДИНЕНИЯ ПРОМЫШЛЕННОГО И БАНКОВСКОГО КАПИТАЛА ДЛЯ ДОСТИЖЕНИЯ ОПРЕДЕЛЕННОЙ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ЦЕ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19360" y="228564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ДПОЛАГАЕТ ПОЛНУЮ ФИНАНСОВУЮ ЗАВИСИМОСТЬ СУБЪЕКТОВ ПРЕДПРИНИМАТЕЛЬСТВА, ВХОДЯЩИХ В ОБЪЕДИНЕНИЕ,  ОТ ОДНОГО ИЛИ ГРУППЫ ПРЕДПРИЯТ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0600" y="1451880"/>
            <a:ext cx="287352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НСОРЦИУ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8680" y="1451880"/>
            <a:ext cx="2017080" cy="6426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54"/>
                </a:solidFill>
                <a:latin typeface="Arial Narrow"/>
              </a:rPr>
              <a:t>КОНЦЕР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7" idx="2"/>
            <a:endCxn id="170" idx="0"/>
          </p:cNvCxnSpPr>
          <p:nvPr/>
        </p:nvCxnSpPr>
        <p:spPr>
          <a:xfrm flipH="1">
            <a:off x="2908440" y="1142640"/>
            <a:ext cx="2349720" cy="3056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7" idx="2"/>
            <a:endCxn id="171" idx="0"/>
          </p:cNvCxnSpPr>
          <p:nvPr/>
        </p:nvCxnSpPr>
        <p:spPr>
          <a:xfrm>
            <a:off x="5257800" y="1142640"/>
            <a:ext cx="1931040" cy="30564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012-7381-4FC8-A8B6-8EBC7F0D1F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ОБЪЕДИНЕНИЯ.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РАЗЛИЧИЯ В   ЦЕНТРАЛИЗАЦИИ</a:t>
            </a:r>
            <a:r>
              <a:rPr b="1" lang="ru-RU" sz="4400" spc="-1" strike="noStrike">
                <a:solidFill>
                  <a:srgbClr val="fffd3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УПРАВЛЕНИЯ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АССОЦИА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ООРДИНИРУЮТ ОТДЕЛЬНЫЕ ЗАДАЧИ, ВЫПОЛНЯЮТ НЕОСНОВНЫЕ ФУНКЦИИ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ОГРАНИЧЕННЫЕ СВЯЗИ – НЕВОЗМОЖНОСТЬ ОТВЕТСТВЕННОСТИ ПО  СОВМЕСТНЫМ ДОЛГ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РПОРАЦИЯ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ОЖЕТ БЫТЬ ОРГАН УПРАВЛЕНИЯ – ЦЕНТР КООРДИНАЦИИ, ИНФОРМАЦИИ, АККУМУЛЯЦИИ СРЕДСТ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ПОЛНЯЕТ ДОБРОВОЛЬНО ПЕРЕДАННЫЕ ДЕЙСТВ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НЦЕРН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ЭКОНОМИЧЕСКАЯ ЗАВИСИМОСТЬ ОГРАНИЧИВАЕТ ВОЗМОЖНОСТЬ ВЫХОД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672-A7C2-4980-A8AB-C8895DD8C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ФИНАНСОВО-ПРОМЫШЛЕННЫЕ ГРУППЫ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893080" cy="230364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"/>
              </a:rPr>
              <a:t>ДОЛЖНЫ СПОСОБСТВОВАТЬ РАЗВИТИЮ ПРИОРИТЕТНЫХ ОТРАСЛЕЙ ПРОИЗВОДСТВА НА БАЗЕ СТРУКТУРНОЙ ПЕРЕСТРОЙКИ ПРОИЗВОДСТВА, ОБЕСПЕЧИВАЮЩЕЙ ИЗГОТОВЛЕНИЕ  ПРОДУКЦИИ, ИМЕЮЩЕЙ КОНЕЧНЫХ ПОТРЕБИТЕЛЕЙ , В ТОМ ЧИСЛЕ ПО МЕЖДУНАРОДНЫМ ДОГОВОРА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71592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ГЛАВНОЕ ПРЕДПРИЯТИЕ ИЗГОТАВЛИВАЕТ КОНЕЧНУЮ ПРОДУКЦИЮ, СБЫВАЕТ ЕЕ, УПЛАЧИВАЕТ НАЛОГИ В УКРАИНЕ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СОСТАВЕ ПРОМЫШЛЕННЫЕ И СЕЛЬХОЗПРЕДПРИЯТИЯ, БАНКИ, НАУЧНЫЕ И ПРОЕКТНЫЕ ОРГАНИЗАЦИИ, ДР., ПРОИЗВОДЯЩИЕ ПРОДУКЦИЮ И УСЛУГИ ДЛЯ ГЛАВНОГО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ЦЕЛЬ- ПОЛУЧЕНИЕ ПРИБЫЛИ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ТРОИТСЯ ПО РЕГИОНАЛЬНОМУ ПРИЗНАК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46960" indent="-246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Закон «О ФПГ в Украине»,1996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190-FB5D-4A45-B112-757DDCAC6F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ХОЛДИНГОВАЯ КОМПАН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236232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"/>
              </a:rPr>
              <a:t>ХОЗЯЙСТВУЮЩИЙ СУБЪЕКТ, ВЛАДЕЮЩИЙ КОНТРОЛЬНЫМИ ПАКЕТАМИ АКЦИЙ ИНЫХ, ОДНОГО ИЛИ БОЛЕЕ ХОЗЯЙСТВУЮЩИХ СУБЪЕКТОВ, КОТОРЫЕ ДАЮТ ЕЙ ПРАВО ОСУЩЕСТВЛЯТЬ ФАКТИЧЕСКИЙ КОНТРОЛЬ ЗА НИМ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4038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 ОСНОВЕ – ДОБРОВОЛЬНОСТЬ ОБЪЕДИНЕНИЯ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ХРАНЯЕТСЯ ЮРИДИЧЕСКАЯ САМОСТОЯТЕЛЬНОСТЬ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ОЗДАЕТСЯ ПОГЛОЩЕНИЕМ ОДНОГО СУБЪЕКТА ДРУГИ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1FD-C471-4012-9A18-A8527FC1EA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268280"/>
            <a:ext cx="8640720" cy="439272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9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fd3f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ТРУКТУР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341360"/>
            <a:ext cx="85262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ЕГО ВНУТРЕННЕЕ УСТРОЙСТВО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ХАРАКТЕРИЗУЮЩЕ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СОСТАВ ПОДРАЗДЕЛЕНИ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ФОРМЫ ИХ ПОСТРОЕНИЯ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РАЗМЕРЫ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КОЛИЧЕСТВЕННЫЕ СООТНОШЕНИЯ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СИСТЕМЫ СВЯЗЕ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54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54"/>
                </a:solidFill>
                <a:latin typeface="Arial"/>
              </a:rPr>
              <a:t>ПОДЧИНЕННОСТЬ И ВЗАИМОДЕЙСТВ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654-70D2-4998-A827-9A26D808E2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ФАКТОРЫ, ВЛИЯЮЩИЕ НА ПРОИЗВОДСТВЕННУЮ СТРУКТУРУ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ХАРАКТЕР ВЫПУСКАЕМОЙ ПРОДУКЦИИ И МЕТОДЫ ЕЕ ИЗГОТОВЛЕНИ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ХАРАКТЕР ПРОИЗВОДСТВЕННОГО ПРОЦЕСС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АСШТАБЫ ПРОИЗВОДСТВ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ПЕЦИАЛИЗАЦИЯ И КООПЕРИРОВАНИЕ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ТЕПЕНЬ ОХВАТА СТАДИЙ ЖИЗНЕННОГО ЦИКЛА ИЗДЕЛИ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ЗМЕЩЕНИЕ ПРЕДПРИЯТИЙ (РАЗВИТЫЙ, ОСВАИВАЕМЫЙ РАЙОН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4B5-DFC8-4F45-B2FD-A2B867844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989000"/>
            <a:ext cx="8642520" cy="345780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772400" cy="117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1.ПРЕДПРИЯТИЕ И ПРЕДПРИНИМАТЕЛЬСТВО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2060280"/>
            <a:ext cx="883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САМОСТОЯТЕЛЬНЫ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ХОЗЯЙСТВУЮЩИЙ УСТАВНОЙ ОБЪЕКТ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ИМЕЕТ ПРАВА ЮРИДИЧЕСКОГО ЛИЦ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ОСУЩЕСТВЛЯЕТ ПРОИЗВОДСТВЕННУЮ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НАУЧНО-ИССЛЕДОВАТЕЛЬСКУЮ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КОММЕРЧЕСКУЮ ДЕЯТЕЛЬНОС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С ЦЕЛЬЮ ПОЛУЧЕНИЯ ПРИБЫЛИ.</a:t>
            </a: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661000"/>
            <a:ext cx="874872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ebd189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ba1"/>
                </a:solidFill>
                <a:latin typeface="Arial Narrow"/>
              </a:rPr>
              <a:t>Закон Украины «Про</a:t>
            </a:r>
            <a:r>
              <a:rPr b="1" lang="uk-UA" sz="2800" spc="-1" strike="noStrike">
                <a:solidFill>
                  <a:srgbClr val="fdfba1"/>
                </a:solidFill>
                <a:latin typeface="Arial Narrow"/>
              </a:rPr>
              <a:t> підприємства в Україні” от 27.01.9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1268280"/>
            <a:ext cx="3743640" cy="7113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ПРЕДПРИЯТ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446-49DA-4C7F-A226-43CF1A709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СТРУКТУРНО- ЛОГИЧЕСКАЯ СХЕМ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752480"/>
          <a:ext cx="8305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05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02E-07E4-4502-B8CD-D4BFA7771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ЭЛЕМЕНТЫ ПРОСТРАНСТВЕННОЙ ОРГАНИЗАЦИИ ПРОИЗВОДСТВА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57480" y="1371600"/>
            <a:ext cx="6629400" cy="4914720"/>
            <a:chOff x="1257480" y="1371600"/>
            <a:chExt cx="6629400" cy="4914720"/>
          </a:xfrm>
        </p:grpSpPr>
        <p:sp>
          <p:nvSpPr>
            <p:cNvPr id="192" name="Pyr1"/>
            <p:cNvSpPr/>
            <p:nvPr/>
          </p:nvSpPr>
          <p:spPr>
            <a:xfrm>
              <a:off x="3837240" y="1371600"/>
              <a:ext cx="1486080" cy="10893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Pyr2"/>
            <p:cNvSpPr/>
            <p:nvPr/>
          </p:nvSpPr>
          <p:spPr>
            <a:xfrm>
              <a:off x="2976840" y="2460960"/>
              <a:ext cx="3198960" cy="1278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Pyr3"/>
            <p:cNvSpPr/>
            <p:nvPr/>
          </p:nvSpPr>
          <p:spPr>
            <a:xfrm>
              <a:off x="2125800" y="3738960"/>
              <a:ext cx="4900680" cy="1276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Pyr4"/>
            <p:cNvSpPr/>
            <p:nvPr/>
          </p:nvSpPr>
          <p:spPr>
            <a:xfrm>
              <a:off x="1257480" y="5008680"/>
              <a:ext cx="6629400" cy="1277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ПРЕДПРИ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ЦЕХ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КОРПУС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УЧАСТКИ, СЛУЖБ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РАБОЧИЕ МЕС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24280" y="2438280"/>
            <a:ext cx="533520" cy="1295640"/>
          </a:xfrm>
          <a:prstGeom prst="line">
            <a:avLst/>
          </a:prstGeom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2B7-E868-43CB-8C56-DFBC393057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ЛАНИРОВК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ГЕНЕРАЛЬНЫЙ ПЛАН ПРЕДПРИЯТИЯ –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графическое изображение территории со всеми зданиями, сооружениями, коммуникациями, путями сообщения, привязанными к местно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120" y="400500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ЛАНИРОВКА ЦЕХА, УЧАСТКА, СЛУЖБ ПРЕДПРИЯТИЯ –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лан размещения помещений, строительных элементов, оборудования и рабочих мес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518-E124-41E1-8527-4BB65166A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ТИПЫ ПРОИЗВОДСТВА</a:t>
            </a: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76040" y="3051360"/>
            <a:ext cx="3601440" cy="1069200"/>
          </a:xfrm>
          <a:prstGeom prst="flowChartPredefinedProcess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ЕРИЙ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ВАРИАНТНО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1440" y="1364760"/>
            <a:ext cx="2881080" cy="1328400"/>
          </a:xfrm>
          <a:prstGeom prst="flowChartInternalStorage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ЕДИНИЧ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ШТУЧНО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4724280"/>
            <a:ext cx="3505320" cy="1447920"/>
          </a:xfrm>
          <a:prstGeom prst="flowChartMultidocument">
            <a:avLst/>
          </a:prstGeom>
          <a:solidFill>
            <a:srgbClr val="fffd3f"/>
          </a:solidFill>
          <a:ln w="9360">
            <a:solidFill>
              <a:srgbClr val="00007a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МАССОВ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1" idx="2"/>
            <a:endCxn id="204" idx="0"/>
          </p:cNvCxnSpPr>
          <p:nvPr/>
        </p:nvCxnSpPr>
        <p:spPr>
          <a:xfrm flipH="1">
            <a:off x="2341080" y="990720"/>
            <a:ext cx="2612160" cy="38160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1" idx="2"/>
            <a:endCxn id="203" idx="0"/>
          </p:cNvCxnSpPr>
          <p:nvPr/>
        </p:nvCxnSpPr>
        <p:spPr>
          <a:xfrm flipH="1">
            <a:off x="3776040" y="990360"/>
            <a:ext cx="1176840" cy="205776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1" idx="2"/>
            <a:endCxn id="205" idx="0"/>
          </p:cNvCxnSpPr>
          <p:nvPr/>
        </p:nvCxnSpPr>
        <p:spPr>
          <a:xfrm>
            <a:off x="4952520" y="990360"/>
            <a:ext cx="1753560" cy="37342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3E9-8C89-4D69-BF71-2DAA21EBF4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СТРУКТУРА ПРЕДПРИЯТИ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9560" y="1487880"/>
            <a:ext cx="396036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РОИЗВОДСТВЕ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62480" y="2352960"/>
            <a:ext cx="37393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РГАНИЗАЦИО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484280"/>
            <a:ext cx="2666880" cy="588960"/>
          </a:xfrm>
          <a:prstGeom prst="rect">
            <a:avLst/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36147" dir="2700000" blurRad="0" rotWithShape="0">
              <a:srgbClr val="fffd3f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ЩА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2"/>
            <a:endCxn id="210" idx="0"/>
          </p:cNvCxnSpPr>
          <p:nvPr/>
        </p:nvCxnSpPr>
        <p:spPr>
          <a:xfrm>
            <a:off x="4952880" y="1066680"/>
            <a:ext cx="1967760" cy="4183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9" idx="2"/>
            <a:endCxn id="212" idx="0"/>
          </p:cNvCxnSpPr>
          <p:nvPr/>
        </p:nvCxnSpPr>
        <p:spPr>
          <a:xfrm flipH="1">
            <a:off x="1583640" y="1066680"/>
            <a:ext cx="3369240" cy="41832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9" idx="2"/>
            <a:endCxn id="211" idx="0"/>
          </p:cNvCxnSpPr>
          <p:nvPr/>
        </p:nvCxnSpPr>
        <p:spPr>
          <a:xfrm flipH="1">
            <a:off x="4431960" y="1066320"/>
            <a:ext cx="521280" cy="128340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038560" y="3500280"/>
            <a:ext cx="4105440" cy="2376720"/>
          </a:xfrm>
          <a:prstGeom prst="rect">
            <a:avLst/>
          </a:prstGeom>
          <a:solidFill>
            <a:srgbClr val="555bad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СТЕМА УПРАВЛЕНИЯ, ОБЕСПЕЧИВАЮЩАЯ ВЫПОЛНЕНИЕ ОСНОВНЫХ  ПРОИЗВОДСТВЕННЫХ ФУНКЦИЙ: стратегия; маркетинг; финансы; кадры; инновации; други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213000"/>
            <a:ext cx="4392360" cy="2448000"/>
          </a:xfrm>
          <a:prstGeom prst="rect">
            <a:avLst/>
          </a:prstGeom>
          <a:solidFill>
            <a:srgbClr val="555bad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ИЗВОДСТВЕННАЯ СТРУКТУР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АППАРАТ УПРАВЛЕНИЯ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ЪЕКТЫ СОЦИАЛЬНО-БЫТОВОГО НАЗНАЧЕНИЯ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РУГИЕ НЕПРОИЗВОДСТВЕННЫЕ ПОДРАЗДЕЛЕ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2"/>
            <a:endCxn id="216" idx="0"/>
          </p:cNvCxnSpPr>
          <p:nvPr/>
        </p:nvCxnSpPr>
        <p:spPr>
          <a:xfrm>
            <a:off x="4432320" y="2937960"/>
            <a:ext cx="2659680" cy="5626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2"/>
            <a:endCxn id="217" idx="0"/>
          </p:cNvCxnSpPr>
          <p:nvPr/>
        </p:nvCxnSpPr>
        <p:spPr>
          <a:xfrm>
            <a:off x="1584000" y="2073240"/>
            <a:ext cx="864360" cy="1140480"/>
          </a:xfrm>
          <a:prstGeom prst="straightConnector1">
            <a:avLst/>
          </a:prstGeom>
          <a:ln w="9360">
            <a:solidFill>
              <a:srgbClr val="fcab4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C59-9D80-435D-AC39-A5E56C7AF9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ab40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05680" y="2989080"/>
            <a:ext cx="4007880" cy="187056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36147" dir="2700000" blurRad="0" rotWithShape="0">
              <a:srgbClr val="fffd3f"/>
            </a:outerShdw>
          </a:effectLst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ПРЕДЕЛЯЕТСЯ ПОДРАЗДЕЛЕНИЕМ В ОСНОВЕ ПОСТРО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560" y="3634200"/>
            <a:ext cx="18511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ОВ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11800" y="1984680"/>
            <a:ext cx="2553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БЕСЦЕХОВ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720" y="3661200"/>
            <a:ext cx="22777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РПУС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0560" y="5261400"/>
            <a:ext cx="3012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МБИНАТСК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d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EA4-07A8-40B0-BE79-829296B13C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71600" y="1878120"/>
            <a:ext cx="6248520" cy="2770200"/>
          </a:xfrm>
          <a:prstGeom prst="downArrowCallout">
            <a:avLst>
              <a:gd name="adj1" fmla="val 19363"/>
              <a:gd name="adj2" fmla="val 65674"/>
              <a:gd name="adj3" fmla="val 31750"/>
              <a:gd name="adj4" fmla="val 53523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А ПО ВИДУ УЧАСТИЯ В ПРОИЗВОДСТВЕННОМ ПРОЦЕСС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5800" y="3813480"/>
            <a:ext cx="2216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СНОВ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0640" y="3889800"/>
            <a:ext cx="3836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ВСПОМОГАТЕЛЬ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575600"/>
            <a:ext cx="4724280" cy="155628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СЛУЖИВ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(ПРОИЗВОДСТВЕННАЯ ИНФРАСТРУКТУРА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840-57CA-4F4B-9F7C-D92B89208C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9480" y="1693800"/>
            <a:ext cx="8534520" cy="1603080"/>
          </a:xfrm>
          <a:prstGeom prst="downArrowCallout">
            <a:avLst>
              <a:gd name="adj1" fmla="val -108042"/>
              <a:gd name="adj2" fmla="val 133096"/>
              <a:gd name="adj3" fmla="val 16667"/>
              <a:gd name="adj4" fmla="val 6666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Т НАЛИЧИЯ И ПОЛНОТЫ ОХВАТА ОСНОВНЫХ И ВСПОМОГАТЕЛЬНЫХ ПРОЦЕСС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124080"/>
            <a:ext cx="3886200" cy="22878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КОМПЛЕКСНАЯ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ВЕСЬ КОМПЛЕКС ОСНОВНЫХ И ВСПОМОГАТЕЛЬНЫХ ЦЕХ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124080"/>
            <a:ext cx="3200400" cy="22860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ПЕЦИАЛИЗИРО-ВАННАЯ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ТОЛЬКО ЧАСТ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4BD-5CBC-437C-84C5-5DC9E1475B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1968480"/>
            <a:ext cx="7391160" cy="3065040"/>
          </a:xfrm>
          <a:prstGeom prst="downArrowCallout">
            <a:avLst>
              <a:gd name="adj1" fmla="val 60291"/>
              <a:gd name="adj2" fmla="val 60286"/>
              <a:gd name="adj3" fmla="val 16667"/>
              <a:gd name="adj4" fmla="val 6666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СПОСОБУ ОРГАНИЗАЦИИ ПРОИЗВОДСТВА В ПРОСТРАНСТВЕ 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5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ПУТИ ИЗДЕЛ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5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РАСПОЛОЖЕНИЮ РАБОЧИХ МЕ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724280"/>
            <a:ext cx="2895840" cy="11430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ТОЧНЫ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21120" y="4761360"/>
            <a:ext cx="2654280" cy="106884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ОВЫЙ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НЕПОТОЧНЫ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931-16EB-49DF-8429-A50D3E316B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828800" y="2192400"/>
            <a:ext cx="4946760" cy="3010680"/>
          </a:xfrm>
          <a:custGeom>
            <a:avLst/>
            <a:gdLst>
              <a:gd name="textAreaLeft" fmla="*/ 794160 w 4946760"/>
              <a:gd name="textAreaRight" fmla="*/ 4152600 w 4946760"/>
              <a:gd name="textAreaTop" fmla="*/ 483480 h 3010680"/>
              <a:gd name="textAreaBottom" fmla="*/ 2527200 h 3010680"/>
            </a:gdLst>
            <a:ahLst/>
            <a:rect l="textAreaLeft" t="textAreaTop" r="textAreaRight" b="textAreaBottom"/>
            <a:pathLst>
              <a:path w="21600" h="21600">
                <a:moveTo>
                  <a:pt x="3469" y="3469"/>
                </a:moveTo>
                <a:lnTo>
                  <a:pt x="8840" y="3469"/>
                </a:lnTo>
                <a:lnTo>
                  <a:pt x="8840" y="2705"/>
                </a:lnTo>
                <a:lnTo>
                  <a:pt x="6761" y="2705"/>
                </a:lnTo>
                <a:lnTo>
                  <a:pt x="10800" y="0"/>
                </a:lnTo>
                <a:lnTo>
                  <a:pt x="14839" y="2705"/>
                </a:lnTo>
                <a:lnTo>
                  <a:pt x="12760" y="2705"/>
                </a:lnTo>
                <a:lnTo>
                  <a:pt x="12760" y="3469"/>
                </a:lnTo>
                <a:lnTo>
                  <a:pt x="18131" y="3469"/>
                </a:lnTo>
                <a:lnTo>
                  <a:pt x="18131" y="8840"/>
                </a:lnTo>
                <a:lnTo>
                  <a:pt x="18895" y="8840"/>
                </a:lnTo>
                <a:lnTo>
                  <a:pt x="18895" y="6761"/>
                </a:lnTo>
                <a:lnTo>
                  <a:pt x="21600" y="10800"/>
                </a:lnTo>
                <a:lnTo>
                  <a:pt x="18895" y="14839"/>
                </a:lnTo>
                <a:lnTo>
                  <a:pt x="18895" y="12760"/>
                </a:lnTo>
                <a:lnTo>
                  <a:pt x="18131" y="12760"/>
                </a:lnTo>
                <a:lnTo>
                  <a:pt x="18131" y="18131"/>
                </a:lnTo>
                <a:lnTo>
                  <a:pt x="12760" y="18131"/>
                </a:lnTo>
                <a:lnTo>
                  <a:pt x="12760" y="18895"/>
                </a:lnTo>
                <a:lnTo>
                  <a:pt x="14839" y="18895"/>
                </a:lnTo>
                <a:lnTo>
                  <a:pt x="10800" y="21600"/>
                </a:lnTo>
                <a:lnTo>
                  <a:pt x="6761" y="18895"/>
                </a:lnTo>
                <a:lnTo>
                  <a:pt x="8840" y="18895"/>
                </a:lnTo>
                <a:lnTo>
                  <a:pt x="8840" y="18131"/>
                </a:lnTo>
                <a:lnTo>
                  <a:pt x="3469" y="18131"/>
                </a:lnTo>
                <a:lnTo>
                  <a:pt x="3469" y="12760"/>
                </a:lnTo>
                <a:lnTo>
                  <a:pt x="2705" y="12760"/>
                </a:lnTo>
                <a:lnTo>
                  <a:pt x="2705" y="14839"/>
                </a:lnTo>
                <a:lnTo>
                  <a:pt x="0" y="10800"/>
                </a:lnTo>
                <a:lnTo>
                  <a:pt x="2705" y="6761"/>
                </a:lnTo>
                <a:lnTo>
                  <a:pt x="2705" y="8840"/>
                </a:lnTo>
                <a:lnTo>
                  <a:pt x="3469" y="8840"/>
                </a:lnTo>
                <a:close/>
              </a:path>
            </a:pathLst>
          </a:cu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ЦЕХА ПО СТАДИЯМ ПРОИЗВОДСТВА ПРОДУ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432600"/>
            <a:ext cx="244476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БОРОЧ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1676520"/>
            <a:ext cx="3733920" cy="6858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ЗАГОТОВИТЕЛЬН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8440" y="5109120"/>
            <a:ext cx="37864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ОБРАБАТЫВ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03800" y="3432600"/>
            <a:ext cx="303372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ВЫПУСКАЮЩ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FD9-5C4C-414B-A335-2ECF87E3F3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3f"/>
                </a:solidFill>
                <a:latin typeface="Arial"/>
              </a:rPr>
              <a:t>ПРЕДПРИЯТ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СНОВНОЕ ОРГАНИЗАЦИОННОЕ ЗВЕНО ЭКОНОМИКИ УКРАИН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МЕЕТ САМОСТОЯТЕЛЬНЫЙ БАЛАНС, РАСЧЕТНЫЙ И ДРУГИЕ СЧЕТА В БАНКАХ, ПЕЧАТЬ, ТОВАРНЫЙ ЗНАК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Е ИМЕЕТ В СВОЕМ СОСТАВЕ ДРУГИЕ ЮРИДИЧЕСКИЕ ЛИЦ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ОЗДАНО СО ДНЯ ГОСРЕГИСТРА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ЕЯТЕЛЬНОСТЬ НА ОСНОВЕ ПРЕДПРИНИМАТЕЛЬСТВ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699-A7AE-4651-9184-877C52A0C9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РОИЗВОДСТВЕННАЯ СТРУКТУР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28800" y="1676520"/>
            <a:ext cx="6095880" cy="2895480"/>
          </a:xfrm>
          <a:prstGeom prst="downArrowCallout">
            <a:avLst>
              <a:gd name="adj1" fmla="val 24896"/>
              <a:gd name="adj2" fmla="val 52633"/>
              <a:gd name="adj3" fmla="val 24458"/>
              <a:gd name="adj4" fmla="val 43917"/>
            </a:avLst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О ФОРМЕ СПЕЦИАЛИЗАЦИИ ОСНОВНЫХ ЦЕХ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584880"/>
            <a:ext cx="380988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ТЕХНОЛОГИЧЕСК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661200"/>
            <a:ext cx="342900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ПРЕДМЕТ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63800" y="4586760"/>
            <a:ext cx="2460600" cy="581400"/>
          </a:xfrm>
          <a:prstGeom prst="rect">
            <a:avLst/>
          </a:prstGeom>
          <a:solidFill>
            <a:srgbClr val="fffd3f"/>
          </a:solidFill>
          <a:ln w="9360">
            <a:solidFill>
              <a:srgbClr val="fcab40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4"/>
                </a:solidFill>
                <a:latin typeface="Arial Narrow"/>
              </a:rPr>
              <a:t>СМЕШАН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3D2-8433-4D3D-BDF1-CED22F3184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3573360"/>
            <a:ext cx="8964720" cy="251964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8381880" cy="2376720"/>
          </a:xfrm>
          <a:prstGeom prst="foldedCorner">
            <a:avLst>
              <a:gd name="adj" fmla="val 12500"/>
            </a:avLst>
          </a:prstGeom>
          <a:solidFill>
            <a:srgbClr val="fffd3f"/>
          </a:solidFill>
          <a:ln w="9360">
            <a:solidFill>
              <a:srgbClr val="000054"/>
            </a:solidFill>
            <a:miter/>
          </a:ln>
          <a:effectLst>
            <a:outerShdw dist="17819" dir="2700000" blurRad="0" rotWithShape="0">
              <a:srgbClr val="fff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ПРЕДПРИНИМАТЕЛЬСТВО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068640"/>
            <a:ext cx="572472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Narrow"/>
              </a:rPr>
              <a:t>Закон Украины «О предпринимательстве» от 26.02.1991г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07920"/>
            <a:ext cx="82296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Е ЗАПРЕЩЕННАЯ ЗАКОНОМ  САМОСТОЯТЕЛЬНАЯ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А СОБСТВЕННЫЙ РИСК  ДЕЯТЕЛЬНОСТЬ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ПО ПРОИЗВОДСТВУ ПРОДУКЦИИ, ВЫПОЛНЕНИЮ РАБОТ, ОКАЗАНИЮ УСЛУГ И ТОРГОВЛЕ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С ЦЕЛЬЮ ПОЛУЧЕНИЯ ПРИБЫЛИ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А ОСНОВЕ УДОВЛЕТВОРЕНИЯ ПОТРЕБНОСТЕЙ КОНКРЕТНЫХ ПОТРЕБИТЕЛЕ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716280"/>
            <a:ext cx="88930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НЕ ОПОСРЕДОВАННАЯ САМОСТОЯТЕЛЬНАЯ, СИСТЕМАТИЧЕСКАЯ, НА СОБСТВЕННЫЙ РИСК ДЕЯТЕЛЬНОСТЬ ПО ПРОИЗВОДСТВУ ПРОДУКЦИИ, ВЫПОЛНЕНИЮ РАБОТ, ПРЕДОСТАВЛЕНИЮ УСЛУГ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С ЦЕЛЬЮ ПОЛУЧЕНИЯ ПРИБЫЛИ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54"/>
                </a:solidFill>
                <a:latin typeface="Arial"/>
              </a:rPr>
              <a:t>ОСУЩЕСТВЛЯЕМАЯ ФИЗИЧЕСКИМИ И ЮРИДИЧЕСКИМИ ЛИЦАМИ, ЗАРЕГЕСТРИРОВАННЫМИ КАК СУБЪЕКТЫ ПРЕДПРИНИМАТЕЛЬСКОЙ ДЕЯТЕЛЬНОСТИ В ПОРЯДКЕ, УСТАНОВЛЕНОМ ЗАКОНОДАТЕЛЬСТВОМ.</a:t>
            </a:r>
            <a:r>
              <a:rPr b="0" lang="ru-RU" sz="32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37280"/>
            <a:ext cx="7091280" cy="720720"/>
          </a:xfrm>
          <a:prstGeom prst="rect">
            <a:avLst/>
          </a:prstGeom>
          <a:solidFill>
            <a:srgbClr val="555bad"/>
          </a:solidFill>
          <a:ln w="9360">
            <a:solidFill>
              <a:srgbClr val="ff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Narrow"/>
              </a:rPr>
              <a:t>Изменения к Закону Украины «О предпринимательстве» от 22.02.2000г</a:t>
            </a:r>
            <a:r>
              <a:rPr b="1" lang="ru-RU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B57-7526-4CBE-BD4F-ACCBEAB3CE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ПРИНЦИПЫ ПРЕДПРИНИМАТЕЛЬСКОЙ ДЕЯТЕЛЬНОСТИ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125360"/>
            <a:ext cx="9396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ый на собственный риск выбор видов деятель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амостоятельное формирование программы деятельности , выбор поставщиков и потребителей, установление цен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влечение на добровольных началах имущества и средств других граждан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ый наем работник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влечение и использование материально-технических, трудовых, природных и других ресурсов в соответствии с законодательств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ободное распоряжение прибылью после уплаты налогов и платеж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амостоятельное осуществление внешнеэкономической деятель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8A6-8065-413B-B41F-C94AAFDAA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15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СУБЪЕКТЫ ПРЕДПРИНИМАТЕЛЬСКОЙ ДЕЯТЕЛЬНОСТИ (предприниматели):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РАЖДАНЕ УКРАИНЫ И ДРУГИХ ГОСУДАРСТВ, НЕ ОГРАНИЧЕННЫЕ ЗАКОНОМ В ПРАВАХ ИЛИ ДЕЕСПОСОБНОСТ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ЮРИДИЧЕСКИЕ ЛИЦА ВСЕХ ФОРМ СОБСТВЕННОСТИ, ВВЕДЕННЫХ В УКРАИНЕ ЗАКОНОМ «О СОБСТВЕННОСТИ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СУЩЕСТВЛЯЮТ СВОЮ ДЕЯТЕЛЬНОСТЬ НА ОСНОВЕ СОЗДАНИЯ ДЛЯ ЭТИХ ЦЕЛЕЙ ПРЕДПРИЯТ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161-D9B2-46FF-8AE4-2178EC991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154720" cy="67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ФУНКЦИИ ПРЕДПРИНИМАТЕЛЯ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1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Берет  на себя инициативу соединения экономических ресурсов – земли, капитала, труда для производства товаров и услуг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ринимает решения по ведению бизнес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Новатор, вводящий новые продукты, технологии, формы организации бизнес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Человек, идущий на риск, рискует не только своим временем, трудом, деловой репутацией, но и средствами, своими и компаньон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095-E123-4B30-B049-B362B5A25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059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3f"/>
                </a:solidFill>
                <a:latin typeface="Arial"/>
              </a:rPr>
              <a:t>ОГРАНИЧЕНИЯ ПО СОЗДАНИЮ ПРЕДПРИЯТИЙ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280" y="119700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Ы ДЕЯТЕЛЬНОСТИ, ПОДЛЕЖАЩИЕ ЛИЦЕНЗИРОВАНИЮ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ЕДКА И ДОБЫЧА ПОЛЕЗНЫХ ИСКОПАЕМЫХ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ЕМОНТ ОРУЖ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И РЕАЛИЗАЦИЯ МЕДИКАМЕНТОВ И ХИМИКАТОВ, АЛКОГОЛЬНЫХ И ТАБАЧНЫХ ИЗДЕЛИЙ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ЕДИЦИНСКАЯ ПРАКТИК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ДЕРЖАНИЕ ИГОРНЫХ ЗАВЕД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ЗАПРЕТ НА ДЕЯТЕЛЬНОСТЬ В СВЯЗИ С ПОВЫШЕННЫМИ ТРЕБОВАНИЯМИ К БЕЗОПАСНОСТИ РАБОТ И НЕОБХОДИМОСТИ ЦЕНТРАЛИЗАЦИИ ФУНКЦИЙ УПРАВЛЕНИ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И РЕАЛИЗАЦИЯ НАРКОТИКОВ, ОРУЖИЯ, ВЗРЫВЧАТЫХ ВЕЩЕСТ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ГОТОВЛЕНИЕ ЦЕННЫХ БУМАГ И ДЕНЕЖНЫХ ЗНАК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CA6-DB9F-49AD-92D0-3457A7968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3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d3f"/>
                </a:solidFill>
                <a:latin typeface="Arial"/>
              </a:rPr>
              <a:t>2.ВИДЫ ПРЕДПРИЯТИЙ</a:t>
            </a:r>
            <a:br>
              <a:rPr sz="3600"/>
            </a:br>
            <a:r>
              <a:rPr b="1" lang="ru-RU" sz="4000" spc="-1" strike="noStrike">
                <a:solidFill>
                  <a:srgbClr val="fffd3f"/>
                </a:solidFill>
                <a:latin typeface="Arial"/>
              </a:rPr>
              <a:t>ПО ФОРМЕ СОБСТВЕННОСТ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9240" y="1604160"/>
            <a:ext cx="314820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ИНДИВИДУАЛЬНОЕ</a:t>
            </a: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9640" y="1985040"/>
            <a:ext cx="18601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ЕМЕЙ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8320" y="2823480"/>
            <a:ext cx="161496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ЧАСТ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85920" y="3128040"/>
            <a:ext cx="259488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КОЛЛЕКТИВ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6720" y="4195080"/>
            <a:ext cx="58363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ГОСУДАРСТВЕННОЕ КОММУНАЛЬН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8080" y="4880880"/>
            <a:ext cx="278532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ОВМЕСТНОЕ С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320" y="5871240"/>
            <a:ext cx="7741440" cy="520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4"/>
                </a:solidFill>
                <a:latin typeface="Arial Narrow"/>
              </a:rPr>
              <a:t>СОБСТВЕННОСТЬ ГРАЖДАН ДРУГИХ ГОСУДАРСТ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81480"/>
            <a:ext cx="5715000" cy="1191240"/>
          </a:xfrm>
          <a:prstGeom prst="wedgeRectCallout">
            <a:avLst>
              <a:gd name="adj1" fmla="val 62185"/>
              <a:gd name="adj2" fmla="val -48671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БАЗЕ ОБЪЕДИНЕНИЯ ИМУЩЕСТВА РАЗНЫХ СОБСТВЕННИКОВ, ТОМ ЧИСЛЕ ИНОСТРАННЫ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581280"/>
            <a:ext cx="6096240" cy="1191240"/>
          </a:xfrm>
          <a:prstGeom prst="wedgeRectCallout">
            <a:avLst>
              <a:gd name="adj1" fmla="val -1175"/>
              <a:gd name="adj2" fmla="val -135675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И ТРУДЕ ГРАЖДАН УКРАИНЫ – ЧЛЕНОВ ОДНОЙ СЕМЬИ, ПРОЖИВАЮЩИХ ВМЕС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343400"/>
            <a:ext cx="5715000" cy="1191240"/>
          </a:xfrm>
          <a:prstGeom prst="wedgeRectCallout">
            <a:avLst>
              <a:gd name="adj1" fmla="val -32587"/>
              <a:gd name="adj2" fmla="val -120087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ОТДЕЛЬНОГО ГРАЖДАНИНА УКРАИНЫ С ПРАВОМ НАЙМА РАБОЧЕЙ СИЛ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181480"/>
            <a:ext cx="6934320" cy="825480"/>
          </a:xfrm>
          <a:prstGeom prst="wedgeRectCallout">
            <a:avLst>
              <a:gd name="adj1" fmla="val -50379"/>
              <a:gd name="adj2" fmla="val -110763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 СОБСТВЕННОСТИ АДМИНИСТРАТИВНО-ТЕРРИТОРИАЛЬНЫХ ЕДИНИ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590920"/>
            <a:ext cx="5943600" cy="1191240"/>
          </a:xfrm>
          <a:prstGeom prst="wedgeRectCallout">
            <a:avLst>
              <a:gd name="adj1" fmla="val -49444"/>
              <a:gd name="adj2" fmla="val -96370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ОСНОВАНО НА ЛИЧНОЙ СОБСТВЕННОСТИ ФИЗИЧЕСКОГО ЛИЦА И ИСКЛЮЧИТЕЛЬНО НА ЕГО ТРУД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14800"/>
            <a:ext cx="7391160" cy="1557000"/>
          </a:xfrm>
          <a:prstGeom prst="wedgeRectCallout">
            <a:avLst>
              <a:gd name="adj1" fmla="val 10305"/>
              <a:gd name="adj2" fmla="val -84277"/>
            </a:avLst>
          </a:prstGeom>
          <a:solidFill>
            <a:srgbClr val="fdfba1"/>
          </a:solidFill>
          <a:ln w="9360">
            <a:solidFill>
              <a:srgbClr val="fca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4"/>
                </a:solidFill>
                <a:latin typeface="Arial Narrow"/>
              </a:rPr>
              <a:t>ОСНОВАНО НА СОБСТВЕННОСТИ ТРУДОВОГО КОЛЛЕКТИВА ПРЕДПРИЯТИЯ, КООПЕРАТИВА, ДРУГОГО УСТАВНОГО ОБЩЕСТВА, ОБЩЕСТВЕННОЙ, РЕЛИГИОЗНОЙ ОРГАНИЗАЦИИ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речановская И.Г.Экономика предприятия. - ОГАСА,2012. - Л3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7E6-A002-4C9C-882B-3EBF636BA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2:43:33Z</dcterms:created>
  <dc:creator>в</dc:creator>
  <dc:description/>
  <dc:language>en-US</dc:language>
  <cp:lastModifiedBy>IRINA</cp:lastModifiedBy>
  <dcterms:modified xsi:type="dcterms:W3CDTF">2012-01-24T19:48:10Z</dcterms:modified>
  <cp:revision>27</cp:revision>
  <dc:subject/>
  <dc:title>ПРЕДПРИЯТИЕ КАК СУБЪЕКТ ХОЗЯЙСТВОВАНИЯ</dc:title>
</cp:coreProperties>
</file>