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253A-0F81-45C0-86EF-F944D69B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66B6-C386-4CB0-80EE-194B6923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57F3-B9F8-4061-AC2B-F4489607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AA8D-BA08-48CC-953B-892D4CE8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ED79-DD32-4E60-95AD-682F458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A4B2-4A47-45C2-BADD-CCF347B3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6BC-284D-4227-9B92-B7EF8572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89CD-A836-4898-AD76-F2517C8F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3FDB-35DC-41AC-AE93-0167E45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1861-E1DF-40E1-9765-075C14E9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884E-45DB-416A-8EF1-CC51DA78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7F81-1868-484B-A48D-4F0F142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FEAF-B0D5-4835-BB9B-7AD64A5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ACA5-40C3-4B24-8484-43CC7C9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3643-F8D7-4009-B142-FB2C7B51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FB4-4A88-4F56-A1E3-2CFB483B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C845-6A86-484E-87AE-FE4D4782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C945-48BC-41B2-BA05-A476AB76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4F04-0DB6-4DB0-BEDA-82A29FE1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C1D0-D849-4538-BA7A-CFE778FC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8845-6525-446F-B80F-49F6341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5170-2890-4A9F-BA49-28CB1DF3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6E37-06B9-4CE6-9562-973EF69B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52F2-F082-4828-81EF-F5AA78F1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5BA-4F71-4867-8910-458E21D9184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9716-D436-4AC4-8AA3-4FF794091EE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1;&#1088;&#1086;&#1092;&#1080;&#1079;&#1080;&#1086;&#1083;&#1086;&#1075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tstolica.ru:8080/index.php/&#1044;&#1080;&#1087;&#1083;&#1086;&#1084;&#1072;&#1090;" TargetMode="External"/><Relationship Id="rId2" Type="http://schemas.openxmlformats.org/officeDocument/2006/relationships/hyperlink" Target="http://setstolica.ru:8080/index.php/&#1053;&#1077;&#1074;&#1086;&#1079;&#1074;&#1088;&#1072;&#1097;&#1077;&#1085;&#1094;&#1099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А. Афиногенов «Страх»1931г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фиша к спектаклю по пьесе Афиногенова «Стра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i?id=375580723-54-72"/>
          <p:cNvPicPr/>
          <p:nvPr/>
        </p:nvPicPr>
        <p:blipFill>
          <a:blip r:embed="rId1"/>
          <a:stretch/>
        </p:blipFill>
        <p:spPr>
          <a:xfrm>
            <a:off x="5219640" y="2997360"/>
            <a:ext cx="2710080" cy="35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Фотография Александр Афиногенов (photo Alexandr Afinogenov)"/>
          <p:cNvPicPr/>
          <p:nvPr/>
        </p:nvPicPr>
        <p:blipFill>
          <a:blip r:embed="rId2"/>
          <a:stretch/>
        </p:blipFill>
        <p:spPr>
          <a:xfrm>
            <a:off x="539640" y="1844640"/>
            <a:ext cx="338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Анна Баркова. 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…Вечно не т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на Баркова - человек трагической судьбы. Она трижды была заключенной советских лагерей, дважды при Сталине и один раз при Хрущеве. Но ничто не сломило ее поэтической воли и поразительного по силе духа. Стихи ее – страшны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Вечно не та.jpg"/>
          <p:cNvPicPr/>
          <p:nvPr/>
        </p:nvPicPr>
        <p:blipFill>
          <a:blip r:embed="rId1"/>
          <a:stretch/>
        </p:blipFill>
        <p:spPr>
          <a:xfrm>
            <a:off x="1116000" y="1628640"/>
            <a:ext cx="288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3800"/>
            </a:br>
            <a:r>
              <a:rPr b="0" i="1" lang="ru-RU" sz="3800" spc="-1" strike="noStrike" u="sng">
                <a:solidFill>
                  <a:srgbClr val="ebf25a"/>
                </a:solidFill>
                <a:uFillTx/>
                <a:latin typeface="Tahoma"/>
              </a:rPr>
              <a:t>«Справедливости </a:t>
            </a:r>
            <a:br>
              <a:rPr sz="3800"/>
            </a:br>
            <a:r>
              <a:rPr b="0" i="1" lang="ru-RU" sz="3800" spc="-1" strike="noStrike" u="sng">
                <a:solidFill>
                  <a:srgbClr val="ebf25a"/>
                </a:solidFill>
                <a:uFillTx/>
                <a:latin typeface="Tahoma"/>
              </a:rPr>
              <a:t>окровавленные уста..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4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i?id=315911847-24-72&amp;n=17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i?id=290253826-71-72&amp;n=17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i?id=37585915-39-72&amp;n=17"/>
          <p:cNvPicPr/>
          <p:nvPr/>
        </p:nvPicPr>
        <p:blipFill>
          <a:blip r:embed="rId5"/>
          <a:stretch/>
        </p:blipFill>
        <p:spPr>
          <a:xfrm>
            <a:off x="4356000" y="249228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i?id=325304257-37-72"/>
          <p:cNvPicPr/>
          <p:nvPr/>
        </p:nvPicPr>
        <p:blipFill>
          <a:blip r:embed="rId7"/>
          <a:stretch/>
        </p:blipFill>
        <p:spPr>
          <a:xfrm>
            <a:off x="5867280" y="2276640"/>
            <a:ext cx="1344600" cy="180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i?id=501817795-37-72"/>
          <p:cNvPicPr/>
          <p:nvPr/>
        </p:nvPicPr>
        <p:blipFill>
          <a:blip r:embed="rId9"/>
          <a:stretch/>
        </p:blipFill>
        <p:spPr>
          <a:xfrm>
            <a:off x="7308720" y="3141720"/>
            <a:ext cx="13017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60-е гг.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Диссиденст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«До Движени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были обреченными.. Н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виже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зорвало мир, перевернуло его с ног на голову, вдохнуло в нас жи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. Галанс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ект группы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Ю. Галансков «Человеческий манифест»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764640"/>
            <a:ext cx="48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ФЕСТ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о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знаю, что делаю..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не бы карающий нож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шь, как кто-то на бело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леснул черную лож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шь, как вечера тьм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ует окровавленный стяг..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жизнь страшна, как тюрьм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вигнутая на костях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м оставляю лысе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стану питаться падалью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вс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стану кишкам на потреб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оды на могилах среза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нужно мне вашего хлеб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мешенного на слеза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адаю, и взлетаю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лубред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лусн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чувствую, как расцвета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ческо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м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galanskov"/>
          <p:cNvPicPr/>
          <p:nvPr/>
        </p:nvPicPr>
        <p:blipFill>
          <a:blip r:embed="rId1"/>
          <a:stretch/>
        </p:blipFill>
        <p:spPr>
          <a:xfrm>
            <a:off x="5508720" y="1484280"/>
            <a:ext cx="29401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В. Буковс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, политический и общественный деятель, учёный-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нейрофизиоло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основателей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сидентского движения в ССС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7" descr="Vladimir_Bukovsky_small"/>
          <p:cNvPicPr/>
          <p:nvPr/>
        </p:nvPicPr>
        <p:blipFill>
          <a:blip r:embed="rId2"/>
          <a:stretch/>
        </p:blipFill>
        <p:spPr>
          <a:xfrm>
            <a:off x="826920" y="1916280"/>
            <a:ext cx="32878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А. И. Солженицы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Жить не по лжи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 эссе Александра Солженицына, обращённое к советской интеллиген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7" descr="i?id=328663746-15-72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9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bf25a"/>
                </a:solidFill>
                <a:latin typeface="Tahoma"/>
              </a:rPr>
              <a:t>Солженицын предлагал наиболее доступный, по его мнению, способ борьбы с режимом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793116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Самый доступный ключ к нашему освобождению: личное неучастие во лжи! Пусть ложь всё покрыла, всем владеет, но в самом малом упрёмся: пусть владеет не через меня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14716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 о р о д и н.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рах..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Восемьдесят процентов всех обследованных живут под вечным страхом окрика или потери социальной опор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льные двадцать процентов обследуемых – это рабочие-выдвиженцы, им нечего бояться, они хозяева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14716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Уничтожьте страх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, и вы увидите, какой богатой жизнью расцветёт страна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ьеса и спектакль в целом дали картину взрыва сложившейся системы общественной и частной жизни, в ней пульсировало время тридцатых годов – завершающий этап революции – </a:t>
            </a:r>
            <a:r>
              <a:rPr b="1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.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власти над всеми сферами жизни…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оритет гос интересов над частными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днопартийная систем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ая идеологи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сутствие демократических институтов (парламента..)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актическая ликвидация прав и свобод граждан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прессии и террор в отношении оппозиции и инакомыслящих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36316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ru-RU" sz="3800" spc="-1" strike="noStrike" u="sng">
                <a:solidFill>
                  <a:srgbClr val="ebf25a"/>
                </a:solidFill>
                <a:uFillTx/>
                <a:latin typeface="Tahoma"/>
              </a:rPr>
              <a:t>«Кровавая азбука свободомыслия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bf25a"/>
                </a:solidFill>
                <a:uFillTx/>
                <a:latin typeface="Tahoma"/>
              </a:rPr>
              <a:t>Эпиграф: Справедливости окровавленные уста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?id=315911847-24-72&amp;n=17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?id=290253826-71-72&amp;n=17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?id=37585915-39-72&amp;n=17"/>
          <p:cNvPicPr/>
          <p:nvPr/>
        </p:nvPicPr>
        <p:blipFill>
          <a:blip r:embed="rId5"/>
          <a:stretch/>
        </p:blipFill>
        <p:spPr>
          <a:xfrm>
            <a:off x="4211640" y="278136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i?id=325304257-37-72"/>
          <p:cNvPicPr/>
          <p:nvPr/>
        </p:nvPicPr>
        <p:blipFill>
          <a:blip r:embed="rId7"/>
          <a:stretch/>
        </p:blipFill>
        <p:spPr>
          <a:xfrm>
            <a:off x="6156360" y="270828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Ф. Ф. Раскольни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ёдор Фёдорович Раско́льнико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ский военный и государственный деятель,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иплома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писатель и журналист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Невозвращенец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Портрет"/>
          <p:cNvPicPr/>
          <p:nvPr/>
        </p:nvPicPr>
        <p:blipFill>
          <a:blip r:embed="rId3"/>
          <a:stretch/>
        </p:blipFill>
        <p:spPr>
          <a:xfrm>
            <a:off x="735120" y="1700280"/>
            <a:ext cx="3435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«Открытое письмо Сталину» от 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 26 июля 1938г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Иван Павл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образом академика Бородина из пьесы Афиногенова стал профессор И Павл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адемик Павлов писал в 1928 году: Мы жили и живём под неослабевающим режимом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террора и насилия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Мы живём […] только во всеобщей обязанности беспрекословно, под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страх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азнообразных и тяжёлых лишений повиноваться. […] Образованные люди превращены в безмолвных зрителей и исполнителей. Они видят, как беспощадно и большей частью неудачно перекраивается вся жизнь до дна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влов писал в Совнарком о беспрерывных и бесчисленных арестах: «Аресты делают нашу жизнь совершенно исключите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ужество академика Павлова, учёного и граж­данина, помогало другим представителям интел­лигенции в трудное время сохранять чувство собственного достоинства и дол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i?id=252757125-35-72&amp;n=17"/>
          <p:cNvPicPr/>
          <p:nvPr/>
        </p:nvPicPr>
        <p:blipFill>
          <a:blip r:embed="rId1"/>
          <a:stretch/>
        </p:blipFill>
        <p:spPr>
          <a:xfrm>
            <a:off x="395280" y="2708280"/>
            <a:ext cx="3645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О.Э. Мандельшт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33 г. Мандельштам пишет (и читает в небольшом кругу) стихотворение-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амфл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 Сталине – «Мы живем, под собою не чуя страны…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i?id=37585915-39-72&amp;n=17"/>
          <p:cNvPicPr/>
          <p:nvPr/>
        </p:nvPicPr>
        <p:blipFill>
          <a:blip r:embed="rId1"/>
          <a:stretch/>
        </p:blipFill>
        <p:spPr>
          <a:xfrm>
            <a:off x="830160" y="1600200"/>
            <a:ext cx="3292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5:26:40Z</dcterms:created>
  <dc:creator>lancaster</dc:creator>
  <dc:description/>
  <dc:language>en-US</dc:language>
  <cp:lastModifiedBy>Пользователь</cp:lastModifiedBy>
  <dcterms:modified xsi:type="dcterms:W3CDTF">2013-12-10T10:33:51Z</dcterms:modified>
  <cp:revision>4</cp:revision>
  <dc:subject/>
  <dc:title>Пьеса А. Афиногенова «Страх»1931г.</dc:title>
</cp:coreProperties>
</file>