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C340-FCAD-44AD-8A40-D414E663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B297-784F-4DBD-B7CD-66595F57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763A-4068-4582-82A2-09376420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4531-DBC6-43FA-80F6-C83BBE73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DF6E-D67B-4CAA-B05F-CF944C86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372E-6DA9-4C31-A26F-DF6FE229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A6DD-D077-41E1-8A6A-88E899E9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84AD-F8C3-4888-A7BD-94346345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C1E4-A9CB-4BBD-825D-8E0EBC1B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DEEC-9A92-4663-826B-EDED9DF7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0619-C59E-4C83-A8AE-6F1DC21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A872-F71D-4699-B2A3-AF1B136C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5D07-0DC1-4784-8802-E559DFE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93E8-23D5-4C99-AA35-3630F9B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6F7C-673A-4F0B-A2B0-9EEA2F48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BF92-09BA-4F5F-B81A-3764FE64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B892-0ADB-452F-84BB-2E774769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F8B5-D1C9-45EE-97D3-F06D1DFE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653B-42F1-407D-9240-9F1BE2E9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5373-38C1-4629-AA80-1B9E86AB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E538-A5EA-4839-9492-61114221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35232-0F1C-46D0-B11C-3450945E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C92F-F80B-48C9-8340-DC239D2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A987-0A9D-4853-A1AA-F99A8F73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C987-A19F-499F-93D2-96D040F99BC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2C0B-ADBF-43E9-9039-E58AF373046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7;&#1081;&#1088;&#1086;&#1092;&#1080;&#1079;&#1080;&#1086;&#1083;&#1086;&#1075;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etstolica.ru:8080/index.php/&#1044;&#1080;&#1087;&#1083;&#1086;&#1084;&#1072;&#1090;" TargetMode="External"/><Relationship Id="rId2" Type="http://schemas.openxmlformats.org/officeDocument/2006/relationships/hyperlink" Target="http://setstolica.ru:8080/index.php/&#1053;&#1077;&#1074;&#1086;&#1079;&#1074;&#1088;&#1072;&#1097;&#1077;&#1085;&#1094;&#1099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А. Афиногенов «Страх»1931г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фиша к спектаклю по пьесе Афиногенова «Стра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i?id=375580723-54-72"/>
          <p:cNvPicPr/>
          <p:nvPr/>
        </p:nvPicPr>
        <p:blipFill>
          <a:blip r:embed="rId1"/>
          <a:stretch/>
        </p:blipFill>
        <p:spPr>
          <a:xfrm>
            <a:off x="5219640" y="2997360"/>
            <a:ext cx="2710080" cy="35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Фотография Александр Афиногенов (photo Alexandr Afinogenov)"/>
          <p:cNvPicPr/>
          <p:nvPr/>
        </p:nvPicPr>
        <p:blipFill>
          <a:blip r:embed="rId2"/>
          <a:stretch/>
        </p:blipFill>
        <p:spPr>
          <a:xfrm>
            <a:off x="539640" y="1844640"/>
            <a:ext cx="338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Анна Баркова. 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…Вечно не т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на Баркова - человек трагической судьбы. Она трижды была заключенной советских лагерей, дважды при Сталине и один раз при Хрущеве. Но ничто не сломило ее поэтической воли и поразительного по силе духа. Стихи ее – страшны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Вечно не та.jpg"/>
          <p:cNvPicPr/>
          <p:nvPr/>
        </p:nvPicPr>
        <p:blipFill>
          <a:blip r:embed="rId1"/>
          <a:stretch/>
        </p:blipFill>
        <p:spPr>
          <a:xfrm>
            <a:off x="1116000" y="1628640"/>
            <a:ext cx="288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3800"/>
            </a:br>
            <a:r>
              <a:rPr b="0" i="1" lang="ru-RU" sz="3800" spc="-1" strike="noStrike" u="sng">
                <a:solidFill>
                  <a:srgbClr val="ebf25a"/>
                </a:solidFill>
                <a:uFillTx/>
                <a:latin typeface="Tahoma"/>
              </a:rPr>
              <a:t>«Справедливости </a:t>
            </a:r>
            <a:br>
              <a:rPr sz="3800"/>
            </a:br>
            <a:r>
              <a:rPr b="0" i="1" lang="ru-RU" sz="3800" spc="-1" strike="noStrike" u="sng">
                <a:solidFill>
                  <a:srgbClr val="ebf25a"/>
                </a:solidFill>
                <a:uFillTx/>
                <a:latin typeface="Tahoma"/>
              </a:rPr>
              <a:t>окровавленные уста..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4" descr="Портрет"/>
          <p:cNvPicPr/>
          <p:nvPr/>
        </p:nvPicPr>
        <p:blipFill>
          <a:blip r:embed="rId1"/>
          <a:stretch/>
        </p:blipFill>
        <p:spPr>
          <a:xfrm>
            <a:off x="539640" y="1844640"/>
            <a:ext cx="1519200" cy="194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i?id=315911847-24-72&amp;n=17"/>
          <p:cNvPicPr/>
          <p:nvPr/>
        </p:nvPicPr>
        <p:blipFill>
          <a:blip r:embed="rId2"/>
          <a:stretch/>
        </p:blipFill>
        <p:spPr>
          <a:xfrm>
            <a:off x="1258920" y="3716280"/>
            <a:ext cx="1398600" cy="1657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Картинка 12 из 713"/>
          <p:cNvPicPr/>
          <p:nvPr/>
        </p:nvPicPr>
        <p:blipFill>
          <a:blip r:embed="rId3"/>
          <a:stretch/>
        </p:blipFill>
        <p:spPr>
          <a:xfrm>
            <a:off x="2268360" y="2349360"/>
            <a:ext cx="1489320" cy="194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i?id=290253826-71-72&amp;n=17"/>
          <p:cNvPicPr/>
          <p:nvPr/>
        </p:nvPicPr>
        <p:blipFill>
          <a:blip r:embed="rId4"/>
          <a:stretch/>
        </p:blipFill>
        <p:spPr>
          <a:xfrm>
            <a:off x="3203640" y="4221000"/>
            <a:ext cx="1271520" cy="18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i?id=37585915-39-72&amp;n=17"/>
          <p:cNvPicPr/>
          <p:nvPr/>
        </p:nvPicPr>
        <p:blipFill>
          <a:blip r:embed="rId5"/>
          <a:stretch/>
        </p:blipFill>
        <p:spPr>
          <a:xfrm>
            <a:off x="4356000" y="2492280"/>
            <a:ext cx="1347840" cy="1860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Pilnjak.jpg"/>
          <p:cNvPicPr/>
          <p:nvPr/>
        </p:nvPicPr>
        <p:blipFill>
          <a:blip r:embed="rId6"/>
          <a:stretch/>
        </p:blipFill>
        <p:spPr>
          <a:xfrm>
            <a:off x="5076720" y="4292640"/>
            <a:ext cx="1378080" cy="1720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i?id=325304257-37-72"/>
          <p:cNvPicPr/>
          <p:nvPr/>
        </p:nvPicPr>
        <p:blipFill>
          <a:blip r:embed="rId7"/>
          <a:stretch/>
        </p:blipFill>
        <p:spPr>
          <a:xfrm>
            <a:off x="5867280" y="2276640"/>
            <a:ext cx="1344600" cy="180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Pilnjak.jpg"/>
          <p:cNvPicPr/>
          <p:nvPr/>
        </p:nvPicPr>
        <p:blipFill>
          <a:blip r:embed="rId8"/>
          <a:stretch/>
        </p:blipFill>
        <p:spPr>
          <a:xfrm>
            <a:off x="7020000" y="4437000"/>
            <a:ext cx="1377720" cy="172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i?id=501817795-37-72"/>
          <p:cNvPicPr/>
          <p:nvPr/>
        </p:nvPicPr>
        <p:blipFill>
          <a:blip r:embed="rId9"/>
          <a:stretch/>
        </p:blipFill>
        <p:spPr>
          <a:xfrm>
            <a:off x="7308720" y="3141720"/>
            <a:ext cx="13017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60-е гг.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Диссиденст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«До Движени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ы были обреченными.. Но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виже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зорвало мир, перевернуло его с ног на голову, вдохнуло в нас жиз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. Галанс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Проект группы №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Ю. Галансков «Человеческий манифест»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764640"/>
            <a:ext cx="489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ФЕСТ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о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знаю, что делаю..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не бы карающий нож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шь, как кто-то на бело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леснул черную лож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шь, как вечера тьм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ует окровавленный стяг..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жизнь страшна, как тюрьм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двигнутая на костях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м оставляю лысе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стану питаться падалью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вс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стану кишкам на потребу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оды на могилах среза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нужно мне вашего хлеб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мешенного на слеза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адаю, и взлетаю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олубреду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олусн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чувствую, как расцвета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ческо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м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galanskov"/>
          <p:cNvPicPr/>
          <p:nvPr/>
        </p:nvPicPr>
        <p:blipFill>
          <a:blip r:embed="rId1"/>
          <a:stretch/>
        </p:blipFill>
        <p:spPr>
          <a:xfrm>
            <a:off x="5508720" y="1484280"/>
            <a:ext cx="29401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В. Буковс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, политический и общественный деятель, учёный-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нейрофизиолог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 основателей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сидентского движения в ССС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7" descr="Vladimir_Bukovsky_small"/>
          <p:cNvPicPr/>
          <p:nvPr/>
        </p:nvPicPr>
        <p:blipFill>
          <a:blip r:embed="rId2"/>
          <a:stretch/>
        </p:blipFill>
        <p:spPr>
          <a:xfrm>
            <a:off x="826920" y="1916280"/>
            <a:ext cx="32878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bf25a"/>
                </a:solidFill>
                <a:latin typeface="Tahoma"/>
              </a:rPr>
              <a:t>А. И. Солженицы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Жить не по лжи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 эссе Александра Солженицына, обращённое к советской интеллиген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7" descr="i?id=328663746-15-72"/>
          <p:cNvPicPr/>
          <p:nvPr/>
        </p:nvPicPr>
        <p:blipFill>
          <a:blip r:embed="rId1"/>
          <a:stretch/>
        </p:blipFill>
        <p:spPr>
          <a:xfrm>
            <a:off x="826920" y="1557360"/>
            <a:ext cx="33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9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bf25a"/>
                </a:solidFill>
                <a:latin typeface="Tahoma"/>
              </a:rPr>
              <a:t>Солженицын предлагал наиболее доступный, по его мнению, способ борьбы с режимом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2781360"/>
            <a:ext cx="793116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i="1" lang="ru-RU" sz="3200" spc="-1" strike="noStrike" u="sng">
                <a:solidFill>
                  <a:srgbClr val="ebf25a"/>
                </a:solidFill>
                <a:uFillTx/>
                <a:latin typeface="Tahoma"/>
              </a:rPr>
              <a:t>Самый доступный ключ к нашему освобождению: личное неучастие во лжи! Пусть ложь всё покрыла, всем владеет, но в самом малом упрёмся: пусть владеет не через меня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14716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 о р о д и н.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рах...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Восемьдесят процентов всех обследованных живут под вечным страхом окрика или потери социальной опор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льные двадцать процентов обследуемых – это рабочие-выдвиженцы, им нечего бояться, они хозяева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14716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</a:rPr>
              <a:t>Уничтожьте страх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, и вы увидите, какой богатой жизнью расцветёт страна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ьеса и спектакль в целом дали картину взрыва сложившейся системы общественной и частной жизни, в ней пульсировало время тридцатых годов – завершающий этап революции – </a:t>
            </a:r>
            <a:r>
              <a:rPr b="1" lang="ru-RU" sz="3200" spc="-1" strike="noStrike" u="sng">
                <a:solidFill>
                  <a:srgbClr val="ebf25a"/>
                </a:solidFill>
                <a:uFillTx/>
                <a:latin typeface="Tahoma"/>
              </a:rPr>
              <a:t>тоталитар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bf25a"/>
                </a:solidFill>
                <a:uFillTx/>
                <a:latin typeface="Tahoma"/>
              </a:rPr>
              <a:t>тоталитаризм..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власти над всеми сферами жизни…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оритет гос интересов над частными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днопартийная систем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ая идеология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сутствие демократических институтов (парламента..)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актическая ликвидация прав и свобод граждан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прессии и террор в отношении оппозиции и инакомыслящих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36316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i="1" lang="ru-RU" sz="3800" spc="-1" strike="noStrike" u="sng">
                <a:solidFill>
                  <a:srgbClr val="ebf25a"/>
                </a:solidFill>
                <a:uFillTx/>
                <a:latin typeface="Tahoma"/>
              </a:rPr>
              <a:t>«Кровавая азбука свободомыслия»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bf25a"/>
                </a:solidFill>
                <a:uFillTx/>
                <a:latin typeface="Tahoma"/>
              </a:rPr>
              <a:t>Эпиграф: Справедливости окровавленные уста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Портрет"/>
          <p:cNvPicPr/>
          <p:nvPr/>
        </p:nvPicPr>
        <p:blipFill>
          <a:blip r:embed="rId1"/>
          <a:stretch/>
        </p:blipFill>
        <p:spPr>
          <a:xfrm>
            <a:off x="539640" y="1844640"/>
            <a:ext cx="1519200" cy="194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?id=315911847-24-72&amp;n=17"/>
          <p:cNvPicPr/>
          <p:nvPr/>
        </p:nvPicPr>
        <p:blipFill>
          <a:blip r:embed="rId2"/>
          <a:stretch/>
        </p:blipFill>
        <p:spPr>
          <a:xfrm>
            <a:off x="1258920" y="3716280"/>
            <a:ext cx="1398600" cy="1657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Картинка 12 из 713"/>
          <p:cNvPicPr/>
          <p:nvPr/>
        </p:nvPicPr>
        <p:blipFill>
          <a:blip r:embed="rId3"/>
          <a:stretch/>
        </p:blipFill>
        <p:spPr>
          <a:xfrm>
            <a:off x="2268360" y="2349360"/>
            <a:ext cx="148932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i?id=290253826-71-72&amp;n=17"/>
          <p:cNvPicPr/>
          <p:nvPr/>
        </p:nvPicPr>
        <p:blipFill>
          <a:blip r:embed="rId4"/>
          <a:stretch/>
        </p:blipFill>
        <p:spPr>
          <a:xfrm>
            <a:off x="3203640" y="4221000"/>
            <a:ext cx="1271520" cy="180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?id=37585915-39-72&amp;n=17"/>
          <p:cNvPicPr/>
          <p:nvPr/>
        </p:nvPicPr>
        <p:blipFill>
          <a:blip r:embed="rId5"/>
          <a:stretch/>
        </p:blipFill>
        <p:spPr>
          <a:xfrm>
            <a:off x="4211640" y="2781360"/>
            <a:ext cx="1347840" cy="1860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Pilnjak.jpg"/>
          <p:cNvPicPr/>
          <p:nvPr/>
        </p:nvPicPr>
        <p:blipFill>
          <a:blip r:embed="rId6"/>
          <a:stretch/>
        </p:blipFill>
        <p:spPr>
          <a:xfrm>
            <a:off x="5076720" y="4292640"/>
            <a:ext cx="1378080" cy="172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i?id=325304257-37-72"/>
          <p:cNvPicPr/>
          <p:nvPr/>
        </p:nvPicPr>
        <p:blipFill>
          <a:blip r:embed="rId7"/>
          <a:stretch/>
        </p:blipFill>
        <p:spPr>
          <a:xfrm>
            <a:off x="6156360" y="2708280"/>
            <a:ext cx="1344600" cy="180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Pilnjak.jpg"/>
          <p:cNvPicPr/>
          <p:nvPr/>
        </p:nvPicPr>
        <p:blipFill>
          <a:blip r:embed="rId8"/>
          <a:stretch/>
        </p:blipFill>
        <p:spPr>
          <a:xfrm>
            <a:off x="7020000" y="4437000"/>
            <a:ext cx="1377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Ф. Ф. Раскольни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ёдор Фёдорович Раско́льнико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ский военный и государственный деятель,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диплома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писатель и журналист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Невозвращенец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Портрет"/>
          <p:cNvPicPr/>
          <p:nvPr/>
        </p:nvPicPr>
        <p:blipFill>
          <a:blip r:embed="rId3"/>
          <a:stretch/>
        </p:blipFill>
        <p:spPr>
          <a:xfrm>
            <a:off x="735120" y="1700280"/>
            <a:ext cx="3435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«Открытое письмо Сталину» от 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 26 июля 1938г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Иван Павл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Прообразом академика Бородина из пьесы Афиногенова стал профессор И Павл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адемик Павлов писал в 1928 году: Мы жили и живём под неослабевающим режимом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террора и насилия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Мы живём […] только во всеобщей обязанности беспрекословно, под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страх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азнообразных и тяжёлых лишений повиноваться. […] Образованные люди превращены в безмолвных зрителей и исполнителей. Они видят, как беспощадно и большей частью неудачно перекраивается вся жизнь до дна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влов писал в Совнарком о беспрерывных и бесчисленных арестах: «Аресты делают нашу жизнь совершенно исключите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ужество академика Павлова, учёного и граж­данина, помогало другим представителям интел­лигенции в трудное время сохранять чувство собственного достоинства и дол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i?id=252757125-35-72&amp;n=17"/>
          <p:cNvPicPr/>
          <p:nvPr/>
        </p:nvPicPr>
        <p:blipFill>
          <a:blip r:embed="rId1"/>
          <a:stretch/>
        </p:blipFill>
        <p:spPr>
          <a:xfrm>
            <a:off x="395280" y="2708280"/>
            <a:ext cx="3645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О.Э. Мандельшт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33 г. Мандельштам пишет (и читает в небольшом кругу) стихотворение-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амфл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 Сталине – «Мы живем, под собою не чуя страны…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i?id=37585915-39-72&amp;n=17"/>
          <p:cNvPicPr/>
          <p:nvPr/>
        </p:nvPicPr>
        <p:blipFill>
          <a:blip r:embed="rId1"/>
          <a:stretch/>
        </p:blipFill>
        <p:spPr>
          <a:xfrm>
            <a:off x="830160" y="1600200"/>
            <a:ext cx="3292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5:26:40Z</dcterms:created>
  <dc:creator>lancaster</dc:creator>
  <dc:description/>
  <dc:language>en-US</dc:language>
  <cp:lastModifiedBy>Пользователь</cp:lastModifiedBy>
  <dcterms:modified xsi:type="dcterms:W3CDTF">2013-12-10T10:33:51Z</dcterms:modified>
  <cp:revision>4</cp:revision>
  <dc:subject/>
  <dc:title>Пьеса А. Афиногенова «Страх»1931г.</dc:title>
</cp:coreProperties>
</file>