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43A3-DB95-489D-AC7B-14C0997C72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36FA-63A2-487D-979C-F221D22A5E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A444-0647-40F3-975D-796960F62F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D9EC-DB10-4EBE-AFB8-AC8318D414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87D6-A3BF-441A-81A3-0548D02392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3520-53A8-427B-AB13-29B6AE3B04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679C-5073-4BB3-9BFC-6856A8402D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9613-578E-47C6-ADF7-B0EA557EB6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C008-C012-4D51-9F34-D3FD99F0E2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C0E-9107-419D-B3F9-EC8979D7B3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849-2C86-411A-A76B-898E8277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74D-83DC-4095-8F53-3C9B48BC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2EBE-A5F9-4837-B7E4-74026368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7400C-CF46-4436-BEBB-843BC395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90A64-8549-4F66-B333-2F66FEB8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A2E2E-090F-46ED-855A-36587163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756CA-A7C1-496A-A085-AD450CC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8A60D-E335-48C6-8ED8-328564D2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F5E4B-4DA1-4AF8-A374-42C91AD9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3811-C12F-4D4D-B520-29226ABE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95252-0E89-4C83-901B-F7E901FD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CAD5C-AF43-4A61-AC24-30F6A2CA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A96-F007-4702-9A1C-A165E146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943C9-D212-42E5-A0ED-CF31E60D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3B3E0-3F6D-4D26-A053-488460F2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9E0F0-B5E2-4BD9-805A-85E3BBC0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BEB4E-0462-44D5-B56E-B5FA911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90A94-3F04-4368-9FAC-31B93EB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474A2-BA36-41AA-B42F-943AD21A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56412-1BE5-49C2-9E25-0F25D477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BF517-7F22-454F-B346-5297F0F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999F0-E2FD-4BD8-B8A0-3C33595B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1A64A-7181-4A26-8926-84CAA2D4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98F-E7D7-4CB9-8105-7EA0A324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F9FBB-D648-4481-88D2-18111097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41EB8-CCDD-4D08-B1F1-C92A8EEE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AEEF2-732C-4A95-BA62-A124B228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717EA-1F17-4A1F-AD08-6C4F1B63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B1398-90D9-4BB0-BDA8-7437C49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6419C-00C3-4AD4-8384-02E3E32F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85419-3793-4BAE-9796-B822CD01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BA11F-33F8-4149-A658-FA21E33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741F5-EC51-413B-A549-880312E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E4FD4-F8F0-494F-BB5A-CDA299E2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EB55-58B6-4B82-B2EE-38EE43B1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D24FD-B9B7-4413-83CB-FF35A2C7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C5E1A-4A1E-431D-B0D2-F4872BC8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B6BD2-13EF-433D-89B1-53B64B35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4DD8A-CACF-42F0-98B9-C93EC943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AA9F7-D6CD-4078-8E27-9BE9D40F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C34A8-1392-487E-A04B-963327DA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BAD1B-15FA-4ACE-B8E8-7AB01806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D23A4-2344-4A25-9258-6236C999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AC502-11AB-4321-8811-55BDD175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8152B-05DC-4981-BEFE-AB7F6D37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EA70-3B9A-48E9-8EDA-63F5F58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E4C6E-9E37-4A6B-A36F-65EC76BA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20794-291B-41CA-BCCC-3FC7C6DD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2F377-30D9-42EC-BBE1-819771C8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87857-5F31-4004-82E2-17FB3759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EA802-35B6-4754-B977-88430133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2C40-D016-44DE-8C8B-18CCCB7B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AAB5-0EFB-4E06-9146-9A489BB7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873-1E41-4A94-8E9C-C1ABB59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59D7-BE7D-4D17-990D-5DF56A60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5D3E-E3A7-476B-A8A7-A2172E3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3A2-C5D6-4B16-B171-7DD26F54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BCAD-6314-4B44-94D0-2A74723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920B-A04E-497B-A27B-C41B34C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E44A-9185-4A86-A200-42355959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0BA7-4A9D-4DF4-B674-5FF8F01C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791E-B3C8-48B5-94FF-F3167D47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207B-9EB6-434B-B8AD-140DE400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DFC5-3B5F-481F-BDA8-C06EE82E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6B60-5873-4321-96AC-7687DB53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B3B0-C74F-45BF-AE85-114A9949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6EA8-F494-4DE2-B653-F5EA3186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97A-2AFC-41EC-BF4A-C8AE3A5F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2283-1A3B-47B0-9FE4-D0C937D0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9595-6B14-4EB6-ACFB-1CEA79C9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4952-37B7-4A5A-A901-1089D937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F359-58B0-43EE-87F9-7BF87420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7104-5CA6-4562-B5AA-D062055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0408-F1D1-462E-AFE7-B915DC53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9293-6EB5-4EBB-AC41-1F8AA28F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99CA-6F08-4DB2-8FC3-C9E194D5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FB82B-B9FE-455D-B686-085C8DA9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D674-971C-4771-88BF-FAAC3EF2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845-B07E-4409-B4B6-81C4AA6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A4C5-06DE-40B6-909E-D67355DF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54F7-9194-411E-9B8D-3D2C39AB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3F22-1DE5-46FC-A2A3-655AB1D8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BD59-4848-4988-AC13-564749A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8EC7-EF63-45C3-A444-7DC8563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6A9AD-EED9-48FC-8054-286B300D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058A-DA04-4F86-8970-27079429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5BA3-252A-47C4-99C1-8A6467C9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A2CF-7BA2-471F-9BB1-8DE344A4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D7BCB-8238-4BD6-A087-F13557E7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935-3A87-4FD0-AA90-D9F31D6B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95116-B5AA-4B79-AABA-88110A1F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04896-8F45-4DAF-8B63-95E41B9B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CB44-7EDE-4B9C-87F3-25FE57CD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BD523-56AD-40E9-B3CB-501192A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388A-89E6-4E7B-AB0E-7B81F119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982F0-6358-4346-80DD-FD5BD9C6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E702C-93FF-479C-8C52-940C3EDD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37EE6-D742-43B7-859A-B5C893C1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C5656-10A3-4446-A781-6F1DB3C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186E-BA9F-4BB5-A507-534DCC0E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027-7738-4CB3-B422-6BC2FC6F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ECBA-2C74-4BE1-9FC9-80D6A94B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343AC-1A43-4648-B1D5-41DB5469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C3FFE-DDB2-412A-A212-16800903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B7EA-9279-4C63-90DC-9CA73CFF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59CB8-CCE4-459F-A67E-A403226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77647-5813-43DD-BF98-13DFE8FC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AD2BC-3C1B-41F7-82FE-4571494F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0EB6D-8021-4900-A612-B52D7BF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68BF-2378-41D9-8B9C-14504CB0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E537-FE70-4E7C-BA29-EDE72F07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31A-06E4-4E83-80D8-538C9EC1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2AC1B-0690-4A25-B46F-55E8754B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0058-3E95-42A0-8BE4-1A61AA3F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400DB-4F30-4F5D-B414-D970D686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8AA74-001F-4F06-AD60-AAAF2809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299C5-3091-433D-9B9A-EB58E610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99F5-0E7C-4490-B5BD-C459BA2B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D02B0-649D-42E3-BE6D-4F2FD047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6B725-8E31-47DD-B64E-F1D860F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4C740-06BE-4E1B-B286-E84E8389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999E2-5318-49ED-92E4-C9A0042A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055-60BF-445E-BEA3-A459714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B2DBA-AD89-426F-B24D-22DA777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65675-DD51-4BCA-970D-A3789BD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DE807-A0E9-4895-B4E5-06A10757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E92A6-A186-49E3-A4BB-7D590C8E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5ADC-EE25-4C30-B1ED-38FE92E4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EFB55-5930-4D11-A864-F7E0C807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E5225-0B95-49AE-8527-E8F748CF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B3CB1-8B1C-4D5D-9610-2F736D2E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34A7E-576A-4007-9F2A-B55490B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4B9F1-E55B-4880-9CD9-B5472F2E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20F-3BB6-4DC4-BBA4-01B1C805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D934E-4F46-475D-96CC-DFBB3DD2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25D5E-C2B7-4315-BD1D-6BA56EBC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A3B11-95BC-4DC3-81D5-D6A4BFC8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725AC-E0BC-4FFC-9800-11A475A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D3061-D7CD-4E6D-964C-06C476C7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621DB-E1F7-4D3E-A92D-4E6662DB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BAA0F-71E8-4036-B08F-C887B3D8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756BD-C82B-4575-BAF0-09AAC260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A05FF-114F-4495-8E9A-F2AFB051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0326E-E3AB-42AF-85F4-B8BEF346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A5D2-770A-455F-B527-AE21705FC44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74A5-C606-425F-A08C-4CA89B32B5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E753-66BB-408A-A712-57781A7F5B8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B36D-EB6C-4BBC-BE46-F16D5CF1BB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99F6-3CDD-475C-B109-4A6E3123B4D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931C-AB2D-4BF5-BFA6-F343AAFF2E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437F-A306-4852-8169-3BA75383A79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510F-3174-406B-B823-0DDD9C7393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B887-B7E2-4735-A27A-09E58FBE214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62F5-BEFA-4A7B-AED6-97D9A26BFC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1773-09D0-412E-86F6-4875F7D6152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5B60-E408-4927-B7D8-F37F3273E3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47FA-F2AA-4092-8567-0B749EBE038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766B-724D-4E8A-9D2D-B14438F338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CAEA-C380-4BC6-8CF4-330BA773BBC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66CC-DD1F-472D-8408-68C556C6EC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35B-CC13-438A-86DD-41E4116303F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F49B-6534-4FA6-A737-2AE879C190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8DEF-57C7-4444-B95F-71463EF1A61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8F0A-27FA-443C-958D-9B2B5707D0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BC67-25F2-4513-B9A8-03F74650D90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CA20-5C09-4C0E-998B-2DF2E2A73A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3577-3A9C-47B6-9DAC-2F96AAAE5C8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5FD6-DBF3-4207-A7B1-B169C51E74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3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8B97-AAC5-4A62-A713-2F387468681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103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47BB-D83B-4564-8AC4-067604B426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етические факторы,  их воздействие на здоровье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C35E-CFA7-4D64-AC29-253716089B1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3D52-CF5F-454C-83D5-812CE4FDC8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тоды предупреждения наследственных заболевани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ой метод предупреждения наследственны заболеваний заключается в медико –генетическом консультировании семей, отягощенных наследственной патолог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1164-F306-4203-AB1C-E7232FF1A41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B611-1568-4D9A-AA64-4C5F58E096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етические факто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методологическом плане понятие «генетические факторы» следует рассматривать в широком и узком смыс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широком смысле – как унаследованные в процессе эволюции животного мира механизмы адаптации к условиям существова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узком же смысле слова под генетическими факторами следует понимать унаследованные от ближайших предков семьи, особенности обеспечения жизне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14CD-851F-4A65-A6CE-E44037DDAF6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C685-B81C-4103-B6CE-BF8A41696B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отип человек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ерминирует его морфофункциональную конституцию, преобладание тех или иных нервных и психических процессов, степень предрасположенности к тем или иным заболеваниям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ституцией человека во многом детерминированы доминирующие потребности человека, жизненные установки, его способности, интересы, желания, предрасположенность к алкоголизму и другим вредным привычк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8A3-477E-4E84-BAEE-6E267D71F64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F90D-07FD-4B7F-9B1A-ABF39BDBCA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акторы, воздействующие на генотип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е(ионизированные излучения, рентген; радиоактивные элементы –радон, радий, изотопы; ультрафиолетовое излучение; чрезвычайно высокая и низкая температур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ческие(сильные окислители или восстановители – нитраты, нитриты; алкилирующие агенты, пестициды; некоторые пищевые добавки; продукты переработки нефти; органические растворители; лекарственные препараты и друг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(некоторые вирусы –корь, краснуха, грипп; продукты обмена веществ; антигены некоторых микробов и паразит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циальные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7B74-200D-466E-8ED2-E18D64DFAA5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7E2F-B3CC-4F8A-86C7-ADBCC20F54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 объекту воздействия факторы воздействующие на организм человека подразделяются на три группы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действия на ряд предшествующих поколений. В этом случае особое значение имеют состояние окружающей среды, географические факторы, национальные, религиозные, этнические и семейные обычаи и тради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действия на хромосомы будущих родителей. Преимущественное значение имеет образ жизни будущих родителей, так как именно он обуславливает благоприятное или отрицательное влияние на хромосомы половых клеток или зародыш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действия на хромосомы зародыша в период его внутриутробного развития. Генный аппарат особенно раним на раннем эмбриональном этапе развития, когда генетическая программа реализуется в виде закладки основных функциональных систем организ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9C11-C6C5-469E-A871-37363F71BC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2568-2B3D-4F05-B5F9-77AEA51E5B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ут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наследственно закрепленные изменения генетического кода. Принято различать моногенные болезни, при которых генетический дефект связан с мутацией одного гена, и полигенные болезни, обусловленные совокупным действием нескольких генных мутаций. В последнем случае генетический дефект вызывает предрасположение и болезнь является следствием сложного взаимодействи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нетических и средовых фак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DB31-ABFA-497C-A066-C64A90FE4B1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1933-AA5C-4C54-9EC3-B820FE6C24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формы патологии челове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ервую группу составляют болезни, у которых этиологическую роль играет патологический ген, роль среды заключается в модификации лишь в проявлении заболевания. В эту группу входят моногенные болезни, такие как гемофилия, фенилкетонурия, некоторые болезни обмена веществ, а также в группу относят хромосомные аномал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торая группа – это тоже наследственные болезни, обусловленные патологической мутацией, однако для их проявления необходимо специфическое воздействие среды. Сюда включаются многие случаи извращенных реакций организма на лекарственные препараты и пищевые прод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ретью группу – составляет подавляющее число распространенных болезней, особенно болезней зрелого и преклонного возраста (гипертоническая болезнь, ИБС, язвенная болезнь желудка и 12- пертной кишки, большинство злокачественных новообразований и др.) Основным этиологическим фактором в их возникновении служит неблагоприятное воздействие среды, однако реализация действия фактора зависит от индивидуальной генетически детерминируемой предрасположенности. Эти болезни получили название болезни с наследственным предрасположени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етвертая группа – это те формы паологии,  в возникновении которых исключительную рольиграет фактор среды. Обычно это экстремальный средовой фактор, по отношению к действию которого организм не имеет средств защиты (травмы , ожоги, особо опасные инфекции). Генетические факторы в этом случае играют роль в течение болезни, влияют на ее исх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просите результаты практику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52A-29D0-42B1-9A89-002ABCE965E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02FD-50BF-4148-AA4E-1E17157F48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а наследственный характер болезни могут указывать следующие факто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ичие в семье нескольких больных с одинаковой патолог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цидивирующее хроническое течение болезни, особенно у де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влеченность в патологический процесс многих сист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жденный характер заболе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LENA</cp:lastModifiedBy>
  <dcterms:modified xsi:type="dcterms:W3CDTF">2010-12-29T20:49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