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9B1E-A0BB-4F90-9B9D-0982082FD4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9AF1-629B-49B4-A031-4B9F2F704C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BB92-11BE-4B27-BB4B-6716445C35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68CB-6A74-4EB9-A127-C657FBA7EC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B70-0865-496C-8F64-CAB1B1D023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14F6-17B5-4A0C-9955-28FCD9CA77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219E-5EED-4264-81C6-7184580F1F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3414-22DB-4C4C-B444-F57F85511C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1132-0787-4267-8F78-7350D32441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E252-44B0-4B97-9E36-C0FE219BE4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4BE-D2BC-4965-AEF6-0FEAF00C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176-4D84-41F8-B740-41008076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9C791-08B9-4AF3-A123-DDF8C027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DCC9F-8E05-48A1-9740-9B05F3A6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BC9D8-81E9-44DF-915F-E10B1331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41CA8-BE46-4E7F-AACF-46ACF02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13DFC-5D8E-4285-A218-DEB7FF3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0D62F-CBDE-4F24-A159-D628E452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6C080-C08C-425A-BE5D-27FD840F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5E299-4B52-4160-AAC6-E5AC75E0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98832-5C2D-4B6F-AE70-2E44A296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CFC65-04CD-45CD-8A00-29804ED3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169-4BFF-4F8F-87DB-7DBF8A1D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57F96-F14D-4D41-B116-BB23874C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E0C19-21D7-4202-B573-4B685AE9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B7756-643A-46B4-9CBC-39BEA8ED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0B0E3-24F9-4FA0-AF54-5238F0D5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14FCF-42FD-442F-AC00-731D094D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3B29B-EFC2-44A9-8755-CD594EC8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29982-F892-45E8-B55B-0643C92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C3102-0C2A-42AD-9359-5488A14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5467C-6C2B-4509-8C83-C9435C19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28D22-812C-4AF8-9C46-38E787BD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8AC-072B-4D4C-B389-0EFADAC8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1BD31-70DF-4239-9B1A-FC469BD7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EB247-C717-4304-A492-FD8B66F8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3FF85-4C78-495F-93CF-265B2ADF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B29C2-A911-4FB7-BE2E-58BB5A7C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64A86-D0E0-44BA-A435-063444B4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B60E6-86E7-43E4-9614-2888CCA7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E606B-5ECC-4E80-9322-F37D7739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D273B-5339-4F40-AAD2-644D1418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A3611-5C90-424A-AE38-8830CC81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B39EC-C71C-43FD-B1A4-4B1FCB59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DC1B-C9FC-4B46-B523-C07AA48C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06A84-DBB8-4A34-8FDD-C196B27F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BB6E1-1335-4D9C-9155-3A7C2E0C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993C2-5AF5-455D-9BA5-E0C9842B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E639E-C764-4514-A12A-E3C86D7E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7BE35-387F-4967-94F0-127C7264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BA75C-D8BE-4159-9AA0-B97641B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CB791-B06F-4E7F-A07A-B071C69D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7599A-9437-4EA7-AAEF-2B72788A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B0AA0-6E76-48FD-BFEA-000B2B97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C882F-2848-4681-BFCE-8FA3695D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749C-581D-49B8-8FC4-C964F471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CAA3F-4A38-498F-BEAB-821D0CC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90FF6-7743-4662-B956-A83814FE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E90D0-21D2-4D66-ADB1-0388BE92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4B0E3-5B1C-47B3-AC9A-8449E1E1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6EA94-9970-4AB4-BB08-873D4D5D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35BF-41B5-4E71-BA60-BEFE8FEA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B05B-65C8-4F33-BBD9-675E69C9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C3FE-A485-4CF3-9382-46F7B240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A479-AA51-4903-9A3E-2C6B3AB1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AE4C-0556-4994-8CD3-125D56ED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F61-5326-4E82-A560-164C5E7F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9016-67B5-439E-9C05-62489118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3DFD-3A76-4D5A-8E4C-6242C008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FD49-F7B5-4E6A-8521-858782EE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9DDC-8522-4000-9AB1-1CAAA3E4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D8A5-9955-4C22-A109-572B8C35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6B99-0FE7-4E55-85C2-472A419A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15CF-3EA7-43AA-A538-C4CABB6C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7FB0-4D0F-48B5-9227-422B7BEA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163C-BE0D-4AA1-8893-6D4264B8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6E34-68D1-44C9-85CE-7B04CA22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1BA-5EC8-44AA-AE60-FDD1BF3C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5DC8-6357-4D0C-9CA5-5AB619F2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EDE7-AF57-4F88-89D7-435D4AAE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0B0D-8247-4B6D-9E24-0FCB605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FB98-CF67-4A8D-89B0-C7FE1D4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694F-1A38-4550-B7A1-0713B2CA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C35C-40EE-4792-8AC9-68BF4B71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95D0-B4D8-4720-BF0F-32A87247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9576-3DB0-4318-9429-1C6DD675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D3403-B007-4770-AC7E-B95CA965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3146A-36BB-4CA3-87FE-108C1A70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141-9C31-49E1-8767-C722CF8A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8A1CB-C251-4915-93AE-73DB82B2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751E-7148-439C-A332-5B4FD4BB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6F0D4-8BF3-4DC5-A1AE-DF366DE8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430B3-ECDA-4C82-9785-B37E672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ACE0F-8444-4D64-A518-97B05AD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10CE-DB4E-42C5-8B65-70ACC150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B72B6-3795-49E6-82E7-8A9455DF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9792E-A601-4D87-ACD5-93943395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EC896-C991-4110-961C-6DA3A7DC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0A947-0483-4DCC-BFAB-26C87356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69C-76F3-4F97-9885-00A4D8D4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77581-BC18-4BE0-A917-6B831FC1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4DB5E-5EE5-423C-B407-34FAB7E1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ADF15-8A68-4B34-AC01-B6F91B28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5CEFF-69D0-4960-AED5-E80B9638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83CBA-852B-4629-993F-1B1D6B98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34A37-2A57-4718-82C0-5A50937A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13893-38A8-42AF-8FA0-D60C835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1BED-7A1C-4285-BAE2-D72094B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2E3D9-890F-4DDF-B070-FC5E8C6A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B80A-690A-4708-9437-64CCC936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908-9EEF-408E-B746-004EEEC1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5D0D6-8C73-41BC-8FCE-AD55A583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78C07-3E8C-41CC-A2CE-0EF2E0CA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F440B-37D5-423B-9BFC-1C88C03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FF8C-BCF8-4B35-8770-AC51058D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DC5F3-EF6D-4BE3-B8B8-B33AFBB2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B4911-3D10-46D9-9D77-44CD1EC8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3DE47-5A8B-4D26-B4A9-F427984F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E1F67-29AE-43AD-A83B-4CE4CB6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9DCBC-4C22-4971-9007-C1318FDA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A4263-F3B6-49DB-A196-8CF6E25F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09E-5ED7-423D-87DC-6FA22FF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1117-D1C9-4188-BCEE-5A1AF24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E954B-510D-41AD-B59E-2DEC87DB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7BF5-70E5-4ECD-BF51-84C6DB3C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65AE1-D1D3-4BE7-8BDB-7000859B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1B4BF-18D3-4E68-BEE5-1CB77EDA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70079-29A1-45BD-BE54-82B574AA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F134-73F0-4689-949F-280145EA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9D2C-4DD0-475E-BEB7-5FF34EF7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24810-0FEF-44C3-9638-DA8A6AB8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8557-29AB-46A8-8D41-34DD94E5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CBF-4FCF-416F-BDB8-C2A30001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A9F1F-DBD8-439E-BAC8-F68080D5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212CA-2F0C-4855-ACDD-C9BCB18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F5C9B-68E0-4D09-AEA9-642D7E58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52705-258B-4959-A050-9849B98E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98F7E-8879-4569-8126-DC874C5C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7198-93AC-4BEB-99F9-BD2E8D7F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3DE5B-8F84-40FD-B3A5-865EA56C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94484-A973-467F-AD0C-7F8773A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0FC95-D7CB-425F-A28A-C779F92E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9B2AB-9050-4E81-8E33-27F5B202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A6B-CAE7-4852-A004-5F99CBEB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298DB-E59C-436D-B942-3AF5356C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D936A-BDEA-41B7-88B6-BC5D819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0F8DD-DBAF-4B74-B65D-82B76E81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45C73-6DBC-4972-A241-3B46866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671F1-9A87-421E-970E-580BFDAE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6CC95-A6DF-4E0B-AC9B-11331E12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08EB8-D75A-4505-87E2-55299D5E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8BB2D-8B24-434B-9AC9-C40DA4C0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66878-3F55-40BD-9B22-ADB2A2B1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E7FCB-9ACC-4BFE-9B0E-8BF74391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1F66-6759-4742-907B-E3E3EF1C30D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066D-C8F9-4F37-BF79-2FCFC13740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15A4-3A7B-40D3-807C-F87C220970F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36AD-1630-4F1E-A4C9-E67E98FC02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C64C-B6B3-4654-925B-47B5B3E2A3B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F915-8081-4D9F-B6D3-E3E06B7BBE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20C4-4A06-494F-8227-B9C42689CBB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2CC2-0674-4BC7-AD31-582267DB39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762A-04E6-44E4-A0E6-88B00685395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16F0-8A82-4F63-A937-00E6BBDD3B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19D1-2F39-4BBA-A829-51A4F2C44AC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078F-BE69-4FEB-A8E4-2EF8A7A8E4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392E-73F8-4A79-AFBF-5A25A9442FA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BD02-DBE2-4E24-A8F6-7A7BC15CD2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FBFA-3E1E-4FD1-991F-3C9E10A6BAD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58A3-972A-42C0-AEAE-0BD2077A25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4B68-4E80-4AC8-991C-89B3619D068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F07E-351F-422B-B435-A3F0E94F3B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BB44-0DA6-427B-B3CB-C27A065D5A0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02DF-84F0-451E-84B8-5F5C9A45B4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B0BC-3F20-47F1-8587-52D3D9F62F4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8C8-8823-4665-BF85-F3B789FABC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92AA-B53C-4AD4-ACF3-D22D3444E12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1178-7854-4683-8406-9575623FA1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3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6F55-8CE4-4AA7-A9FE-B961AD090C9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103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4A3F-89D1-4064-9B96-15CF5CF04F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нетические факторы,  их воздействие на здоровье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F7ED-791C-424B-B29A-48094DA5D01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440D-04B7-484A-AC8A-A8FD748E6B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тоды предупреждения наследственных заболевани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ой метод предупреждения наследственны заболеваний заключается в медико –генетическом консультировании семей, отягощенных наследственной патолог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D692-D549-416C-9AC2-32389C10AF5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16F5-7AAB-4FBF-BB88-43ADD1A443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нетические факто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методологическом плане понятие «генетические факторы» следует рассматривать в широком и узком смыс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широком смысле – как унаследованные в процессе эволюции животного мира механизмы адаптации к условиям существова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узком же смысле слова под генетическими факторами следует понимать унаследованные от ближайших предков семьи, особенности обеспечения жизне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3E46-B843-41F8-A4CB-82B94385B86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2C57-051F-4979-804A-9E9EBE7E4D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нотип человек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терминирует его морфофункциональную конституцию, преобладание тех или иных нервных и психических процессов, степень предрасположенности к тем или иным заболеваниям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ституцией человека во многом детерминированы доминирующие потребности человека, жизненные установки, его способности, интересы, желания, предрасположенность к алкоголизму и другим вредным привычк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6A10-7AD2-4812-A818-A04F873B0AD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A9E9-F9A4-43DC-AC18-D9D24A36CB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акторы, воздействующие на генотип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е(ионизированные излучения, рентген; радиоактивные элементы –радон, радий, изотопы; ультрафиолетовое излучение; чрезвычайно высокая и низкая температур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мические(сильные окислители или восстановители – нитраты, нитриты; алкилирующие агенты, пестициды; некоторые пищевые добавки; продукты переработки нефти; органические растворители; лекарственные препараты и друг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(некоторые вирусы –корь, краснуха, грипп; продукты обмена веществ; антигены некоторых микробов и паразит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циальные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5CE5-09EA-4FD0-BC25-40A2D0CCDFD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776-19DA-4AE3-9CBE-5168FAA856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 объекту воздействия факторы воздействующие на организм человека подразделяются на три группы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действия на ряд предшествующих поколений. В этом случае особое значение имеют состояние окружающей среды, географические факторы, национальные, религиозные, этнические и семейные обычаи и тради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действия на хромосомы будущих родителей. Преимущественное значение имеет образ жизни будущих родителей, так как именно он обуславливает благоприятное или отрицательное влияние на хромосомы половых клеток или зародыш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действия на хромосомы зародыша в период его внутриутробного развития. Генный аппарат особенно раним на раннем эмбриональном этапе развития, когда генетическая программа реализуется в виде закладки основных функциональных систем организ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5851-D41E-4EE2-875C-CE0C4094872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73D4-9C7A-4453-AD88-4813313C6D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ут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наследственно закрепленные изменения генетического кода. Принято различать моногенные болезни, при которых генетический дефект связан с мутацией одного гена, и полигенные болезни, обусловленные совокупным действием нескольких генных мутаций. В последнем случае генетический дефект вызывает предрасположение и болезнь является следствием сложного взаимодействи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нетических и средовых факто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6E8-3462-472A-A807-DC5EC0255AD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B8C0-C595-4101-A638-1B38C5BAD3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формы патологии человек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ервую группу составляют болезни, у которых этиологическую роль играет патологический ген, роль среды заключается в модификации лишь в проявлении заболевания. В эту группу входят моногенные болезни, такие как гемофилия, фенилкетонурия, некоторые болезни обмена веществ, а также в группу относят хромосомные аномал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торая группа – это тоже наследственные болезни, обусловленные патологической мутацией, однако для их проявления необходимо специфическое воздействие среды. Сюда включаются многие случаи извращенных реакций организма на лекарственные препараты и пищевые прод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ретью группу – составляет подавляющее число распространенных болезней, особенно болезней зрелого и преклонного возраста (гипертоническая болезнь, ИБС, язвенная болезнь желудка и 12- пертной кишки, большинство злокачественных новообразований и др.) Основным этиологическим фактором в их возникновении служит неблагоприятное воздействие среды, однако реализация действия фактора зависит от индивидуальной генетически детерминируемой предрасположенности. Эти болезни получили название болезни с наследственным предрасположени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етвертая группа – это те формы паологии,  в возникновении которых исключительную рольиграет фактор среды. Обычно это экстремальный средовой фактор, по отношению к действию которого организм не имеет средств защиты (травмы , ожоги, особо опасные инфекции). Генетические факторы в этом случае играют роль в течение болезни, влияют на ее исх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просите результаты практику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103A-1039-4318-A4ED-B092E55F164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4D55-5BDC-46B7-A1AD-8F619633CA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а наследственный характер болезни могут указывать следующие факто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ичие в семье нескольких больных с одинаковой патолог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цидивирующее хроническое течение болезни, особенно у де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влеченность в патологический процесс многих сист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жденный характер заболе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LENA</cp:lastModifiedBy>
  <dcterms:modified xsi:type="dcterms:W3CDTF">2010-12-29T20:49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