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05E6-E868-4150-B537-00E28EBA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3C0E-93D8-4C71-9DE5-CD4A9AE8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4CE7-1FA4-4440-A5E6-C952956F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6646-EB9A-4F27-9C89-91BC0782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3F4E-B54F-49FC-B8BA-1E49BE3C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2273-F57A-43B0-BC8C-AFE35167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1A72-F33D-4316-8246-A10F231D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928B-9595-4439-B029-46F3B9D2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DCAF-6BBF-4061-B8E9-D809D12C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793D-4D10-41C1-A68A-CB749401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D8C6-CBF6-451A-87E0-C045BB49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3C7A-9DC0-44C6-9855-3E19C9BB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93A4-060F-4534-9B7F-BE4E35D88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wmf"/><Relationship Id="rId1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0.wmf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Решение неравенств методом интервал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4508640"/>
            <a:ext cx="4176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Алгебра и начала анализ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10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48360" y="6629400"/>
            <a:ext cx="309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Воробьев Леонид Альбертович, г.Минс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5280" y="3429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572000" y="1125000"/>
            <a:ext cx="0" cy="374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13160" y="34448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60436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11640" y="112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628640"/>
            <a:ext cx="8424720" cy="2880000"/>
          </a:xfrm>
          <a:custGeom>
            <a:avLst/>
            <a:gdLst/>
            <a:ahLst/>
            <a:rect l="l" t="t" r="r" b="b"/>
            <a:pathLst>
              <a:path w="5307" h="1814">
                <a:moveTo>
                  <a:pt x="0" y="0"/>
                </a:moveTo>
                <a:cubicBezTo>
                  <a:pt x="189" y="737"/>
                  <a:pt x="378" y="1475"/>
                  <a:pt x="590" y="1588"/>
                </a:cubicBezTo>
                <a:cubicBezTo>
                  <a:pt x="802" y="1701"/>
                  <a:pt x="1066" y="869"/>
                  <a:pt x="1270" y="680"/>
                </a:cubicBezTo>
                <a:cubicBezTo>
                  <a:pt x="1474" y="491"/>
                  <a:pt x="1664" y="529"/>
                  <a:pt x="1815" y="454"/>
                </a:cubicBezTo>
                <a:cubicBezTo>
                  <a:pt x="1966" y="379"/>
                  <a:pt x="1988" y="114"/>
                  <a:pt x="2177" y="227"/>
                </a:cubicBezTo>
                <a:cubicBezTo>
                  <a:pt x="2366" y="340"/>
                  <a:pt x="2700" y="1096"/>
                  <a:pt x="2949" y="1134"/>
                </a:cubicBezTo>
                <a:cubicBezTo>
                  <a:pt x="3198" y="1172"/>
                  <a:pt x="3281" y="341"/>
                  <a:pt x="3674" y="454"/>
                </a:cubicBezTo>
                <a:cubicBezTo>
                  <a:pt x="4067" y="567"/>
                  <a:pt x="4687" y="1190"/>
                  <a:pt x="5307" y="181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920" y="-27000"/>
            <a:ext cx="90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графиком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f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ет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торая гладкая крива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9012800">
            <a:off x="1764000" y="2204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840" y="5013360"/>
            <a:ext cx="907416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видно, чт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f)=E(f)=</a:t>
            </a:r>
            <a:r>
              <a:rPr b="0" lang="en-US" sz="1800" spc="-1" strike="noStrike">
                <a:solidFill>
                  <a:srgbClr val="000000"/>
                </a:solidFill>
                <a:latin typeface="Euclid Math Two"/>
                <a:ea typeface="Euclid Math Two"/>
              </a:rPr>
              <a:t>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братим свое внимание на значения аргумента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 этих точках график функции пересекает ось О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касается её. Это –  так называемые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нули функ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рдинаты этих точек равны 0, т.е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0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Аналитически их можно найти, решая уравнение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(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=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80360" y="342900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342900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35280" y="342900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342900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71560" y="33908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88160" y="33876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57640" y="339084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33560" y="33894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5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0" dur="5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" dur="5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4" dur="5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5" dur="5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50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8" dur="50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" dur="50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50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2" dur="50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" dur="50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2960" y="2343240"/>
            <a:ext cx="1047600" cy="144360"/>
          </a:xfrm>
          <a:prstGeom prst="rect">
            <a:avLst/>
          </a:prstGeom>
          <a:solidFill>
            <a:srgbClr val="00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2492280"/>
            <a:ext cx="504720" cy="1447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79640" y="2492280"/>
            <a:ext cx="5742000" cy="1447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249228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572000" y="189000"/>
            <a:ext cx="0" cy="35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13160" y="250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60436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11640" y="1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692280"/>
            <a:ext cx="8424720" cy="2879640"/>
          </a:xfrm>
          <a:custGeom>
            <a:avLst/>
            <a:gdLst/>
            <a:ahLst/>
            <a:rect l="l" t="t" r="r" b="b"/>
            <a:pathLst>
              <a:path w="5307" h="1814">
                <a:moveTo>
                  <a:pt x="0" y="0"/>
                </a:moveTo>
                <a:cubicBezTo>
                  <a:pt x="189" y="737"/>
                  <a:pt x="378" y="1475"/>
                  <a:pt x="590" y="1588"/>
                </a:cubicBezTo>
                <a:cubicBezTo>
                  <a:pt x="802" y="1701"/>
                  <a:pt x="1066" y="869"/>
                  <a:pt x="1270" y="680"/>
                </a:cubicBezTo>
                <a:cubicBezTo>
                  <a:pt x="1474" y="491"/>
                  <a:pt x="1664" y="529"/>
                  <a:pt x="1815" y="454"/>
                </a:cubicBezTo>
                <a:cubicBezTo>
                  <a:pt x="1966" y="379"/>
                  <a:pt x="1988" y="114"/>
                  <a:pt x="2177" y="227"/>
                </a:cubicBezTo>
                <a:cubicBezTo>
                  <a:pt x="2366" y="340"/>
                  <a:pt x="2700" y="1096"/>
                  <a:pt x="2949" y="1134"/>
                </a:cubicBezTo>
                <a:cubicBezTo>
                  <a:pt x="3198" y="1172"/>
                  <a:pt x="3281" y="341"/>
                  <a:pt x="3674" y="454"/>
                </a:cubicBezTo>
                <a:cubicBezTo>
                  <a:pt x="4067" y="567"/>
                  <a:pt x="4687" y="1190"/>
                  <a:pt x="5307" y="181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9012800">
            <a:off x="1764000" y="12675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71560" y="245412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88160" y="245124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57640" y="245412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33560" y="245268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789360"/>
            <a:ext cx="91440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збивают область определения функц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f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омежутки знакопостоянст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.е. промежутки, на которых функция имеет либо  положительные значения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&gt;0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либо отрицательные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&lt;0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нашем случа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69000"/>
            <a:ext cx="914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&gt;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и х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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Euclid Extra"/>
                <a:ea typeface="Euclid Extra"/>
              </a:rPr>
              <a:t>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Euclid Extra"/>
                <a:ea typeface="Euclid Extra"/>
              </a:rPr>
              <a:t>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692280"/>
            <a:ext cx="500040" cy="1760400"/>
          </a:xfrm>
          <a:custGeom>
            <a:avLst/>
            <a:gdLst/>
            <a:ahLst/>
            <a:rect l="l" t="t" r="r" b="b"/>
            <a:pathLst>
              <a:path w="315" h="1109">
                <a:moveTo>
                  <a:pt x="0" y="0"/>
                </a:moveTo>
                <a:cubicBezTo>
                  <a:pt x="9" y="37"/>
                  <a:pt x="39" y="155"/>
                  <a:pt x="57" y="224"/>
                </a:cubicBezTo>
                <a:cubicBezTo>
                  <a:pt x="75" y="293"/>
                  <a:pt x="90" y="346"/>
                  <a:pt x="108" y="413"/>
                </a:cubicBezTo>
                <a:cubicBezTo>
                  <a:pt x="126" y="480"/>
                  <a:pt x="146" y="559"/>
                  <a:pt x="165" y="629"/>
                </a:cubicBezTo>
                <a:cubicBezTo>
                  <a:pt x="184" y="699"/>
                  <a:pt x="207" y="775"/>
                  <a:pt x="225" y="833"/>
                </a:cubicBezTo>
                <a:cubicBezTo>
                  <a:pt x="243" y="891"/>
                  <a:pt x="255" y="931"/>
                  <a:pt x="270" y="977"/>
                </a:cubicBezTo>
                <a:cubicBezTo>
                  <a:pt x="285" y="1023"/>
                  <a:pt x="306" y="1082"/>
                  <a:pt x="315" y="1109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95480" y="1006560"/>
            <a:ext cx="3062160" cy="1479600"/>
          </a:xfrm>
          <a:custGeom>
            <a:avLst/>
            <a:gdLst/>
            <a:ahLst/>
            <a:rect l="l" t="t" r="r" b="b"/>
            <a:pathLst>
              <a:path w="1929" h="932">
                <a:moveTo>
                  <a:pt x="0" y="911"/>
                </a:moveTo>
                <a:cubicBezTo>
                  <a:pt x="15" y="882"/>
                  <a:pt x="64" y="786"/>
                  <a:pt x="93" y="734"/>
                </a:cubicBezTo>
                <a:cubicBezTo>
                  <a:pt x="122" y="682"/>
                  <a:pt x="150" y="634"/>
                  <a:pt x="173" y="598"/>
                </a:cubicBezTo>
                <a:cubicBezTo>
                  <a:pt x="196" y="562"/>
                  <a:pt x="211" y="540"/>
                  <a:pt x="231" y="516"/>
                </a:cubicBezTo>
                <a:cubicBezTo>
                  <a:pt x="251" y="492"/>
                  <a:pt x="269" y="475"/>
                  <a:pt x="291" y="456"/>
                </a:cubicBezTo>
                <a:cubicBezTo>
                  <a:pt x="313" y="437"/>
                  <a:pt x="333" y="421"/>
                  <a:pt x="363" y="404"/>
                </a:cubicBezTo>
                <a:cubicBezTo>
                  <a:pt x="393" y="387"/>
                  <a:pt x="431" y="367"/>
                  <a:pt x="468" y="353"/>
                </a:cubicBezTo>
                <a:cubicBezTo>
                  <a:pt x="505" y="339"/>
                  <a:pt x="548" y="327"/>
                  <a:pt x="588" y="317"/>
                </a:cubicBezTo>
                <a:cubicBezTo>
                  <a:pt x="628" y="307"/>
                  <a:pt x="674" y="300"/>
                  <a:pt x="711" y="290"/>
                </a:cubicBezTo>
                <a:cubicBezTo>
                  <a:pt x="748" y="280"/>
                  <a:pt x="784" y="267"/>
                  <a:pt x="810" y="254"/>
                </a:cubicBezTo>
                <a:cubicBezTo>
                  <a:pt x="836" y="241"/>
                  <a:pt x="849" y="227"/>
                  <a:pt x="865" y="212"/>
                </a:cubicBezTo>
                <a:cubicBezTo>
                  <a:pt x="881" y="197"/>
                  <a:pt x="897" y="179"/>
                  <a:pt x="909" y="164"/>
                </a:cubicBezTo>
                <a:cubicBezTo>
                  <a:pt x="921" y="149"/>
                  <a:pt x="931" y="134"/>
                  <a:pt x="939" y="122"/>
                </a:cubicBezTo>
                <a:cubicBezTo>
                  <a:pt x="947" y="110"/>
                  <a:pt x="952" y="103"/>
                  <a:pt x="960" y="92"/>
                </a:cubicBezTo>
                <a:cubicBezTo>
                  <a:pt x="968" y="81"/>
                  <a:pt x="976" y="68"/>
                  <a:pt x="987" y="56"/>
                </a:cubicBezTo>
                <a:cubicBezTo>
                  <a:pt x="998" y="44"/>
                  <a:pt x="1012" y="29"/>
                  <a:pt x="1027" y="20"/>
                </a:cubicBezTo>
                <a:cubicBezTo>
                  <a:pt x="1042" y="11"/>
                  <a:pt x="1061" y="4"/>
                  <a:pt x="1077" y="2"/>
                </a:cubicBezTo>
                <a:cubicBezTo>
                  <a:pt x="1093" y="0"/>
                  <a:pt x="1109" y="3"/>
                  <a:pt x="1125" y="8"/>
                </a:cubicBezTo>
                <a:cubicBezTo>
                  <a:pt x="1141" y="13"/>
                  <a:pt x="1160" y="24"/>
                  <a:pt x="1173" y="32"/>
                </a:cubicBezTo>
                <a:cubicBezTo>
                  <a:pt x="1186" y="40"/>
                  <a:pt x="1193" y="45"/>
                  <a:pt x="1205" y="56"/>
                </a:cubicBezTo>
                <a:cubicBezTo>
                  <a:pt x="1217" y="67"/>
                  <a:pt x="1228" y="78"/>
                  <a:pt x="1245" y="98"/>
                </a:cubicBezTo>
                <a:cubicBezTo>
                  <a:pt x="1262" y="118"/>
                  <a:pt x="1284" y="143"/>
                  <a:pt x="1308" y="176"/>
                </a:cubicBezTo>
                <a:cubicBezTo>
                  <a:pt x="1332" y="209"/>
                  <a:pt x="1372" y="270"/>
                  <a:pt x="1392" y="299"/>
                </a:cubicBezTo>
                <a:cubicBezTo>
                  <a:pt x="1412" y="328"/>
                  <a:pt x="1407" y="321"/>
                  <a:pt x="1428" y="353"/>
                </a:cubicBezTo>
                <a:cubicBezTo>
                  <a:pt x="1449" y="385"/>
                  <a:pt x="1491" y="450"/>
                  <a:pt x="1519" y="492"/>
                </a:cubicBezTo>
                <a:cubicBezTo>
                  <a:pt x="1547" y="534"/>
                  <a:pt x="1574" y="574"/>
                  <a:pt x="1596" y="605"/>
                </a:cubicBezTo>
                <a:cubicBezTo>
                  <a:pt x="1618" y="636"/>
                  <a:pt x="1633" y="658"/>
                  <a:pt x="1649" y="680"/>
                </a:cubicBezTo>
                <a:cubicBezTo>
                  <a:pt x="1665" y="702"/>
                  <a:pt x="1678" y="716"/>
                  <a:pt x="1695" y="737"/>
                </a:cubicBezTo>
                <a:cubicBezTo>
                  <a:pt x="1712" y="758"/>
                  <a:pt x="1735" y="786"/>
                  <a:pt x="1751" y="804"/>
                </a:cubicBezTo>
                <a:cubicBezTo>
                  <a:pt x="1767" y="822"/>
                  <a:pt x="1781" y="836"/>
                  <a:pt x="1791" y="846"/>
                </a:cubicBezTo>
                <a:cubicBezTo>
                  <a:pt x="1801" y="856"/>
                  <a:pt x="1801" y="856"/>
                  <a:pt x="1809" y="863"/>
                </a:cubicBezTo>
                <a:cubicBezTo>
                  <a:pt x="1817" y="870"/>
                  <a:pt x="1827" y="878"/>
                  <a:pt x="1839" y="887"/>
                </a:cubicBezTo>
                <a:cubicBezTo>
                  <a:pt x="1851" y="896"/>
                  <a:pt x="1866" y="907"/>
                  <a:pt x="1881" y="914"/>
                </a:cubicBezTo>
                <a:cubicBezTo>
                  <a:pt x="1896" y="921"/>
                  <a:pt x="1919" y="928"/>
                  <a:pt x="1929" y="93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38640" y="1389240"/>
            <a:ext cx="2552760" cy="1101600"/>
          </a:xfrm>
          <a:custGeom>
            <a:avLst/>
            <a:gdLst/>
            <a:ahLst/>
            <a:rect l="l" t="t" r="r" b="b"/>
            <a:pathLst>
              <a:path w="1608" h="694">
                <a:moveTo>
                  <a:pt x="0" y="694"/>
                </a:moveTo>
                <a:cubicBezTo>
                  <a:pt x="4" y="692"/>
                  <a:pt x="19" y="688"/>
                  <a:pt x="30" y="682"/>
                </a:cubicBezTo>
                <a:cubicBezTo>
                  <a:pt x="41" y="676"/>
                  <a:pt x="56" y="667"/>
                  <a:pt x="66" y="658"/>
                </a:cubicBezTo>
                <a:cubicBezTo>
                  <a:pt x="76" y="649"/>
                  <a:pt x="83" y="637"/>
                  <a:pt x="93" y="625"/>
                </a:cubicBezTo>
                <a:cubicBezTo>
                  <a:pt x="103" y="613"/>
                  <a:pt x="114" y="601"/>
                  <a:pt x="123" y="589"/>
                </a:cubicBezTo>
                <a:cubicBezTo>
                  <a:pt x="132" y="577"/>
                  <a:pt x="138" y="568"/>
                  <a:pt x="147" y="553"/>
                </a:cubicBezTo>
                <a:cubicBezTo>
                  <a:pt x="156" y="538"/>
                  <a:pt x="166" y="519"/>
                  <a:pt x="177" y="499"/>
                </a:cubicBezTo>
                <a:cubicBezTo>
                  <a:pt x="188" y="479"/>
                  <a:pt x="202" y="457"/>
                  <a:pt x="213" y="436"/>
                </a:cubicBezTo>
                <a:cubicBezTo>
                  <a:pt x="224" y="415"/>
                  <a:pt x="235" y="395"/>
                  <a:pt x="246" y="373"/>
                </a:cubicBezTo>
                <a:cubicBezTo>
                  <a:pt x="257" y="351"/>
                  <a:pt x="269" y="324"/>
                  <a:pt x="279" y="304"/>
                </a:cubicBezTo>
                <a:cubicBezTo>
                  <a:pt x="289" y="284"/>
                  <a:pt x="299" y="270"/>
                  <a:pt x="309" y="253"/>
                </a:cubicBezTo>
                <a:cubicBezTo>
                  <a:pt x="319" y="236"/>
                  <a:pt x="333" y="214"/>
                  <a:pt x="342" y="199"/>
                </a:cubicBezTo>
                <a:cubicBezTo>
                  <a:pt x="351" y="184"/>
                  <a:pt x="356" y="177"/>
                  <a:pt x="366" y="163"/>
                </a:cubicBezTo>
                <a:cubicBezTo>
                  <a:pt x="376" y="149"/>
                  <a:pt x="392" y="129"/>
                  <a:pt x="405" y="115"/>
                </a:cubicBezTo>
                <a:cubicBezTo>
                  <a:pt x="418" y="101"/>
                  <a:pt x="429" y="88"/>
                  <a:pt x="444" y="76"/>
                </a:cubicBezTo>
                <a:cubicBezTo>
                  <a:pt x="459" y="64"/>
                  <a:pt x="482" y="49"/>
                  <a:pt x="495" y="40"/>
                </a:cubicBezTo>
                <a:cubicBezTo>
                  <a:pt x="508" y="31"/>
                  <a:pt x="512" y="30"/>
                  <a:pt x="522" y="25"/>
                </a:cubicBezTo>
                <a:cubicBezTo>
                  <a:pt x="532" y="20"/>
                  <a:pt x="544" y="16"/>
                  <a:pt x="552" y="13"/>
                </a:cubicBezTo>
                <a:cubicBezTo>
                  <a:pt x="560" y="10"/>
                  <a:pt x="565" y="9"/>
                  <a:pt x="573" y="7"/>
                </a:cubicBezTo>
                <a:cubicBezTo>
                  <a:pt x="581" y="5"/>
                  <a:pt x="591" y="2"/>
                  <a:pt x="600" y="1"/>
                </a:cubicBezTo>
                <a:cubicBezTo>
                  <a:pt x="609" y="0"/>
                  <a:pt x="620" y="0"/>
                  <a:pt x="630" y="1"/>
                </a:cubicBezTo>
                <a:cubicBezTo>
                  <a:pt x="640" y="2"/>
                  <a:pt x="651" y="4"/>
                  <a:pt x="663" y="7"/>
                </a:cubicBezTo>
                <a:cubicBezTo>
                  <a:pt x="675" y="10"/>
                  <a:pt x="690" y="14"/>
                  <a:pt x="705" y="19"/>
                </a:cubicBezTo>
                <a:cubicBezTo>
                  <a:pt x="720" y="24"/>
                  <a:pt x="738" y="32"/>
                  <a:pt x="756" y="40"/>
                </a:cubicBezTo>
                <a:cubicBezTo>
                  <a:pt x="774" y="48"/>
                  <a:pt x="790" y="54"/>
                  <a:pt x="810" y="64"/>
                </a:cubicBezTo>
                <a:cubicBezTo>
                  <a:pt x="830" y="74"/>
                  <a:pt x="857" y="87"/>
                  <a:pt x="879" y="100"/>
                </a:cubicBezTo>
                <a:cubicBezTo>
                  <a:pt x="901" y="113"/>
                  <a:pt x="925" y="130"/>
                  <a:pt x="945" y="142"/>
                </a:cubicBezTo>
                <a:cubicBezTo>
                  <a:pt x="965" y="154"/>
                  <a:pt x="975" y="156"/>
                  <a:pt x="999" y="172"/>
                </a:cubicBezTo>
                <a:cubicBezTo>
                  <a:pt x="1023" y="188"/>
                  <a:pt x="1063" y="217"/>
                  <a:pt x="1092" y="238"/>
                </a:cubicBezTo>
                <a:cubicBezTo>
                  <a:pt x="1121" y="259"/>
                  <a:pt x="1145" y="279"/>
                  <a:pt x="1173" y="301"/>
                </a:cubicBezTo>
                <a:cubicBezTo>
                  <a:pt x="1201" y="323"/>
                  <a:pt x="1235" y="347"/>
                  <a:pt x="1263" y="370"/>
                </a:cubicBezTo>
                <a:cubicBezTo>
                  <a:pt x="1291" y="393"/>
                  <a:pt x="1322" y="423"/>
                  <a:pt x="1344" y="442"/>
                </a:cubicBezTo>
                <a:cubicBezTo>
                  <a:pt x="1366" y="461"/>
                  <a:pt x="1377" y="468"/>
                  <a:pt x="1395" y="484"/>
                </a:cubicBezTo>
                <a:cubicBezTo>
                  <a:pt x="1413" y="500"/>
                  <a:pt x="1434" y="519"/>
                  <a:pt x="1455" y="538"/>
                </a:cubicBezTo>
                <a:cubicBezTo>
                  <a:pt x="1476" y="557"/>
                  <a:pt x="1504" y="580"/>
                  <a:pt x="1524" y="598"/>
                </a:cubicBezTo>
                <a:cubicBezTo>
                  <a:pt x="1544" y="616"/>
                  <a:pt x="1561" y="631"/>
                  <a:pt x="1575" y="646"/>
                </a:cubicBezTo>
                <a:cubicBezTo>
                  <a:pt x="1589" y="661"/>
                  <a:pt x="1601" y="677"/>
                  <a:pt x="1608" y="685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35280" y="24922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24922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59280" y="24922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80360" y="24922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5445000"/>
            <a:ext cx="914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&lt;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и х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Euclid Extra"/>
                <a:ea typeface="Euclid Extra"/>
              </a:rPr>
              <a:t>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1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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9080" y="2523960"/>
            <a:ext cx="1033560" cy="708120"/>
          </a:xfrm>
          <a:custGeom>
            <a:avLst/>
            <a:gdLst/>
            <a:ahLst/>
            <a:rect l="l" t="t" r="r" b="b"/>
            <a:pathLst>
              <a:path w="651" h="446">
                <a:moveTo>
                  <a:pt x="0" y="0"/>
                </a:moveTo>
                <a:cubicBezTo>
                  <a:pt x="4" y="10"/>
                  <a:pt x="15" y="40"/>
                  <a:pt x="24" y="63"/>
                </a:cubicBezTo>
                <a:cubicBezTo>
                  <a:pt x="33" y="86"/>
                  <a:pt x="46" y="116"/>
                  <a:pt x="57" y="141"/>
                </a:cubicBezTo>
                <a:cubicBezTo>
                  <a:pt x="68" y="166"/>
                  <a:pt x="77" y="188"/>
                  <a:pt x="90" y="213"/>
                </a:cubicBezTo>
                <a:cubicBezTo>
                  <a:pt x="103" y="238"/>
                  <a:pt x="118" y="271"/>
                  <a:pt x="132" y="294"/>
                </a:cubicBezTo>
                <a:cubicBezTo>
                  <a:pt x="146" y="317"/>
                  <a:pt x="160" y="336"/>
                  <a:pt x="171" y="351"/>
                </a:cubicBezTo>
                <a:cubicBezTo>
                  <a:pt x="182" y="366"/>
                  <a:pt x="187" y="372"/>
                  <a:pt x="198" y="384"/>
                </a:cubicBezTo>
                <a:cubicBezTo>
                  <a:pt x="209" y="396"/>
                  <a:pt x="227" y="412"/>
                  <a:pt x="237" y="420"/>
                </a:cubicBezTo>
                <a:cubicBezTo>
                  <a:pt x="247" y="428"/>
                  <a:pt x="250" y="428"/>
                  <a:pt x="258" y="432"/>
                </a:cubicBezTo>
                <a:cubicBezTo>
                  <a:pt x="266" y="436"/>
                  <a:pt x="280" y="442"/>
                  <a:pt x="288" y="444"/>
                </a:cubicBezTo>
                <a:cubicBezTo>
                  <a:pt x="296" y="446"/>
                  <a:pt x="299" y="446"/>
                  <a:pt x="309" y="444"/>
                </a:cubicBezTo>
                <a:cubicBezTo>
                  <a:pt x="319" y="442"/>
                  <a:pt x="338" y="439"/>
                  <a:pt x="351" y="432"/>
                </a:cubicBezTo>
                <a:cubicBezTo>
                  <a:pt x="364" y="425"/>
                  <a:pt x="375" y="412"/>
                  <a:pt x="387" y="402"/>
                </a:cubicBezTo>
                <a:cubicBezTo>
                  <a:pt x="399" y="392"/>
                  <a:pt x="410" y="383"/>
                  <a:pt x="423" y="369"/>
                </a:cubicBezTo>
                <a:cubicBezTo>
                  <a:pt x="436" y="355"/>
                  <a:pt x="452" y="336"/>
                  <a:pt x="465" y="318"/>
                </a:cubicBezTo>
                <a:cubicBezTo>
                  <a:pt x="478" y="300"/>
                  <a:pt x="493" y="275"/>
                  <a:pt x="504" y="258"/>
                </a:cubicBezTo>
                <a:cubicBezTo>
                  <a:pt x="515" y="241"/>
                  <a:pt x="522" y="230"/>
                  <a:pt x="531" y="216"/>
                </a:cubicBezTo>
                <a:cubicBezTo>
                  <a:pt x="540" y="202"/>
                  <a:pt x="549" y="186"/>
                  <a:pt x="558" y="171"/>
                </a:cubicBezTo>
                <a:cubicBezTo>
                  <a:pt x="567" y="156"/>
                  <a:pt x="575" y="143"/>
                  <a:pt x="585" y="126"/>
                </a:cubicBezTo>
                <a:cubicBezTo>
                  <a:pt x="595" y="109"/>
                  <a:pt x="607" y="84"/>
                  <a:pt x="615" y="69"/>
                </a:cubicBezTo>
                <a:cubicBezTo>
                  <a:pt x="623" y="54"/>
                  <a:pt x="627" y="47"/>
                  <a:pt x="633" y="36"/>
                </a:cubicBezTo>
                <a:cubicBezTo>
                  <a:pt x="639" y="25"/>
                  <a:pt x="647" y="10"/>
                  <a:pt x="651" y="3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53320" y="2505240"/>
            <a:ext cx="1062000" cy="1066680"/>
          </a:xfrm>
          <a:custGeom>
            <a:avLst/>
            <a:gdLst/>
            <a:ahLst/>
            <a:rect l="l" t="t" r="r" b="b"/>
            <a:pathLst>
              <a:path w="669" h="672">
                <a:moveTo>
                  <a:pt x="0" y="0"/>
                </a:moveTo>
                <a:cubicBezTo>
                  <a:pt x="12" y="13"/>
                  <a:pt x="42" y="48"/>
                  <a:pt x="69" y="75"/>
                </a:cubicBezTo>
                <a:cubicBezTo>
                  <a:pt x="96" y="102"/>
                  <a:pt x="137" y="135"/>
                  <a:pt x="165" y="162"/>
                </a:cubicBezTo>
                <a:cubicBezTo>
                  <a:pt x="193" y="189"/>
                  <a:pt x="213" y="209"/>
                  <a:pt x="240" y="237"/>
                </a:cubicBezTo>
                <a:cubicBezTo>
                  <a:pt x="267" y="265"/>
                  <a:pt x="302" y="302"/>
                  <a:pt x="330" y="330"/>
                </a:cubicBezTo>
                <a:cubicBezTo>
                  <a:pt x="358" y="358"/>
                  <a:pt x="380" y="377"/>
                  <a:pt x="408" y="405"/>
                </a:cubicBezTo>
                <a:cubicBezTo>
                  <a:pt x="436" y="433"/>
                  <a:pt x="470" y="469"/>
                  <a:pt x="498" y="498"/>
                </a:cubicBezTo>
                <a:cubicBezTo>
                  <a:pt x="526" y="527"/>
                  <a:pt x="558" y="558"/>
                  <a:pt x="579" y="579"/>
                </a:cubicBezTo>
                <a:cubicBezTo>
                  <a:pt x="600" y="600"/>
                  <a:pt x="612" y="608"/>
                  <a:pt x="627" y="624"/>
                </a:cubicBezTo>
                <a:lnTo>
                  <a:pt x="669" y="672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732800" y="2343240"/>
            <a:ext cx="1047600" cy="144360"/>
          </a:xfrm>
          <a:prstGeom prst="rect">
            <a:avLst/>
          </a:prstGeom>
          <a:solidFill>
            <a:srgbClr val="00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1000" autoRev="1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3" dur="1000" autoRev="1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" dur="1000" autoRev="1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10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7" dur="10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" dur="10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10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2" dur="10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3" dur="10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100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6" dur="100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" dur="100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ираясь на эту геометрическую иллюстрацию, мы можем вывести алгоритм решения неравенств, получивший название «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метод интервал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907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ом интервалов можно решить любое неравенство вида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1800" spc="-1" strike="noStrike">
                <a:solidFill>
                  <a:srgbClr val="000000"/>
                </a:solidFill>
                <a:latin typeface="Euclid Math Two"/>
                <a:ea typeface="Euclid Math Two"/>
              </a:rPr>
              <a:t>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и решении придерживаются следующей схемы (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перепишите её в тетрад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!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1844640"/>
            <a:ext cx="7560000" cy="203724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f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нули функции, решая уравне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=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метить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f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полученные ну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ь знак функции на каждом полученном промежут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ответ, выбрав промежутки с соответствующим зна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149720"/>
            <a:ext cx="914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иллюстрируем данную схему на нескольких приме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99"/>
                </a:solidFill>
                <a:latin typeface="Arial"/>
              </a:rPr>
              <a:t>Пример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Решите неравенство                         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591000" y="4809960"/>
          <a:ext cx="2160360" cy="71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91000" y="4809960"/>
                    <a:ext cx="216036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0" y="5805360"/>
            <a:ext cx="914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Реш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од функцие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ледует понимать выражение в левой части неравенства. Это дробно-рациональная функ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f)=</a:t>
            </a:r>
            <a:r>
              <a:rPr b="0" lang="en-US" sz="1800" spc="-1" strike="noStrike">
                <a:solidFill>
                  <a:srgbClr val="000000"/>
                </a:solidFill>
                <a:latin typeface="Euclid Extra"/>
                <a:ea typeface="Euclid Extra"/>
              </a:rPr>
              <a:t>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роме х=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 4; 2 (данные значения обращают знаменатель в нуль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8600" y="2247840"/>
            <a:ext cx="1103400" cy="426960"/>
          </a:xfrm>
          <a:custGeom>
            <a:avLst/>
            <a:gdLst/>
            <a:ahLst/>
            <a:rect l="l" t="t" r="r" b="b"/>
            <a:pathLst>
              <a:path w="695" h="253">
                <a:moveTo>
                  <a:pt x="695" y="253"/>
                </a:moveTo>
                <a:cubicBezTo>
                  <a:pt x="673" y="195"/>
                  <a:pt x="652" y="138"/>
                  <a:pt x="536" y="96"/>
                </a:cubicBezTo>
                <a:cubicBezTo>
                  <a:pt x="420" y="54"/>
                  <a:pt x="210" y="27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00480" y="2300400"/>
            <a:ext cx="1098360" cy="401400"/>
          </a:xfrm>
          <a:custGeom>
            <a:avLst/>
            <a:gdLst/>
            <a:ahLst/>
            <a:rect l="l" t="t" r="r" b="b"/>
            <a:pathLst>
              <a:path w="692" h="253">
                <a:moveTo>
                  <a:pt x="0" y="253"/>
                </a:moveTo>
                <a:cubicBezTo>
                  <a:pt x="33" y="217"/>
                  <a:pt x="110" y="72"/>
                  <a:pt x="196" y="36"/>
                </a:cubicBezTo>
                <a:cubicBezTo>
                  <a:pt x="282" y="0"/>
                  <a:pt x="433" y="1"/>
                  <a:pt x="516" y="36"/>
                </a:cubicBezTo>
                <a:cubicBezTo>
                  <a:pt x="599" y="71"/>
                  <a:pt x="655" y="201"/>
                  <a:pt x="692" y="2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71800" y="2281320"/>
            <a:ext cx="1414440" cy="407880"/>
          </a:xfrm>
          <a:custGeom>
            <a:avLst/>
            <a:gdLst/>
            <a:ahLst/>
            <a:rect l="l" t="t" r="r" b="b"/>
            <a:pathLst>
              <a:path w="692" h="253">
                <a:moveTo>
                  <a:pt x="0" y="253"/>
                </a:moveTo>
                <a:cubicBezTo>
                  <a:pt x="33" y="217"/>
                  <a:pt x="110" y="72"/>
                  <a:pt x="196" y="36"/>
                </a:cubicBezTo>
                <a:cubicBezTo>
                  <a:pt x="282" y="0"/>
                  <a:pt x="433" y="1"/>
                  <a:pt x="516" y="36"/>
                </a:cubicBezTo>
                <a:cubicBezTo>
                  <a:pt x="599" y="71"/>
                  <a:pt x="655" y="201"/>
                  <a:pt x="692" y="2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05320" y="2305080"/>
            <a:ext cx="355320" cy="399960"/>
          </a:xfrm>
          <a:custGeom>
            <a:avLst/>
            <a:gdLst/>
            <a:ahLst/>
            <a:rect l="l" t="t" r="r" b="b"/>
            <a:pathLst>
              <a:path w="224" h="252">
                <a:moveTo>
                  <a:pt x="0" y="225"/>
                </a:moveTo>
                <a:cubicBezTo>
                  <a:pt x="18" y="146"/>
                  <a:pt x="36" y="68"/>
                  <a:pt x="64" y="36"/>
                </a:cubicBezTo>
                <a:cubicBezTo>
                  <a:pt x="92" y="4"/>
                  <a:pt x="141" y="0"/>
                  <a:pt x="168" y="36"/>
                </a:cubicBezTo>
                <a:cubicBezTo>
                  <a:pt x="195" y="72"/>
                  <a:pt x="209" y="162"/>
                  <a:pt x="224" y="2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35240" y="2282760"/>
            <a:ext cx="1079280" cy="401760"/>
          </a:xfrm>
          <a:custGeom>
            <a:avLst/>
            <a:gdLst/>
            <a:ahLst/>
            <a:rect l="l" t="t" r="r" b="b"/>
            <a:pathLst>
              <a:path w="692" h="253">
                <a:moveTo>
                  <a:pt x="0" y="253"/>
                </a:moveTo>
                <a:cubicBezTo>
                  <a:pt x="33" y="217"/>
                  <a:pt x="110" y="72"/>
                  <a:pt x="196" y="36"/>
                </a:cubicBezTo>
                <a:cubicBezTo>
                  <a:pt x="282" y="0"/>
                  <a:pt x="433" y="1"/>
                  <a:pt x="516" y="36"/>
                </a:cubicBezTo>
                <a:cubicBezTo>
                  <a:pt x="599" y="71"/>
                  <a:pt x="655" y="201"/>
                  <a:pt x="692" y="2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Найдем нули функции. Значение дроби равно нулю, если числитель этой дроби равен нулю, т.е. х=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1; 3; 7 – нули фун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) Обратите внимание, что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очки разры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функции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4 и 2)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сег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числовой прямой будут пустыми (или «выколотыми»), а нули функции – в зависимости от знака неравенства (если знак неравенства строгий, то точки пустые, если нестрогий, то обычны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270828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2668680"/>
            <a:ext cx="730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54560" y="2668680"/>
            <a:ext cx="727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16000" y="2708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8000" y="2708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15280" y="234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14920" y="26668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53120" y="26668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76360" y="266544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2708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6920" y="27082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48360" y="2708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2235240"/>
            <a:ext cx="3102120" cy="473040"/>
          </a:xfrm>
          <a:custGeom>
            <a:avLst/>
            <a:gdLst/>
            <a:ahLst/>
            <a:rect l="l" t="t" r="r" b="b"/>
            <a:pathLst>
              <a:path w="1954" h="298">
                <a:moveTo>
                  <a:pt x="0" y="298"/>
                </a:moveTo>
                <a:lnTo>
                  <a:pt x="34" y="216"/>
                </a:lnTo>
                <a:lnTo>
                  <a:pt x="82" y="160"/>
                </a:lnTo>
                <a:lnTo>
                  <a:pt x="154" y="104"/>
                </a:lnTo>
                <a:lnTo>
                  <a:pt x="242" y="72"/>
                </a:lnTo>
                <a:cubicBezTo>
                  <a:pt x="374" y="59"/>
                  <a:pt x="661" y="36"/>
                  <a:pt x="946" y="24"/>
                </a:cubicBezTo>
                <a:cubicBezTo>
                  <a:pt x="1231" y="12"/>
                  <a:pt x="1744" y="5"/>
                  <a:pt x="19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4920" y="2997360"/>
            <a:ext cx="9074160" cy="1663560"/>
            <a:chOff x="34920" y="2997360"/>
            <a:chExt cx="9074160" cy="1663560"/>
          </a:xfrm>
        </p:grpSpPr>
        <p:sp>
          <p:nvSpPr>
            <p:cNvPr id="116" name=""/>
            <p:cNvSpPr/>
            <p:nvPr/>
          </p:nvSpPr>
          <p:spPr>
            <a:xfrm>
              <a:off x="34920" y="2997360"/>
              <a:ext cx="907416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) Для расстановки знаков на полученных промежутках можно поступить так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■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азложить левую часть неравенства на линейные множители (как в нашем случае); тогда на крайнем справа промежутке знак определяется комбинацией угловых коэффициентов этих линейных множителей (в нашем случае все коэффициенты равны 1, т.е. получается комбинация           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7" name=""/>
            <p:cNvGraphicFramePr/>
            <p:nvPr/>
          </p:nvGraphicFramePr>
          <p:xfrm>
            <a:off x="5846760" y="4241880"/>
            <a:ext cx="622440" cy="419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846760" y="4241880"/>
                      <a:ext cx="62244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9" name=""/>
          <p:cNvSpPr/>
          <p:nvPr/>
        </p:nvSpPr>
        <p:spPr>
          <a:xfrm>
            <a:off x="6588000" y="22050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0" y="4581360"/>
            <a:ext cx="907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остальных промежутках (двигаемся от крайнего справа промежутка влево) знаки расставляются по правилу: знак по сравнению с предыдущим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меняет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если показатель степени линейного множителя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нечетны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не изменяет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если показатель степени линейного множителя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четны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В нашем случае получается… (см.рис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87640" y="5877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х–7)  (х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6308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х+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87640" y="6308640"/>
            <a:ext cx="194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30520" y="580536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03720" y="580536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89480" y="627552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56000" y="22050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75080" y="222552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71640" y="22050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22050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22050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0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3" dur="5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3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3" dur="5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3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шеизложенный метод определения знаков на интервалах по сути опирается на понятие «кратных» корней. Если Вам этот термин не знаком, то можно воспользоваться другим способ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4768920"/>
            <a:ext cx="1103400" cy="426960"/>
          </a:xfrm>
          <a:custGeom>
            <a:avLst/>
            <a:gdLst/>
            <a:ahLst/>
            <a:rect l="l" t="t" r="r" b="b"/>
            <a:pathLst>
              <a:path w="695" h="253">
                <a:moveTo>
                  <a:pt x="695" y="253"/>
                </a:moveTo>
                <a:cubicBezTo>
                  <a:pt x="673" y="195"/>
                  <a:pt x="652" y="138"/>
                  <a:pt x="536" y="96"/>
                </a:cubicBezTo>
                <a:cubicBezTo>
                  <a:pt x="420" y="54"/>
                  <a:pt x="210" y="27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00480" y="4821120"/>
            <a:ext cx="1098360" cy="401760"/>
          </a:xfrm>
          <a:custGeom>
            <a:avLst/>
            <a:gdLst/>
            <a:ahLst/>
            <a:rect l="l" t="t" r="r" b="b"/>
            <a:pathLst>
              <a:path w="692" h="253">
                <a:moveTo>
                  <a:pt x="0" y="253"/>
                </a:moveTo>
                <a:cubicBezTo>
                  <a:pt x="33" y="217"/>
                  <a:pt x="110" y="72"/>
                  <a:pt x="196" y="36"/>
                </a:cubicBezTo>
                <a:cubicBezTo>
                  <a:pt x="282" y="0"/>
                  <a:pt x="433" y="1"/>
                  <a:pt x="516" y="36"/>
                </a:cubicBezTo>
                <a:cubicBezTo>
                  <a:pt x="599" y="71"/>
                  <a:pt x="655" y="201"/>
                  <a:pt x="692" y="2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71800" y="4802040"/>
            <a:ext cx="1414440" cy="408240"/>
          </a:xfrm>
          <a:custGeom>
            <a:avLst/>
            <a:gdLst/>
            <a:ahLst/>
            <a:rect l="l" t="t" r="r" b="b"/>
            <a:pathLst>
              <a:path w="692" h="253">
                <a:moveTo>
                  <a:pt x="0" y="253"/>
                </a:moveTo>
                <a:cubicBezTo>
                  <a:pt x="33" y="217"/>
                  <a:pt x="110" y="72"/>
                  <a:pt x="196" y="36"/>
                </a:cubicBezTo>
                <a:cubicBezTo>
                  <a:pt x="282" y="0"/>
                  <a:pt x="433" y="1"/>
                  <a:pt x="516" y="36"/>
                </a:cubicBezTo>
                <a:cubicBezTo>
                  <a:pt x="599" y="71"/>
                  <a:pt x="655" y="201"/>
                  <a:pt x="692" y="2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05320" y="4826160"/>
            <a:ext cx="355320" cy="399960"/>
          </a:xfrm>
          <a:custGeom>
            <a:avLst/>
            <a:gdLst/>
            <a:ahLst/>
            <a:rect l="l" t="t" r="r" b="b"/>
            <a:pathLst>
              <a:path w="224" h="252">
                <a:moveTo>
                  <a:pt x="0" y="225"/>
                </a:moveTo>
                <a:cubicBezTo>
                  <a:pt x="18" y="146"/>
                  <a:pt x="36" y="68"/>
                  <a:pt x="64" y="36"/>
                </a:cubicBezTo>
                <a:cubicBezTo>
                  <a:pt x="92" y="4"/>
                  <a:pt x="141" y="0"/>
                  <a:pt x="168" y="36"/>
                </a:cubicBezTo>
                <a:cubicBezTo>
                  <a:pt x="195" y="72"/>
                  <a:pt x="209" y="162"/>
                  <a:pt x="224" y="2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35240" y="4803840"/>
            <a:ext cx="1079280" cy="401400"/>
          </a:xfrm>
          <a:custGeom>
            <a:avLst/>
            <a:gdLst/>
            <a:ahLst/>
            <a:rect l="l" t="t" r="r" b="b"/>
            <a:pathLst>
              <a:path w="692" h="253">
                <a:moveTo>
                  <a:pt x="0" y="253"/>
                </a:moveTo>
                <a:cubicBezTo>
                  <a:pt x="33" y="217"/>
                  <a:pt x="110" y="72"/>
                  <a:pt x="196" y="36"/>
                </a:cubicBezTo>
                <a:cubicBezTo>
                  <a:pt x="282" y="0"/>
                  <a:pt x="433" y="1"/>
                  <a:pt x="516" y="36"/>
                </a:cubicBezTo>
                <a:cubicBezTo>
                  <a:pt x="599" y="71"/>
                  <a:pt x="655" y="201"/>
                  <a:pt x="692" y="2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522936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5189400"/>
            <a:ext cx="730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54560" y="5189400"/>
            <a:ext cx="727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16000" y="522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48000" y="522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15280" y="4870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14920" y="51879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53120" y="51879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76360" y="5186520"/>
            <a:ext cx="7164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95640" y="5229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06920" y="5229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48360" y="5229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92720" y="4756320"/>
            <a:ext cx="3102120" cy="473040"/>
          </a:xfrm>
          <a:custGeom>
            <a:avLst/>
            <a:gdLst/>
            <a:ahLst/>
            <a:rect l="l" t="t" r="r" b="b"/>
            <a:pathLst>
              <a:path w="1954" h="298">
                <a:moveTo>
                  <a:pt x="0" y="298"/>
                </a:moveTo>
                <a:lnTo>
                  <a:pt x="34" y="216"/>
                </a:lnTo>
                <a:lnTo>
                  <a:pt x="82" y="160"/>
                </a:lnTo>
                <a:lnTo>
                  <a:pt x="154" y="104"/>
                </a:lnTo>
                <a:lnTo>
                  <a:pt x="242" y="72"/>
                </a:lnTo>
                <a:cubicBezTo>
                  <a:pt x="374" y="59"/>
                  <a:pt x="661" y="36"/>
                  <a:pt x="946" y="24"/>
                </a:cubicBezTo>
                <a:cubicBezTo>
                  <a:pt x="1231" y="12"/>
                  <a:pt x="1744" y="5"/>
                  <a:pt x="19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88000" y="472608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56000" y="472608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75080" y="47466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71640" y="472608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92360" y="472608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472608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907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выбирая из каждого промежутка любое значение, подставляют в формулу, задающую данную функцию и определяют по полученной комбинации знак функции на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ажд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промежутк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24360" y="1484280"/>
          <a:ext cx="2603520" cy="77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4360" y="1484280"/>
                    <a:ext cx="260352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0" name=""/>
          <p:cNvGrpSpPr/>
          <p:nvPr/>
        </p:nvGrpSpPr>
        <p:grpSpPr>
          <a:xfrm>
            <a:off x="0" y="2286000"/>
            <a:ext cx="3995640" cy="593640"/>
            <a:chOff x="0" y="2286000"/>
            <a:chExt cx="3995640" cy="593640"/>
          </a:xfrm>
        </p:grpSpPr>
        <p:sp>
          <p:nvSpPr>
            <p:cNvPr id="161" name=""/>
            <p:cNvSpPr/>
            <p:nvPr/>
          </p:nvSpPr>
          <p:spPr>
            <a:xfrm>
              <a:off x="0" y="2421000"/>
              <a:ext cx="39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)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5</a:t>
              </a: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 Symbol"/>
                  <a:ea typeface="Euclid Symbol"/>
                </a:rPr>
                <a:t>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; –4) </a:t>
              </a: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(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–5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=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      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2" name=""/>
            <p:cNvGraphicFramePr/>
            <p:nvPr/>
          </p:nvGraphicFramePr>
          <p:xfrm>
            <a:off x="2687760" y="2286000"/>
            <a:ext cx="1008000" cy="593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687760" y="2286000"/>
                      <a:ext cx="1008000" cy="59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4" name=""/>
          <p:cNvGrpSpPr/>
          <p:nvPr/>
        </p:nvGrpSpPr>
        <p:grpSpPr>
          <a:xfrm>
            <a:off x="4067280" y="2276640"/>
            <a:ext cx="3851280" cy="593640"/>
            <a:chOff x="4067280" y="2276640"/>
            <a:chExt cx="3851280" cy="593640"/>
          </a:xfrm>
        </p:grpSpPr>
        <p:sp>
          <p:nvSpPr>
            <p:cNvPr id="165" name=""/>
            <p:cNvSpPr/>
            <p:nvPr/>
          </p:nvSpPr>
          <p:spPr>
            <a:xfrm>
              <a:off x="4067280" y="2411280"/>
              <a:ext cx="385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б)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2</a:t>
              </a: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–4; –1) </a:t>
              </a: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(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–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=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       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6" name=""/>
            <p:cNvGraphicFramePr/>
            <p:nvPr/>
          </p:nvGraphicFramePr>
          <p:xfrm>
            <a:off x="6754680" y="2276640"/>
            <a:ext cx="1008000" cy="593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754680" y="2276640"/>
                      <a:ext cx="1008000" cy="59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8" name=""/>
          <p:cNvGrpSpPr/>
          <p:nvPr/>
        </p:nvGrpSpPr>
        <p:grpSpPr>
          <a:xfrm>
            <a:off x="0" y="3030480"/>
            <a:ext cx="3851280" cy="593640"/>
            <a:chOff x="0" y="3030480"/>
            <a:chExt cx="3851280" cy="593640"/>
          </a:xfrm>
        </p:grpSpPr>
        <p:sp>
          <p:nvSpPr>
            <p:cNvPr id="169" name=""/>
            <p:cNvSpPr/>
            <p:nvPr/>
          </p:nvSpPr>
          <p:spPr>
            <a:xfrm>
              <a:off x="0" y="3132000"/>
              <a:ext cx="385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) 0</a:t>
              </a: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–1; 2) </a:t>
              </a: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(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=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     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0" name=""/>
            <p:cNvGraphicFramePr/>
            <p:nvPr/>
          </p:nvGraphicFramePr>
          <p:xfrm>
            <a:off x="2195640" y="3030480"/>
            <a:ext cx="1008000" cy="5936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95640" y="3030480"/>
                      <a:ext cx="1008000" cy="59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2" name=""/>
          <p:cNvGrpSpPr/>
          <p:nvPr/>
        </p:nvGrpSpPr>
        <p:grpSpPr>
          <a:xfrm>
            <a:off x="4067280" y="3030480"/>
            <a:ext cx="3851280" cy="593640"/>
            <a:chOff x="4067280" y="3030480"/>
            <a:chExt cx="3851280" cy="593640"/>
          </a:xfrm>
        </p:grpSpPr>
        <p:sp>
          <p:nvSpPr>
            <p:cNvPr id="173" name=""/>
            <p:cNvSpPr/>
            <p:nvPr/>
          </p:nvSpPr>
          <p:spPr>
            <a:xfrm>
              <a:off x="4067280" y="3132000"/>
              <a:ext cx="385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) 2,5</a:t>
              </a: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2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; 3) </a:t>
              </a: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(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=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     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4" name=""/>
            <p:cNvGraphicFramePr/>
            <p:nvPr/>
          </p:nvGraphicFramePr>
          <p:xfrm>
            <a:off x="6529320" y="3030480"/>
            <a:ext cx="1008000" cy="5936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7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6529320" y="3030480"/>
                      <a:ext cx="1008000" cy="59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6" name=""/>
          <p:cNvGrpSpPr/>
          <p:nvPr/>
        </p:nvGrpSpPr>
        <p:grpSpPr>
          <a:xfrm>
            <a:off x="0" y="3751200"/>
            <a:ext cx="3851280" cy="593640"/>
            <a:chOff x="0" y="3751200"/>
            <a:chExt cx="3851280" cy="593640"/>
          </a:xfrm>
        </p:grpSpPr>
        <p:sp>
          <p:nvSpPr>
            <p:cNvPr id="177" name=""/>
            <p:cNvSpPr/>
            <p:nvPr/>
          </p:nvSpPr>
          <p:spPr>
            <a:xfrm>
              <a:off x="0" y="3851280"/>
              <a:ext cx="385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) 4</a:t>
              </a: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3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; 7) </a:t>
              </a: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(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=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     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8" name=""/>
            <p:cNvGraphicFramePr/>
            <p:nvPr/>
          </p:nvGraphicFramePr>
          <p:xfrm>
            <a:off x="2063880" y="3751200"/>
            <a:ext cx="1008000" cy="5936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063880" y="3751200"/>
                      <a:ext cx="1008000" cy="59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0" name=""/>
          <p:cNvGrpSpPr/>
          <p:nvPr/>
        </p:nvGrpSpPr>
        <p:grpSpPr>
          <a:xfrm>
            <a:off x="4067280" y="3716280"/>
            <a:ext cx="3851280" cy="593640"/>
            <a:chOff x="4067280" y="3716280"/>
            <a:chExt cx="3851280" cy="593640"/>
          </a:xfrm>
        </p:grpSpPr>
        <p:sp>
          <p:nvSpPr>
            <p:cNvPr id="181" name=""/>
            <p:cNvSpPr/>
            <p:nvPr/>
          </p:nvSpPr>
          <p:spPr>
            <a:xfrm>
              <a:off x="4067280" y="3851280"/>
              <a:ext cx="385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е) 8</a:t>
              </a: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7; +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 Symbol"/>
                  <a:ea typeface="Euclid Symbol"/>
                </a:rPr>
                <a:t>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(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=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     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2" name=""/>
            <p:cNvGraphicFramePr/>
            <p:nvPr/>
          </p:nvGraphicFramePr>
          <p:xfrm>
            <a:off x="6434280" y="3716280"/>
            <a:ext cx="1028520" cy="59364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6434280" y="3716280"/>
                      <a:ext cx="1028520" cy="59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4" name=""/>
          <p:cNvSpPr/>
          <p:nvPr/>
        </p:nvSpPr>
        <p:spPr>
          <a:xfrm>
            <a:off x="0" y="5805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Вы можете убедиться – результат расстановки знаков такой же, как в предыдущем спосо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) Остается записать ответ, выбрав промежутки соответствующие знаку неравенства. В нашем случае, знаку «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соответствуют промежутки со знаком «+». Важно не забыт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3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1168560"/>
            <a:ext cx="1103400" cy="426960"/>
          </a:xfrm>
          <a:custGeom>
            <a:avLst/>
            <a:gdLst/>
            <a:ahLst/>
            <a:rect l="l" t="t" r="r" b="b"/>
            <a:pathLst>
              <a:path w="695" h="253">
                <a:moveTo>
                  <a:pt x="695" y="253"/>
                </a:moveTo>
                <a:cubicBezTo>
                  <a:pt x="673" y="195"/>
                  <a:pt x="652" y="138"/>
                  <a:pt x="536" y="96"/>
                </a:cubicBezTo>
                <a:cubicBezTo>
                  <a:pt x="420" y="54"/>
                  <a:pt x="210" y="27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00480" y="1220760"/>
            <a:ext cx="1098360" cy="401760"/>
          </a:xfrm>
          <a:custGeom>
            <a:avLst/>
            <a:gdLst/>
            <a:ahLst/>
            <a:rect l="l" t="t" r="r" b="b"/>
            <a:pathLst>
              <a:path w="692" h="253">
                <a:moveTo>
                  <a:pt x="0" y="253"/>
                </a:moveTo>
                <a:cubicBezTo>
                  <a:pt x="33" y="217"/>
                  <a:pt x="110" y="72"/>
                  <a:pt x="196" y="36"/>
                </a:cubicBezTo>
                <a:cubicBezTo>
                  <a:pt x="282" y="0"/>
                  <a:pt x="433" y="1"/>
                  <a:pt x="516" y="36"/>
                </a:cubicBezTo>
                <a:cubicBezTo>
                  <a:pt x="599" y="71"/>
                  <a:pt x="655" y="201"/>
                  <a:pt x="692" y="2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71800" y="1201680"/>
            <a:ext cx="1414440" cy="407880"/>
          </a:xfrm>
          <a:custGeom>
            <a:avLst/>
            <a:gdLst/>
            <a:ahLst/>
            <a:rect l="l" t="t" r="r" b="b"/>
            <a:pathLst>
              <a:path w="692" h="253">
                <a:moveTo>
                  <a:pt x="0" y="253"/>
                </a:moveTo>
                <a:cubicBezTo>
                  <a:pt x="33" y="217"/>
                  <a:pt x="110" y="72"/>
                  <a:pt x="196" y="36"/>
                </a:cubicBezTo>
                <a:cubicBezTo>
                  <a:pt x="282" y="0"/>
                  <a:pt x="433" y="1"/>
                  <a:pt x="516" y="36"/>
                </a:cubicBezTo>
                <a:cubicBezTo>
                  <a:pt x="599" y="71"/>
                  <a:pt x="655" y="201"/>
                  <a:pt x="692" y="2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05320" y="1225440"/>
            <a:ext cx="355320" cy="400320"/>
          </a:xfrm>
          <a:custGeom>
            <a:avLst/>
            <a:gdLst/>
            <a:ahLst/>
            <a:rect l="l" t="t" r="r" b="b"/>
            <a:pathLst>
              <a:path w="224" h="252">
                <a:moveTo>
                  <a:pt x="0" y="225"/>
                </a:moveTo>
                <a:cubicBezTo>
                  <a:pt x="18" y="146"/>
                  <a:pt x="36" y="68"/>
                  <a:pt x="64" y="36"/>
                </a:cubicBezTo>
                <a:cubicBezTo>
                  <a:pt x="92" y="4"/>
                  <a:pt x="141" y="0"/>
                  <a:pt x="168" y="36"/>
                </a:cubicBezTo>
                <a:cubicBezTo>
                  <a:pt x="195" y="72"/>
                  <a:pt x="209" y="162"/>
                  <a:pt x="224" y="2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35240" y="1203480"/>
            <a:ext cx="1079280" cy="401400"/>
          </a:xfrm>
          <a:custGeom>
            <a:avLst/>
            <a:gdLst/>
            <a:ahLst/>
            <a:rect l="l" t="t" r="r" b="b"/>
            <a:pathLst>
              <a:path w="692" h="253">
                <a:moveTo>
                  <a:pt x="0" y="253"/>
                </a:moveTo>
                <a:cubicBezTo>
                  <a:pt x="33" y="217"/>
                  <a:pt x="110" y="72"/>
                  <a:pt x="196" y="36"/>
                </a:cubicBezTo>
                <a:cubicBezTo>
                  <a:pt x="282" y="0"/>
                  <a:pt x="433" y="1"/>
                  <a:pt x="516" y="36"/>
                </a:cubicBezTo>
                <a:cubicBezTo>
                  <a:pt x="599" y="71"/>
                  <a:pt x="655" y="201"/>
                  <a:pt x="692" y="2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62864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1589040"/>
            <a:ext cx="730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54560" y="1589040"/>
            <a:ext cx="727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1600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0" y="1628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15280" y="12700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14920" y="158760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53120" y="158760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76360" y="158580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9564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06920" y="162864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48360" y="1628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92720" y="1155600"/>
            <a:ext cx="3102120" cy="473040"/>
          </a:xfrm>
          <a:custGeom>
            <a:avLst/>
            <a:gdLst/>
            <a:ahLst/>
            <a:rect l="l" t="t" r="r" b="b"/>
            <a:pathLst>
              <a:path w="1954" h="298">
                <a:moveTo>
                  <a:pt x="0" y="298"/>
                </a:moveTo>
                <a:lnTo>
                  <a:pt x="34" y="216"/>
                </a:lnTo>
                <a:lnTo>
                  <a:pt x="82" y="160"/>
                </a:lnTo>
                <a:lnTo>
                  <a:pt x="154" y="104"/>
                </a:lnTo>
                <a:lnTo>
                  <a:pt x="242" y="72"/>
                </a:lnTo>
                <a:cubicBezTo>
                  <a:pt x="374" y="59"/>
                  <a:pt x="661" y="36"/>
                  <a:pt x="946" y="24"/>
                </a:cubicBezTo>
                <a:cubicBezTo>
                  <a:pt x="1231" y="12"/>
                  <a:pt x="1744" y="5"/>
                  <a:pt x="19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88000" y="112536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56000" y="112536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75080" y="114624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112536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92360" y="112536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5280" y="112536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3680" y="2133720"/>
            <a:ext cx="31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–1; 2)</a:t>
            </a:r>
            <a:r>
              <a:rPr b="0" lang="en-US" sz="1800" spc="-1" strike="noStrike">
                <a:solidFill>
                  <a:srgbClr val="000000"/>
                </a:solidFill>
                <a:latin typeface="Euclid Extra"/>
                <a:ea typeface="Euclid Extra"/>
              </a:rPr>
              <a:t>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3}</a:t>
            </a:r>
            <a:r>
              <a:rPr b="0" lang="en-US" sz="1800" spc="-1" strike="noStrike">
                <a:solidFill>
                  <a:srgbClr val="000000"/>
                </a:solidFill>
                <a:latin typeface="Euclid Extra"/>
                <a:ea typeface="Euclid Extra"/>
              </a:rPr>
              <a:t>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7; +</a:t>
            </a:r>
            <a:r>
              <a:rPr b="0" lang="en-US" sz="1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-2520" y="2708280"/>
            <a:ext cx="51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Пример 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Решите неравенст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602160" y="2585880"/>
          <a:ext cx="1296720" cy="61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02160" y="2585880"/>
                    <a:ext cx="129672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0" y="3357720"/>
            <a:ext cx="914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Реш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еренесем все в левую часть неравенства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f)=</a:t>
            </a:r>
            <a:r>
              <a:rPr b="0" lang="en-US" sz="1800" spc="-1" strike="noStrike">
                <a:solidFill>
                  <a:srgbClr val="000000"/>
                </a:solidFill>
                <a:latin typeface="Euclid Extra"/>
                <a:ea typeface="Euclid Extra"/>
              </a:rPr>
              <a:t>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роме х=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 1; 1, г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(x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6012000" y="3213000"/>
          <a:ext cx="1636560" cy="619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12000" y="3213000"/>
                    <a:ext cx="163656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3825720" y="3971880"/>
          <a:ext cx="1378080" cy="738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25720" y="3971880"/>
                    <a:ext cx="137808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0" y="4869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Нулей функции нет, т.к. дискриминант квадратного трехчлена отрицательны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5300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1280" y="595008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17080" y="5589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132000" y="5516640"/>
            <a:ext cx="1414440" cy="407880"/>
          </a:xfrm>
          <a:custGeom>
            <a:avLst/>
            <a:gdLst/>
            <a:ahLst/>
            <a:rect l="l" t="t" r="r" b="b"/>
            <a:pathLst>
              <a:path w="692" h="253">
                <a:moveTo>
                  <a:pt x="0" y="253"/>
                </a:moveTo>
                <a:cubicBezTo>
                  <a:pt x="33" y="217"/>
                  <a:pt x="110" y="72"/>
                  <a:pt x="196" y="36"/>
                </a:cubicBezTo>
                <a:cubicBezTo>
                  <a:pt x="282" y="0"/>
                  <a:pt x="433" y="1"/>
                  <a:pt x="516" y="36"/>
                </a:cubicBezTo>
                <a:cubicBezTo>
                  <a:pt x="599" y="71"/>
                  <a:pt x="655" y="201"/>
                  <a:pt x="692" y="2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95760" y="5440320"/>
            <a:ext cx="3816360" cy="473040"/>
          </a:xfrm>
          <a:custGeom>
            <a:avLst/>
            <a:gdLst/>
            <a:ahLst/>
            <a:rect l="l" t="t" r="r" b="b"/>
            <a:pathLst>
              <a:path w="1954" h="298">
                <a:moveTo>
                  <a:pt x="0" y="298"/>
                </a:moveTo>
                <a:lnTo>
                  <a:pt x="34" y="216"/>
                </a:lnTo>
                <a:lnTo>
                  <a:pt x="82" y="160"/>
                </a:lnTo>
                <a:lnTo>
                  <a:pt x="154" y="104"/>
                </a:lnTo>
                <a:lnTo>
                  <a:pt x="242" y="72"/>
                </a:lnTo>
                <a:cubicBezTo>
                  <a:pt x="374" y="59"/>
                  <a:pt x="661" y="36"/>
                  <a:pt x="946" y="24"/>
                </a:cubicBezTo>
                <a:cubicBezTo>
                  <a:pt x="1231" y="12"/>
                  <a:pt x="1744" y="5"/>
                  <a:pt x="19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4120" y="5445000"/>
            <a:ext cx="2471760" cy="460440"/>
          </a:xfrm>
          <a:custGeom>
            <a:avLst/>
            <a:gdLst/>
            <a:ahLst/>
            <a:rect l="l" t="t" r="r" b="b"/>
            <a:pathLst>
              <a:path w="695" h="253">
                <a:moveTo>
                  <a:pt x="695" y="253"/>
                </a:moveTo>
                <a:cubicBezTo>
                  <a:pt x="673" y="195"/>
                  <a:pt x="652" y="138"/>
                  <a:pt x="536" y="96"/>
                </a:cubicBezTo>
                <a:cubicBezTo>
                  <a:pt x="420" y="54"/>
                  <a:pt x="210" y="27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43560" y="590544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98880" y="591192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59500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27640" y="5950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Проверьте себя, как Вы поняли правило расстановки знаков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54450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12000" y="537372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32000" y="537372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080" y="-33480"/>
            <a:ext cx="23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5) Отв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1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60" y="453960"/>
            <a:ext cx="523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Пример 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Решите неравенств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co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&gt;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836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Реш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ерепишем неравенство в виде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1 – co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Используя формулы половинного аргумента, получим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2si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si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162864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f)=</a:t>
            </a:r>
            <a:r>
              <a:rPr b="0" lang="en-US" sz="1800" spc="-1" strike="noStrike">
                <a:solidFill>
                  <a:srgbClr val="000000"/>
                </a:solidFill>
                <a:latin typeface="Euclid Extra"/>
                <a:ea typeface="Euclid Extra"/>
              </a:rPr>
              <a:t>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=2si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i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50920" y="1916280"/>
            <a:ext cx="6076800" cy="568080"/>
            <a:chOff x="250920" y="1916280"/>
            <a:chExt cx="6076800" cy="568080"/>
          </a:xfrm>
        </p:grpSpPr>
        <p:sp>
          <p:nvSpPr>
            <p:cNvPr id="239" name=""/>
            <p:cNvSpPr/>
            <p:nvPr/>
          </p:nvSpPr>
          <p:spPr>
            <a:xfrm>
              <a:off x="250920" y="1989000"/>
              <a:ext cx="417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)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sin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– sin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=0;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0" name=""/>
            <p:cNvGraphicFramePr/>
            <p:nvPr/>
          </p:nvGraphicFramePr>
          <p:xfrm>
            <a:off x="2527200" y="1916280"/>
            <a:ext cx="3800520" cy="568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527200" y="1916280"/>
                      <a:ext cx="3800520" cy="56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42" name=""/>
          <p:cNvSpPr/>
          <p:nvPr/>
        </p:nvSpPr>
        <p:spPr>
          <a:xfrm>
            <a:off x="250920" y="2349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Расставим полученные нули функции на числовой прямо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17080" y="3068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8360" y="342900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378160" y="3392640"/>
            <a:ext cx="71280" cy="7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732040" y="3390840"/>
            <a:ext cx="7164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72040" y="338940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35640" y="338940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691320" y="338940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68360" y="350028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2627280" y="3500280"/>
          <a:ext cx="241200" cy="576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27280" y="3500280"/>
                    <a:ext cx="2412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4011480" y="3500280"/>
          <a:ext cx="354240" cy="576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11480" y="3500280"/>
                    <a:ext cx="354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4427640" y="3500280"/>
          <a:ext cx="288720" cy="28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27640" y="3500280"/>
                    <a:ext cx="28872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6516720" y="3429000"/>
          <a:ext cx="473040" cy="36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516720" y="3429000"/>
                    <a:ext cx="4730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0" y="414972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ывая периодичность функц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sin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достаточно ограничиться отрезком длиной 2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0920" y="486900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Расставим знаки на полученных промежут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19200" y="3005280"/>
            <a:ext cx="352440" cy="385560"/>
          </a:xfrm>
          <a:custGeom>
            <a:avLst/>
            <a:gdLst/>
            <a:ahLst/>
            <a:rect l="l" t="t" r="r" b="b"/>
            <a:pathLst>
              <a:path w="222" h="243">
                <a:moveTo>
                  <a:pt x="0" y="243"/>
                </a:moveTo>
                <a:cubicBezTo>
                  <a:pt x="8" y="211"/>
                  <a:pt x="33" y="92"/>
                  <a:pt x="51" y="51"/>
                </a:cubicBezTo>
                <a:cubicBezTo>
                  <a:pt x="69" y="10"/>
                  <a:pt x="89" y="0"/>
                  <a:pt x="108" y="0"/>
                </a:cubicBezTo>
                <a:cubicBezTo>
                  <a:pt x="127" y="0"/>
                  <a:pt x="149" y="8"/>
                  <a:pt x="168" y="48"/>
                </a:cubicBezTo>
                <a:cubicBezTo>
                  <a:pt x="187" y="88"/>
                  <a:pt x="211" y="200"/>
                  <a:pt x="222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771640" y="3003480"/>
            <a:ext cx="1438560" cy="372960"/>
          </a:xfrm>
          <a:custGeom>
            <a:avLst/>
            <a:gdLst/>
            <a:ahLst/>
            <a:rect l="l" t="t" r="r" b="b"/>
            <a:pathLst>
              <a:path w="906" h="235">
                <a:moveTo>
                  <a:pt x="0" y="223"/>
                </a:moveTo>
                <a:cubicBezTo>
                  <a:pt x="15" y="209"/>
                  <a:pt x="14" y="176"/>
                  <a:pt x="90" y="139"/>
                </a:cubicBezTo>
                <a:cubicBezTo>
                  <a:pt x="166" y="102"/>
                  <a:pt x="335" y="2"/>
                  <a:pt x="456" y="1"/>
                </a:cubicBezTo>
                <a:cubicBezTo>
                  <a:pt x="577" y="0"/>
                  <a:pt x="741" y="93"/>
                  <a:pt x="816" y="132"/>
                </a:cubicBezTo>
                <a:cubicBezTo>
                  <a:pt x="891" y="171"/>
                  <a:pt x="887" y="214"/>
                  <a:pt x="906" y="2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05160" y="2997360"/>
            <a:ext cx="366840" cy="390240"/>
          </a:xfrm>
          <a:custGeom>
            <a:avLst/>
            <a:gdLst/>
            <a:ahLst/>
            <a:rect l="l" t="t" r="r" b="b"/>
            <a:pathLst>
              <a:path w="222" h="243">
                <a:moveTo>
                  <a:pt x="0" y="243"/>
                </a:moveTo>
                <a:cubicBezTo>
                  <a:pt x="8" y="211"/>
                  <a:pt x="33" y="92"/>
                  <a:pt x="51" y="51"/>
                </a:cubicBezTo>
                <a:cubicBezTo>
                  <a:pt x="69" y="10"/>
                  <a:pt x="89" y="0"/>
                  <a:pt x="108" y="0"/>
                </a:cubicBezTo>
                <a:cubicBezTo>
                  <a:pt x="127" y="0"/>
                  <a:pt x="149" y="8"/>
                  <a:pt x="168" y="48"/>
                </a:cubicBezTo>
                <a:cubicBezTo>
                  <a:pt x="187" y="88"/>
                  <a:pt x="211" y="200"/>
                  <a:pt x="222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6680" y="2982960"/>
            <a:ext cx="2152800" cy="403200"/>
          </a:xfrm>
          <a:custGeom>
            <a:avLst/>
            <a:gdLst/>
            <a:ahLst/>
            <a:rect l="l" t="t" r="r" b="b"/>
            <a:pathLst>
              <a:path w="1356" h="254">
                <a:moveTo>
                  <a:pt x="0" y="251"/>
                </a:moveTo>
                <a:cubicBezTo>
                  <a:pt x="37" y="233"/>
                  <a:pt x="111" y="183"/>
                  <a:pt x="224" y="141"/>
                </a:cubicBezTo>
                <a:cubicBezTo>
                  <a:pt x="337" y="100"/>
                  <a:pt x="526" y="0"/>
                  <a:pt x="677" y="0"/>
                </a:cubicBezTo>
                <a:cubicBezTo>
                  <a:pt x="828" y="0"/>
                  <a:pt x="1018" y="99"/>
                  <a:pt x="1131" y="141"/>
                </a:cubicBezTo>
                <a:cubicBezTo>
                  <a:pt x="1244" y="183"/>
                  <a:pt x="1309" y="231"/>
                  <a:pt x="1356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14880" y="294156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98680" y="2936880"/>
            <a:ext cx="3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186080" y="2959200"/>
            <a:ext cx="3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470560" y="292428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0920" y="5229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Запишем отв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593640" y="5522760"/>
          <a:ext cx="7885080" cy="1290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3640" y="5522760"/>
                    <a:ext cx="7885080" cy="12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0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5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35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4000"/>
                            </p:stCondLst>
                            <p:childTnLst>
                              <p:par>
                                <p:cTn id="5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6:11:30Z</dcterms:created>
  <dc:creator>V</dc:creator>
  <dc:description/>
  <dc:language>en-US</dc:language>
  <cp:lastModifiedBy>XP GAME 2007</cp:lastModifiedBy>
  <dcterms:modified xsi:type="dcterms:W3CDTF">2009-08-12T16:57:09Z</dcterms:modified>
  <cp:revision>45</cp:revision>
  <dc:subject/>
  <dc:title>Решение неравенств методом интервалов</dc:title>
</cp:coreProperties>
</file>