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B1C-0B0C-4126-95A1-2854D4AF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B1C-D5D3-433C-915A-4378EFB9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718-BEFA-4ED2-8E61-52B97B50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8EC-AF0C-4C9C-8C12-3A8E0948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0D0-5563-4B88-BA52-2E667C13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DDD-C449-4B4D-92B3-3F29E8C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48C-F637-4C06-8CD1-35405F9A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7F7-CADA-4E5F-8938-84D42781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0E9-820D-4A67-88C5-513A64F9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168-4B9F-419F-A557-673A93E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CB5-BEAA-4DE8-8340-A5D328B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848-BCBA-4F6B-AD42-79D9B4BA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4B25-5C3D-44FD-964B-C1D3217A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Решение неравенств методом интерва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50864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Алгебра и начала анали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10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360" y="6629400"/>
            <a:ext cx="30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Воробьев Леонид Альбертович, г.Минс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72000" y="1125000"/>
            <a:ext cx="0" cy="374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13160" y="3444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0436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628640"/>
            <a:ext cx="8424720" cy="2880000"/>
          </a:xfrm>
          <a:custGeom>
            <a:avLst/>
            <a:gdLst/>
            <a:ahLst/>
            <a:rect l="l" t="t" r="r" b="b"/>
            <a:pathLst>
              <a:path w="5307" h="1814">
                <a:moveTo>
                  <a:pt x="0" y="0"/>
                </a:moveTo>
                <a:cubicBezTo>
                  <a:pt x="189" y="737"/>
                  <a:pt x="378" y="1475"/>
                  <a:pt x="590" y="1588"/>
                </a:cubicBezTo>
                <a:cubicBezTo>
                  <a:pt x="802" y="1701"/>
                  <a:pt x="1066" y="869"/>
                  <a:pt x="1270" y="680"/>
                </a:cubicBezTo>
                <a:cubicBezTo>
                  <a:pt x="1474" y="491"/>
                  <a:pt x="1664" y="529"/>
                  <a:pt x="1815" y="454"/>
                </a:cubicBezTo>
                <a:cubicBezTo>
                  <a:pt x="1966" y="379"/>
                  <a:pt x="1988" y="114"/>
                  <a:pt x="2177" y="227"/>
                </a:cubicBezTo>
                <a:cubicBezTo>
                  <a:pt x="2366" y="340"/>
                  <a:pt x="2700" y="1096"/>
                  <a:pt x="2949" y="1134"/>
                </a:cubicBezTo>
                <a:cubicBezTo>
                  <a:pt x="3198" y="1172"/>
                  <a:pt x="3281" y="341"/>
                  <a:pt x="3674" y="454"/>
                </a:cubicBezTo>
                <a:cubicBezTo>
                  <a:pt x="4067" y="567"/>
                  <a:pt x="4687" y="1190"/>
                  <a:pt x="5307" y="18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-27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ая гладкая крив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12800">
            <a:off x="1764000" y="220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840" y="5013360"/>
            <a:ext cx="9074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E(f)=</a:t>
            </a:r>
            <a:r>
              <a:rPr b="0" lang="en-US" sz="1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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ратим свое внимание на значения аргумента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этих точках график функции пересекает ось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касается её. Это –  так называемые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ули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рдинаты этих точек равны 0, т.е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налитически их можно найти, решая уравнени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71560" y="33908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88160" y="33876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57640" y="33908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33560" y="3389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5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2960" y="2343240"/>
            <a:ext cx="1047600" cy="144360"/>
          </a:xfrm>
          <a:prstGeom prst="rect">
            <a:avLst/>
          </a:prstGeom>
          <a:solidFill>
            <a:srgbClr val="00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492280"/>
            <a:ext cx="504720" cy="144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2492280"/>
            <a:ext cx="5742000" cy="144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492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72000" y="18900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3160" y="250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1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92280"/>
            <a:ext cx="8424720" cy="2879640"/>
          </a:xfrm>
          <a:custGeom>
            <a:avLst/>
            <a:gdLst/>
            <a:ahLst/>
            <a:rect l="l" t="t" r="r" b="b"/>
            <a:pathLst>
              <a:path w="5307" h="1814">
                <a:moveTo>
                  <a:pt x="0" y="0"/>
                </a:moveTo>
                <a:cubicBezTo>
                  <a:pt x="189" y="737"/>
                  <a:pt x="378" y="1475"/>
                  <a:pt x="590" y="1588"/>
                </a:cubicBezTo>
                <a:cubicBezTo>
                  <a:pt x="802" y="1701"/>
                  <a:pt x="1066" y="869"/>
                  <a:pt x="1270" y="680"/>
                </a:cubicBezTo>
                <a:cubicBezTo>
                  <a:pt x="1474" y="491"/>
                  <a:pt x="1664" y="529"/>
                  <a:pt x="1815" y="454"/>
                </a:cubicBezTo>
                <a:cubicBezTo>
                  <a:pt x="1966" y="379"/>
                  <a:pt x="1988" y="114"/>
                  <a:pt x="2177" y="227"/>
                </a:cubicBezTo>
                <a:cubicBezTo>
                  <a:pt x="2366" y="340"/>
                  <a:pt x="2700" y="1096"/>
                  <a:pt x="2949" y="1134"/>
                </a:cubicBezTo>
                <a:cubicBezTo>
                  <a:pt x="3198" y="1172"/>
                  <a:pt x="3281" y="341"/>
                  <a:pt x="3674" y="454"/>
                </a:cubicBezTo>
                <a:cubicBezTo>
                  <a:pt x="4067" y="567"/>
                  <a:pt x="4687" y="1190"/>
                  <a:pt x="5307" y="18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012800">
            <a:off x="1764000" y="12675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1560" y="245412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88160" y="24512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57640" y="24541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33560" y="24526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789360"/>
            <a:ext cx="914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бивают область определения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межутки знакопостоян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промежутки, на которых функция имеет либо  положительные знач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gt;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отрицательны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lt;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нашем случа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6900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g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92280"/>
            <a:ext cx="500040" cy="1760400"/>
          </a:xfrm>
          <a:custGeom>
            <a:avLst/>
            <a:gdLst/>
            <a:ahLst/>
            <a:rect l="l" t="t" r="r" b="b"/>
            <a:pathLst>
              <a:path w="315" h="1109">
                <a:moveTo>
                  <a:pt x="0" y="0"/>
                </a:moveTo>
                <a:cubicBezTo>
                  <a:pt x="9" y="37"/>
                  <a:pt x="39" y="155"/>
                  <a:pt x="57" y="224"/>
                </a:cubicBezTo>
                <a:cubicBezTo>
                  <a:pt x="75" y="293"/>
                  <a:pt x="90" y="346"/>
                  <a:pt x="108" y="413"/>
                </a:cubicBezTo>
                <a:cubicBezTo>
                  <a:pt x="126" y="480"/>
                  <a:pt x="146" y="559"/>
                  <a:pt x="165" y="629"/>
                </a:cubicBezTo>
                <a:cubicBezTo>
                  <a:pt x="184" y="699"/>
                  <a:pt x="207" y="775"/>
                  <a:pt x="225" y="833"/>
                </a:cubicBezTo>
                <a:cubicBezTo>
                  <a:pt x="243" y="891"/>
                  <a:pt x="255" y="931"/>
                  <a:pt x="270" y="977"/>
                </a:cubicBezTo>
                <a:cubicBezTo>
                  <a:pt x="285" y="1023"/>
                  <a:pt x="306" y="1082"/>
                  <a:pt x="315" y="110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95480" y="1006560"/>
            <a:ext cx="3062160" cy="1479600"/>
          </a:xfrm>
          <a:custGeom>
            <a:avLst/>
            <a:gdLst/>
            <a:ahLst/>
            <a:rect l="l" t="t" r="r" b="b"/>
            <a:pathLst>
              <a:path w="1929" h="932">
                <a:moveTo>
                  <a:pt x="0" y="911"/>
                </a:moveTo>
                <a:cubicBezTo>
                  <a:pt x="15" y="882"/>
                  <a:pt x="64" y="786"/>
                  <a:pt x="93" y="734"/>
                </a:cubicBezTo>
                <a:cubicBezTo>
                  <a:pt x="122" y="682"/>
                  <a:pt x="150" y="634"/>
                  <a:pt x="173" y="598"/>
                </a:cubicBezTo>
                <a:cubicBezTo>
                  <a:pt x="196" y="562"/>
                  <a:pt x="211" y="540"/>
                  <a:pt x="231" y="516"/>
                </a:cubicBezTo>
                <a:cubicBezTo>
                  <a:pt x="251" y="492"/>
                  <a:pt x="269" y="475"/>
                  <a:pt x="291" y="456"/>
                </a:cubicBezTo>
                <a:cubicBezTo>
                  <a:pt x="313" y="437"/>
                  <a:pt x="333" y="421"/>
                  <a:pt x="363" y="404"/>
                </a:cubicBezTo>
                <a:cubicBezTo>
                  <a:pt x="393" y="387"/>
                  <a:pt x="431" y="367"/>
                  <a:pt x="468" y="353"/>
                </a:cubicBezTo>
                <a:cubicBezTo>
                  <a:pt x="505" y="339"/>
                  <a:pt x="548" y="327"/>
                  <a:pt x="588" y="317"/>
                </a:cubicBezTo>
                <a:cubicBezTo>
                  <a:pt x="628" y="307"/>
                  <a:pt x="674" y="300"/>
                  <a:pt x="711" y="290"/>
                </a:cubicBezTo>
                <a:cubicBezTo>
                  <a:pt x="748" y="280"/>
                  <a:pt x="784" y="267"/>
                  <a:pt x="810" y="254"/>
                </a:cubicBezTo>
                <a:cubicBezTo>
                  <a:pt x="836" y="241"/>
                  <a:pt x="849" y="227"/>
                  <a:pt x="865" y="212"/>
                </a:cubicBezTo>
                <a:cubicBezTo>
                  <a:pt x="881" y="197"/>
                  <a:pt x="897" y="179"/>
                  <a:pt x="909" y="164"/>
                </a:cubicBezTo>
                <a:cubicBezTo>
                  <a:pt x="921" y="149"/>
                  <a:pt x="931" y="134"/>
                  <a:pt x="939" y="122"/>
                </a:cubicBezTo>
                <a:cubicBezTo>
                  <a:pt x="947" y="110"/>
                  <a:pt x="952" y="103"/>
                  <a:pt x="960" y="92"/>
                </a:cubicBezTo>
                <a:cubicBezTo>
                  <a:pt x="968" y="81"/>
                  <a:pt x="976" y="68"/>
                  <a:pt x="987" y="56"/>
                </a:cubicBezTo>
                <a:cubicBezTo>
                  <a:pt x="998" y="44"/>
                  <a:pt x="1012" y="29"/>
                  <a:pt x="1027" y="20"/>
                </a:cubicBezTo>
                <a:cubicBezTo>
                  <a:pt x="1042" y="11"/>
                  <a:pt x="1061" y="4"/>
                  <a:pt x="1077" y="2"/>
                </a:cubicBezTo>
                <a:cubicBezTo>
                  <a:pt x="1093" y="0"/>
                  <a:pt x="1109" y="3"/>
                  <a:pt x="1125" y="8"/>
                </a:cubicBezTo>
                <a:cubicBezTo>
                  <a:pt x="1141" y="13"/>
                  <a:pt x="1160" y="24"/>
                  <a:pt x="1173" y="32"/>
                </a:cubicBezTo>
                <a:cubicBezTo>
                  <a:pt x="1186" y="40"/>
                  <a:pt x="1193" y="45"/>
                  <a:pt x="1205" y="56"/>
                </a:cubicBezTo>
                <a:cubicBezTo>
                  <a:pt x="1217" y="67"/>
                  <a:pt x="1228" y="78"/>
                  <a:pt x="1245" y="98"/>
                </a:cubicBezTo>
                <a:cubicBezTo>
                  <a:pt x="1262" y="118"/>
                  <a:pt x="1284" y="143"/>
                  <a:pt x="1308" y="176"/>
                </a:cubicBezTo>
                <a:cubicBezTo>
                  <a:pt x="1332" y="209"/>
                  <a:pt x="1372" y="270"/>
                  <a:pt x="1392" y="299"/>
                </a:cubicBezTo>
                <a:cubicBezTo>
                  <a:pt x="1412" y="328"/>
                  <a:pt x="1407" y="321"/>
                  <a:pt x="1428" y="353"/>
                </a:cubicBezTo>
                <a:cubicBezTo>
                  <a:pt x="1449" y="385"/>
                  <a:pt x="1491" y="450"/>
                  <a:pt x="1519" y="492"/>
                </a:cubicBezTo>
                <a:cubicBezTo>
                  <a:pt x="1547" y="534"/>
                  <a:pt x="1574" y="574"/>
                  <a:pt x="1596" y="605"/>
                </a:cubicBezTo>
                <a:cubicBezTo>
                  <a:pt x="1618" y="636"/>
                  <a:pt x="1633" y="658"/>
                  <a:pt x="1649" y="680"/>
                </a:cubicBezTo>
                <a:cubicBezTo>
                  <a:pt x="1665" y="702"/>
                  <a:pt x="1678" y="716"/>
                  <a:pt x="1695" y="737"/>
                </a:cubicBezTo>
                <a:cubicBezTo>
                  <a:pt x="1712" y="758"/>
                  <a:pt x="1735" y="786"/>
                  <a:pt x="1751" y="804"/>
                </a:cubicBezTo>
                <a:cubicBezTo>
                  <a:pt x="1767" y="822"/>
                  <a:pt x="1781" y="836"/>
                  <a:pt x="1791" y="846"/>
                </a:cubicBezTo>
                <a:cubicBezTo>
                  <a:pt x="1801" y="856"/>
                  <a:pt x="1801" y="856"/>
                  <a:pt x="1809" y="863"/>
                </a:cubicBezTo>
                <a:cubicBezTo>
                  <a:pt x="1817" y="870"/>
                  <a:pt x="1827" y="878"/>
                  <a:pt x="1839" y="887"/>
                </a:cubicBezTo>
                <a:cubicBezTo>
                  <a:pt x="1851" y="896"/>
                  <a:pt x="1866" y="907"/>
                  <a:pt x="1881" y="914"/>
                </a:cubicBezTo>
                <a:cubicBezTo>
                  <a:pt x="1896" y="921"/>
                  <a:pt x="1919" y="928"/>
                  <a:pt x="1929" y="93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38640" y="1389240"/>
            <a:ext cx="2552760" cy="1101600"/>
          </a:xfrm>
          <a:custGeom>
            <a:avLst/>
            <a:gdLst/>
            <a:ahLst/>
            <a:rect l="l" t="t" r="r" b="b"/>
            <a:pathLst>
              <a:path w="1608" h="694">
                <a:moveTo>
                  <a:pt x="0" y="694"/>
                </a:moveTo>
                <a:cubicBezTo>
                  <a:pt x="4" y="692"/>
                  <a:pt x="19" y="688"/>
                  <a:pt x="30" y="682"/>
                </a:cubicBezTo>
                <a:cubicBezTo>
                  <a:pt x="41" y="676"/>
                  <a:pt x="56" y="667"/>
                  <a:pt x="66" y="658"/>
                </a:cubicBezTo>
                <a:cubicBezTo>
                  <a:pt x="76" y="649"/>
                  <a:pt x="83" y="637"/>
                  <a:pt x="93" y="625"/>
                </a:cubicBezTo>
                <a:cubicBezTo>
                  <a:pt x="103" y="613"/>
                  <a:pt x="114" y="601"/>
                  <a:pt x="123" y="589"/>
                </a:cubicBezTo>
                <a:cubicBezTo>
                  <a:pt x="132" y="577"/>
                  <a:pt x="138" y="568"/>
                  <a:pt x="147" y="553"/>
                </a:cubicBezTo>
                <a:cubicBezTo>
                  <a:pt x="156" y="538"/>
                  <a:pt x="166" y="519"/>
                  <a:pt x="177" y="499"/>
                </a:cubicBezTo>
                <a:cubicBezTo>
                  <a:pt x="188" y="479"/>
                  <a:pt x="202" y="457"/>
                  <a:pt x="213" y="436"/>
                </a:cubicBezTo>
                <a:cubicBezTo>
                  <a:pt x="224" y="415"/>
                  <a:pt x="235" y="395"/>
                  <a:pt x="246" y="373"/>
                </a:cubicBezTo>
                <a:cubicBezTo>
                  <a:pt x="257" y="351"/>
                  <a:pt x="269" y="324"/>
                  <a:pt x="279" y="304"/>
                </a:cubicBezTo>
                <a:cubicBezTo>
                  <a:pt x="289" y="284"/>
                  <a:pt x="299" y="270"/>
                  <a:pt x="309" y="253"/>
                </a:cubicBezTo>
                <a:cubicBezTo>
                  <a:pt x="319" y="236"/>
                  <a:pt x="333" y="214"/>
                  <a:pt x="342" y="199"/>
                </a:cubicBezTo>
                <a:cubicBezTo>
                  <a:pt x="351" y="184"/>
                  <a:pt x="356" y="177"/>
                  <a:pt x="366" y="163"/>
                </a:cubicBezTo>
                <a:cubicBezTo>
                  <a:pt x="376" y="149"/>
                  <a:pt x="392" y="129"/>
                  <a:pt x="405" y="115"/>
                </a:cubicBezTo>
                <a:cubicBezTo>
                  <a:pt x="418" y="101"/>
                  <a:pt x="429" y="88"/>
                  <a:pt x="444" y="76"/>
                </a:cubicBezTo>
                <a:cubicBezTo>
                  <a:pt x="459" y="64"/>
                  <a:pt x="482" y="49"/>
                  <a:pt x="495" y="40"/>
                </a:cubicBezTo>
                <a:cubicBezTo>
                  <a:pt x="508" y="31"/>
                  <a:pt x="512" y="30"/>
                  <a:pt x="522" y="25"/>
                </a:cubicBezTo>
                <a:cubicBezTo>
                  <a:pt x="532" y="20"/>
                  <a:pt x="544" y="16"/>
                  <a:pt x="552" y="13"/>
                </a:cubicBezTo>
                <a:cubicBezTo>
                  <a:pt x="560" y="10"/>
                  <a:pt x="565" y="9"/>
                  <a:pt x="573" y="7"/>
                </a:cubicBezTo>
                <a:cubicBezTo>
                  <a:pt x="581" y="5"/>
                  <a:pt x="591" y="2"/>
                  <a:pt x="600" y="1"/>
                </a:cubicBezTo>
                <a:cubicBezTo>
                  <a:pt x="609" y="0"/>
                  <a:pt x="620" y="0"/>
                  <a:pt x="630" y="1"/>
                </a:cubicBezTo>
                <a:cubicBezTo>
                  <a:pt x="640" y="2"/>
                  <a:pt x="651" y="4"/>
                  <a:pt x="663" y="7"/>
                </a:cubicBezTo>
                <a:cubicBezTo>
                  <a:pt x="675" y="10"/>
                  <a:pt x="690" y="14"/>
                  <a:pt x="705" y="19"/>
                </a:cubicBezTo>
                <a:cubicBezTo>
                  <a:pt x="720" y="24"/>
                  <a:pt x="738" y="32"/>
                  <a:pt x="756" y="40"/>
                </a:cubicBezTo>
                <a:cubicBezTo>
                  <a:pt x="774" y="48"/>
                  <a:pt x="790" y="54"/>
                  <a:pt x="810" y="64"/>
                </a:cubicBezTo>
                <a:cubicBezTo>
                  <a:pt x="830" y="74"/>
                  <a:pt x="857" y="87"/>
                  <a:pt x="879" y="100"/>
                </a:cubicBezTo>
                <a:cubicBezTo>
                  <a:pt x="901" y="113"/>
                  <a:pt x="925" y="130"/>
                  <a:pt x="945" y="142"/>
                </a:cubicBezTo>
                <a:cubicBezTo>
                  <a:pt x="965" y="154"/>
                  <a:pt x="975" y="156"/>
                  <a:pt x="999" y="172"/>
                </a:cubicBezTo>
                <a:cubicBezTo>
                  <a:pt x="1023" y="188"/>
                  <a:pt x="1063" y="217"/>
                  <a:pt x="1092" y="238"/>
                </a:cubicBezTo>
                <a:cubicBezTo>
                  <a:pt x="1121" y="259"/>
                  <a:pt x="1145" y="279"/>
                  <a:pt x="1173" y="301"/>
                </a:cubicBezTo>
                <a:cubicBezTo>
                  <a:pt x="1201" y="323"/>
                  <a:pt x="1235" y="347"/>
                  <a:pt x="1263" y="370"/>
                </a:cubicBezTo>
                <a:cubicBezTo>
                  <a:pt x="1291" y="393"/>
                  <a:pt x="1322" y="423"/>
                  <a:pt x="1344" y="442"/>
                </a:cubicBezTo>
                <a:cubicBezTo>
                  <a:pt x="1366" y="461"/>
                  <a:pt x="1377" y="468"/>
                  <a:pt x="1395" y="484"/>
                </a:cubicBezTo>
                <a:cubicBezTo>
                  <a:pt x="1413" y="500"/>
                  <a:pt x="1434" y="519"/>
                  <a:pt x="1455" y="538"/>
                </a:cubicBezTo>
                <a:cubicBezTo>
                  <a:pt x="1476" y="557"/>
                  <a:pt x="1504" y="580"/>
                  <a:pt x="1524" y="598"/>
                </a:cubicBezTo>
                <a:cubicBezTo>
                  <a:pt x="1544" y="616"/>
                  <a:pt x="1561" y="631"/>
                  <a:pt x="1575" y="646"/>
                </a:cubicBezTo>
                <a:cubicBezTo>
                  <a:pt x="1589" y="661"/>
                  <a:pt x="1601" y="677"/>
                  <a:pt x="1608" y="68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036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44500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l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9080" y="2523960"/>
            <a:ext cx="1033560" cy="708120"/>
          </a:xfrm>
          <a:custGeom>
            <a:avLst/>
            <a:gdLst/>
            <a:ahLst/>
            <a:rect l="l" t="t" r="r" b="b"/>
            <a:pathLst>
              <a:path w="651" h="446">
                <a:moveTo>
                  <a:pt x="0" y="0"/>
                </a:moveTo>
                <a:cubicBezTo>
                  <a:pt x="4" y="10"/>
                  <a:pt x="15" y="40"/>
                  <a:pt x="24" y="63"/>
                </a:cubicBezTo>
                <a:cubicBezTo>
                  <a:pt x="33" y="86"/>
                  <a:pt x="46" y="116"/>
                  <a:pt x="57" y="141"/>
                </a:cubicBezTo>
                <a:cubicBezTo>
                  <a:pt x="68" y="166"/>
                  <a:pt x="77" y="188"/>
                  <a:pt x="90" y="213"/>
                </a:cubicBezTo>
                <a:cubicBezTo>
                  <a:pt x="103" y="238"/>
                  <a:pt x="118" y="271"/>
                  <a:pt x="132" y="294"/>
                </a:cubicBezTo>
                <a:cubicBezTo>
                  <a:pt x="146" y="317"/>
                  <a:pt x="160" y="336"/>
                  <a:pt x="171" y="351"/>
                </a:cubicBezTo>
                <a:cubicBezTo>
                  <a:pt x="182" y="366"/>
                  <a:pt x="187" y="372"/>
                  <a:pt x="198" y="384"/>
                </a:cubicBezTo>
                <a:cubicBezTo>
                  <a:pt x="209" y="396"/>
                  <a:pt x="227" y="412"/>
                  <a:pt x="237" y="420"/>
                </a:cubicBezTo>
                <a:cubicBezTo>
                  <a:pt x="247" y="428"/>
                  <a:pt x="250" y="428"/>
                  <a:pt x="258" y="432"/>
                </a:cubicBezTo>
                <a:cubicBezTo>
                  <a:pt x="266" y="436"/>
                  <a:pt x="280" y="442"/>
                  <a:pt x="288" y="444"/>
                </a:cubicBezTo>
                <a:cubicBezTo>
                  <a:pt x="296" y="446"/>
                  <a:pt x="299" y="446"/>
                  <a:pt x="309" y="444"/>
                </a:cubicBezTo>
                <a:cubicBezTo>
                  <a:pt x="319" y="442"/>
                  <a:pt x="338" y="439"/>
                  <a:pt x="351" y="432"/>
                </a:cubicBezTo>
                <a:cubicBezTo>
                  <a:pt x="364" y="425"/>
                  <a:pt x="375" y="412"/>
                  <a:pt x="387" y="402"/>
                </a:cubicBezTo>
                <a:cubicBezTo>
                  <a:pt x="399" y="392"/>
                  <a:pt x="410" y="383"/>
                  <a:pt x="423" y="369"/>
                </a:cubicBezTo>
                <a:cubicBezTo>
                  <a:pt x="436" y="355"/>
                  <a:pt x="452" y="336"/>
                  <a:pt x="465" y="318"/>
                </a:cubicBezTo>
                <a:cubicBezTo>
                  <a:pt x="478" y="300"/>
                  <a:pt x="493" y="275"/>
                  <a:pt x="504" y="258"/>
                </a:cubicBezTo>
                <a:cubicBezTo>
                  <a:pt x="515" y="241"/>
                  <a:pt x="522" y="230"/>
                  <a:pt x="531" y="216"/>
                </a:cubicBezTo>
                <a:cubicBezTo>
                  <a:pt x="540" y="202"/>
                  <a:pt x="549" y="186"/>
                  <a:pt x="558" y="171"/>
                </a:cubicBezTo>
                <a:cubicBezTo>
                  <a:pt x="567" y="156"/>
                  <a:pt x="575" y="143"/>
                  <a:pt x="585" y="126"/>
                </a:cubicBezTo>
                <a:cubicBezTo>
                  <a:pt x="595" y="109"/>
                  <a:pt x="607" y="84"/>
                  <a:pt x="615" y="69"/>
                </a:cubicBezTo>
                <a:cubicBezTo>
                  <a:pt x="623" y="54"/>
                  <a:pt x="627" y="47"/>
                  <a:pt x="633" y="36"/>
                </a:cubicBezTo>
                <a:cubicBezTo>
                  <a:pt x="639" y="25"/>
                  <a:pt x="647" y="10"/>
                  <a:pt x="651" y="3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2505240"/>
            <a:ext cx="1062000" cy="1066680"/>
          </a:xfrm>
          <a:custGeom>
            <a:avLst/>
            <a:gdLst/>
            <a:ahLst/>
            <a:rect l="l" t="t" r="r" b="b"/>
            <a:pathLst>
              <a:path w="669" h="672">
                <a:moveTo>
                  <a:pt x="0" y="0"/>
                </a:moveTo>
                <a:cubicBezTo>
                  <a:pt x="12" y="13"/>
                  <a:pt x="42" y="48"/>
                  <a:pt x="69" y="75"/>
                </a:cubicBezTo>
                <a:cubicBezTo>
                  <a:pt x="96" y="102"/>
                  <a:pt x="137" y="135"/>
                  <a:pt x="165" y="162"/>
                </a:cubicBezTo>
                <a:cubicBezTo>
                  <a:pt x="193" y="189"/>
                  <a:pt x="213" y="209"/>
                  <a:pt x="240" y="237"/>
                </a:cubicBezTo>
                <a:cubicBezTo>
                  <a:pt x="267" y="265"/>
                  <a:pt x="302" y="302"/>
                  <a:pt x="330" y="330"/>
                </a:cubicBezTo>
                <a:cubicBezTo>
                  <a:pt x="358" y="358"/>
                  <a:pt x="380" y="377"/>
                  <a:pt x="408" y="405"/>
                </a:cubicBezTo>
                <a:cubicBezTo>
                  <a:pt x="436" y="433"/>
                  <a:pt x="470" y="469"/>
                  <a:pt x="498" y="498"/>
                </a:cubicBezTo>
                <a:cubicBezTo>
                  <a:pt x="526" y="527"/>
                  <a:pt x="558" y="558"/>
                  <a:pt x="579" y="579"/>
                </a:cubicBezTo>
                <a:cubicBezTo>
                  <a:pt x="600" y="600"/>
                  <a:pt x="612" y="608"/>
                  <a:pt x="627" y="624"/>
                </a:cubicBezTo>
                <a:lnTo>
                  <a:pt x="669" y="672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32800" y="2343240"/>
            <a:ext cx="1047600" cy="144360"/>
          </a:xfrm>
          <a:prstGeom prst="rect">
            <a:avLst/>
          </a:prstGeom>
          <a:solidFill>
            <a:srgbClr val="00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раясь на эту геометрическую иллюстрацию, мы можем вывести алгоритм решения неравенств, получивший название «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метод интерв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ом интервалов можно решить любое неравенство вид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решении придерживаются следующей схемы (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пишите её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844640"/>
            <a:ext cx="7560000" cy="203724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нули функции, решая уравн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ть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олученные ну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знак функции на каждом полученном промежут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твет, выбрав промежутки с соответствующим зн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4972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ллюстрируем данную схему на нескольких прим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Пример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ешите неравенство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91000" y="4809960"/>
          <a:ext cx="216036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91000" y="4809960"/>
                    <a:ext cx="2160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5805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д функци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ует понимать выражение в левой части неравенства. Это дробно-рациональ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оме х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4; 2 (данные значения обращают знаменатель в нуль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47840"/>
            <a:ext cx="1103400" cy="42696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0480" y="2300400"/>
            <a:ext cx="1098360" cy="40140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71800" y="2281320"/>
            <a:ext cx="1414440" cy="40788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305080"/>
            <a:ext cx="355320" cy="399960"/>
          </a:xfrm>
          <a:custGeom>
            <a:avLst/>
            <a:gdLst/>
            <a:ahLst/>
            <a:rect l="l" t="t" r="r" b="b"/>
            <a:pathLst>
              <a:path w="224" h="252">
                <a:moveTo>
                  <a:pt x="0" y="225"/>
                </a:moveTo>
                <a:cubicBezTo>
                  <a:pt x="18" y="146"/>
                  <a:pt x="36" y="68"/>
                  <a:pt x="64" y="36"/>
                </a:cubicBezTo>
                <a:cubicBezTo>
                  <a:pt x="92" y="4"/>
                  <a:pt x="141" y="0"/>
                  <a:pt x="168" y="36"/>
                </a:cubicBezTo>
                <a:cubicBezTo>
                  <a:pt x="195" y="72"/>
                  <a:pt x="209" y="162"/>
                  <a:pt x="224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5240" y="2282760"/>
            <a:ext cx="1079280" cy="40176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йдем нули функции. Значение дроби равно нулю, если числитель этой дроби равен нулю, т.е. х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1; 3; 7 – нул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Обратите внимание, чт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чки разры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функции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4 и 2)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г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числовой прямой будут пустыми (или «выколотыми»), а нули функции – в зависимости от знака неравенства (если знак неравенства строгий, то точки пустые, если нестрогий, то обыч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70828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86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54560" y="266868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528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4920" y="26668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3120" y="26668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76360" y="26654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6920" y="2708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2708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235240"/>
            <a:ext cx="310212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920" y="2997360"/>
            <a:ext cx="9074160" cy="1663560"/>
            <a:chOff x="34920" y="2997360"/>
            <a:chExt cx="9074160" cy="1663560"/>
          </a:xfrm>
        </p:grpSpPr>
        <p:sp>
          <p:nvSpPr>
            <p:cNvPr id="116" name=""/>
            <p:cNvSpPr/>
            <p:nvPr/>
          </p:nvSpPr>
          <p:spPr>
            <a:xfrm>
              <a:off x="34920" y="2997360"/>
              <a:ext cx="90741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) Для расстановки знаков на полученных промежутках можно поступить так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■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ложить левую часть неравенства на линейные множители (как в нашем случае); тогда на крайнем справа промежутке знак определяется комбинацией угловых коэффициентов этих линейных множителей (в нашем случае все коэффициенты равны 1, т.е. получается комбинация           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5846760" y="4241880"/>
            <a:ext cx="62244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6760" y="4241880"/>
                      <a:ext cx="6224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" name=""/>
          <p:cNvSpPr/>
          <p:nvPr/>
        </p:nvSpPr>
        <p:spPr>
          <a:xfrm>
            <a:off x="658800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4581360"/>
            <a:ext cx="907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тальных промежутках (двигаемся от крайнего справа промежутка влево) знаки расставляются по правилу: знак по сравнению с предыдущим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ен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если показатель степени линейного множителя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нечет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не измен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если показатель степени линейного множителя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чет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 нашем случае получается… (см.рис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587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–7)  (х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+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630864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0520" y="5805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03720" y="5805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89480" y="62755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75080" y="22255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2050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5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шеизложенный метод определения знаков на интервалах по сути опирается на понятие «кратных» корней. Если Вам этот термин не знаком, то можно воспользоваться другим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768920"/>
            <a:ext cx="1103400" cy="42696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00480" y="4821120"/>
            <a:ext cx="1098360" cy="40176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71800" y="4802040"/>
            <a:ext cx="1414440" cy="40824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826160"/>
            <a:ext cx="355320" cy="399960"/>
          </a:xfrm>
          <a:custGeom>
            <a:avLst/>
            <a:gdLst/>
            <a:ahLst/>
            <a:rect l="l" t="t" r="r" b="b"/>
            <a:pathLst>
              <a:path w="224" h="252">
                <a:moveTo>
                  <a:pt x="0" y="225"/>
                </a:moveTo>
                <a:cubicBezTo>
                  <a:pt x="18" y="146"/>
                  <a:pt x="36" y="68"/>
                  <a:pt x="64" y="36"/>
                </a:cubicBezTo>
                <a:cubicBezTo>
                  <a:pt x="92" y="4"/>
                  <a:pt x="141" y="0"/>
                  <a:pt x="168" y="36"/>
                </a:cubicBezTo>
                <a:cubicBezTo>
                  <a:pt x="195" y="72"/>
                  <a:pt x="209" y="162"/>
                  <a:pt x="224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5240" y="4803840"/>
            <a:ext cx="1079280" cy="40140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22936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1894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54560" y="518940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15280" y="4870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14920" y="51879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3120" y="51879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6360" y="518652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6920" y="522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522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756320"/>
            <a:ext cx="310212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75080" y="47466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7260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0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бирая из каждого промежутка любое значение, подставляют в формулу, задающую данную функцию и определяют по полученной комбинации знак функции н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ж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омежут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24360" y="1484280"/>
          <a:ext cx="2603520" cy="7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484280"/>
                    <a:ext cx="26035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0" y="2286000"/>
            <a:ext cx="3995640" cy="593640"/>
            <a:chOff x="0" y="2286000"/>
            <a:chExt cx="3995640" cy="593640"/>
          </a:xfrm>
        </p:grpSpPr>
        <p:sp>
          <p:nvSpPr>
            <p:cNvPr id="161" name=""/>
            <p:cNvSpPr/>
            <p:nvPr/>
          </p:nvSpPr>
          <p:spPr>
            <a:xfrm>
              <a:off x="0" y="2421000"/>
              <a:ext cx="39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5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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–4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2687760" y="2286000"/>
            <a:ext cx="1008000" cy="593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87760" y="228600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4067280" y="2276640"/>
            <a:ext cx="3851280" cy="593640"/>
            <a:chOff x="4067280" y="2276640"/>
            <a:chExt cx="3851280" cy="593640"/>
          </a:xfrm>
        </p:grpSpPr>
        <p:sp>
          <p:nvSpPr>
            <p:cNvPr id="165" name=""/>
            <p:cNvSpPr/>
            <p:nvPr/>
          </p:nvSpPr>
          <p:spPr>
            <a:xfrm>
              <a:off x="4067280" y="241128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2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4; –1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6754680" y="2276640"/>
            <a:ext cx="1008000" cy="593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54680" y="227664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8" name=""/>
          <p:cNvGrpSpPr/>
          <p:nvPr/>
        </p:nvGrpSpPr>
        <p:grpSpPr>
          <a:xfrm>
            <a:off x="0" y="3030480"/>
            <a:ext cx="3851280" cy="593640"/>
            <a:chOff x="0" y="3030480"/>
            <a:chExt cx="3851280" cy="593640"/>
          </a:xfrm>
        </p:grpSpPr>
        <p:sp>
          <p:nvSpPr>
            <p:cNvPr id="169" name=""/>
            <p:cNvSpPr/>
            <p:nvPr/>
          </p:nvSpPr>
          <p:spPr>
            <a:xfrm>
              <a:off x="0" y="313200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) 0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1; 2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2195640" y="3030480"/>
            <a:ext cx="1008000" cy="59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95640" y="303048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2" name=""/>
          <p:cNvGrpSpPr/>
          <p:nvPr/>
        </p:nvGrpSpPr>
        <p:grpSpPr>
          <a:xfrm>
            <a:off x="4067280" y="3030480"/>
            <a:ext cx="3851280" cy="593640"/>
            <a:chOff x="4067280" y="3030480"/>
            <a:chExt cx="3851280" cy="593640"/>
          </a:xfrm>
        </p:grpSpPr>
        <p:sp>
          <p:nvSpPr>
            <p:cNvPr id="173" name=""/>
            <p:cNvSpPr/>
            <p:nvPr/>
          </p:nvSpPr>
          <p:spPr>
            <a:xfrm>
              <a:off x="4067280" y="313200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) 2,5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3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6529320" y="3030480"/>
            <a:ext cx="1008000" cy="593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529320" y="303048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"/>
          <p:cNvGrpSpPr/>
          <p:nvPr/>
        </p:nvGrpSpPr>
        <p:grpSpPr>
          <a:xfrm>
            <a:off x="0" y="3751200"/>
            <a:ext cx="3851280" cy="593640"/>
            <a:chOff x="0" y="3751200"/>
            <a:chExt cx="3851280" cy="593640"/>
          </a:xfrm>
        </p:grpSpPr>
        <p:sp>
          <p:nvSpPr>
            <p:cNvPr id="177" name=""/>
            <p:cNvSpPr/>
            <p:nvPr/>
          </p:nvSpPr>
          <p:spPr>
            <a:xfrm>
              <a:off x="0" y="385128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) 4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7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2063880" y="3751200"/>
            <a:ext cx="1008000" cy="593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063880" y="375120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"/>
          <p:cNvGrpSpPr/>
          <p:nvPr/>
        </p:nvGrpSpPr>
        <p:grpSpPr>
          <a:xfrm>
            <a:off x="4067280" y="3716280"/>
            <a:ext cx="3851280" cy="593640"/>
            <a:chOff x="4067280" y="3716280"/>
            <a:chExt cx="3851280" cy="593640"/>
          </a:xfrm>
        </p:grpSpPr>
        <p:sp>
          <p:nvSpPr>
            <p:cNvPr id="181" name=""/>
            <p:cNvSpPr/>
            <p:nvPr/>
          </p:nvSpPr>
          <p:spPr>
            <a:xfrm>
              <a:off x="4067280" y="385128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) 8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; +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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6434280" y="3716280"/>
            <a:ext cx="1028520" cy="593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434280" y="3716280"/>
                      <a:ext cx="10285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4" name=""/>
          <p:cNvSpPr/>
          <p:nvPr/>
        </p:nvSpPr>
        <p:spPr>
          <a:xfrm>
            <a:off x="0" y="58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ы можете убедиться – результат расстановки знаков такой же, как в предыдущем спосо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Остается записать ответ, выбрав промежутки соответствующие знаку неравенства. В нашем случае, знаку «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оответствуют промежутки со знаком «+». Важно не забы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168560"/>
            <a:ext cx="1103400" cy="42696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00480" y="1220760"/>
            <a:ext cx="1098360" cy="40176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71800" y="1201680"/>
            <a:ext cx="1414440" cy="40788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1225440"/>
            <a:ext cx="355320" cy="400320"/>
          </a:xfrm>
          <a:custGeom>
            <a:avLst/>
            <a:gdLst/>
            <a:ahLst/>
            <a:rect l="l" t="t" r="r" b="b"/>
            <a:pathLst>
              <a:path w="224" h="252">
                <a:moveTo>
                  <a:pt x="0" y="225"/>
                </a:moveTo>
                <a:cubicBezTo>
                  <a:pt x="18" y="146"/>
                  <a:pt x="36" y="68"/>
                  <a:pt x="64" y="36"/>
                </a:cubicBezTo>
                <a:cubicBezTo>
                  <a:pt x="92" y="4"/>
                  <a:pt x="141" y="0"/>
                  <a:pt x="168" y="36"/>
                </a:cubicBezTo>
                <a:cubicBezTo>
                  <a:pt x="195" y="72"/>
                  <a:pt x="209" y="162"/>
                  <a:pt x="224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5240" y="1203480"/>
            <a:ext cx="1079280" cy="40140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628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5890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4560" y="158904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62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15280" y="127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4920" y="15876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3120" y="15876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76360" y="15858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6920" y="162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62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1155600"/>
            <a:ext cx="310212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5080" y="11462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112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3680" y="2133720"/>
            <a:ext cx="31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–1; 2)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}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; +</a:t>
            </a:r>
            <a:r>
              <a:rPr b="0" lang="en-US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520" y="270828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р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те неравен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602160" y="2585880"/>
          <a:ext cx="129672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2160" y="2585880"/>
                    <a:ext cx="1296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0" y="335772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енесем все в левую часть неравенств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оме х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1; 1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(x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12000" y="3213000"/>
          <a:ext cx="163656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2000" y="3213000"/>
                    <a:ext cx="163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825720" y="3971880"/>
          <a:ext cx="1378080" cy="73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25720" y="3971880"/>
                    <a:ext cx="13780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486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Нулей функции нет, т.к. дискриминант квадратного трехчлена отрицатель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300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59500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58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5516640"/>
            <a:ext cx="1414440" cy="40788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95760" y="5440320"/>
            <a:ext cx="381636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120" y="5445000"/>
            <a:ext cx="2471760" cy="46044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3560" y="59054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98880" y="5911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Проверьте себя, как Вы поняли правило расстановки знако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544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53737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53737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80" y="-33480"/>
            <a:ext cx="23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) 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0" y="45396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р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те неравенст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co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&g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36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епишем неравенство в вид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1 – co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пользуя формулы половинного аргумента,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2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162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2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50920" y="1916280"/>
            <a:ext cx="6076800" cy="568080"/>
            <a:chOff x="250920" y="1916280"/>
            <a:chExt cx="6076800" cy="568080"/>
          </a:xfrm>
        </p:grpSpPr>
        <p:sp>
          <p:nvSpPr>
            <p:cNvPr id="239" name=""/>
            <p:cNvSpPr/>
            <p:nvPr/>
          </p:nvSpPr>
          <p:spPr>
            <a:xfrm>
              <a:off x="250920" y="1989000"/>
              <a:ext cx="41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i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s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;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2527200" y="1916280"/>
            <a:ext cx="3800520" cy="56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27200" y="1916280"/>
                      <a:ext cx="380052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2" name=""/>
          <p:cNvSpPr/>
          <p:nvPr/>
        </p:nvSpPr>
        <p:spPr>
          <a:xfrm>
            <a:off x="250920" y="234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Расставим полученные нули функции на числовой пря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342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339264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32040" y="339084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72040" y="338940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35640" y="338940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91320" y="338940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8360" y="3500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627280" y="3500280"/>
          <a:ext cx="24120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3500280"/>
                    <a:ext cx="241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011480" y="3500280"/>
          <a:ext cx="35424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11480" y="3500280"/>
                    <a:ext cx="354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427640" y="3500280"/>
          <a:ext cx="288720" cy="28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3500280"/>
                    <a:ext cx="28872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6516720" y="3429000"/>
          <a:ext cx="47304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429000"/>
                    <a:ext cx="473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4149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периодичность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sin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статочно ограничиться отрезком длиной 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869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Расставим знаки на полученных промежут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9200" y="3005280"/>
            <a:ext cx="352440" cy="385560"/>
          </a:xfrm>
          <a:custGeom>
            <a:avLst/>
            <a:gdLst/>
            <a:ahLst/>
            <a:rect l="l" t="t" r="r" b="b"/>
            <a:pathLst>
              <a:path w="222" h="243">
                <a:moveTo>
                  <a:pt x="0" y="243"/>
                </a:moveTo>
                <a:cubicBezTo>
                  <a:pt x="8" y="211"/>
                  <a:pt x="33" y="92"/>
                  <a:pt x="51" y="51"/>
                </a:cubicBezTo>
                <a:cubicBezTo>
                  <a:pt x="69" y="10"/>
                  <a:pt x="89" y="0"/>
                  <a:pt x="108" y="0"/>
                </a:cubicBezTo>
                <a:cubicBezTo>
                  <a:pt x="127" y="0"/>
                  <a:pt x="149" y="8"/>
                  <a:pt x="168" y="48"/>
                </a:cubicBezTo>
                <a:cubicBezTo>
                  <a:pt x="187" y="88"/>
                  <a:pt x="211" y="200"/>
                  <a:pt x="22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3003480"/>
            <a:ext cx="1438560" cy="372960"/>
          </a:xfrm>
          <a:custGeom>
            <a:avLst/>
            <a:gdLst/>
            <a:ahLst/>
            <a:rect l="l" t="t" r="r" b="b"/>
            <a:pathLst>
              <a:path w="906" h="235">
                <a:moveTo>
                  <a:pt x="0" y="223"/>
                </a:moveTo>
                <a:cubicBezTo>
                  <a:pt x="15" y="209"/>
                  <a:pt x="14" y="176"/>
                  <a:pt x="90" y="139"/>
                </a:cubicBezTo>
                <a:cubicBezTo>
                  <a:pt x="166" y="102"/>
                  <a:pt x="335" y="2"/>
                  <a:pt x="456" y="1"/>
                </a:cubicBezTo>
                <a:cubicBezTo>
                  <a:pt x="577" y="0"/>
                  <a:pt x="741" y="93"/>
                  <a:pt x="816" y="132"/>
                </a:cubicBezTo>
                <a:cubicBezTo>
                  <a:pt x="891" y="171"/>
                  <a:pt x="887" y="214"/>
                  <a:pt x="906" y="2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05160" y="2997360"/>
            <a:ext cx="366840" cy="390240"/>
          </a:xfrm>
          <a:custGeom>
            <a:avLst/>
            <a:gdLst/>
            <a:ahLst/>
            <a:rect l="l" t="t" r="r" b="b"/>
            <a:pathLst>
              <a:path w="222" h="243">
                <a:moveTo>
                  <a:pt x="0" y="243"/>
                </a:moveTo>
                <a:cubicBezTo>
                  <a:pt x="8" y="211"/>
                  <a:pt x="33" y="92"/>
                  <a:pt x="51" y="51"/>
                </a:cubicBezTo>
                <a:cubicBezTo>
                  <a:pt x="69" y="10"/>
                  <a:pt x="89" y="0"/>
                  <a:pt x="108" y="0"/>
                </a:cubicBezTo>
                <a:cubicBezTo>
                  <a:pt x="127" y="0"/>
                  <a:pt x="149" y="8"/>
                  <a:pt x="168" y="48"/>
                </a:cubicBezTo>
                <a:cubicBezTo>
                  <a:pt x="187" y="88"/>
                  <a:pt x="211" y="200"/>
                  <a:pt x="22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6680" y="2982960"/>
            <a:ext cx="2152800" cy="403200"/>
          </a:xfrm>
          <a:custGeom>
            <a:avLst/>
            <a:gdLst/>
            <a:ahLst/>
            <a:rect l="l" t="t" r="r" b="b"/>
            <a:pathLst>
              <a:path w="1356" h="254">
                <a:moveTo>
                  <a:pt x="0" y="251"/>
                </a:moveTo>
                <a:cubicBezTo>
                  <a:pt x="37" y="233"/>
                  <a:pt x="111" y="183"/>
                  <a:pt x="224" y="141"/>
                </a:cubicBezTo>
                <a:cubicBezTo>
                  <a:pt x="337" y="100"/>
                  <a:pt x="526" y="0"/>
                  <a:pt x="677" y="0"/>
                </a:cubicBezTo>
                <a:cubicBezTo>
                  <a:pt x="828" y="0"/>
                  <a:pt x="1018" y="99"/>
                  <a:pt x="1131" y="141"/>
                </a:cubicBezTo>
                <a:cubicBezTo>
                  <a:pt x="1244" y="183"/>
                  <a:pt x="1309" y="231"/>
                  <a:pt x="1356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29415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98680" y="2936880"/>
            <a:ext cx="3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86080" y="2959200"/>
            <a:ext cx="3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70560" y="29242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522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Запишем 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93640" y="5522760"/>
          <a:ext cx="7885080" cy="1290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3640" y="5522760"/>
                    <a:ext cx="788508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6:11:30Z</dcterms:created>
  <dc:creator>V</dc:creator>
  <dc:description/>
  <dc:language>en-US</dc:language>
  <cp:lastModifiedBy>XP GAME 2007</cp:lastModifiedBy>
  <dcterms:modified xsi:type="dcterms:W3CDTF">2009-08-12T16:57:09Z</dcterms:modified>
  <cp:revision>45</cp:revision>
  <dc:subject/>
  <dc:title>Решение неравенств методом интервалов</dc:title>
</cp:coreProperties>
</file>