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C51-5BDB-4BEC-B63D-E1A536F8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55C-3972-4FC0-A8D5-2D7A62F9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5AB-2BE6-4147-94F7-67B1E697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06E-4FF7-42AA-BD7F-0FE4E355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505-B932-426C-98E3-6B40B5B8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3D4-4422-4636-BC6B-7092364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70D-38B6-4357-A82A-AA9DB683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699-F81D-412D-AC98-0077B8E8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565-B1F1-4ABB-8444-2E451889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8D5-B285-469F-B5FB-C16B218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555-40F8-494C-9595-1E82327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4CE-0939-4F36-95CA-E56EE4E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A05-D63D-4014-BDF4-1FF05D274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6;&#1090;&#1083;&#1080;&#1095;&#1080;&#1103;%20&#1053;&#1050;&#1054;.do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60;&#1091;&#1085;&#1082;&#1094;&#1080;&#1080;%20&#1053;&#1050;&#1054;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D57A-7B6D-4880-B53D-D05644D6C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ЛОГООБЛОЖЕНИЕ НЕКОММЕРЧЕСКИХ ОРГАНИЗ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ИРНОВА ЕЛЕНА ЕВГЕНЬЕВНА – к.э.н.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ц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0A7-E708-46FA-90E1-CDA7FDAC7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2. Отличительные особенности некоммерчески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личия между КО и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личия НКО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стеме НКО особое место принадлежит бюджетным учрежд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заметить, что понятие «учреждение» в соответствии с ГК РФ равнозначно понятию «организация», что имеет принципиальное значение в системе налоговых отношений РФ, так как плательщики большинства налогов являются организации, а, следовательно, и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D5A-8F2C-4ECA-9C39-530F0AB31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. Предпринимательская деятельность некоммерчески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основа деятельности 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7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0" name="_s1028"/>
            <p:cNvCxnSpPr>
              <a:stCxn id="71" idx="0"/>
              <a:endCxn id="72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29"/>
            <p:cNvCxnSpPr>
              <a:stCxn id="74" idx="0"/>
              <a:endCxn id="72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оход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т устав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принимательс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38360" y="137160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щие принципы налогообложения некоммерчески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же не занимаясь коммерческой деятельностью, НКО уплачи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Diagram 7"/>
          <p:cNvGrpSpPr/>
          <p:nvPr/>
        </p:nvGrpSpPr>
        <p:grpSpPr>
          <a:xfrm>
            <a:off x="2516040" y="1727280"/>
            <a:ext cx="4111920" cy="3962160"/>
            <a:chOff x="2516040" y="1727280"/>
            <a:chExt cx="4111920" cy="396216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557160" y="3530160"/>
              <a:ext cx="5079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251604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 имуще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>
              <a:off x="3943080" y="4292640"/>
              <a:ext cx="315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3098880" y="462276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С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4884840" y="4292640"/>
              <a:ext cx="31428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4979880" y="462276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емель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 flipV="1">
              <a:off x="5078520" y="3532320"/>
              <a:ext cx="50940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556092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ранспорт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ДФ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ло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A75-F9C1-491F-87DD-FAAC453D0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1. Предпринимательская деятельность некоммерческих организаций и их налогообложе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2. Налог на прибыль организаций в некоммерческих организация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3. Налог на добавленную стоимость, его специфика и значение для некоммерческой сфер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4. Налог на доходы физических лиц, его значение для некоммерческих организаци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5. Единый социальный налог и страховые взносы в фонд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6. Прочие налоги в некоммерческих организация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75C-1511-4A6C-A8F0-54037DFC1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1.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коммерческих организаций и их налогообложени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DBFE-948D-4D1B-B7FF-AEEF8BC64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 Предпринимательская деятельность некоммерческих организаций и их налогооб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1. Некоммерческие организации: состав и важнейши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. Отличительные особенности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3. Предпринимательская деятельность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щие принципы налогообложения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2EC1-8A5A-4AB2-B57C-7D720CFC8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. Некоммерческие организации: состав и важнейшие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Гражданскому кодексу Российской Федерации (ст. 50) организации в России создаются в виде коммерческих (КО) и некоммерческих организаций (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кономической литературе выделяются семь этапов в истории становления и правовом регулировании деятельности Н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этап - древние века - до XVI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этап - XVI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этап - время царствования императрицы Екатерины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этап - середина XVIII в. - 1861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этап - 1861 - 1980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этап - 1980 - 1990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этап - начало 1990-х гг. - до настояще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щественные и религиозные организации (объедин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требительские кооперати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он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сударственные корпо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реж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ъединения юридических лиц (ассоциации и союз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коммерческие партне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втономные некоммерческие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ункции НКО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13T23:01:2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