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F8A-3AA5-4A23-8A0A-76C287E3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DCE-9F47-41A3-91B2-C18217BE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280-35FD-48FB-9C33-C00F2EDD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D21-919B-44CC-B095-0EB73CA8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03F-0E3B-4AD6-8AF4-51521EBF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D47-4191-4B2E-B332-83BD4C69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5FE-D8ED-44FA-B3A3-B778E1A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C9B-15FE-469E-A593-54DEC52C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82C-39DA-4C87-982B-2CE28DAD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319-C007-4541-8BE1-8A1F0F93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F22-8890-4447-BB39-DEF3B44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2C3-B46E-43D8-ADFA-6683F3C2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79C3-8C7D-4582-9198-EAA24F746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86;&#1090;&#1083;&#1080;&#1095;&#1080;&#1103;%20&#1053;&#1050;&#1054;.do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60;&#1091;&#1085;&#1082;&#1094;&#1080;&#1080;%20&#1053;&#1050;&#1054;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E713-EB96-4C47-8489-A1BB4395A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62012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ЛОГООБЛОЖЕНИЕ НЕКОММЕРЧЕСКИХ ОРГАНИЗ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ИРНОВА ЕЛЕНА ЕВГЕНЬЕВНА – к.э.н.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ц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376C-9208-4317-87D1-9D4331149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2. Отличительные особенности некоммерческих организ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личия между КО и 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тличия НКО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стеме НКО особое место принадлежит бюджетным учрежде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заметить, что понятие «учреждение» в соответствии с ГК РФ равнозначно понятию «организация», что имеет принципиальное значение в системе налоговых отношений РФ, так как плательщики большинства налогов являются организации, а, следовательно, и учр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540-F7F8-42E0-B38D-896A148E5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3. Предпринимательская деятельность некоммерческих организ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основа деятельности 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rganization Chart 7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0" name="_s1028"/>
            <p:cNvCxnSpPr>
              <a:stCxn id="71" idx="0"/>
              <a:endCxn id="72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29"/>
            <p:cNvCxnSpPr>
              <a:stCxn id="74" idx="0"/>
              <a:endCxn id="72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оход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т устав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дпринимательск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738360" y="1371600"/>
            <a:ext cx="76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бщие принципы налогообложения некоммерческих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же не занимаясь коммерческой деятельностью, НКО уплачи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Diagram 7"/>
          <p:cNvGrpSpPr/>
          <p:nvPr/>
        </p:nvGrpSpPr>
        <p:grpSpPr>
          <a:xfrm>
            <a:off x="2516040" y="1727280"/>
            <a:ext cx="4111920" cy="3962160"/>
            <a:chOff x="2516040" y="1727280"/>
            <a:chExt cx="4111920" cy="3962160"/>
          </a:xfrm>
        </p:grpSpPr>
        <p:sp>
          <p:nvSpPr>
            <p:cNvPr id="78" name="_s2052"/>
            <p:cNvSpPr/>
            <p:nvPr/>
          </p:nvSpPr>
          <p:spPr>
            <a:xfrm flipH="1" flipV="1">
              <a:off x="3557160" y="3530160"/>
              <a:ext cx="5079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3"/>
            <p:cNvSpPr/>
            <p:nvPr/>
          </p:nvSpPr>
          <p:spPr>
            <a:xfrm>
              <a:off x="2516040" y="283356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 имуще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4"/>
            <p:cNvSpPr/>
            <p:nvPr/>
          </p:nvSpPr>
          <p:spPr>
            <a:xfrm flipH="1">
              <a:off x="3943080" y="4292640"/>
              <a:ext cx="315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55"/>
            <p:cNvSpPr/>
            <p:nvPr/>
          </p:nvSpPr>
          <p:spPr>
            <a:xfrm>
              <a:off x="3098880" y="462276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С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>
              <a:off x="4884840" y="4292640"/>
              <a:ext cx="31428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7"/>
            <p:cNvSpPr/>
            <p:nvPr/>
          </p:nvSpPr>
          <p:spPr>
            <a:xfrm>
              <a:off x="4979880" y="462276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емель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8"/>
            <p:cNvSpPr/>
            <p:nvPr/>
          </p:nvSpPr>
          <p:spPr>
            <a:xfrm flipV="1">
              <a:off x="5078520" y="3532320"/>
              <a:ext cx="50940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9"/>
            <p:cNvSpPr/>
            <p:nvPr/>
          </p:nvSpPr>
          <p:spPr>
            <a:xfrm>
              <a:off x="5560920" y="283356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ранспорт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0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ДФ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2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ло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295D-E9B9-4226-B31D-B8C68DA20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1. Предпринимательская деятельность некоммерческих организаций и их налогообложени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2. Налог на прибыль организаций в некоммерческих организация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3. Налог на добавленную стоимость, его специфика и значение для некоммерческой сфер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4. Налог на доходы физических лиц, его значение для некоммерческих организаци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5. Единый социальный налог и страховые взносы в фонд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ма 6. Прочие налоги в некоммерческих организация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3E50-68BF-486F-9916-833092837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1.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коммерческих организаций и их налогообложение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BDE-6936-408F-A0DD-7926E9ED0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 Предпринимательская деятельность некоммерческих организаций и их налогооб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1. Некоммерческие организации: состав и важнейши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2. Отличительные особенности некоммерческих организ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3. Предпринимательская деятельность некоммерческих организ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бщие принципы налогообложения некоммерческих организ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6F7A-8302-4FD3-99AD-8EDDE225C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1. Некоммерческие организации: состав и важнейшие 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Гражданскому кодексу Российской Федерации (ст. 50) организации в России создаются в виде коммерческих (КО) и некоммерческих организаций (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кономической литературе выделяются семь этапов в истории становления и правовом регулировании деятельности Н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этап - древние века - до XVI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этап - XVI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этап - время царствования императрицы Екатерины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этап - середина XVIII в. - 1861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этап - 1861 - 1980 г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этап - 1980 - 1990 г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этап - начало 1990-х гг. - до настоящего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щественные и религиозные организации (объедин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требительские кооперати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он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осударственные корпо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реж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ъединения юридических лиц (ассоциации и союз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коммерческие партне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автономные некоммерческие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ункции НКО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13T23:01:2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