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C55-59B1-4821-A48D-F62E6BD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F92-915A-4A97-B178-AD4857A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765-4B2A-4C72-B574-9ABFF1F6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9E5-2A39-4C73-80FD-E0C27E0C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AF7-EE34-47CD-BB73-6FDDAB05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0D3-75F6-403B-9DBB-2498480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038-63B3-4683-BAC3-F4115082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11D-E0D7-4A09-8309-04E13288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E7C-1A0D-4B8E-AD24-F81C7A3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63B-FC31-43ED-9AEF-781143F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9C1-3A3A-4261-AC49-F734DDE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48D-C24A-4E08-A843-3C2F57E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17D-7B9E-43A4-ADCC-7D3879B2F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67517"/>
              </a:gs>
              <a:gs pos="50000">
                <a:srgbClr val="99ff33"/>
              </a:gs>
              <a:gs pos="100000">
                <a:srgbClr val="467517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en-US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Admin</cp:lastModifiedBy>
  <dcterms:modified xsi:type="dcterms:W3CDTF">2010-06-06T09:58:09Z</dcterms:modified>
  <cp:revision>5</cp:revision>
  <dc:subject/>
  <dc:title>Системы  обучения   в начальной школе</dc:title>
</cp:coreProperties>
</file>