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CE5-C4AA-4C99-B04D-0872E0B3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AF4-4555-452B-BB35-E9E8421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9EA-2559-49F9-A155-92304702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971-6641-4D1E-B626-01B87B62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EE2-DD17-4BBF-A403-80AE76F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848-A4E7-46C6-B35E-DF2B34E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491-1033-48BC-9333-7A31833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14E-DDF5-452C-AF50-1DDAC35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B45-4EEC-46BF-A5B6-901E7AC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2DB-0C0D-475D-8095-76CD3F0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339-FCA7-4FD3-A290-F5AB596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205-8BD9-44FE-82FB-3C36BFE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BAF5-EC8D-4143-9C07-3189D1AF5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67517"/>
              </a:gs>
              <a:gs pos="50000">
                <a:srgbClr val="99ff33"/>
              </a:gs>
              <a:gs pos="100000">
                <a:srgbClr val="467517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en-US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Admin</cp:lastModifiedBy>
  <dcterms:modified xsi:type="dcterms:W3CDTF">2010-06-06T09:58:09Z</dcterms:modified>
  <cp:revision>5</cp:revision>
  <dc:subject/>
  <dc:title>Системы  обучения   в начальной школе</dc:title>
</cp:coreProperties>
</file>