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21.wmf" ContentType="image/x-wmf"/>
  <Override PartName="/ppt/media/image19.jpeg" ContentType="image/jpeg"/>
  <Override PartName="/ppt/media/image1.jpeg" ContentType="image/jpeg"/>
  <Override PartName="/ppt/media/image20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.wmf" ContentType="image/x-wmf"/>
  <Override PartName="/ppt/media/image3.png" ContentType="image/png"/>
  <Override PartName="/ppt/media/image23.gif" ContentType="image/gif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6F9-5EBE-476A-81FF-FB890C69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741-B296-4E3E-891E-A8D36CF4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4A3-345C-4B0A-9368-373F7757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89E-7C09-44AD-A223-963B2D45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0197-5EBB-446B-A678-C7847F30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2071-9F83-4D87-9E9A-36A29BC9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EBD9-FFC9-4397-A2AD-5273C2C5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D840-6A39-41B0-97EC-F3B2320B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F11C-CFB6-4301-9B98-F9532480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A27D-93C4-4B7A-90DE-D523F6FF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57B3-5E99-4FE6-9133-F2064185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187-1662-4934-AC3B-A0721A07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5E56-EDC5-4C21-A4F6-2934E501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10DB-281A-4F01-94C2-3837B889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249D-6137-449F-9898-B6C6E3CC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F8C0-2DEB-4472-B05C-40473507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D92A-C740-47A4-91ED-2AFB0AFA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3D94E-E900-4944-BE82-7B81D935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D8FF-28CC-45B3-AB69-B1EAA7A0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B5271-62AD-4EDE-9215-9AACA10C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8A32-0BA8-4F37-875C-5ED6F70F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AA5FE-E13F-4505-AABC-019173A1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327-43B3-4C7D-B6D0-4542039A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F171F-72FA-42B4-8AC6-9138EA06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4D1E-2B91-4588-858D-BE924A0D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59C91-C188-4512-A793-F733A23B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994F-1AF0-4D0D-89A1-FE5D16B5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F188E-CB7E-46EC-9BA1-A7AB99FD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6E549-0010-4504-9614-6A3B9700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8D55B-2EEA-4A19-AA4E-EA30A2A6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207B2-7B5C-4C13-8386-A99942C0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B01D5-2FFF-42D4-B102-0ECB9FF5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16CA2-00B5-45EB-A236-7AFF9E4C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C90-0901-48CD-9D75-3B0795BC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2077E-4AF1-41A7-A6C5-DB172FDD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61613-2407-4441-9CA6-6EFF8C3A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26402-EF70-4E68-93AB-AAAC3EC4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26600-A378-41DD-89B3-38D59B97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20D4F-D45D-49E1-8BAC-77067E9D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2BC3B-59D3-4F5F-ABB7-9E4E61A2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FD7D1-DDFC-40B0-A334-0DECAB23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A68DF-51D5-4BC9-BEE6-72F9E556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52600-931B-45C8-B84A-21D572EB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A2193-7DF6-4E76-8375-C8BB1DD7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626-BA3D-40AB-B99E-E6D3BB29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4A5E9-110D-4520-9FE4-A7D150FA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C96E7-45FB-4001-8C8F-A81B9C8B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B6CC7-BCF1-4140-94D7-809C6DFD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649A2-B696-4C75-87A4-BDF0AE72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EC9BA-6941-431F-806B-093F551D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9A1FF-FBD0-48E6-B6C3-E0760B64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947E1-1935-4324-9666-4D359C62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65186-32DF-41FC-82B0-0BA52C29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8BA1A-6E7F-4C4A-97EF-D174521B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3C627-790C-4046-BD65-CA257B8F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6105-2762-4557-ACC6-8B51182B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B8E30-F33E-4BFD-9DD8-64500878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FF7D6-7178-4C44-80B7-1C73F5AE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AC99C-7A43-47D4-A845-D269DA29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35B10-A80F-4FF4-BDC7-1A65F2B2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3339C-7A58-4C37-85B3-42B2DFD1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01ECA-51B2-4FDA-B7D8-72514838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656D5-1473-47BA-B33B-C729EF6B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CC650-8699-448D-8230-ED15B01D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FE128-A9E1-4507-B2E6-AEC7C1F5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FE142-3002-4627-BE13-0F6F81CE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985-BF4C-4842-9903-96A00C5A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07B20-9E50-44B6-8B82-641E8804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2038D-2A3A-4572-905C-99C791C4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92674-2B27-4474-9134-299230A9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18271-B4F5-44A0-9FE0-AE2D6090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A898A-71A3-4F71-AE6A-6991DEEF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1E622-DA0F-4187-AACE-AC62C3C8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4AB0E-B878-4BB9-85F1-2E8CA508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422DB-1ACB-4685-A218-0A8BFAD2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70FBB-EC02-4E2F-80B7-8E2BC504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D8B83-E76D-4FBB-AA4E-E7F6D295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A70-89C3-4751-A9A7-6617AE20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2B768-C571-413B-89DC-DD0B7411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84228-13C5-4445-B89A-170339A2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D03B6-C5D3-447C-9B02-E102F6F0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8CED3-49B4-478F-B4E5-19B2405B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D6786-CC97-4D83-A5CA-8E269186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AE2DD-42A7-4DC3-8DF2-1EEEBD4C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35BBB-75D6-49AB-8F13-359CB52B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60FE3-5C49-4EB6-84F3-767F37CD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C705C-297B-420D-966A-C47A7B20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71E57-E53D-4C62-8E69-952C76DB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6C2-E0C9-4D99-BAAB-A64A476C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FC5AE-C944-4D75-AE7B-7D0B2747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D45B7-2432-4387-8EDC-CE1FFABF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C4116-DE65-47B6-9D64-7086AE79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005C6-F146-48EF-AB9F-7AB30797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95CE9-5E54-40B9-B0EF-001D3322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9CB77-F159-4289-BCF6-2F4F8769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8C232-E559-4805-AD67-FA04BE21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D03B-E82C-4221-8625-FCA270D8B3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A52A-C2D5-40D3-AC5A-FA07598ED3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8079-25E6-45CF-954A-BA97E9015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A098-BABE-4DDA-ADE7-8CFBB7413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7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38DA-99C4-4A21-86AF-0AECB69DE2F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4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4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2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4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5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6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4C27-7116-4955-869F-50DDF89A754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1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2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3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4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6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A42C-A3C3-4424-997A-0DEFEFB75E7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1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2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2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3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3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3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5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4EEA-BFB9-453C-8C35-7D32726326B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lday.ru/uploads/posts/1191269251_c4133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550800" y="719280"/>
            <a:ext cx="8045640" cy="48895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Познание мира через языки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29800" y="5754600"/>
            <a:ext cx="773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e941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 сентября – Европейский день язы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3997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На протяжении всей истории человеческой находились люди, которые могли в разной степени изъясняться не только на родном языке, но и на нескольких ( или многих ) иностранных. Так , легенда гласит, что Будда говорил на полутораста языках, а Магомет знал все языки мира. Самый известный политолог прошлого, чьи способности засвидетельствованы вполне  достоверно, жил в прошлом веке – хранитель библиотеки Ватикана кардинал Джузеппе Каспар Меццофанти. ( 1774-1849гг. )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35124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Богдан Хмельницкий владел пятью язы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Императрица Екатерина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, кроме родного немецкого и русского, в совершенстве владела ещё тремя язы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лександр Грибоедов с юности владел французским, немецким, английским и итальянским языками, изучал латинский и греческий. Позже овладел персидским, арабским и турецк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Баснописец Крылов великолепно знал французский, итальянский и немецкий языки. Изучал английский язы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Николай Чернышевский в 16 лет основательно изучил девять языков: латинский, древнегреческий, персидский, арабский, татарский, церковно-славянский, древнееврейский, турецкий, голландский, болгарский и др. язы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4651200" y="1600200"/>
            <a:ext cx="4035600" cy="44956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4500720" y="692280"/>
            <a:ext cx="441792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4" descr="PE03166_"/>
          <p:cNvPicPr/>
          <p:nvPr/>
        </p:nvPicPr>
        <p:blipFill>
          <a:blip r:embed="rId2"/>
          <a:stretch/>
        </p:blipFill>
        <p:spPr>
          <a:xfrm>
            <a:off x="6145200" y="1762200"/>
            <a:ext cx="2656080" cy="266364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id you know the following?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608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re are between 6000 and 7000 languages in the world – spoken by six  billion people  divided  into 189 independent stat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re are about 225 indigenous language in Europe – roughly 3% of the world’s to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Most of the world’s language are spoken in Asia, India, Africa and South Ameri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Language are related to each other like the member of a fami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Most European language belong to three broad groups: Germanic, Romance and Slav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Germanic family of languages includes Danish, Norwegian, Swedish, Icelandic, Germanic, Dutch, English and Yiddish, among other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Romance languages includes Italia, French, Spanish, Portuguese and Romanian, among other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7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BS00554_"/>
          <p:cNvPicPr/>
          <p:nvPr/>
        </p:nvPicPr>
        <p:blipFill>
          <a:blip r:embed="rId2"/>
          <a:stretch/>
        </p:blipFill>
        <p:spPr>
          <a:xfrm>
            <a:off x="5168880" y="2708280"/>
            <a:ext cx="3975120" cy="346860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50036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Arial"/>
              </a:rPr>
              <a:t>Most European languages use Latin alphabet. Some Slavic languages use the Cyrillic alphabet. Greek, Armenian, Georgian and Yiddish have their own alphabet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Arial"/>
              </a:rPr>
              <a:t>The mother tongues spoken by most people in Europe are English, Germany, French and Italian, in that  order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Arial"/>
              </a:rPr>
              <a:t>The non-European languages most widely used on European territory are Arabic, Chinese and Hindi, each with its own writing system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Arial"/>
              </a:rPr>
              <a:t>Russia has by far the highest number of languages spoken on its territory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Arial"/>
              </a:rPr>
              <a:t>The Slavic  languages</a:t>
            </a:r>
            <a:r>
              <a:rPr b="0" lang="ru-RU" sz="21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ff00"/>
                </a:solidFill>
                <a:latin typeface="Arial"/>
              </a:rPr>
              <a:t>include</a:t>
            </a:r>
            <a:r>
              <a:rPr b="0" lang="ru-RU" sz="21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ff00"/>
                </a:solidFill>
                <a:latin typeface="Arial"/>
              </a:rPr>
              <a:t>Russian, Ukrainian, Belarusian, Polish, Czech, Slovak, Slovenian, Serbian, Croatian Macedonian, Bulgarian and other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одственные праздн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301680" y="1676520"/>
          <a:ext cx="8540280" cy="4421880"/>
        </p:xfrm>
        <a:graphic>
          <a:graphicData uri="http://schemas.openxmlformats.org/drawingml/2006/table">
            <a:tbl>
              <a:tblPr/>
              <a:tblGrid>
                <a:gridCol w="1302480"/>
                <a:gridCol w="2046240"/>
                <a:gridCol w="3626280"/>
                <a:gridCol w="1565280"/>
              </a:tblGrid>
              <a:tr h="44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24м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День святых равноапостольных Кирилла и Мефод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Святые равноапостольные первоучители и просветители славянские, братья Кирилл и Мефодий происходили из знатной благочестивой  семьи, жившей в греческом городе Солуни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Православный празд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9" name=""/>
          <p:cNvGraphicFramePr/>
          <p:nvPr/>
        </p:nvGraphicFramePr>
        <p:xfrm>
          <a:off x="324000" y="770040"/>
          <a:ext cx="8800920" cy="5205240"/>
        </p:xfrm>
        <a:graphic>
          <a:graphicData uri="http://schemas.openxmlformats.org/drawingml/2006/table">
            <a:tbl>
              <a:tblPr/>
              <a:tblGrid>
                <a:gridCol w="2087280"/>
                <a:gridCol w="2089440"/>
                <a:gridCol w="3744720"/>
                <a:gridCol w="879480"/>
              </a:tblGrid>
              <a:tr h="27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24ма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День славянской письменности и культур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В 1994году Кабинет Министров Украины, поддерживая инициативу Министерства культуры и Украинского комитета славистов, принял постановление о провозглашении 24 мая каждого года днём славянской письменности и культур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21 фев-рал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Международный день родного язы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Ежегодно жители планеты отмечают День родного языка. Этот праздник придумали в ЮНЕСКО, и цель этой важной международной даты -привлечь внимание к необходимости сохранения многоязычия в сегодняшнем мир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0" name=""/>
          <p:cNvGraphicFramePr/>
          <p:nvPr/>
        </p:nvGraphicFramePr>
        <p:xfrm>
          <a:off x="704880" y="758880"/>
          <a:ext cx="7715160" cy="5692680"/>
        </p:xfrm>
        <a:graphic>
          <a:graphicData uri="http://schemas.openxmlformats.org/drawingml/2006/table">
            <a:tbl>
              <a:tblPr/>
              <a:tblGrid>
                <a:gridCol w="550800"/>
                <a:gridCol w="550800"/>
                <a:gridCol w="550800"/>
                <a:gridCol w="554040"/>
                <a:gridCol w="549360"/>
                <a:gridCol w="552600"/>
                <a:gridCol w="550800"/>
                <a:gridCol w="547560"/>
                <a:gridCol w="552600"/>
                <a:gridCol w="549360"/>
                <a:gridCol w="554040"/>
                <a:gridCol w="550800"/>
                <a:gridCol w="550800"/>
                <a:gridCol w="55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1" name=""/>
          <p:cNvGraphicFramePr/>
          <p:nvPr/>
        </p:nvGraphicFramePr>
        <p:xfrm>
          <a:off x="219240" y="227160"/>
          <a:ext cx="7476840" cy="5868720"/>
        </p:xfrm>
        <a:graphic>
          <a:graphicData uri="http://schemas.openxmlformats.org/drawingml/2006/table">
            <a:tbl>
              <a:tblPr/>
              <a:tblGrid>
                <a:gridCol w="533880"/>
                <a:gridCol w="533880"/>
                <a:gridCol w="533520"/>
                <a:gridCol w="535680"/>
                <a:gridCol w="533880"/>
                <a:gridCol w="533520"/>
                <a:gridCol w="533880"/>
                <a:gridCol w="533880"/>
                <a:gridCol w="533880"/>
                <a:gridCol w="533880"/>
                <a:gridCol w="535320"/>
                <a:gridCol w="533880"/>
                <a:gridCol w="533520"/>
                <a:gridCol w="53424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63a16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7594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Блиц – виктори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0" y="2349360"/>
            <a:ext cx="64404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 </a:t>
            </a:r>
            <a:r>
              <a:rPr b="0" lang="en-US" sz="3600" spc="-1" strike="noStrike">
                <a:solidFill>
                  <a:srgbClr val="00cc99"/>
                </a:solidFill>
                <a:latin typeface="Arial"/>
              </a:rPr>
              <a:t>Языки народов мир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4" name="Picture 10" descr="emblema6"/>
          <p:cNvPicPr/>
          <p:nvPr/>
        </p:nvPicPr>
        <p:blipFill>
          <a:blip r:embed="rId2"/>
          <a:stretch/>
        </p:blipFill>
        <p:spPr>
          <a:xfrm>
            <a:off x="5219640" y="2565360"/>
            <a:ext cx="3695760" cy="40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9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6553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.Что означают буквы 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AD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 BC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 в обозначениях да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2.Знаете ли вы, как будет звучать на латыни «солнечное затмение»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3.Как звучат названия знаков Зодиака по – латинск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4.Что в переводе с французского означает слово «Эрмитаж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5.Что общего между словами «бодрость» и «чай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6.Какое самое старое слово в английском язык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7.Что в переводе арабского означает слово «Сахара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8.Сколько букв в Гавайском алфавит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9.Назовите самое длинное слово английского языка, в котором все буквы расположены в алфавитном поряд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0.Знаете ли вы, кем и когда был создан искусственный международный язык эсперант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1.На скольких языках разговаривают жители Папуа и Новой Гвине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2.У писателя Эрнеста Винсента Райта есть роман «Гедсби», состоящий из более чем 50 000 слов. Во всём романе нет ни одной буквы … , самой частой буквы английского языка. О какой букве идёт реч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"/>
          <a:stretch/>
        </p:blipFill>
        <p:spPr>
          <a:xfrm>
            <a:off x="6659640" y="1773360"/>
            <a:ext cx="2252520" cy="3816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Картинка 31 из 25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0200" y="785880"/>
            <a:ext cx="4071960" cy="5837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4" descr="anima022"/>
          <p:cNvPicPr/>
          <p:nvPr/>
        </p:nvPicPr>
        <p:blipFill>
          <a:blip r:embed="rId2"/>
          <a:stretch/>
        </p:blipFill>
        <p:spPr>
          <a:xfrm>
            <a:off x="1619280" y="260280"/>
            <a:ext cx="6048360" cy="6121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74872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Language forces us to perceive the  world as man present it to us. “ (Julia Penelo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“ 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If you can speak three languages you’re trilingual. If you can two languages you’re bilingual. If you can speak only one language you’re an American. “( Author Unknown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“ 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He who does not know foreign language does  not know anything about his own. “ ( Johann Wolfgang von Goethe, Kunst and Alterhum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ЮНЕСКО провозгласило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XXI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к – веком полиглотов, на весь мир прозвучал девиз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« Изучаем языки на протяжении всей жизни.» 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2195640" y="1436760"/>
            <a:ext cx="6769080" cy="509256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2:10:16Z</dcterms:created>
  <dc:creator>Serg A.S.</dc:creator>
  <dc:description/>
  <dc:language>en-US</dc:language>
  <cp:lastModifiedBy>Alf</cp:lastModifiedBy>
  <dcterms:modified xsi:type="dcterms:W3CDTF">2010-04-25T15:25:45Z</dcterms:modified>
  <cp:revision>15</cp:revision>
  <dc:subject/>
  <dc:title>Познание мира через языки </dc:title>
</cp:coreProperties>
</file>