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20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23.gif" ContentType="image/gi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EB3-2CAE-4F71-BFD3-CB409158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A4-54F4-4151-9AFD-487374C6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6DC-1E87-4668-B39B-81F78756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FCA-91F5-472F-B967-7B9A04A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5521-F446-40BC-9CF9-4DD0F5F4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2B8-4D2A-4CFA-969D-74D3246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894-9EDE-4A84-9075-E8349E40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AD84-D72B-40D5-961A-A1AEE88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795-19CF-4930-AF31-8E6E38E8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73D7-10D1-4494-B812-DCCAFC3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543-1E7D-4670-A964-0935C91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660-270E-4A04-B652-BE945E4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E684-6613-4B82-81F9-90073C7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7EB6-8B35-4537-A064-690D991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71C5-16AD-4859-95C6-0E7F1CB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67C-AE33-4DE5-860A-24CD8423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3EDF-A95F-4500-9FC0-6A57789F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DCAD-BAF7-482E-B2B6-7C55AAA6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1F45-BA2B-4A73-86D2-FB85C7AE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568A-C692-43B1-B36D-E32FB39F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2106-131A-487E-8871-B163FAB5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E630-8F9C-49D6-81E6-731F853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5ED-4458-4DE1-A353-4D0CFF24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F7CF-9AFB-404A-BF87-F55FB16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EA31-AB01-4CD0-8F64-A8773E5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B46F-F734-495B-BCBB-A277DC3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7AA5-91C9-49A8-A217-1CA9347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9E53-7E3C-4B37-8DF4-BB52BD71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1628-278F-4678-99DB-92ED33C2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CBB4-3006-491A-984B-8726A0FB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CBF4-239E-4C9D-BD04-57D07849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4296-D919-48CE-A920-46E471A5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459B-F5A8-4F69-BB57-5A8BF4AE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2F1-C48A-4570-BDE3-8E79E5F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F919-E1CD-4153-B49C-8FF1C7A3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5D49-18BA-46E8-89FA-B2F9629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009F-4BD2-45EB-8D87-CE35CC8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26B4-4E6C-40FD-B12A-6F39EBC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9958-463F-4CE0-A516-191C0BA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396B-7B77-47E6-BFC8-C3BE9015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A9B3-AF16-4170-9459-8A484376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AB00-A769-4388-8CC1-523259E6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7253-C79B-4DC0-9F1D-783AD4DE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D828-21C8-416B-AEDC-ED110377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25C-42D9-488D-8E91-B95FDD4A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0A00-E73F-43C9-A6D0-4CEA769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E1F9-6762-4C39-8EE0-17BD882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A0A1-40D0-49B3-BBF4-977C9863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14A8-E6E0-46BF-B00F-4C9AEBC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78AE-0E8F-452E-80B3-314C472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94C3-A687-4291-865E-46C3E7E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7C4C-C4D7-4475-954F-4003B78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6380-6F2E-4374-A9F9-6E91FF5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A097-CA91-4E6B-9C6E-EC462209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048B1-B744-4D89-8A8C-F63B83F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007-AB94-45B1-904F-11DAA556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4B3D-AA76-4873-AEAD-242AEDA9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566B-DCF9-41BC-9D81-0659D848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FB1C-EE29-4CCA-9952-C4AA824D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024F-587B-4FF7-B845-504D8F1B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C0AB-E287-4182-A4E3-61FE40C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18AF-2EAB-4709-ADB4-6A804D2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37DD-E59D-4162-98EA-985BAA6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FFF1F-71CE-4E94-9E23-FCDE37A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4491-C139-41D9-902C-E7297B1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28A30-D282-4E06-A369-49BE2BD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EB7-5D96-4109-B016-6F68D02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0476-F243-4933-ACF6-23B11E7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F004-05C6-4E22-959F-B6EA9D5A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8BF2-8136-49EA-ACEE-04F75883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87881-BD68-4F61-8BF8-A21301DE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22BD0-6A90-4ACB-89F8-41451A6A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CC02A-01B8-4979-8EAD-BCBCD4D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3273-44CF-4424-9917-7A07C9C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3D75-477B-4914-8E16-A84D940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6202-6189-4736-840D-D37901C3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B57C-5E48-429B-9F0F-739C4B33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39-4D74-4231-AE9D-13FCA69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96E3-D12F-4444-802B-13FB8BE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C7FA-5338-4843-A1EB-5AC789B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F797-7161-4A3A-9E66-1CD6AA3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3BA4-DE49-403E-B811-49FF2BF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40AF-757C-4EDA-A279-73E6A00C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ADA1-13AA-455A-8511-DCDA5353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0D06-7375-40E7-BBEE-801D7BA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40861-9EE0-4996-9A6F-70D39AD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6EC6D-7D27-4098-82C5-15AF32D2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E58C-A5E4-432C-85AA-3F20D5A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49C-7266-4E93-826C-D454117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B8C9-8594-4CAE-AC96-CF7B3919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A9CD-2A44-4D1B-9BB8-99BE8CC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3DBB-37C8-4953-86B5-80381C3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D652-EE16-4710-BC2E-F1F2973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80A99-177D-4D71-A641-CD7CA7D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974C1-94C7-464E-9EC2-4380028F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B4AF-4464-46D4-874C-451EF23B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3A3-C67D-46FC-9B1B-197418E5C1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811D-36FF-432F-B665-39C3F9EC68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75E-1F2D-4874-8ADC-2DA7EDEED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F32-89F7-487C-808E-2156493C9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3612-8A11-42FF-BCF5-4BFE202DFF1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6035-746B-401C-A678-D834FA9721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F6C-87FC-4F3D-AD5D-CB07B2A7A1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44DA-C0AF-4C3A-BD5B-5F59922ECD1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day.ru/uploads/posts/1191269251_c4133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550800" y="719280"/>
            <a:ext cx="8045640" cy="48895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Познание мира через языки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9800" y="5754600"/>
            <a:ext cx="77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e941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 сентября – Европейский день язы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На протяжении всей истории человеческой находились люди, которые могли в разной степени изъясняться не только на родном языке, но и на нескольких ( или многих ) иностранных. Так , легенда гласит, что Будда говорил на полутораста языках, а Магомет знал все языки мира. Самый известный политолог прошлого, чьи способности засвидетельствованы вполне  достоверно, жил в прошлом веке – хранитель библиотеки Ватикана кардинал Джузеппе Каспар Меццофанти. ( 1774-1849гг. 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3512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огдан Хмельницкий владел пятью язы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мператрица Екатерина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, кроме родного немецкого и русского, в совершенстве владела ещё тремя язы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лександр Грибоедов с юности владел французским, немецким, английским и итальянским языками, изучал латинский и греческий. Позже овладел персидским, арабским и турецк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аснописец Крылов великолепно знал французский, итальянский и немецкий языки. Изучал английский язы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колай Чернышевский в 16 лет основательно изучил девять языков: латинский, древнегреческий, персидский, арабский, татарский, церковно-славянский, древнееврейский, турецкий, голландский, болгарский и др. язы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651200" y="1600200"/>
            <a:ext cx="4035600" cy="44956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41792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PE03166_"/>
          <p:cNvPicPr/>
          <p:nvPr/>
        </p:nvPicPr>
        <p:blipFill>
          <a:blip r:embed="rId2"/>
          <a:stretch/>
        </p:blipFill>
        <p:spPr>
          <a:xfrm>
            <a:off x="6145200" y="1762200"/>
            <a:ext cx="2656080" cy="26636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d you know the following?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608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re are between 6000 and 7000 languages in the world – spoken by six  billion people  divided  into 189 independent sta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re are about 225 indigenous language in Europe – roughly 3% of the world’s to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Most of the world’s language are spoken in Asia, India, Africa and South Amer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Language are related to each other like the member of a fami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Most European language belong to three broad groups: Germanic, Romance and Slav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Germanic family of languages includes Danish, Norwegian, Swedish, Icelandic, Germanic, Dutch, English and Yiddish, among other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Romance languages includes Italia, French, Spanish, Portuguese and Romanian, among other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BS00554_"/>
          <p:cNvPicPr/>
          <p:nvPr/>
        </p:nvPicPr>
        <p:blipFill>
          <a:blip r:embed="rId2"/>
          <a:stretch/>
        </p:blipFill>
        <p:spPr>
          <a:xfrm>
            <a:off x="5168880" y="270828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Most European languages use Latin alphabet. Some Slavic languages use the Cyrillic alphabet. Greek, Armenian, Georgian and Yiddish have their own alphabe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mother tongues spoken by most people in Europe are English, Germany, French and Italian, in that  ord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non-European languages most widely used on European territory are Arabic, Chinese and Hindi, each with its own writing system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Russia has by far the highest number of languages spoken on its territory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Slavic  languages</a:t>
            </a:r>
            <a:r>
              <a:rPr b="0" lang="ru-RU" sz="21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include</a:t>
            </a:r>
            <a:r>
              <a:rPr b="0" lang="ru-RU" sz="21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Russian, Ukrainian, Belarusian, Polish, Czech, Slovak, Slovenian, Serbian, Croatian Macedonian, Bulgarian and oth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одственные празд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301680" y="1676520"/>
          <a:ext cx="8540280" cy="4421880"/>
        </p:xfrm>
        <a:graphic>
          <a:graphicData uri="http://schemas.openxmlformats.org/drawingml/2006/table">
            <a:tbl>
              <a:tblPr/>
              <a:tblGrid>
                <a:gridCol w="1302480"/>
                <a:gridCol w="2046240"/>
                <a:gridCol w="3626280"/>
                <a:gridCol w="1565280"/>
              </a:tblGrid>
              <a:tr h="44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4м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ень святых равноапостольных Кирилла и Мефо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Святые равноапостольные первоучители и просветители славянские, братья Кирилл и Мефодий происходили из знатной благочестивой  семьи, жившей в греческом городе Солуни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Православный празд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"/>
          <p:cNvGraphicFramePr/>
          <p:nvPr/>
        </p:nvGraphicFramePr>
        <p:xfrm>
          <a:off x="324000" y="770040"/>
          <a:ext cx="8800920" cy="5205240"/>
        </p:xfrm>
        <a:graphic>
          <a:graphicData uri="http://schemas.openxmlformats.org/drawingml/2006/table">
            <a:tbl>
              <a:tblPr/>
              <a:tblGrid>
                <a:gridCol w="2087280"/>
                <a:gridCol w="2089440"/>
                <a:gridCol w="3744720"/>
                <a:gridCol w="879480"/>
              </a:tblGrid>
              <a:tr h="27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4ма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ень славянской письменности и культу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 1994году Кабинет Министров Украины, поддерживая инициативу Министерства культуры и Украинского комитета славистов, принял постановление о провозглашении 24 мая каждого года днём славянской письменности и культур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1 фев-ра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Международный день родного я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Ежегодно жители планеты отмечают День родного языка. Этот праздник придумали в ЮНЕСКО, и цель этой важной международной даты -привлечь внимание к необходимости сохранения многоязычия в сегодняшнем мир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704880" y="758880"/>
          <a:ext cx="7715160" cy="5692680"/>
        </p:xfrm>
        <a:graphic>
          <a:graphicData uri="http://schemas.openxmlformats.org/drawingml/2006/table">
            <a:tbl>
              <a:tblPr/>
              <a:tblGrid>
                <a:gridCol w="550800"/>
                <a:gridCol w="550800"/>
                <a:gridCol w="550800"/>
                <a:gridCol w="554040"/>
                <a:gridCol w="549360"/>
                <a:gridCol w="552600"/>
                <a:gridCol w="550800"/>
                <a:gridCol w="547560"/>
                <a:gridCol w="552600"/>
                <a:gridCol w="549360"/>
                <a:gridCol w="554040"/>
                <a:gridCol w="550800"/>
                <a:gridCol w="550800"/>
                <a:gridCol w="55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"/>
          <p:cNvGraphicFramePr/>
          <p:nvPr/>
        </p:nvGraphicFramePr>
        <p:xfrm>
          <a:off x="219240" y="227160"/>
          <a:ext cx="7476840" cy="5868720"/>
        </p:xfrm>
        <a:graphic>
          <a:graphicData uri="http://schemas.openxmlformats.org/drawingml/2006/table">
            <a:tbl>
              <a:tblPr/>
              <a:tblGrid>
                <a:gridCol w="533880"/>
                <a:gridCol w="533880"/>
                <a:gridCol w="533520"/>
                <a:gridCol w="535680"/>
                <a:gridCol w="533880"/>
                <a:gridCol w="533520"/>
                <a:gridCol w="533880"/>
                <a:gridCol w="533880"/>
                <a:gridCol w="533880"/>
                <a:gridCol w="533880"/>
                <a:gridCol w="535320"/>
                <a:gridCol w="533880"/>
                <a:gridCol w="533520"/>
                <a:gridCol w="534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594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Блиц – виктори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6440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en-US" sz="3600" spc="-1" strike="noStrike">
                <a:solidFill>
                  <a:srgbClr val="00cc99"/>
                </a:solidFill>
                <a:latin typeface="Arial"/>
              </a:rPr>
              <a:t>Языки народов мир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" name="Picture 10" descr="emblema6"/>
          <p:cNvPicPr/>
          <p:nvPr/>
        </p:nvPicPr>
        <p:blipFill>
          <a:blip r:embed="rId2"/>
          <a:stretch/>
        </p:blipFill>
        <p:spPr>
          <a:xfrm>
            <a:off x="5219640" y="2565360"/>
            <a:ext cx="369576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6553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.Что означают буквы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 BC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в обозначениях да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2.Знаете ли вы, как будет звучать на латыни «солнечное затмение»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3.Как звучат названия знаков Зодиака по – латинс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4.Что в переводе с французского означает слово «Эрмитаж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5.Что общего между словами «бодрость» и «чай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6.Какое самое старое слово в английском язы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7.Что в переводе арабского означает слово «Сахара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8.Сколько букв в Гавайском алфави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9.Назовите самое длинное слово английского языка, в котором все буквы расположены в алфавитном поряд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.Знаете ли вы, кем и когда был создан искусственный международный язык эсперант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1.На скольких языках разговаривают жители Папуа и Новой Гвине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2.У писателя Эрнеста Винсента Райта есть роман «Гедсби», состоящий из более чем 50 000 слов. Во всём романе нет ни одной буквы … , самой частой буквы английского языка. О какой букве идёт реч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6659640" y="1773360"/>
            <a:ext cx="2252520" cy="3816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Картинка 31 из 25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0200" y="785880"/>
            <a:ext cx="4071960" cy="583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4" descr="anima022"/>
          <p:cNvPicPr/>
          <p:nvPr/>
        </p:nvPicPr>
        <p:blipFill>
          <a:blip r:embed="rId2"/>
          <a:stretch/>
        </p:blipFill>
        <p:spPr>
          <a:xfrm>
            <a:off x="1619280" y="260280"/>
            <a:ext cx="604836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74872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Language forces us to perceive the  world as man present it to us. “ (Julia Penel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If you can speak three languages you’re trilingual. If you can two languages you’re bilingual. If you can speak only one language you’re an American. “( Author Unknown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He who does not know foreign language does  not know anything about his own. “ ( Johann Wolfgang von Goethe, Kunst and Alterhu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НЕСКО провозгласил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к – веком полиглотов, на весь мир прозвучал девиз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« Изучаем языки на протяжении всей жизни.» 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2195640" y="1436760"/>
            <a:ext cx="6769080" cy="50925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10:16Z</dcterms:created>
  <dc:creator>Serg A.S.</dc:creator>
  <dc:description/>
  <dc:language>en-US</dc:language>
  <cp:lastModifiedBy>Alf</cp:lastModifiedBy>
  <dcterms:modified xsi:type="dcterms:W3CDTF">2010-04-25T15:25:45Z</dcterms:modified>
  <cp:revision>15</cp:revision>
  <dc:subject/>
  <dc:title>Познание мира через языки </dc:title>
</cp:coreProperties>
</file>