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E05-012E-494D-9480-05A17E31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E39-883C-474A-B74E-56CACA4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CB8-0A18-495F-BDF4-BFB83560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55F-2B7E-40EB-9DC2-0F6DEBB6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F2F-B313-4C67-B00F-457E07BD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C4D-9546-45F6-AEF0-FC05FE3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FAA-A8C7-4A0A-90EA-1F8D54B8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A55-569A-438B-82AD-C18C2AAA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7D5-8C73-43BD-B231-8D8D5868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D3A-02CF-4B72-9E14-88504A8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BAC-39FB-4EE1-9D05-150B585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16E-6CE3-4693-AEE4-068FA65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B1C-6D0F-4A8E-ABBC-CD3CCED9B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ологические и психологические аспекты  толеран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тиросян Адел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ца 11 б 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СОШ № 43 г. Ярослав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1280" y="1052280"/>
            <a:ext cx="4546440" cy="40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оих проявлениях толерантность типа «В» ассоциируется с триадой К.Роджерса – безусловным принятием, безоценочностью и конгруэнтностью. Такая толерантность обнаруживается также в межличностном (точнее, транс-персональном) общении персонифицированной личности, в структуре которой элиминированы персональный и теневой компоненты, тогда как проявления сущности (лика), напротив, предельно выражены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ui\Рабочий стол\Фоточки Галя\памо\5.gif"/>
          <p:cNvPicPr/>
          <p:nvPr/>
        </p:nvPicPr>
        <p:blipFill>
          <a:blip r:embed="rId1"/>
          <a:stretch/>
        </p:blipFill>
        <p:spPr>
          <a:xfrm>
            <a:off x="395280" y="1125360"/>
            <a:ext cx="3618000" cy="434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ерантность во взаимоотношениях детей и родителей. Как правило, во взаимоотношениях детей и взрослых происходит своего рода встреча двух качественно различных типов толерантности, их столкновение (взрослый толерантен по принципу «терпения», а ребенок – по принципу «открытости»). В результате такой «сшибки» развитие изначальной детской толерантности оказывается не столько в «зоне ближайшей эволюции», сколько в «зоне ближайшей инволюц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ui\Рабочий стол\Фоточки Галя\памо\img_8694625_294_0.jpg"/>
          <p:cNvPicPr/>
          <p:nvPr/>
        </p:nvPicPr>
        <p:blipFill>
          <a:blip r:embed="rId1"/>
          <a:stretch/>
        </p:blipFill>
        <p:spPr>
          <a:xfrm>
            <a:off x="3348000" y="2492280"/>
            <a:ext cx="2619360" cy="381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357336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ЕРАНТНОСТЬ, или терпимость –  стремление и способность к установлению и поддержанию общности с людьми, которые отличаются в некотором отношении от превалирующего типа или не придерживаются общепринятых мнений. Толерантность – трудное и редкое достижение по той простой причине, что фундаментом сообщества является родовое сознание. Мы объединяемся в одной общности с теми, кто разделяет наши убеждения, или с теми, кто разговаривает на том же языке или имеет ту же культуру, что и мы, или с теми, кто принадлежит к той же этнической группе. В сущности, общность языка и чувство этнической близости на всем протяжении человеческой истории выступают в качестве оснований сообщества. В то же время мы склонны враждебно или со страхом относиться к «другим» – тем, кто от нас отличается. Различие может иметь место на любом уровне биологической, культурной или политической реа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i\Рабочий стол\Фоточки Галя\памо\b_16749.jpg"/>
          <p:cNvPicPr/>
          <p:nvPr/>
        </p:nvPicPr>
        <p:blipFill>
          <a:blip r:embed="rId1"/>
          <a:stretch/>
        </p:blipFill>
        <p:spPr>
          <a:xfrm>
            <a:off x="2411280" y="404640"/>
            <a:ext cx="39499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номен толерант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номен толерантности – дифференцированное понятие, т.к. в его состав входит несколько компонентов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естественная (натуральная) толерантность – открытость, любознательность, доверчивость, – свойственная маленькому ребенку и еще не ассоциирующаяся с качествами его «Я» (толерантность типа «А»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моральная толерантность – терпение, терпимость, ассоциируемая с личностью («внешним Я» человека) (толерантность типа «Б»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равственная толерантность – принятие, доверие, ассоциируемая с сущностью или «внутренним Я» человека (толерантность типа «В»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ерантность типа «А» – это естественное и безусловное принятие другого человека, отношение к нему как к самодостаточному и самоценному существу. Такая толерантность имеет место в жизни маленького ребенка, у которого процесс становления личности (процесс персонализации) еще не привел к расщеплению индивидуального и социального опыта, к формированию «персоны» или «фасада», к возникновению «двойного стандарта», к существованию обособленных планов поведения и переживания и т.д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нный тип толерантности, как показывают современные социобиологические исследования, имеет отчетливые эволюционно-генетические предпосылки в животном мире. Такая толерантность достаточно хорошо исследована также в детской психологии и детском психоанализ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4392720" cy="497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аденец абсолютно нетерпим к своим нуждам – он не терпит голода, холода, эмоциональной заброшенности. Он готов требовать удовлетворения своих базовых потребностей плачем – тем инструментом, что ему доступен. Если бы ему были доступны другие средства, он бы ими воспользовался. В этом смысле, действительно – родители учат ребенка терпению, а многие взрослые остаются «младенцами» в желании получить мгновенное удовлетворение своим нуждам. 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3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ui\Рабочий стол\Фоточки Галя\памо\782884.jpg"/>
          <p:cNvPicPr/>
          <p:nvPr/>
        </p:nvPicPr>
        <p:blipFill>
          <a:blip r:embed="rId1"/>
          <a:stretch/>
        </p:blipFill>
        <p:spPr>
          <a:xfrm>
            <a:off x="4788000" y="981000"/>
            <a:ext cx="4022640" cy="36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З.Фрейда детское нетерпение обусловлено природой либидо, не знающего ничего, кроме самого себя. Все стадии психосексуального развития по Фрейду связаны не в последнюю очередь с обретением новых навыков терпения (есть не когда хочется, а когда научили, не писаться в штанишки, и так далее). Терпение – это по сути первый рубеж встречи физиологических потребностей индивида и собственно человеческого способа их удовлетворения, встреча природного индивида с культурой в широком смысле слова. Но такое терпение иноприродно и не имеет отношения к толерантности типа «А», изначально присущей ребенку.  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нно этот тип толерантности ответственен за парадоксальное принятие маленькими детьми своих родителей даже в случаях крайне жестокого обращения, психологического, физического и сексуального насилия. С одной стороны, наличие у детей толерантности типа «А» обеспечивает им субъективную, психологическую защищенность от проявлений жестокости и позволяет сохранить позитивные отношения с родителями, а с другой стороны, расщепляет и невротизирует их формирующуюся личность, поскольку не может обеспечить достаточного уровня самопринятия, принятия собственного опыта, собственных чувств и переживаний. Данная «асимметричность» толерантности типа «А» ответственна за дальнейшее развитие толерантности в целом, осуществляющееся как правило в форме инволюции (обратного развития) естественной толеран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ерантность типа «Б» характерна для личностного способа существования, она является производной процесса персонализации и, в возрастном аспекте, в той или иной степени присуща большинству взрослых людей. «Толерантная» личность стремится сдерживаться, используя механизмы психологических защит (рационализации, проекции и т.д.). Однако за своим «фасадом» она скрывает собственную нетерпимость – нарастающее напряжение, невысказанное несогласие, подавленную агрессию. Можно утверждать, что толерантность типа «Б» по сути дела есть квази-толерантность – неподлинная, частичная, видимая, условная, искусственная толерантность: «мы терпим вас потому, что...»; «обстоятельства так складываются, что мне приходится вас терпеть, но…»; «в данный момент я не могу быть полностью самим собой и вынужден играть в терпимость…»; «я не думаю о другом, а только о себе, поэтому я терпим к другому только для того, чтобы меня не трогали или для того, чтобы извлечь из ситуации пользу для себя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4916520" cy="31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ерантность типа «Б» – это по сути дела скрытая, отсроченная внутренняя агрессия (здесь можно в качестве примера привести родителя, который одобрительно кивает в ответ на бесчинства детей, но внутренне напряжен и негативен по отношению к такому поведению). Хотя такая «терпимость» выглядит на первый взгляд лучше, чем «нетерпимость», и то, и другое являются, тем не менее, однопорядковыми и одноприродными явлениями. Различия между ними – лишь количественные, а не качественные, поскольку их психологическая основа идентична. В этом смысле можно сказать, что толерантность типа «Б» – это обратная сторона нетерпимости, различных форм насилия и манипулирования человеком, игнорирования его субъектных характеристик, всего того, что так деструктивно действует на отношения между людьм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ui\Рабочий стол\Фоточки Галя\памо\60133_501.1190713311.jpg"/>
          <p:cNvPicPr/>
          <p:nvPr/>
        </p:nvPicPr>
        <p:blipFill>
          <a:blip r:embed="rId1"/>
          <a:stretch/>
        </p:blipFill>
        <p:spPr>
          <a:xfrm>
            <a:off x="6012000" y="1773360"/>
            <a:ext cx="2555640" cy="285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ерантность типа «В» построена на принятии человеком как окружающих, так и самого себя, на взаимодействии с внешним и внутренним миром в принимающей, диалогической манере. В противоположность насилию и манипулированию такое взаимодействие предполагает как уважение ценностей и смыслов, значимых для другого, так и осознание и принятие собственного внутреннего мира, своих собственных ценностей и смыслов, целей и желаний, переживаний и чувств. Для человека, обладающего толерантностью типа «В», напряжения и конфликты вовсе не исключены, можно сказать, он постоянно живет в ситуации напряженного существования, не боится быть лицом к лицу с этим напряжением, достойно выдерживать и принимать его как безусловную экзистенциальную данность. Это подлинная, зрелая, действительно позитивная толерантность, основанная (в отличие от толерантности типа «А» и «Б») на гораздо более полном осознании и принятии человеком реа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7:57:05Z</dcterms:created>
  <dc:creator>Admin</dc:creator>
  <dc:description/>
  <dc:language>en-US</dc:language>
  <cp:lastModifiedBy>ASU-N1</cp:lastModifiedBy>
  <dcterms:modified xsi:type="dcterms:W3CDTF">2009-01-30T09:29:41Z</dcterms:modified>
  <cp:revision>12</cp:revision>
  <dc:subject/>
  <dc:title>Слайд 1</dc:title>
</cp:coreProperties>
</file>