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315-AABB-4111-9FEF-BD369A49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1FB-5E2D-4E3E-BEA5-C9CF4D0B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542-51DC-4AF4-B6A2-F3BB9EE7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126-8F9C-4857-A868-35E583E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CCE-CEA0-43BA-8247-21FC7F31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B60-62BE-4211-8FC5-53557917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ACF-745D-4995-ADE6-1A50759C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3DC-CE2F-40A4-A87D-5F4A5A88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CB3-796D-496D-8865-CC3DBBE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5E0-7FF5-4CB6-AB4B-751EA21A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242-F5A9-4B6C-AD88-9E90D13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03B-9612-4A20-B8ED-9011690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2CA-6986-422B-B1B0-8D655AB3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 КУРС ИСТОРИИ ДРЕВНЕГО МИР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br>
              <a:rPr sz="3200"/>
            </a:br>
            <a:br>
              <a:rPr sz="700"/>
            </a:br>
            <a:br>
              <a:rPr sz="7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264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5928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8160" y="189000"/>
            <a:ext cx="55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916000" y="160020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627120"/>
            <a:ext cx="86421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16360" y="1600200"/>
            <a:ext cx="331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17880" y="189000"/>
            <a:ext cx="4906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62692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195280" y="1600200"/>
            <a:ext cx="388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250920"/>
            <a:ext cx="7848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76000" y="16002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ЧЕМ ПИСЬМЕННЫЕ ИСТОЧНИКИ ОТЛИЧАЮТСЯ ОТ УСТ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СПРЕДЕЛИТЕ ЭТИ ИСТОРИЧЕСКИЕ ИСТОЧНИКИ ПО ТРЁМ ВИДАМ (ВЕЩЕСТВЕННЫЕ, ПИСЬМЕННЫЕ, УСТНЫ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ЕЧЕСКА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НЕ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ЕГЕН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 СОЗВЕЗДИИ МАЛАЯ МЕДВЕД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ИФСК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АКИН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ИНЯНА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БЛИЧКА С ПИСЬМЕН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З МЕЖДУРЕЧ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ИФ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РОДОВ АФ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ЕЕГИПЕТСКИЙ ПАПИРУС С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ЕРОГЛИ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Я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ЕП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ИТ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ДПИС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КАМ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АЗ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О ГИЛЬГАМЕ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С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ЕВНИХ ИНДИЙ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ВЕЩЕСТВЕННЫ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, 3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ИСЬМЕННЫЕ:     4, 6,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УСТНЫЕ:                2, 5, 9,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ЮЧ (ОТВЕТЫ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ВЕДИТЕ ПРИМЕРЫ ПИСЬМЕННЫХ, УСТНЫХ И ВЕЩЕСТВЕН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9280" y="189000"/>
            <a:ext cx="8784720" cy="6478200"/>
            <a:chOff x="179280" y="189000"/>
            <a:chExt cx="8784720" cy="6478200"/>
          </a:xfrm>
        </p:grpSpPr>
        <p:cxnSp>
          <p:nvCxnSpPr>
            <p:cNvPr id="45" name="_s4110"/>
            <p:cNvCxnSpPr>
              <a:stCxn id="46" idx="0"/>
              <a:endCxn id="47" idx="2"/>
            </p:cNvCxnSpPr>
            <p:nvPr/>
          </p:nvCxnSpPr>
          <p:spPr>
            <a:xfrm flipV="1" rot="16200000">
              <a:off x="5460480" y="1890000"/>
              <a:ext cx="1296360" cy="307548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7" idx="2"/>
            </p:cNvCxnSpPr>
            <p:nvPr/>
          </p:nvCxnSpPr>
          <p:spPr>
            <a:xfrm flipV="1">
              <a:off x="4571280" y="2779560"/>
              <a:ext cx="3960" cy="129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386080" y="1890000"/>
              <a:ext cx="1296360" cy="307548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4104"/>
            <p:cNvSpPr/>
            <p:nvPr/>
          </p:nvSpPr>
          <p:spPr>
            <a:xfrm>
              <a:off x="3254040" y="18900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Ч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17928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325404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7"/>
            <p:cNvSpPr/>
            <p:nvPr/>
          </p:nvSpPr>
          <p:spPr>
            <a:xfrm>
              <a:off x="6328800" y="4075920"/>
              <a:ext cx="2635200" cy="259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ЧЕСКАЯ КАРТА – кусок бумаги, на котором изображены города, реки, места жительства народов, места битв и другие условные обо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309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42920" y="3284280"/>
            <a:ext cx="403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68000" y="1599840"/>
            <a:ext cx="5472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07640" y="160020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43000"/>
            <a:ext cx="77752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24000" y="1599840"/>
            <a:ext cx="3888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ЕСТЬ ВВЕДЕНИЕ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ДУМАТЬ ПО 5 ПРИМЕРОВ ВЕЩЕСТВЕННЫХ, ПИСЬМЕННЫХ И УСТ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СТИ АТЛАС ИСТОР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79280" y="189000"/>
            <a:ext cx="8784720" cy="6477840"/>
            <a:chOff x="179280" y="189000"/>
            <a:chExt cx="8784720" cy="6477840"/>
          </a:xfrm>
        </p:grpSpPr>
        <p:cxnSp>
          <p:nvCxnSpPr>
            <p:cNvPr id="53" name="_s6150"/>
            <p:cNvCxnSpPr>
              <a:stCxn id="54" idx="0"/>
              <a:endCxn id="55" idx="2"/>
            </p:cNvCxnSpPr>
            <p:nvPr/>
          </p:nvCxnSpPr>
          <p:spPr>
            <a:xfrm flipV="1" rot="16200000">
              <a:off x="5456520" y="1889640"/>
              <a:ext cx="1304280" cy="3075480"/>
            </a:xfrm>
            <a:prstGeom prst="bentConnector3">
              <a:avLst>
                <a:gd name="adj1" fmla="val 8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151"/>
            <p:cNvCxnSpPr>
              <a:stCxn id="57" idx="0"/>
              <a:endCxn id="55" idx="2"/>
            </p:cNvCxnSpPr>
            <p:nvPr/>
          </p:nvCxnSpPr>
          <p:spPr>
            <a:xfrm flipV="1">
              <a:off x="4571280" y="2775240"/>
              <a:ext cx="3960" cy="130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52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2382120" y="1889640"/>
              <a:ext cx="1304280" cy="3075480"/>
            </a:xfrm>
            <a:prstGeom prst="bentConnector3">
              <a:avLst>
                <a:gd name="adj1" fmla="val 8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6153"/>
            <p:cNvSpPr/>
            <p:nvPr/>
          </p:nvSpPr>
          <p:spPr>
            <a:xfrm>
              <a:off x="3254040" y="18900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ТОЧ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4"/>
            <p:cNvSpPr/>
            <p:nvPr/>
          </p:nvSpPr>
          <p:spPr>
            <a:xfrm>
              <a:off x="17928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ЩЕСТ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6155"/>
            <p:cNvSpPr/>
            <p:nvPr/>
          </p:nvSpPr>
          <p:spPr>
            <a:xfrm>
              <a:off x="325404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56"/>
            <p:cNvSpPr/>
            <p:nvPr/>
          </p:nvSpPr>
          <p:spPr>
            <a:xfrm>
              <a:off x="6328800" y="4079880"/>
              <a:ext cx="2635200" cy="258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АКИЕ ИЗ ЭТИХ ИСТОРИЧЕСКИХ ИСТОЧНИКОВ ВЕЩЕСТВЕННЫЕ, А КАКИЕ –  ПИСЬМЕННЫ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2872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91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39640" y="333000"/>
            <a:ext cx="4103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23640" y="160020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72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80000" y="1600200"/>
            <a:ext cx="25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34000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4080"/>
            <a:ext cx="78483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8:34:45Z</dcterms:created>
  <dc:creator>Jura</dc:creator>
  <dc:description/>
  <dc:language>en-US</dc:language>
  <cp:lastModifiedBy>comp</cp:lastModifiedBy>
  <dcterms:modified xsi:type="dcterms:W3CDTF">2011-04-16T13:52:41Z</dcterms:modified>
  <cp:revision>5</cp:revision>
  <dc:subject/>
  <dc:title>ВВЕДЕНИЕ В КУРС ИСТОРИИ ДРЕВНЕГО МИРА 5 класс</dc:title>
</cp:coreProperties>
</file>