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30A-470D-406E-8178-C7E11396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D52-3EB4-4610-955B-3462D78A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631-E919-4588-9C71-38026985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9CB-7ED9-457B-A03B-A911B28E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A39-4844-4DE5-B618-86FE6FF9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8CF-0D2C-489A-8340-61F904A9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1B0-46E8-4176-B295-3A08F64C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13F-9CA4-4786-8A48-BF57B6A0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7D1-E93B-41B1-B84F-B2AA4ED6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9B3-96AF-44DD-9227-D08853A2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0D0-50E0-4F82-B72D-74340073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8E9-0B56-4DA7-BC34-1AA04F0E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F893-91F6-49B5-890B-28F8E0A05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 КУРС ИСТОРИИ ДРЕВНЕГО МИР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br>
              <a:rPr sz="3200"/>
            </a:br>
            <a:br>
              <a:rPr sz="700"/>
            </a:br>
            <a:br>
              <a:rPr sz="7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62643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59280" y="1600200"/>
            <a:ext cx="367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38160" y="189000"/>
            <a:ext cx="5543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916000" y="1600200"/>
            <a:ext cx="338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627120"/>
            <a:ext cx="864216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916360" y="1600200"/>
            <a:ext cx="331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17880" y="189000"/>
            <a:ext cx="4906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62692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195280" y="1600200"/>
            <a:ext cx="388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250920"/>
            <a:ext cx="78483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76000" y="1600200"/>
            <a:ext cx="504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138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ЧЕМ ПИСЬМЕННЫЕ ИСТОЧНИКИ ОТЛИЧАЮТСЯ ОТ УСТ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СПРЕДЕЛИТЕ ЭТИ ИСТОРИЧЕСКИЕ ИСТОЧНИКИ ПО ТРЁМ ВИДАМ (ВЕЩЕСТВЕННЫЕ, ПИСЬМЕННЫЕ, УСТНЫ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ЕЧЕСКАЯ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ОНЕ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ЛЕГЕН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О СОЗВЕЗДИИ МАЛАЯ МЕДВЕД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ИФСК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Е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АКИН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ИНЯНАЯ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АБЛИЧКА С ПИСЬМЕНА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З МЕЖДУРЕЧ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ИФ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РОДОВ АФ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ЕВНЕЕГИПЕТСКИЙ ПАПИРУС С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ЕРОГЛИ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ЕВНЯЯ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РЕП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ИТА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АДПИС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 КАМ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КАЗ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О ГИЛЬГАМЕ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С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РЕВНИХ ИНДИЙ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ВЕЩЕСТВЕННЫ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, 3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ПИСЬМЕННЫЕ:     4, 6,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УСТНЫЕ:                2, 5, 9,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ЛЮЧ (ОТВЕТЫ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ВЕДИТЕ ПРИМЕРЫ ПИСЬМЕННЫХ, УСТНЫХ И ВЕЩЕСТВЕННЫХ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9280" y="189000"/>
            <a:ext cx="8784720" cy="6478200"/>
            <a:chOff x="179280" y="189000"/>
            <a:chExt cx="8784720" cy="6478200"/>
          </a:xfrm>
        </p:grpSpPr>
        <p:cxnSp>
          <p:nvCxnSpPr>
            <p:cNvPr id="45" name="_s4110"/>
            <p:cNvCxnSpPr>
              <a:stCxn id="46" idx="0"/>
              <a:endCxn id="47" idx="2"/>
            </p:cNvCxnSpPr>
            <p:nvPr/>
          </p:nvCxnSpPr>
          <p:spPr>
            <a:xfrm flipV="1" rot="16200000">
              <a:off x="5460480" y="1890000"/>
              <a:ext cx="1296360" cy="3075480"/>
            </a:xfrm>
            <a:prstGeom prst="bentConnector3">
              <a:avLst>
                <a:gd name="adj1" fmla="val 128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4109"/>
            <p:cNvCxnSpPr>
              <a:stCxn id="49" idx="0"/>
              <a:endCxn id="47" idx="2"/>
            </p:cNvCxnSpPr>
            <p:nvPr/>
          </p:nvCxnSpPr>
          <p:spPr>
            <a:xfrm flipV="1">
              <a:off x="4571280" y="2779560"/>
              <a:ext cx="3960" cy="129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4108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386080" y="1890000"/>
              <a:ext cx="1296360" cy="3075480"/>
            </a:xfrm>
            <a:prstGeom prst="bentConnector3">
              <a:avLst>
                <a:gd name="adj1" fmla="val 128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4104"/>
            <p:cNvSpPr/>
            <p:nvPr/>
          </p:nvSpPr>
          <p:spPr>
            <a:xfrm>
              <a:off x="3254040" y="189000"/>
              <a:ext cx="2635200" cy="2591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ТОР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ТОЧН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5"/>
            <p:cNvSpPr/>
            <p:nvPr/>
          </p:nvSpPr>
          <p:spPr>
            <a:xfrm>
              <a:off x="179280" y="4075920"/>
              <a:ext cx="2635200" cy="2591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6"/>
            <p:cNvSpPr/>
            <p:nvPr/>
          </p:nvSpPr>
          <p:spPr>
            <a:xfrm>
              <a:off x="3254040" y="4075920"/>
              <a:ext cx="2635200" cy="2591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4107"/>
            <p:cNvSpPr/>
            <p:nvPr/>
          </p:nvSpPr>
          <p:spPr>
            <a:xfrm>
              <a:off x="6328800" y="4075920"/>
              <a:ext cx="2635200" cy="2591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РИЧЕСКАЯ КАРТА – кусок бумаги, на котором изображены города, реки, места жительства народов, места битв и другие условные обо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309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842920" y="3284280"/>
            <a:ext cx="403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6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68000" y="1599840"/>
            <a:ext cx="547236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907640" y="1600200"/>
            <a:ext cx="51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243000"/>
            <a:ext cx="777528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124000" y="1599840"/>
            <a:ext cx="38880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ЕСТЬ ВВЕДЕНИЕ В УЧЕБ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ДУМАТЬ ПО 5 ПРИМЕРОВ ВЕЩЕСТВЕННЫХ, ПИСЬМЕННЫХ И УСТН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БРЕСТИ АТЛАС ИСТОР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79280" y="189000"/>
            <a:ext cx="8784720" cy="6477840"/>
            <a:chOff x="179280" y="189000"/>
            <a:chExt cx="8784720" cy="6477840"/>
          </a:xfrm>
        </p:grpSpPr>
        <p:cxnSp>
          <p:nvCxnSpPr>
            <p:cNvPr id="53" name="_s6150"/>
            <p:cNvCxnSpPr>
              <a:stCxn id="54" idx="0"/>
              <a:endCxn id="55" idx="2"/>
            </p:cNvCxnSpPr>
            <p:nvPr/>
          </p:nvCxnSpPr>
          <p:spPr>
            <a:xfrm flipV="1" rot="16200000">
              <a:off x="5456520" y="1889640"/>
              <a:ext cx="1304280" cy="3075480"/>
            </a:xfrm>
            <a:prstGeom prst="bentConnector3">
              <a:avLst>
                <a:gd name="adj1" fmla="val 8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6151"/>
            <p:cNvCxnSpPr>
              <a:stCxn id="57" idx="0"/>
              <a:endCxn id="55" idx="2"/>
            </p:cNvCxnSpPr>
            <p:nvPr/>
          </p:nvCxnSpPr>
          <p:spPr>
            <a:xfrm flipV="1">
              <a:off x="4571280" y="2775240"/>
              <a:ext cx="3960" cy="130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6152"/>
            <p:cNvCxnSpPr>
              <a:stCxn id="59" idx="0"/>
              <a:endCxn id="55" idx="2"/>
            </p:cNvCxnSpPr>
            <p:nvPr/>
          </p:nvCxnSpPr>
          <p:spPr>
            <a:xfrm flipH="1" flipV="1" rot="5400000">
              <a:off x="2382120" y="1889640"/>
              <a:ext cx="1304280" cy="3075480"/>
            </a:xfrm>
            <a:prstGeom prst="bentConnector3">
              <a:avLst>
                <a:gd name="adj1" fmla="val 8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6153"/>
            <p:cNvSpPr/>
            <p:nvPr/>
          </p:nvSpPr>
          <p:spPr>
            <a:xfrm>
              <a:off x="3254040" y="189000"/>
              <a:ext cx="2635200" cy="258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ТОР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ТОЧН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6154"/>
            <p:cNvSpPr/>
            <p:nvPr/>
          </p:nvSpPr>
          <p:spPr>
            <a:xfrm>
              <a:off x="179280" y="4079880"/>
              <a:ext cx="2635200" cy="258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ЕЩЕСТ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6155"/>
            <p:cNvSpPr/>
            <p:nvPr/>
          </p:nvSpPr>
          <p:spPr>
            <a:xfrm>
              <a:off x="3254040" y="4079880"/>
              <a:ext cx="2635200" cy="258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ИСЬМ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6156"/>
            <p:cNvSpPr/>
            <p:nvPr/>
          </p:nvSpPr>
          <p:spPr>
            <a:xfrm>
              <a:off x="6328800" y="4079880"/>
              <a:ext cx="2635200" cy="258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С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АКИЕ ИЗ ЭТИХ ИСТОРИЧЕСКИХ ИСТОЧНИКОВ ВЕЩЕСТВЕННЫЕ, А КАКИЕ –  ПИСЬМЕННЫ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2872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191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339640" y="333000"/>
            <a:ext cx="41036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490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23640" y="160020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172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780000" y="1600200"/>
            <a:ext cx="25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9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340000" y="160020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54080"/>
            <a:ext cx="784836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08:34:45Z</dcterms:created>
  <dc:creator>Jura</dc:creator>
  <dc:description/>
  <dc:language>en-US</dc:language>
  <cp:lastModifiedBy>comp</cp:lastModifiedBy>
  <dcterms:modified xsi:type="dcterms:W3CDTF">2011-04-16T13:52:41Z</dcterms:modified>
  <cp:revision>5</cp:revision>
  <dc:subject/>
  <dc:title>ВВЕДЕНИЕ В КУРС ИСТОРИИ ДРЕВНЕГО МИРА 5 класс</dc:title>
</cp:coreProperties>
</file>