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0963-C1F5-4FF0-868E-7D8F7E8662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2190-D043-4A35-A776-937D3908D3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00C-0A77-4137-914A-C459F041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A3A-2771-4E22-BB56-5259FF23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032-0FC3-4E8A-B739-3DDC1FE6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97B-82DA-4131-BF2E-FEFEF184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97AB-7464-480E-97D6-26DC8768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505B-1E8F-49AB-BDDC-1E02246F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7E25-BB68-436A-A992-47397A1A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2A9B-088A-4A2A-9614-0C7BAB96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A6F6-8474-4DB8-8193-05C7FA3A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EE62-184E-4D4F-8914-8BF68325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98EC-7282-4658-93AE-7C43EEA8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537-586F-474C-9E93-126764AA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AD0B-7802-4441-89B5-F188B9A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6920-4910-4E17-8864-D5214DD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EB1E-B410-4962-B01E-EB48F92F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8BC3-0C9F-45ED-8B82-05CB2666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A99C-1402-46B3-A57F-67D16830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1D4-7043-47ED-AC1C-BDD7FDCF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3DE-0A16-49CB-A79C-31DBC280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E8A-8E7E-4243-8E7D-DEFEEB85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766-2ECC-4910-BB5D-5EE92F5B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3C0-DB77-4FF2-A712-CAC32248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210-1CDE-4E9B-81E9-CE141E30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89F-FC2F-4078-B952-30E238D1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8822-7D7A-4B0A-8F5E-CFFEA7638B51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8F10-673F-4F34-A6A1-CF3A95C5686C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smuseum.ru/images/pics/exhibitions/2004/valet2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hyperlink" Target="http://www.tretyakovgallery.ru/i/exhibit/2005/0202/10981.jp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menno.ru/images/size2/49759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ivanovoweb.ru/MyGalery/albums/userpics/10001/normal_konchalovsky2.jpg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kic-bg.com/images/uploads/Lentulov-2_thumb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10/001/268718271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alb.gallery.ru/gallery/0000004933-15555-521003-778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ura-art.narod.ru/032.jpg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museums.artyx.ru/art_museums/books/item/f00/s00/z0000004/pic/000083.jpg" TargetMode="External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anmal.narod.ru/life_in_big_hotel.jpg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rusmuseum.ru/ru/Abstract/painting/01332.jpg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dekoratos.web-box.ru/_mod_files/ce_images/photoalbum/malevich_247x257.jpg" TargetMode="External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aintings.freenet.kz/img/photo/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world-art.ru/painting/img/5000/131/1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aghilev.perm.ru/g11/4/01/diag5.gif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hyperlink" Target="http://www.staratel.com/pictures/ruspaint/big/515-1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unn.runnet.ru/pic/museum/rerih2.jpg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bibliotekar.ru/rusVrubel/6.files/image002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tambov.fio.ru/vjpusk/vjp106/rabot/10/vasnec1_big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ulture.mincult.ru/Culture_img/32-43-1m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smr.ru/centre/images/pics/pic0258/pic0258_1024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msk-guide.ru/img/146/4547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ssianculture.ru/Culture_img/16-15-1m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v.spb.ru/Pictures/1002624923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varvar.ru/arhiv/gallery/peredvijniki/serov/images/serov_aleksandr_III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mr.ru/centre/images/pics/pic0270/pic0270_80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charity.lfond.spb.ru/rus/img/big/8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artrussia.ru/pic_c/c109_110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2743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468360" y="5950080"/>
            <a:ext cx="6285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«БУБНОВЫЙ ВАЛЕТ» </a:t>
            </a:r>
            <a:br>
              <a:rPr sz="2800"/>
            </a:b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1910 – 1916 гг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27640" y="1828440"/>
            <a:ext cx="379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П.П. Кончаловский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А.В. Лентулов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И.И. Машков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34" name="Picture 4" descr="Картинка 2 из 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3508560" cy="457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Лентулов А.В. Автопортрет  -  Фотобанк АГНИФОТО: Галерея фотографий и живописи. Печать постеров, оформление в багет."/>
          <p:cNvPicPr/>
          <p:nvPr/>
        </p:nvPicPr>
        <p:blipFill>
          <a:blip r:embed="rId3"/>
          <a:stretch/>
        </p:blipFill>
        <p:spPr>
          <a:xfrm>
            <a:off x="755640" y="1628640"/>
            <a:ext cx="3666960" cy="456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Картинка 8 из 14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1628640"/>
            <a:ext cx="3638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П.П. Кончаловский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38" name="Picture 4" descr="Картинка 20 из 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700280"/>
            <a:ext cx="4537080" cy="453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Картинка 10 из 1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3640" y="1484280"/>
            <a:ext cx="4579920" cy="537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.П.Кончаловский. Натюрморт с красный подносом. Первая половина 1910-х. Х.М. 66,8x88,5 см.(Курская гос. картинная галерея им. А.А.Дейнеки, Курск"/>
          <p:cNvPicPr/>
          <p:nvPr/>
        </p:nvPicPr>
        <p:blipFill>
          <a:blip r:embed="rId5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П.П.Кончаловский. Семейный портрет ("/>
          <p:cNvPicPr/>
          <p:nvPr/>
        </p:nvPicPr>
        <p:blipFill>
          <a:blip r:embed="rId6"/>
          <a:stretch/>
        </p:blipFill>
        <p:spPr>
          <a:xfrm>
            <a:off x="0" y="-29520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Картинка 1 из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170028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А.В. Лентулов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4" name="Picture 4" descr="img_504_5"/>
          <p:cNvPicPr/>
          <p:nvPr/>
        </p:nvPicPr>
        <p:blipFill>
          <a:blip r:embed="rId3"/>
          <a:stretch/>
        </p:blipFill>
        <p:spPr>
          <a:xfrm>
            <a:off x="3276720" y="1628640"/>
            <a:ext cx="511164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И.И. Машков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6" name="Picture 6" descr="Картинка 18 из 1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577880"/>
            <a:ext cx="5184720" cy="4672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Картинка 5 из 1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1515960"/>
            <a:ext cx="5651640" cy="473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Картинка 20 из 14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1523880"/>
            <a:ext cx="6216480" cy="472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Картинка 19 из 14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95640" y="1531800"/>
            <a:ext cx="622764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9551b"/>
                </a:solidFill>
                <a:latin typeface="Palatino Linotype"/>
              </a:rPr>
              <a:t>Абстракционизм.</a:t>
            </a:r>
            <a:endParaRPr b="0" lang="en-US" sz="4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71640" y="1844280"/>
            <a:ext cx="548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551b"/>
                </a:solidFill>
                <a:latin typeface="Palatino Linotype"/>
              </a:rPr>
              <a:t>К.С. Малевич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551b"/>
                </a:solidFill>
                <a:latin typeface="Palatino Linotype"/>
              </a:rPr>
              <a:t>В.В. Кандинский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Картинка 3 из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1557360"/>
            <a:ext cx="3029040" cy="468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Картинка 15 из 2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1557360"/>
            <a:ext cx="3779640" cy="4680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Казимир Малевич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5" name="Picture 6" descr="Картинка 1 из 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3640" y="1557360"/>
            <a:ext cx="4497480" cy="468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Картинка 9 из 211"/>
          <p:cNvPicPr/>
          <p:nvPr/>
        </p:nvPicPr>
        <p:blipFill>
          <a:blip r:embed="rId7"/>
          <a:stretch/>
        </p:blipFill>
        <p:spPr>
          <a:xfrm>
            <a:off x="2484360" y="1557360"/>
            <a:ext cx="59403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551b"/>
                </a:solidFill>
                <a:latin typeface="Palatino Linotype"/>
              </a:rPr>
              <a:t>Кандинский </a:t>
            </a:r>
            <a:br>
              <a:rPr sz="3600"/>
            </a:br>
            <a:r>
              <a:rPr b="0" lang="ru-RU" sz="3600" spc="-1" strike="noStrike">
                <a:solidFill>
                  <a:srgbClr val="79551b"/>
                </a:solidFill>
                <a:latin typeface="Palatino Linotype"/>
              </a:rPr>
              <a:t>Василий Васильевич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8" name="Picture 4" descr="Картинка 22 из 212"/>
          <p:cNvPicPr/>
          <p:nvPr/>
        </p:nvPicPr>
        <p:blipFill>
          <a:blip r:embed="rId1"/>
          <a:stretch/>
        </p:blipFill>
        <p:spPr>
          <a:xfrm>
            <a:off x="3870360" y="1773360"/>
            <a:ext cx="3363840" cy="447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Картинка 12 из 212"/>
          <p:cNvPicPr/>
          <p:nvPr/>
        </p:nvPicPr>
        <p:blipFill>
          <a:blip r:embed="rId2"/>
          <a:stretch/>
        </p:blipFill>
        <p:spPr>
          <a:xfrm>
            <a:off x="3780000" y="1773360"/>
            <a:ext cx="3541680" cy="4533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Картинка 4 из 212"/>
          <p:cNvPicPr/>
          <p:nvPr/>
        </p:nvPicPr>
        <p:blipFill>
          <a:blip r:embed="rId3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артинка 18 из 212"/>
          <p:cNvPicPr/>
          <p:nvPr/>
        </p:nvPicPr>
        <p:blipFill>
          <a:blip r:embed="rId4"/>
          <a:stretch/>
        </p:blipFill>
        <p:spPr>
          <a:xfrm>
            <a:off x="0" y="0"/>
            <a:ext cx="100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Как вы считаете, были ли художники серебряного века и их творчество близко людям, как это было в 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XIX </a:t>
            </a: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в.?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9551b"/>
                </a:solidFill>
                <a:latin typeface="Palatino Linotype"/>
              </a:rPr>
              <a:t>ЖИВОПИСЬ</a:t>
            </a:r>
            <a:endParaRPr b="0" lang="en-US" sz="4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575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Как вы считаете, были ли художники серебряного века и их творчество близко людям, как это было в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XIX 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в.?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559480" y="1828440"/>
            <a:ext cx="266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9551b"/>
                </a:solidFill>
                <a:latin typeface="Palatino Linotype"/>
              </a:rPr>
              <a:t>«Мир искусства»</a:t>
            </a:r>
            <a:r>
              <a:rPr b="0" lang="ru-RU" sz="40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4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551b"/>
                </a:solidFill>
                <a:latin typeface="Palatino Linotype"/>
              </a:rPr>
              <a:t>Начало 90-х годов </a:t>
            </a:r>
            <a:r>
              <a:rPr b="0" lang="en-US" sz="4000" spc="-1" strike="noStrike">
                <a:solidFill>
                  <a:srgbClr val="79551b"/>
                </a:solidFill>
                <a:latin typeface="Palatino Linotype"/>
              </a:rPr>
              <a:t>XIX </a:t>
            </a:r>
            <a:r>
              <a:rPr b="0" lang="ru-RU" sz="4000" spc="-1" strike="noStrike">
                <a:solidFill>
                  <a:srgbClr val="79551b"/>
                </a:solidFill>
                <a:latin typeface="Palatino Linotype"/>
              </a:rPr>
              <a:t>в.</a:t>
            </a:r>
            <a:endParaRPr b="0" lang="en-US" sz="4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10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551b"/>
                </a:solidFill>
                <a:latin typeface="Palatino Linotype"/>
              </a:rPr>
              <a:t>Александр Николаевич Бенуа</a:t>
            </a:r>
            <a:endParaRPr b="0" lang="en-US" sz="40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8" name="Picture 4" descr="Картинка 4 из 1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692280"/>
            <a:ext cx="4200480" cy="5545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3492360" y="90792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А.Н. Бенуа «Версал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Картинка 10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396720" y="0"/>
            <a:ext cx="9540720" cy="6916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190800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Любовная запис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rusmuz2"/>
          <p:cNvPicPr/>
          <p:nvPr/>
        </p:nvPicPr>
        <p:blipFill>
          <a:blip r:embed="rId5"/>
          <a:stretch/>
        </p:blipFill>
        <p:spPr>
          <a:xfrm>
            <a:off x="-612720" y="0"/>
            <a:ext cx="9756720" cy="6902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2124000" y="476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рад при Павл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С.П. Дягилев,  Н.К. Рерих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6" name="Picture 4" descr="Картинка 13 из 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2989440" cy="450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d128"/>
          <p:cNvPicPr/>
          <p:nvPr/>
        </p:nvPicPr>
        <p:blipFill>
          <a:blip r:embed="rId3"/>
          <a:stretch/>
        </p:blipFill>
        <p:spPr>
          <a:xfrm>
            <a:off x="3708360" y="2565360"/>
            <a:ext cx="5435640" cy="38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Картинка 16 из 1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Картинка 26 из 1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-757080" y="0"/>
            <a:ext cx="9901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692280"/>
            <a:ext cx="7399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26920" y="112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3e5c"/>
                </a:solidFill>
                <a:latin typeface="Arial"/>
              </a:rPr>
              <a:t>СОЮЗ РУССКИХ ХУДОЖНИКОВ 1903 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71640" y="2060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М.А. Вруб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ser"/>
          <p:cNvPicPr/>
          <p:nvPr/>
        </p:nvPicPr>
        <p:blipFill>
          <a:blip r:embed="rId1"/>
          <a:stretch/>
        </p:blipFill>
        <p:spPr>
          <a:xfrm>
            <a:off x="6043680" y="2637000"/>
            <a:ext cx="2309760" cy="324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6156360" y="2060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В.А. С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9" descr="Картинка 2 из 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565360"/>
            <a:ext cx="2322360" cy="3600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3276720" y="2637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В.М. Васне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4" descr="Картинка 2 из 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0" y="3213000"/>
            <a:ext cx="24559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762120"/>
            <a:ext cx="739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551b"/>
                </a:solidFill>
                <a:latin typeface="Palatino Linotype"/>
              </a:rPr>
              <a:t>Михаил Александрович Врубель</a:t>
            </a:r>
            <a:endParaRPr b="0" lang="en-US" sz="4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0" name="Picture 8" descr="Картинка 7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1386000"/>
            <a:ext cx="3375000" cy="547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артинка 4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1747800"/>
            <a:ext cx="5472000" cy="4524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Картинка 6 из 19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2060640"/>
            <a:ext cx="777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    </a:t>
            </a: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Творчество В. Серова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4" name="Picture 4" descr="Картинка 56 из 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1628640"/>
            <a:ext cx="3235320" cy="439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Картинка 76 из 3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1557360"/>
            <a:ext cx="4037040" cy="4608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Картинка 37 из 3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1557360"/>
            <a:ext cx="4260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В.М. Васнецов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9" name="Picture 4" descr="Картинка 12 из 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557360"/>
            <a:ext cx="5290920" cy="4695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Картинка 15 из 2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907920"/>
            <a:ext cx="8209080" cy="535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Картинка 3 из 20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-55440"/>
            <a:ext cx="105123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00:36Z</dcterms:created>
  <dc:creator>учитель</dc:creator>
  <dc:description/>
  <cp:keywords/>
  <dc:language>en-US</dc:language>
  <cp:lastModifiedBy>Коля</cp:lastModifiedBy>
  <dcterms:modified xsi:type="dcterms:W3CDTF">2013-05-30T21:00:48Z</dcterms:modified>
  <cp:revision>7</cp:revision>
  <dc:subject/>
  <dc:title>Художники серебрянного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2c0000000000010243000207f6000400038000</vt:lpwstr>
  </property>
  <property fmtid="{D5CDD505-2E9C-101B-9397-08002B2CF9AE}" pid="3" name="_TemplateID">
    <vt:lpwstr>TC011594391049</vt:lpwstr>
  </property>
</Properties>
</file>