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D70-D5CD-4F16-B524-35EFC3D04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B39-DA90-4299-A09E-D5B344A79B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CAD-1BF9-4765-9535-10E25030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29F-B0EB-42E7-AAF0-B2ECE453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54D-0118-47E5-812C-FE49A5B0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EE9-B043-4A8F-AB29-1F52A1C3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6BD-58EA-426C-8827-4989B787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BAF-A757-46E3-BD9E-C8290064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A14-5F17-4C38-AE75-90A74393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424-E86D-48D0-BA9A-B95FA4E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4ED-4B62-4968-BBA7-6AC730B1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72B8-B066-4816-B618-095C18C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E43B-B998-4665-A85E-B67F46D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053-E3BB-48B9-A73B-32FC73B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9AB-4404-449C-9A58-6D0065B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6F38-85B2-4630-A1F9-D763027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DD2-E6DD-4A7A-AAE4-C1BA345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3C6-02E4-409A-81BC-5A1B0B8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0DC-4201-464B-9845-6C4EF5DC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C71-6764-49EE-843A-C1B9600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1EF-8B1D-452B-8844-2E4919BC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628-D7F0-4AC0-8E0F-BAAB3F0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E5A-E66C-4903-89F7-07647126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6F9-8BD1-4065-99F3-5551CA4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4C7-D3FE-445A-9C61-6041524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700-8252-484D-B51F-2F35568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550A-461F-47B4-9488-B152798DE4CE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9DCE-1A49-4B1E-AD29-60EC7155821E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smuseum.ru/images/pics/exhibitions/2004/valet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www.tretyakovgallery.ru/i/exhibit/2005/0202/10981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enno.ru/images/size2/49759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ivanovoweb.ru/MyGalery/albums/userpics/10001/normal_konchalovsky2.jp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kic-bg.com/images/uploads/Lentulov-2_thumb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10/001/268718271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lb.gallery.ru/gallery/0000004933-15555-521003-778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ura-art.narod.ru/032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museums.artyx.ru/art_museums/books/item/f00/s00/z0000004/pic/000083.jpg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nmal.narod.ru/life_in_big_hotel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rusmuseum.ru/ru/Abstract/painting/01332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dekoratos.web-box.ru/_mod_files/ce_images/photoalbum/malevich_247x257.jpg" TargetMode="External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intings.freenet.kz/img/photo/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world-art.ru/painting/img/5000/131/1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aghilev.perm.ru/g11/4/01/diag5.gif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www.staratel.com/pictures/ruspaint/big/515-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unn.runnet.ru/pic/museum/rerih2.jpg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bibliotekar.ru/rusVrubel/6.files/image002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tambov.fio.ru/vjpusk/vjp106/rabot/10/vasnec1_big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ulture.mincult.ru/Culture_img/32-43-1m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smr.ru/centre/images/pics/pic0258/pic0258_1024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msk-guide.ru/img/146/4547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ssianculture.ru/Culture_img/16-15-1m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v.spb.ru/Pictures/1002624923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varvar.ru/arhiv/gallery/peredvijniki/serov/images/serov_aleksandr_III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r.ru/centre/images/pics/pic0270/pic0270_80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charity.lfond.spb.ru/rus/img/big/8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artrussia.ru/pic_c/c109_110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6285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«БУБНОВЫЙ ВАЛЕТ» </a:t>
            </a:r>
            <a:br>
              <a:rPr sz="2800"/>
            </a:b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1910 – 1916 гг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27640" y="1828440"/>
            <a:ext cx="379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П.П. Кончаловский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А.В. Лентулов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И.И. Машков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4" name="Picture 4" descr="Картинка 2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508560" cy="457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Лентулов А.В. Автопортрет  -  Фотобанк АГНИФОТО: Галерея фотографий и живописи. Печать постеров, оформление в багет."/>
          <p:cNvPicPr/>
          <p:nvPr/>
        </p:nvPicPr>
        <p:blipFill>
          <a:blip r:embed="rId3"/>
          <a:stretch/>
        </p:blipFill>
        <p:spPr>
          <a:xfrm>
            <a:off x="755640" y="1628640"/>
            <a:ext cx="3666960" cy="456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8 из 14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628640"/>
            <a:ext cx="3638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П.П. Кончаловский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8" name="Picture 4" descr="Картинка 20 из 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70028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артинка 10 из 1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1484280"/>
            <a:ext cx="4579920" cy="537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.П.Кончаловский. Натюрморт с красный подносом. Первая половина 1910-х. Х.М. 66,8x88,5 см.(Курская гос. картинная галерея им. А.А.Дейнеки, Курск"/>
          <p:cNvPicPr/>
          <p:nvPr/>
        </p:nvPicPr>
        <p:blipFill>
          <a:blip r:embed="rId5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П.П.Кончаловский. Семейный портрет ("/>
          <p:cNvPicPr/>
          <p:nvPr/>
        </p:nvPicPr>
        <p:blipFill>
          <a:blip r:embed="rId6"/>
          <a:stretch/>
        </p:blipFill>
        <p:spPr>
          <a:xfrm>
            <a:off x="0" y="-2952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Картинка 1 из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700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А.В. Лентул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4" name="Picture 4" descr="img_504_5"/>
          <p:cNvPicPr/>
          <p:nvPr/>
        </p:nvPicPr>
        <p:blipFill>
          <a:blip r:embed="rId3"/>
          <a:stretch/>
        </p:blipFill>
        <p:spPr>
          <a:xfrm>
            <a:off x="3276720" y="1628640"/>
            <a:ext cx="51116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И.И. Машк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Picture 6" descr="Картинка 18 из 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577880"/>
            <a:ext cx="5184720" cy="467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Картинка 5 из 1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1515960"/>
            <a:ext cx="5651640" cy="473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Картинка 20 из 14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1523880"/>
            <a:ext cx="6216480" cy="472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Картинка 19 из 14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95640" y="1531800"/>
            <a:ext cx="622764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Palatino Linotype"/>
              </a:rPr>
              <a:t>Абстракционизм.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640" y="1844280"/>
            <a:ext cx="54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К.С. Малевич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В.В. Кандинский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Картинка 3 из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557360"/>
            <a:ext cx="3029040" cy="46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Картинка 15 из 2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557360"/>
            <a:ext cx="3779640" cy="4680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Казимир Малевич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5" name="Picture 6" descr="Картинка 1 из 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1557360"/>
            <a:ext cx="4497480" cy="468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Картинка 9 из 211"/>
          <p:cNvPicPr/>
          <p:nvPr/>
        </p:nvPicPr>
        <p:blipFill>
          <a:blip r:embed="rId7"/>
          <a:stretch/>
        </p:blipFill>
        <p:spPr>
          <a:xfrm>
            <a:off x="2484360" y="1557360"/>
            <a:ext cx="59403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Кандинский </a:t>
            </a:r>
            <a:br>
              <a:rPr sz="3600"/>
            </a:br>
            <a:r>
              <a:rPr b="0" lang="ru-RU" sz="3600" spc="-1" strike="noStrike">
                <a:solidFill>
                  <a:srgbClr val="79551b"/>
                </a:solidFill>
                <a:latin typeface="Palatino Linotype"/>
              </a:rPr>
              <a:t>Василий Васильевич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8" name="Picture 4" descr="Картинка 22 из 212"/>
          <p:cNvPicPr/>
          <p:nvPr/>
        </p:nvPicPr>
        <p:blipFill>
          <a:blip r:embed="rId1"/>
          <a:stretch/>
        </p:blipFill>
        <p:spPr>
          <a:xfrm>
            <a:off x="3870360" y="1773360"/>
            <a:ext cx="3363840" cy="447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Картинка 12 из 212"/>
          <p:cNvPicPr/>
          <p:nvPr/>
        </p:nvPicPr>
        <p:blipFill>
          <a:blip r:embed="rId2"/>
          <a:stretch/>
        </p:blipFill>
        <p:spPr>
          <a:xfrm>
            <a:off x="3780000" y="1773360"/>
            <a:ext cx="3541680" cy="453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Картинка 4 из 212"/>
          <p:cNvPicPr/>
          <p:nvPr/>
        </p:nvPicPr>
        <p:blipFill>
          <a:blip r:embed="rId3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8 из 212"/>
          <p:cNvPicPr/>
          <p:nvPr/>
        </p:nvPicPr>
        <p:blipFill>
          <a:blip r:embed="rId4"/>
          <a:stretch/>
        </p:blipFill>
        <p:spPr>
          <a:xfrm>
            <a:off x="0" y="0"/>
            <a:ext cx="100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Как вы считаете, были ли художники серебряного века и их творчество близко людям, как это было в 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в.?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Palatino Linotype"/>
              </a:rPr>
              <a:t>ЖИВОПИСЬ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575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Как вы считаете, были ли художники серебряного века и их творчество близко людям, как это было в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.?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559480" y="182844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551b"/>
                </a:solidFill>
                <a:latin typeface="Palatino Linotype"/>
              </a:rPr>
              <a:t>«Мир искусства»</a:t>
            </a: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Начало 90-х годов </a:t>
            </a:r>
            <a:r>
              <a:rPr b="0" lang="en-US" sz="4000" spc="-1" strike="noStrike">
                <a:solidFill>
                  <a:srgbClr val="79551b"/>
                </a:solidFill>
                <a:latin typeface="Palatino Linotype"/>
              </a:rPr>
              <a:t>XIX </a:t>
            </a: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в.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10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Александр Николаевич Бенуа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Picture 4" descr="Картинка 4 из 1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692280"/>
            <a:ext cx="420048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492360" y="90792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А.Н. Бенуа «Верса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Картинка 10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396720" y="0"/>
            <a:ext cx="9540720" cy="6916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90800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Любовная запис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rusmuz2"/>
          <p:cNvPicPr/>
          <p:nvPr/>
        </p:nvPicPr>
        <p:blipFill>
          <a:blip r:embed="rId5"/>
          <a:stretch/>
        </p:blipFill>
        <p:spPr>
          <a:xfrm>
            <a:off x="-612720" y="0"/>
            <a:ext cx="9756720" cy="6902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2124000" y="476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рад при Пав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С.П. Дягилев,  Н.К. Рерих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Picture 4" descr="Картинка 13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2989440" cy="450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d128"/>
          <p:cNvPicPr/>
          <p:nvPr/>
        </p:nvPicPr>
        <p:blipFill>
          <a:blip r:embed="rId3"/>
          <a:stretch/>
        </p:blipFill>
        <p:spPr>
          <a:xfrm>
            <a:off x="3708360" y="2565360"/>
            <a:ext cx="5435640" cy="38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Картинка 16 из 1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Картинка 26 из 1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-757080" y="0"/>
            <a:ext cx="9901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692280"/>
            <a:ext cx="7399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6920" y="112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e5c"/>
                </a:solidFill>
                <a:latin typeface="Arial"/>
              </a:rPr>
              <a:t>СОЮЗ РУССКИХ ХУДОЖНИКОВ 1903 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71640" y="206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М.А. Вруб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ser"/>
          <p:cNvPicPr/>
          <p:nvPr/>
        </p:nvPicPr>
        <p:blipFill>
          <a:blip r:embed="rId1"/>
          <a:stretch/>
        </p:blipFill>
        <p:spPr>
          <a:xfrm>
            <a:off x="6043680" y="2637000"/>
            <a:ext cx="2309760" cy="324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6156360" y="2060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.А. С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Картинка 2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565360"/>
            <a:ext cx="2322360" cy="3600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276720" y="263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.М. Васне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4" descr="Картинка 2 из 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3213000"/>
            <a:ext cx="2455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762120"/>
            <a:ext cx="739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551b"/>
                </a:solidFill>
                <a:latin typeface="Palatino Linotype"/>
              </a:rPr>
              <a:t>Михаил Александрович Врубель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0" name="Picture 8" descr="Картинка 7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386000"/>
            <a:ext cx="3375000" cy="54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4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747800"/>
            <a:ext cx="5472000" cy="452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Картинка 6 из 1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2060640"/>
            <a:ext cx="777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Творчество В. Серова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4" name="Picture 4" descr="Картинка 56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628640"/>
            <a:ext cx="323532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артинка 76 из 3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557360"/>
            <a:ext cx="4037040" cy="46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артинка 37 из 3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1557360"/>
            <a:ext cx="4260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В.М. Васнецов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9" name="Picture 4" descr="Картинка 1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57360"/>
            <a:ext cx="5290920" cy="469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Картинка 15 из 2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907920"/>
            <a:ext cx="8209080" cy="535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Картинка 3 из 2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-55440"/>
            <a:ext cx="10512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00:36Z</dcterms:created>
  <dc:creator>учитель</dc:creator>
  <dc:description/>
  <cp:keywords/>
  <dc:language>en-US</dc:language>
  <cp:lastModifiedBy>Коля</cp:lastModifiedBy>
  <dcterms:modified xsi:type="dcterms:W3CDTF">2013-05-30T21:00:48Z</dcterms:modified>
  <cp:revision>7</cp:revision>
  <dc:subject/>
  <dc:title>Художники серебрянного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c0000000000010243000207f6000400038000</vt:lpwstr>
  </property>
  <property fmtid="{D5CDD505-2E9C-101B-9397-08002B2CF9AE}" pid="3" name="_TemplateID">
    <vt:lpwstr>TC011594391049</vt:lpwstr>
  </property>
</Properties>
</file>