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35F-26DE-4C6B-B156-F84AFC3A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275A-43FF-4970-87B3-84973AC8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40FD-F6F4-4FCF-B01F-A464950A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73E-C459-4D81-B039-F4A23523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01B9-47BD-4672-BEBE-8A7B4A71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9C0F-3F1A-47E7-95DF-06F2A226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2B0C-D70A-4C4E-B8BD-19A0C133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8E19-1AD9-4969-9FC1-C5A12AEB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6BB6-E7AD-4886-A95C-71271CF6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FE07-ED39-418A-8BD8-F1A2B273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CED4-D065-4B0C-888B-69B2984E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D82-7D16-4D60-9B76-A366703F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DEC3-995B-4F89-88E8-17DF13DD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EBC2-10EF-4FB3-958E-B2EAA3A9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100E-B953-4834-B190-3B775E56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D772-08CA-421F-B3BA-4E7C1195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50C3-0CB5-46FF-BFAE-2D059898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2535-D829-42F0-83E5-5C0F1188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4E2-8ABF-45F6-88AF-589A9816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F519-70F4-4A24-BC57-2F0366AA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0C80-FABB-4E1D-8F02-38F1024D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089-0CDB-4025-ACD6-E464D864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50DA-808D-4FE2-A1DE-1A3A7B6A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6D1D-DD16-4BB8-9D80-B52999A2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7EBD-043B-4480-9DC8-034634A26EE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9132-DB04-424B-A030-801BC33EB67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6068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5280" y="1557360"/>
            <a:ext cx="765324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Тем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Использование  технологии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проблемного  обучения  в  процессе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преподавания  географии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advTm="3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7793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МОУ «Могойтуйская  средняя  общеобразовательная  школа  №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мени Гласко  В.Р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476360" y="692280"/>
            <a:ext cx="5610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Исследовательская  баз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advTm="1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Основные  понятия  проблемного  обуч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Проблемное обучение – это  дидактический  подход,  учитывающий  психологические  закономерности  самостоятельной  мыслительной  деятельности  субъекта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Проблемная                       Проблема – эт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ситуация-это                  тот  элемен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состояние                        проблемной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интеллектуального       ситуации, которы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затруднения                     вызвал затруднение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763640" y="4149720"/>
            <a:ext cx="0" cy="79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547280" y="4941720"/>
            <a:ext cx="7164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43657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1402920" y="4581000"/>
            <a:ext cx="86364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58920" y="4653000"/>
            <a:ext cx="712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16000" y="5229360"/>
            <a:ext cx="7128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692360" y="5084280"/>
            <a:ext cx="1429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42926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08000" y="52293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0920" y="350028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92360" y="31417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19280" y="3213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5280" y="3068640"/>
            <a:ext cx="72720" cy="7308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35280" y="3068640"/>
            <a:ext cx="72720" cy="7308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5280" y="3068640"/>
            <a:ext cx="72720" cy="7308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2413080" y="-819000"/>
            <a:ext cx="71640" cy="71280"/>
          </a:xfrm>
          <a:prstGeom prst="rightArrow">
            <a:avLst>
              <a:gd name="adj1" fmla="val 50000"/>
              <a:gd name="adj2" fmla="val 251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5280" y="31417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79640" y="32860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63640" y="3141720"/>
            <a:ext cx="7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35280" y="3068640"/>
            <a:ext cx="72720" cy="7308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24000" y="34304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68360" y="35751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2844720" y="-1539720"/>
            <a:ext cx="360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13080" y="37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-3133800" y="-19000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57440" y="38638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-2771640" y="-1395360"/>
            <a:ext cx="5543280" cy="547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-1116000" y="1268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-973080" y="2060640"/>
            <a:ext cx="3097080" cy="1224000"/>
          </a:xfrm>
          <a:prstGeom prst="up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35280" y="3141720"/>
            <a:ext cx="72720" cy="7128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5280" y="3141720"/>
            <a:ext cx="72720" cy="7128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08000" y="3141720"/>
            <a:ext cx="71640" cy="7128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08000" y="3141720"/>
            <a:ext cx="71640" cy="7128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52720" y="3286080"/>
            <a:ext cx="71280" cy="71640"/>
          </a:xfrm>
          <a:prstGeom prst="downArrow">
            <a:avLst>
              <a:gd name="adj1" fmla="val 50000"/>
              <a:gd name="adj2" fmla="val 251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5280" y="3429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5280" y="3141720"/>
            <a:ext cx="7272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79640" y="3176640"/>
            <a:ext cx="0" cy="50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08000" y="3176640"/>
            <a:ext cx="0" cy="50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79640" y="2997360"/>
            <a:ext cx="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763640" y="2924280"/>
            <a:ext cx="2160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724000" y="342900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24360" y="2924280"/>
            <a:ext cx="20876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Формы выражения пробле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2360" y="1413000"/>
            <a:ext cx="0" cy="1366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40360" y="155736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59640" y="126828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840" y="3089160"/>
            <a:ext cx="22521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блем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п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48000" y="3068640"/>
            <a:ext cx="1511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облем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3068640"/>
            <a:ext cx="1754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облемн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зада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0000" y="3068640"/>
            <a:ext cx="1656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Этапы решения пробле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95280" y="1123920"/>
          <a:ext cx="8298000" cy="5186520"/>
        </p:xfrm>
        <a:graphic>
          <a:graphicData uri="http://schemas.openxmlformats.org/drawingml/2006/table">
            <a:tbl>
              <a:tblPr/>
              <a:tblGrid>
                <a:gridCol w="717840"/>
                <a:gridCol w="3411720"/>
                <a:gridCol w="3952800"/>
                <a:gridCol w="216000"/>
              </a:tblGrid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сознание пробле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бнаружение скрытого противореч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становление причинно-следственных связей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хождение «разрыва» в ранее сформированных причинно-следственных связ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Формулирование гипоте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ыдвижение гипоте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оказательство гипоте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боснование гипоте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бщий выв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становление причинно-следственных связей, их обогащение в ходе  решения пробле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258920" y="1052640"/>
            <a:ext cx="0" cy="93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6920" y="549360"/>
            <a:ext cx="8055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одержание опыта творческой деятельн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его основные чер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87280" y="1413000"/>
            <a:ext cx="0" cy="863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1557360"/>
            <a:ext cx="0" cy="79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3560" y="1628640"/>
            <a:ext cx="826272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Самостоятельный перенос знаний и умений в нову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итуац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Видение новой проблемы в знакомой ситу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Самостоятельное комбинирование известного способ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ятельности в нов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 Построение принципиально нового способа реш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Уровни усвоения опыта творческой деятельност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Показ образцов научного решения проблемы в ходе проблемного изложения; обучение учащихся выполнению отдельных этапов решения с помощью частично – поискового мето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Решение учащимися проблемных задач в ходе эвристической беседы, состоящей из серии вопросов, каждый из которых является шагом на пути к решению пробле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Полностью самостоятельный анализ проблемной ситуации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бнаружение скрытого в ней противоречия, постановка и решение проблем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14480" y="1052640"/>
            <a:ext cx="89136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Проблема  развития  мышления в  процессе  обучения  занимает  видное  место  в  исследованиях  как  российских, так  и  зарубежных  педагогов  и  психологов.  На  основе  этих  исследований  были  сделаны  выводы  о  взаимосвязи  процесса  обучения  и  развития  мышления,  было  доказано,  что  развитие  творческого  мышления  школьников  возможно  только  с  помощью  проблемного  обучения.   Отсюда  всё  чаще  возникает  необходимость  ставить  ученика  в  позицию  исследователя,  учить  его  наблюдать  и  анализировать  окружающие  явления  и  события,  уметь  их  обосновывать,  пробуждать интерес  к  ещё  не решенным  задачам,  но  с  которыми  он  столкнётся  в  будущем  и  которые  ему  предстоит  реши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843200" y="476280"/>
            <a:ext cx="5457600" cy="523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Актуальность  проблем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advTm="3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Выступая  в  роли организатора  обучения  на  проблемной основе,  учитель  призван  действовать  скорее  как  руководитель  и  партнёр,  чем  как источник  готовых  знаний  и  директив  для  учащих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448160" y="2905200"/>
            <a:ext cx="2476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88000" y="4797360"/>
            <a:ext cx="71280" cy="1008000"/>
          </a:xfrm>
          <a:custGeom>
            <a:avLst/>
            <a:gdLst>
              <a:gd name="textAreaLeft" fmla="*/ 29160 w 71280"/>
              <a:gd name="textAreaRight" fmla="*/ 42120 w 7128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4508640"/>
            <a:ext cx="208764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1280" y="4869000"/>
            <a:ext cx="57456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763640" y="1844640"/>
            <a:ext cx="1224000" cy="158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763640" y="1844640"/>
            <a:ext cx="1224000" cy="158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66920" y="1916280"/>
            <a:ext cx="649440" cy="1223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3429000"/>
            <a:ext cx="71280" cy="1008000"/>
          </a:xfrm>
          <a:custGeom>
            <a:avLst/>
            <a:gdLst>
              <a:gd name="textAreaLeft" fmla="*/ 29160 w 71280"/>
              <a:gd name="textAreaRight" fmla="*/ 42120 w 7128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1989000"/>
            <a:ext cx="936720" cy="22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6720" y="3573360"/>
            <a:ext cx="71280" cy="1008000"/>
          </a:xfrm>
          <a:custGeom>
            <a:avLst/>
            <a:gdLst>
              <a:gd name="textAreaLeft" fmla="*/ 29160 w 71280"/>
              <a:gd name="textAreaRight" fmla="*/ 42120 w 7128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2384280"/>
            <a:ext cx="2520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47640" y="2205000"/>
            <a:ext cx="468000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0360" y="3068640"/>
            <a:ext cx="129528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2708280"/>
            <a:ext cx="187200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836640"/>
            <a:ext cx="2736720" cy="2305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620640"/>
            <a:ext cx="4464000" cy="360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3718080"/>
            <a:ext cx="71640" cy="1008000"/>
          </a:xfrm>
          <a:custGeom>
            <a:avLst/>
            <a:gdLst>
              <a:gd name="textAreaLeft" fmla="*/ 29520 w 71640"/>
              <a:gd name="textAreaRight" fmla="*/ 42120 w 7164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25800" y="3862440"/>
            <a:ext cx="71280" cy="1008000"/>
          </a:xfrm>
          <a:custGeom>
            <a:avLst/>
            <a:gdLst>
              <a:gd name="textAreaLeft" fmla="*/ 29160 w 71280"/>
              <a:gd name="textAreaRight" fmla="*/ 42120 w 7128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260280"/>
            <a:ext cx="2592360" cy="316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42920" y="404640"/>
            <a:ext cx="1960560" cy="104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Идея: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448160" y="2905200"/>
            <a:ext cx="2476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3860640"/>
            <a:ext cx="2160720" cy="129708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92360" y="3429000"/>
            <a:ext cx="71280" cy="1008000"/>
          </a:xfrm>
          <a:custGeom>
            <a:avLst/>
            <a:gdLst>
              <a:gd name="textAreaLeft" fmla="*/ 29160 w 71280"/>
              <a:gd name="textAreaRight" fmla="*/ 42120 w 7128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58920" y="549360"/>
            <a:ext cx="60674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ротиворечия  в  проблем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8200" y="1569960"/>
            <a:ext cx="52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280" y="1413000"/>
            <a:ext cx="9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1557360"/>
            <a:ext cx="914400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Изменение взгляда  на  ученика  как  на  субъект  воспитания  и  обу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ереосмысление  учителем  целей  и  задач  урока  с  позиций  уче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есоответствие  традиционных  методов  обучения  современным  требованиям ,  предъявляемым к  качеству  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2421000"/>
            <a:ext cx="82072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Самостоятельная  творческая </a:t>
            </a:r>
            <a:br>
              <a:rPr sz="3600"/>
            </a:b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 активность  учащихс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Технология  проблемного  обучения    в  процессе  преподавания  географ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24000" y="333360"/>
            <a:ext cx="497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бъект  исследова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619280" y="278136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редмет  исследова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advTm="3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3640" y="571464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14000"/>
            <a:ext cx="8229600" cy="35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Выявить  влияние  использования  технологии  проблемного  обучения  на  развитие  самостоятельной  мыслительной  деятельности  учащихся  в  процессе  обучения  географии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124000" y="620640"/>
            <a:ext cx="4505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Цель  исследова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advTm="1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28200" y="7447320"/>
            <a:ext cx="788508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835280" y="549360"/>
            <a:ext cx="4952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Задачи  исследова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276640"/>
            <a:ext cx="338436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80000" y="2349360"/>
            <a:ext cx="7128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51280" y="2421000"/>
            <a:ext cx="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2421000"/>
            <a:ext cx="36036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191628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17002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1700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16000" y="1844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47640" y="1700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42920" y="1916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66560" y="259920"/>
            <a:ext cx="82296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1.Изучение  теоретических основ  технологии  проблемного  обучения.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2.Использование  технологии  проблемного обучения  на  практике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3. Изучение  результативности  применения  технологии  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105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1. Теоретические  методы  исследования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анализ  и  обобщение литературных  источников  по  проблеме  исслед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2. Психолого – педагогические  метод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изучение результативности  применения  данной  технологии  на  основе  анализа  ученических работ (самостоятельных,  практических,  творческих,  исследовательских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050920" y="333360"/>
            <a:ext cx="5096160" cy="1047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етоды  исследова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advTm="1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7828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Предполагаю,  что  применение  технологии  проблемного  обучения  положительно  влияет  на  развитие  самостоятельной  творческой  активности  учащихся на  уроках географ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132000" y="549360"/>
            <a:ext cx="20671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ипотез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advTm="1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11:40Z</dcterms:created>
  <dc:creator>User</dc:creator>
  <dc:description/>
  <dc:language>en-US</dc:language>
  <cp:lastModifiedBy>FuckYouBill</cp:lastModifiedBy>
  <dcterms:modified xsi:type="dcterms:W3CDTF">2009-09-27T19:55:02Z</dcterms:modified>
  <cp:revision>14</cp:revision>
  <dc:subject/>
  <dc:title>Слайд 1</dc:title>
</cp:coreProperties>
</file>