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452-8D33-4121-A768-070DE4EC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74B-2183-4494-9307-708E60F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384-C9B0-4E3F-B365-9AE1ECB9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7D2-6A5D-4033-82DB-339F9A24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64FA-0863-4D30-B8F8-56398D88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3F3F-B12D-4BE4-8041-5F403936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265-0F80-4D28-81C6-033EB15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3FCD-9727-4A4E-B8E8-FC0C173A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9B73-66F0-4F98-B938-E49FF47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4D0E-2CFB-446E-A32C-3E3C97B1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4E6-D448-41D5-AE82-0217F6E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8A5-6078-44E6-B8A4-37AA39A2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9DD0-D68F-4CD2-A6C4-A78BDAD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44D7-B4E5-4F3B-B0BC-CF5AACE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2D42-FA57-4AF0-A977-D665681A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8BEA-F4EB-4E1E-A699-9793C8C8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16E6-468C-446E-B00F-7F1474FB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CF2-829C-4D15-A7C6-D44EA5D7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334-A0C6-4450-A6AE-5CB04A9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584-1725-4F27-AD1E-44AE2573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FAB-FDDC-4CAE-BE59-ED8BD92E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B8C-B562-4092-9CEE-717A296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461-C488-4F8F-9F99-A5E2B58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BCA-E429-4005-BD5E-8326C34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E5E8-FDE5-45F5-9604-2CBCBF9A43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54E6-D22F-4C81-9765-5C9A3BE81F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606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557360"/>
            <a:ext cx="765324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Использование  технологи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проблемного  обучения  в  процессе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еподавания  географи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779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МОУ «Могойтуйская  средняя  общеобразовательная  школа  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мени Гласко  В.Р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76360" y="692280"/>
            <a:ext cx="5610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следовательская  ба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Основные  понятия  проблемного  обуч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роблемное обучение – это  дидактический  подход,  учитывающий  психологические  закономерности  самостоятельной  мыслительной  деятельности  субъекта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роблемная                       Проблема – эт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ситуация-это                  тот  элемен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состояние                        проблемной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интеллектуального       ситуации, котор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затруднения                     вызвал затруднение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763640" y="4149720"/>
            <a:ext cx="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547280" y="4941720"/>
            <a:ext cx="7164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365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402920" y="4581000"/>
            <a:ext cx="8636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4653000"/>
            <a:ext cx="71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5229360"/>
            <a:ext cx="71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692360" y="5084280"/>
            <a:ext cx="1429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42926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5229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50028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141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3213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413080" y="-819000"/>
            <a:ext cx="71640" cy="71280"/>
          </a:xfrm>
          <a:prstGeom prst="rightArrow">
            <a:avLst>
              <a:gd name="adj1" fmla="val 50000"/>
              <a:gd name="adj2" fmla="val 251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5280" y="3141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3286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314172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34304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3575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844720" y="-1539720"/>
            <a:ext cx="360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13080" y="37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3133800" y="-1900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7440" y="3863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2771640" y="-1395360"/>
            <a:ext cx="5543280" cy="54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111600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973080" y="2060640"/>
            <a:ext cx="3097080" cy="12240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3141720"/>
            <a:ext cx="7272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3141720"/>
            <a:ext cx="7272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3141720"/>
            <a:ext cx="7164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8000" y="3141720"/>
            <a:ext cx="7164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2720" y="3286080"/>
            <a:ext cx="71280" cy="71640"/>
          </a:xfrm>
          <a:prstGeom prst="downArrow">
            <a:avLst>
              <a:gd name="adj1" fmla="val 50000"/>
              <a:gd name="adj2" fmla="val 251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342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5280" y="3141720"/>
            <a:ext cx="7272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3176640"/>
            <a:ext cx="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3176640"/>
            <a:ext cx="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299736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63640" y="2924280"/>
            <a:ext cx="2160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24000" y="3429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24360" y="2924280"/>
            <a:ext cx="2087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Формы выражения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413000"/>
            <a:ext cx="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0360" y="155736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840" y="3089160"/>
            <a:ext cx="2252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ле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3068640"/>
            <a:ext cx="151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блем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3068640"/>
            <a:ext cx="1754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блем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068640"/>
            <a:ext cx="16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Этапы решения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1123920"/>
          <a:ext cx="8298000" cy="5186520"/>
        </p:xfrm>
        <a:graphic>
          <a:graphicData uri="http://schemas.openxmlformats.org/drawingml/2006/table">
            <a:tbl>
              <a:tblPr/>
              <a:tblGrid>
                <a:gridCol w="717840"/>
                <a:gridCol w="3411720"/>
                <a:gridCol w="3952800"/>
                <a:gridCol w="216000"/>
              </a:tblGrid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знание пробл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наружение скрытого противореч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становление причинно-следственных связе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хождение «разрыва» в ранее сформированных причинно-следственных связ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ормулирование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ыдвижение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оказательство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основание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щий вы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становление причинно-следственных связей, их обогащение в ходе  решения пробл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58920" y="1052640"/>
            <a:ext cx="0" cy="9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549360"/>
            <a:ext cx="8055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держание опыта творческой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его основные чер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141300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1557360"/>
            <a:ext cx="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560" y="1628640"/>
            <a:ext cx="8262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Самостоятельный перенос знаний и умений в нов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туа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Видение новой проблемы в знакомой ситу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Самостоятельное комбинирование известного способ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ятельности в н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Построение принципиально нового способа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Уровни усвоения опыта творческой деятельно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Показ образцов научного решения проблемы в ходе проблемного изложения; обучение учащихся выполнению отдельных этапов решения с помощью частично – поискового мет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Решение учащимися проблемных задач в ходе эвристической беседы, состоящей из серии вопросов, каждый из которых является шагом на пути к решению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Полностью самостоятельный анализ проблемной ситуаци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бнаружение скрытого в ней противоречия, постановка и решение пробле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4480" y="1052640"/>
            <a:ext cx="8913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роблема  развития  мышления в  процессе  обучения  занимает  видное  место  в  исследованиях  как  российских, так  и  зарубежных  педагогов  и  психологов.  На  основе  этих  исследований  были  сделаны  выводы  о  взаимосвязи  процесса  обучения  и  развития  мышления,  было  доказано,  что  развитие  творческого  мышления  школьников  возможно  только  с  помощью  проблемного  обучения.   Отсюда  всё  чаще  возникает  необходимость  ставить  ученика  в  позицию  исследователя,  учить  его  наблюдать  и  анализировать  окружающие  явления  и  события,  уметь  их  обосновывать,  пробуждать интерес  к  ещё  не решенным  задачам,  но  с  которыми  он  столкнётся  в  будущем  и  которые  ему  предстоит  реш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843200" y="476280"/>
            <a:ext cx="54576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ктуальность  проблем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ыступая  в  роли организатора  обучения  на  проблемной основе,  учитель  призван  действовать  скорее  как  руководитель  и  партнёр,  чем  как источник  готовых  знаний  и  директив  для 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448160" y="2905200"/>
            <a:ext cx="247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479736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4508640"/>
            <a:ext cx="208764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4869000"/>
            <a:ext cx="57456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763640" y="1844640"/>
            <a:ext cx="122400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763640" y="1844640"/>
            <a:ext cx="122400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6920" y="1916280"/>
            <a:ext cx="649440" cy="122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342900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1989000"/>
            <a:ext cx="936720" cy="22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6720" y="357336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2384280"/>
            <a:ext cx="252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2205000"/>
            <a:ext cx="468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3068640"/>
            <a:ext cx="12952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708280"/>
            <a:ext cx="18720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836640"/>
            <a:ext cx="2736720" cy="230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620640"/>
            <a:ext cx="4464000" cy="360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18080"/>
            <a:ext cx="71640" cy="1008000"/>
          </a:xfrm>
          <a:custGeom>
            <a:avLst/>
            <a:gdLst>
              <a:gd name="textAreaLeft" fmla="*/ 29520 w 71640"/>
              <a:gd name="textAreaRight" fmla="*/ 42120 w 7164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5800" y="386244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60280"/>
            <a:ext cx="2592360" cy="316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404640"/>
            <a:ext cx="196056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дея: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448160" y="2905200"/>
            <a:ext cx="247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3860640"/>
            <a:ext cx="2160720" cy="12970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342900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920" y="549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тиворечия  в  проблем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8200" y="1569960"/>
            <a:ext cx="52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280" y="141300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557360"/>
            <a:ext cx="91440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зменение взгляда  на  ученика  как  на  субъект  воспитания  и  об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ереосмысление  учителем  целей  и  задач  урока  с  позиций  уче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есоответствие  традиционных  методов  обучения  современным  требованиям ,  предъявляемым к  качеству 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2072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Самостоятельная  творческая </a:t>
            </a: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 активность  учащихс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Технология  проблемного  обучения    в  процессе  преподавания  географ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24000" y="333360"/>
            <a:ext cx="497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ъект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19280" y="278136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едмет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5714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35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ыявить  влияние  использования  технологии  проблемного  обучения  на  развитие  самостоятельной  мыслительной  деятельности  учащихся  в  процессе  обучения  географи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24000" y="620640"/>
            <a:ext cx="450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28200" y="7447320"/>
            <a:ext cx="7885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35280" y="549360"/>
            <a:ext cx="49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и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276640"/>
            <a:ext cx="3384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2349360"/>
            <a:ext cx="712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421000"/>
            <a:ext cx="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421000"/>
            <a:ext cx="3603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19162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7002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184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91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66560" y="25992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1.Изучение  теоретических основ  технологии  проблемного  обучения.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2.Использование  технологии  проблемного обучения  на  практике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3. Изучение  результативности  применения  технологии 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105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1. Теоретические  методы  исследования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нализ  и  обобщение литературных  источников  по  проблеме  исслед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2. Психолого – педагогические  метод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изучение результативности  применения  данной  технологии  на  основе  анализа  ученических работ (самостоятельных,  практических,  творческих,  исследовательских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50920" y="333360"/>
            <a:ext cx="509616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тоды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7828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Предполагаю,  что  применение  технологии  проблемного  обучения  положительно  влияет  на  развитие  самостоятельной  творческой  активности  учащихся на  уроках географ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132000" y="54936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ипоте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11:40Z</dcterms:created>
  <dc:creator>User</dc:creator>
  <dc:description/>
  <dc:language>en-US</dc:language>
  <cp:lastModifiedBy>FuckYouBill</cp:lastModifiedBy>
  <dcterms:modified xsi:type="dcterms:W3CDTF">2009-09-27T19:55:02Z</dcterms:modified>
  <cp:revision>14</cp:revision>
  <dc:subject/>
  <dc:title>Слайд 1</dc:title>
</cp:coreProperties>
</file>