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5.png" ContentType="image/png"/>
  <Override PartName="/ppt/media/image10.png" ContentType="image/png"/>
  <Override PartName="/ppt/media/image3.png" ContentType="image/png"/>
  <Override PartName="/ppt/media/Ura.wav" ContentType="audio/x-wav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35A3-53B4-45E4-82B7-21398068B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DA0A-E291-429D-A154-2943101FD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99FC-F4DD-411D-9C53-8EEBA2BA4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3372-582F-49DD-9ABB-7E17528EB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2430-CE5A-41C6-8689-20F99B801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18A7-F0EB-4F0D-965A-3DCB7EC55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E545-EAD7-4811-B100-3FE059462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3C7C-8F1B-4FA9-8D7C-82F7B1FB3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C9B7-8460-4DA4-8F18-6030BC941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5A30-41A8-4E13-8BBC-A35B6F79F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1668-E6A9-4ED0-976F-A79DDC97E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91B3-2F37-4634-8FEE-F59D33260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179AF-DDC2-4813-8EFC-A6270BCF69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3.png"/><Relationship Id="rId10" Type="http://schemas.openxmlformats.org/officeDocument/2006/relationships/image" Target="../media/image17.png"/><Relationship Id="rId11" Type="http://schemas.openxmlformats.org/officeDocument/2006/relationships/audio" Target="../media/Ura.wav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3.png"/><Relationship Id="rId10" Type="http://schemas.openxmlformats.org/officeDocument/2006/relationships/image" Target="../media/image18.png"/><Relationship Id="rId11" Type="http://schemas.openxmlformats.org/officeDocument/2006/relationships/audio" Target="../media/Ura.wav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19.png"/><Relationship Id="rId11" Type="http://schemas.openxmlformats.org/officeDocument/2006/relationships/audio" Target="../media/Ura.wav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3.png"/><Relationship Id="rId10" Type="http://schemas.openxmlformats.org/officeDocument/2006/relationships/image" Target="../media/image20.png"/><Relationship Id="rId11" Type="http://schemas.openxmlformats.org/officeDocument/2006/relationships/audio" Target="../media/Ura.wav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radikal.ru/F/i035.radikal.ru/1103/21/1d21b48fba46.jpg.html" TargetMode="External"/><Relationship Id="rId2" Type="http://schemas.openxmlformats.org/officeDocument/2006/relationships/hyperlink" Target="http://i021.radikal.ru/0807/a3/d9eeddbd974f.png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audio" Target="../media/Ura.wav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3.png"/><Relationship Id="rId10" Type="http://schemas.openxmlformats.org/officeDocument/2006/relationships/image" Target="../media/image10.png"/><Relationship Id="rId11" Type="http://schemas.openxmlformats.org/officeDocument/2006/relationships/audio" Target="../media/Ura.wav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3.png"/><Relationship Id="rId10" Type="http://schemas.openxmlformats.org/officeDocument/2006/relationships/image" Target="../media/image11.png"/><Relationship Id="rId11" Type="http://schemas.openxmlformats.org/officeDocument/2006/relationships/audio" Target="../media/Ura.wav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3.png"/><Relationship Id="rId10" Type="http://schemas.openxmlformats.org/officeDocument/2006/relationships/image" Target="../media/image12.png"/><Relationship Id="rId11" Type="http://schemas.openxmlformats.org/officeDocument/2006/relationships/audio" Target="../media/Ura.wav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3.png"/><Relationship Id="rId10" Type="http://schemas.openxmlformats.org/officeDocument/2006/relationships/image" Target="../media/image13.png"/><Relationship Id="rId11" Type="http://schemas.openxmlformats.org/officeDocument/2006/relationships/audio" Target="../media/Ura.wav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3.png"/><Relationship Id="rId10" Type="http://schemas.openxmlformats.org/officeDocument/2006/relationships/image" Target="../media/image14.png"/><Relationship Id="rId11" Type="http://schemas.openxmlformats.org/officeDocument/2006/relationships/audio" Target="../media/Ura.wav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15.png"/><Relationship Id="rId12" Type="http://schemas.openxmlformats.org/officeDocument/2006/relationships/audio" Target="../media/Ura.wav"/><Relationship Id="rId13" Type="http://schemas.openxmlformats.org/officeDocument/2006/relationships/audio" Target="../media/Ura.wav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3.png"/><Relationship Id="rId10" Type="http://schemas.openxmlformats.org/officeDocument/2006/relationships/image" Target="../media/image16.png"/><Relationship Id="rId11" Type="http://schemas.openxmlformats.org/officeDocument/2006/relationships/audio" Target="../media/Ura.wav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>
            <a:hlinkClick r:id="" action="ppaction://hlinkshowjump?jump=nextslide"/>
          </p:cNvPr>
          <p:cNvSpPr/>
          <p:nvPr/>
        </p:nvSpPr>
        <p:spPr>
          <a:xfrm>
            <a:off x="8153280" y="624852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3794"/>
                </a:moveTo>
                <a:lnTo>
                  <a:pt x="25004" y="10800"/>
                </a:lnTo>
                <a:lnTo>
                  <a:pt x="10991" y="17806"/>
                </a:lnTo>
                <a:close/>
              </a:path>
            </a:pathLst>
          </a:custGeom>
          <a:solidFill>
            <a:srgbClr val="98eca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0" y="5562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Составил Хмеленок Николай Павло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8"/>
          <p:cNvSpPr txBox="1"/>
          <p:nvPr/>
        </p:nvSpPr>
        <p:spPr>
          <a:xfrm>
            <a:off x="3276720" y="1523880"/>
            <a:ext cx="4781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57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73964" dir="1863564" blurRad="0" rotWithShape="0">
                    <a:srgbClr val="ff3300">
                      <a:alpha val="80000"/>
                    </a:srgbClr>
                  </a:outerShdw>
                </a:effectLst>
                <a:latin typeface="Arial"/>
              </a:rPr>
              <a:t>Вальс</a:t>
            </a:r>
            <a:endParaRPr b="1" lang="en-US" sz="24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73964" dir="1863564" blurRad="0" rotWithShape="0">
                  <a:srgbClr val="ff330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73964" dir="1863564" blurRad="0" rotWithShape="0">
                    <a:srgbClr val="ff3300">
                      <a:alpha val="80000"/>
                    </a:srgbClr>
                  </a:outerShdw>
                </a:effectLst>
                <a:latin typeface="Arial"/>
              </a:rPr>
              <a:t>осенних листьев</a:t>
            </a:r>
            <a:endParaRPr b="1" lang="en-US" sz="24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73964" dir="1863564" blurRad="0" rotWithShape="0">
                  <a:srgbClr val="ff330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Group 2"/>
          <p:cNvGrpSpPr/>
          <p:nvPr/>
        </p:nvGrpSpPr>
        <p:grpSpPr>
          <a:xfrm>
            <a:off x="1981080" y="3581280"/>
            <a:ext cx="4114800" cy="1770120"/>
            <a:chOff x="1981080" y="3581280"/>
            <a:chExt cx="4114800" cy="1770120"/>
          </a:xfrm>
        </p:grpSpPr>
        <p:pic>
          <p:nvPicPr>
            <p:cNvPr id="191" name="Picture 3" descr=""/>
            <p:cNvPicPr/>
            <p:nvPr/>
          </p:nvPicPr>
          <p:blipFill>
            <a:blip r:embed="rId1"/>
            <a:stretch/>
          </p:blipFill>
          <p:spPr>
            <a:xfrm>
              <a:off x="2895480" y="3581280"/>
              <a:ext cx="152388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Text Box 4"/>
            <p:cNvSpPr/>
            <p:nvPr/>
          </p:nvSpPr>
          <p:spPr>
            <a:xfrm>
              <a:off x="1981080" y="4038480"/>
              <a:ext cx="4114800" cy="131292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0" spc="-1" strike="noStrike">
                  <a:solidFill>
                    <a:srgbClr val="000000"/>
                  </a:solidFill>
                  <a:latin typeface="Calibri"/>
                </a:rPr>
                <a:t>a lamp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5"/>
          <p:cNvGrpSpPr/>
          <p:nvPr/>
        </p:nvGrpSpPr>
        <p:grpSpPr>
          <a:xfrm>
            <a:off x="4419720" y="2008440"/>
            <a:ext cx="4114800" cy="2450520"/>
            <a:chOff x="4419720" y="2008440"/>
            <a:chExt cx="4114800" cy="2450520"/>
          </a:xfrm>
        </p:grpSpPr>
        <p:pic>
          <p:nvPicPr>
            <p:cNvPr id="194" name="Picture 6" descr=""/>
            <p:cNvPicPr/>
            <p:nvPr/>
          </p:nvPicPr>
          <p:blipFill>
            <a:blip r:embed="rId2"/>
            <a:stretch/>
          </p:blipFill>
          <p:spPr>
            <a:xfrm rot="2679600">
              <a:off x="5562360" y="2361960"/>
              <a:ext cx="1722600" cy="174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Text Box 7"/>
            <p:cNvSpPr/>
            <p:nvPr/>
          </p:nvSpPr>
          <p:spPr>
            <a:xfrm>
              <a:off x="4419720" y="2819160"/>
              <a:ext cx="4114800" cy="131292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0" spc="-1" strike="noStrike">
                  <a:solidFill>
                    <a:srgbClr val="000000"/>
                  </a:solidFill>
                  <a:latin typeface="Calibri"/>
                </a:rPr>
                <a:t>a hen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oup 8"/>
          <p:cNvGrpSpPr/>
          <p:nvPr/>
        </p:nvGrpSpPr>
        <p:grpSpPr>
          <a:xfrm>
            <a:off x="5334120" y="1371600"/>
            <a:ext cx="3504960" cy="1693800"/>
            <a:chOff x="5334120" y="1371600"/>
            <a:chExt cx="3504960" cy="1693800"/>
          </a:xfrm>
        </p:grpSpPr>
        <p:pic>
          <p:nvPicPr>
            <p:cNvPr id="197" name="Picture 9" descr=""/>
            <p:cNvPicPr/>
            <p:nvPr/>
          </p:nvPicPr>
          <p:blipFill>
            <a:blip r:embed="rId3"/>
            <a:stretch/>
          </p:blipFill>
          <p:spPr>
            <a:xfrm>
              <a:off x="7314840" y="1371600"/>
              <a:ext cx="1314360" cy="15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Text Box 10"/>
            <p:cNvSpPr/>
            <p:nvPr/>
          </p:nvSpPr>
          <p:spPr>
            <a:xfrm>
              <a:off x="5334120" y="1752480"/>
              <a:ext cx="3504960" cy="131292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0" spc="-1" strike="noStrike">
                  <a:solidFill>
                    <a:srgbClr val="000000"/>
                  </a:solidFill>
                  <a:latin typeface="Calibri"/>
                </a:rPr>
                <a:t>a bus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Group 11"/>
          <p:cNvGrpSpPr/>
          <p:nvPr/>
        </p:nvGrpSpPr>
        <p:grpSpPr>
          <a:xfrm>
            <a:off x="3352680" y="360000"/>
            <a:ext cx="3962520" cy="1816560"/>
            <a:chOff x="3352680" y="360000"/>
            <a:chExt cx="3962520" cy="1816560"/>
          </a:xfrm>
        </p:grpSpPr>
        <p:pic>
          <p:nvPicPr>
            <p:cNvPr id="200" name="Picture 12" descr=""/>
            <p:cNvPicPr/>
            <p:nvPr/>
          </p:nvPicPr>
          <p:blipFill>
            <a:blip r:embed="rId4"/>
            <a:stretch/>
          </p:blipFill>
          <p:spPr>
            <a:xfrm rot="3947400">
              <a:off x="4440240" y="512280"/>
              <a:ext cx="1301760" cy="149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Text Box 13"/>
            <p:cNvSpPr/>
            <p:nvPr/>
          </p:nvSpPr>
          <p:spPr>
            <a:xfrm>
              <a:off x="3352680" y="863640"/>
              <a:ext cx="3962520" cy="131292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0" spc="-1" strike="noStrike">
                  <a:solidFill>
                    <a:srgbClr val="000000"/>
                  </a:solidFill>
                  <a:latin typeface="Calibri"/>
                </a:rPr>
                <a:t>a pig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2" name="triangle.wav" descr=""/>
          <p:cNvPicPr/>
          <p:nvPr/>
        </p:nvPicPr>
        <p:blipFill>
          <a:blip r:embed="rId5"/>
          <a:stretch/>
        </p:blipFill>
        <p:spPr>
          <a:xfrm>
            <a:off x="-30492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3" name="poprobuy_eshe.wav" descr=""/>
          <p:cNvPicPr/>
          <p:nvPr/>
        </p:nvPicPr>
        <p:blipFill>
          <a:blip r:embed="rId6"/>
          <a:stretch/>
        </p:blipFill>
        <p:spPr>
          <a:xfrm>
            <a:off x="-304920" y="457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4" name="poprobuy_eshe.wav" descr=""/>
          <p:cNvPicPr/>
          <p:nvPr/>
        </p:nvPicPr>
        <p:blipFill>
          <a:blip r:embed="rId7"/>
          <a:stretch/>
        </p:blipFill>
        <p:spPr>
          <a:xfrm>
            <a:off x="-304920" y="914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5" name="poprobuy_eshe.wav" descr=""/>
          <p:cNvPicPr/>
          <p:nvPr/>
        </p:nvPicPr>
        <p:blipFill>
          <a:blip r:embed="rId8"/>
          <a:stretch/>
        </p:blipFill>
        <p:spPr>
          <a:xfrm>
            <a:off x="-304920" y="1523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1" descr="ukraschenie_8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7431120" y="4419720"/>
            <a:ext cx="1712880" cy="2361960"/>
          </a:xfrm>
          <a:prstGeom prst="rect">
            <a:avLst/>
          </a:prstGeom>
          <a:ln w="0">
            <a:noFill/>
          </a:ln>
        </p:spPr>
      </p:pic>
      <p:pic>
        <p:nvPicPr>
          <p:cNvPr id="207" name="Рисунок 9" descr="лампа.png"/>
          <p:cNvPicPr/>
          <p:nvPr/>
        </p:nvPicPr>
        <p:blipFill>
          <a:blip r:embed="rId10"/>
          <a:stretch/>
        </p:blipFill>
        <p:spPr>
          <a:xfrm>
            <a:off x="4876920" y="4876920"/>
            <a:ext cx="2147760" cy="19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path" presetID="3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15799 0.01896 C -0.15486 0.01272 -0.14062 -0.05296 -0.10469 -0.04857 C -0.05 -0.04233 -0.02847 0.00416 0.02205 -0.04233 C 0.05382 -0.06985 0.09115 -0.13923 0.11858 -0.13715 C 0.18056 -0.13483 0.1934 -0.0636 0.1934 0.00208 C 0.19497 0.09458 0.11441 0.17275 0.01632 0.18154 C -0.08299 0.18779 -0.1651 0.08834 -0.15799 0.01896 Z">
                                      <p:cBhvr>
                                        <p:cTn id="381" dur="13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2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5.55556E-007 7.90009E-006 C -0.01041 0.00486 -0.0059 0.00301 -0.01336 0.00602 C -0.02066 0.01249 -0.029 0.01434 -0.03733 0.01804 C -0.04914 0.02336 -0.06112 0.02891 -0.07309 0.03377 C -0.08247 0.0421 -0.09046 0.05135 -0.09705 0.0636 C -0.10086 0.08026 -0.11875 0.08465 -0.12987 0.08951 C -0.13091 0.08997 -0.1375 0.09344 -0.13872 0.09344 C -0.15313 0.09459 -0.16771 0.09483 -0.18212 0.09552 C -0.20191 0.09436 -0.21476 0.09737 -0.23125 0.08951 C -0.30035 0.0939 -0.34497 0.09436 -0.42691 0.09552 C -0.44184 0.09968 -0.42778 0.09459 -0.43872 0.10153 C -0.44341 0.10454 -0.44896 0.10454 -0.45365 0.10754 C -0.45834 0.11078 -0.46007 0.11402 -0.46407 0.11934 C -0.47066 0.14455 -0.49271 0.15264 -0.51042 0.15704 C -0.52257 0.16814 -0.53959 0.17114 -0.55365 0.17693 C -0.56407 0.18618 -0.55921 0.18363 -0.56719 0.18687 C -0.56858 0.18895 -0.57032 0.19057 -0.57153 0.19288 C -0.5724 0.19473 -0.57205 0.19728 -0.57309 0.1989 C -0.57882 0.20815 -0.58698 0.213 -0.59254 0.22272 C -0.59653 0.24631 -0.5908 0.2174 -0.59705 0.23659 C -0.59966 0.24446 -0.59931 0.25116 -0.60296 0.25856 C -0.60365 0.27406 -0.6125 0.32332 -0.59705 0.33002 C -0.5875 0.34274 -0.59757 0.33118 -0.58803 0.33812 C -0.5849 0.34043 -0.579 0.34598 -0.579 0.34598 C -0.57275 0.3587 -0.5632 0.37535 -0.55365 0.38391 C -0.54584 0.39108 -0.54983 0.38437 -0.54323 0.39177 C -0.54167 0.39362 -0.54046 0.39617 -0.53872 0.39779 C -0.53612 0.4001 -0.53264 0.39987 -0.52987 0.40172 C -0.51737 0.41027 -0.50209 0.41351 -0.48803 0.41559 C -0.46858 0.4149 -0.44723 0.42299 -0.42987 0.41166 C -0.4158 0.40241 -0.39723 0.38969 -0.38959 0.3698 C -0.38438 0.35616 -0.38247 0.33881 -0.37605 0.32609 C -0.3691 0.31245 -0.34306 0.30551 -0.33125 0.30019 C -0.32639 0.29788 -0.32275 0.29256 -0.31789 0.29025 C -0.31303 0.284 -0.3125 0.28076 -0.31042 0.27244 C -0.3099 0.25532 -0.30973 0.23798 -0.30886 0.22087 C -0.30834 0.21115 -0.30365 0.19774 -0.30139 0.18895 C -0.29514 0.16513 -0.29063 0.14015 -0.28212 0.11749 C -0.28056 0.10569 -0.27952 0.09344 -0.27466 0.08349 C -0.27257 0.07332 -0.27101 0.06129 -0.26563 0.05366 C -0.25938 0.0303 -0.2533 0.02221 -0.23577 0.01596 C -0.22987 0.01666 -0.22379 0.01643 -0.21789 0.01804 C -0.2125 0.01943 -0.20851 0.02753 -0.20296 0.02984 C -0.19862 0.03562 -0.19549 0.03909 -0.18959 0.04186 C -0.18351 0.0495 -0.17813 0.05505 -0.17014 0.05782 C -0.16407 0.06314 -0.15903 0.06846 -0.15226 0.0717 C -0.14011 0.08696 -0.12639 0.10408 -0.11042 0.11148 C -0.10139 0.1235 -0.09723 0.11818 -0.08646 0.12535 C -0.07881 0.13044 -0.07101 0.13298 -0.06268 0.1353 C 0.03733 0.13322 0.00851 0.14131 0.05382 0.12743 C 0.05817 0.12165 0.06302 0.11911 0.06719 0.11333 C 0.06945 0.10477 0.07119 0.09621 0.0731 0.08766 C 0.07395 0.08349 0.07622 0.07563 0.07622 0.07563 C 0.07587 0.05158 0.0882 -0.02266 0.0658 -0.05365 C 0.06284 -0.06521 0.06667 -0.0555 0.05972 -0.06151 C 0.05799 -0.06313 0.05677 -0.06567 0.05521 -0.06752 C 0.04914 -0.07423 0.05277 -0.06914 0.04635 -0.07354 C 0.03317 -0.08233 0.02327 -0.09944 0.00903 -0.10522 C 0.00261 -0.11424 -0.00746 -0.12141 -0.01631 -0.12511 C -0.03629 -0.12442 -0.0691 -0.14338 -0.07605 -0.11332 C -0.07291 -0.08996 -0.07379 -0.08741 -0.06112 -0.07354 C -0.05348 -0.06498 -0.06007 -0.06914 -0.05226 -0.06544 C -0.0507 -0.06359 -0.04948 -0.06128 -0.04775 -0.05966 C -0.04636 -0.05851 -0.04461 -0.05874 -0.04323 -0.05758 C -0.03263 -0.0481 -0.04445 -0.05388 -0.03421 -0.04972 C -0.02673 -0.03931 -0.03716 -0.05272 -0.02535 -0.04162 C -0.02361 -0.04 -0.02256 -0.03723 -0.02083 -0.03561 C -0.01823 -0.0333 -0.01492 -0.03307 -0.01198 -0.03168 C -0.0073 -0.02567 -0.00156 -0.02196 0.00295 -0.01572 C 0.00244 -0.0111 0.00313 -0.00601 0.00157 -0.00184 C 0.00087 7.90009E-006 -0.00173 -0.00138 -0.00295 7.90009E-006 C -0.00364 0.00093 -0.00105 7.90009E-006 -5.55556E-007 7.90009E-006 Z">
                                      <p:cBhvr>
                                        <p:cTn id="383" dur="13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4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8.69565E-007 C 0.01337 0.0007 0.02691 0.00023 0.04028 0.00208 C 0.04201 0.00232 0.04305 0.00555 0.04479 0.00602 C 0.04913 0.0074 0.05364 0.00717 0.05816 0.00787 C 0.10243 0.00717 0.14687 0.00717 0.19114 0.00602 C 0.19618 0.00578 0.20139 0.00185 0.20607 0.00393 C 0.20798 0.00486 0.20538 0.00948 0.20451 0.01203 C 0.20295 0.01619 0.20052 0.01989 0.19861 0.02382 C 0.19184 0.03724 0.16493 0.04417 0.15382 0.04764 C 0.12552 0.07216 0.07465 0.06476 0.04774 0.06568 C -0.03282 0.06453 -0.05955 0.0784 -0.11493 0.05574 C -0.12778 0.04394 -0.14757 0.03978 -0.16268 0.03377 C -0.17379 0.02937 -0.18455 0.0229 -0.19549 0.01781 C -0.19219 0.03053 -0.18854 0.0377 -0.179 0.04163 C -0.17361 0.04926 -0.17882 0.04302 -0.17014 0.04972 C -0.16702 0.05227 -0.16111 0.05759 -0.16111 0.05759 C -0.15556 0.06892 -0.14636 0.07748 -0.13733 0.08349 C -0.13125 0.09598 -0.13802 0.08465 -0.12986 0.09135 C -0.12518 0.09528 -0.12413 0.09875 -0.11788 0.1013 C -0.10452 0.11379 -0.0908 0.12165 -0.07466 0.12535 C -0.06962 0.12974 -0.06511 0.13021 -0.05972 0.13321 C -0.03785 0.1457 -0.01945 0.15079 0.00451 0.1531 C -0.00347 0.15634 -0.01025 0.16582 -0.01493 0.17484 C -0.01684 0.18317 -0.0217 0.18941 -0.02535 0.19681 C -0.02622 0.19866 -0.02587 0.20121 -0.02691 0.20282 C -0.029 0.20652 -0.03247 0.20884 -0.03438 0.21277 C -0.04167 0.22757 -0.05174 0.23543 -0.06424 0.24052 C -0.0691 0.24491 -0.07361 0.24607 -0.079 0.24861 C -0.19167 0.24538 -0.12344 0.25463 -0.16111 0.23867 C -0.17032 0.22641 -0.18212 0.22225 -0.19393 0.2167 C -0.1967 0.21323 -0.20035 0.21069 -0.20295 0.20676 C -0.20538 0.20306 -0.20625 0.19797 -0.20886 0.19473 C -0.2099 0.19334 -0.21094 0.19219 -0.21198 0.1908 C -0.21389 0.1827 -0.2158 0.17484 -0.21788 0.16698 C -0.21858 0.19473 -0.20764 0.23243 -0.22986 0.2426 C -0.23542 0.24815 -0.23854 0.24977 -0.24479 0.25255 C -0.24931 0.25856 -0.25504 0.26365 -0.26111 0.26642 C -0.25278 0.27799 -0.26146 0.26827 -0.2507 0.27429 C -0.24896 0.27521 -0.24792 0.27752 -0.24618 0.27845 C -0.24167 0.28099 -0.23594 0.28215 -0.23125 0.28423 C -0.22275 0.28793 -0.21476 0.29209 -0.20591 0.29417 C -0.07448 0.29163 -0.13976 0.30204 -0.08959 0.28423 C -0.0842 0.2796 -0.07865 0.28007 -0.07309 0.27637 C -0.06094 0.26827 -0.0757 0.2759 -0.06424 0.27035 C -0.05799 0.25856 -0.04566 0.25578 -0.03872 0.24445 C -0.02882 0.22826 -0.02118 0.20999 -0.01042 0.19473 C -0.00886 0.18872 -0.00469 0.17923 -0.00139 0.17484 C 0.00069 0.16258 0.0059 0.14963 0.00903 0.13714 C 0.01041 0.13113 0.01354 0.11934 0.01354 0.11934 C 0.01284 0.0895 0.02396 0.04602 -0.00139 0.03377 C -0.00573 0.02822 -0.004 0.03192 -0.00591 0.02382 C -0.00695 0.01989 -0.00886 0.01203 -0.00886 0.01203 C -0.00695 -0.00115 -0.0099 0.00278 3.33333E-006 -8.69565E-007 Z">
                                      <p:cBhvr>
                                        <p:cTn id="385" dur="13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8.33333E-007 -1.42461E-006 C -0.07396 -0.00648 0.01493 0.00069 -0.15816 -0.00416 C -0.16337 -0.0044 -0.16701 -0.00995 -0.17153 -0.01203 C -0.17691 -0.01457 -0.18299 -0.01434 -0.18802 -0.01804 C -0.20382 -0.0296 -0.19132 -0.02313 -0.20139 -0.02798 C -0.20503 -0.03261 -0.21337 -0.03978 -0.21337 -0.03978 C -0.21944 -0.06291 -0.2125 -0.08603 -0.21042 -0.10939 C -0.21146 -0.12882 -0.21215 -0.14662 -0.22239 -0.16119 C -0.22413 -0.16883 -0.22639 -0.17068 -0.23125 -0.17507 C -0.23229 -0.17715 -0.23299 -0.17946 -0.23437 -0.18108 C -0.23559 -0.18224 -0.23767 -0.18155 -0.23871 -0.18293 C -0.23976 -0.18432 -0.23924 -0.18733 -0.24028 -0.18895 C -0.24271 -0.19288 -0.2467 -0.19496 -0.24913 -0.19889 C -0.25816 -0.21346 -0.24583 -0.19542 -0.25521 -0.21277 C -0.2592 -0.22017 -0.26614 -0.22341 -0.27014 -0.23081 C -0.27691 -0.24353 -0.26875 -0.23497 -0.2776 -0.2426 C -0.27917 -0.24908 -0.28507 -0.26064 -0.28507 -0.26064 C -0.28924 -0.27798 -0.28246 -0.25255 -0.29097 -0.27243 C -0.29201 -0.27475 -0.29167 -0.27798 -0.29253 -0.28053 C -0.29739 -0.29556 -0.29392 -0.27729 -0.29705 -0.29232 C -0.29809 -0.29764 -0.3 -0.30828 -0.3 -0.30828 C -0.29896 -0.36378 -0.30399 -0.37766 -0.29392 -0.41559 C -0.29219 -0.4223 -0.28646 -0.42553 -0.28351 -0.43155 C -0.27951 -0.44889 -0.25694 -0.45629 -0.24618 -0.46531 C -0.23576 -0.47387 -0.24462 -0.46947 -0.23576 -0.47317 C -0.22708 -0.48127 -0.21337 -0.48358 -0.20295 -0.48728 C -0.17309 -0.48451 -0.18837 -0.48705 -0.17153 -0.47919 C -0.17049 -0.47711 -0.16944 -0.47526 -0.16858 -0.47317 C -0.16788 -0.47132 -0.16805 -0.46901 -0.16719 -0.46739 C -0.16441 -0.46138 -0.15694 -0.4556 -0.15226 -0.45329 C -0.14739 -0.44727 -0.14375 -0.44773 -0.13733 -0.44542 C -0.12066 -0.43964 -0.11892 -0.43918 -0.09705 -0.43756 C -0.08628 -0.4327 -0.09062 -0.43571 -0.08351 -0.42946 C -0.08055 -0.42345 -0.0776 -0.41767 -0.07465 -0.41166 C -0.07361 -0.40958 -0.07153 -0.40564 -0.07153 -0.40564 C -0.06979 -0.39824 -0.06701 -0.39339 -0.06562 -0.38576 C -0.0651 -0.35685 -0.07483 -0.31846 -0.05816 -0.29625 C -0.05573 -0.28654 -0.05833 -0.29232 -0.05069 -0.28631 C -0.0401 -0.27798 -0.03698 -0.27752 -0.02535 -0.27243 C -0.00069 -0.26156 -0.01962 -0.26665 -0.00139 -0.26249 C 0.00243 -0.25995 0.0066 -0.25902 0.01042 -0.25648 C 0.01163 -0.25555 0.01233 -0.2537 0.01354 -0.25255 C 0.01858 -0.24815 0.02448 -0.24422 0.02986 -0.24075 C 0.03351 -0.23566 0.0375 -0.23474 0.04184 -0.23081 C 0.04375 -0.22317 0.04653 -0.21439 0.05087 -0.20884 C 0.05243 -0.20028 0.05521 -0.18293 0.05521 -0.18293 C 0.05642 -0.14871 0.05833 -0.09736 0.05833 -0.06568 C 0.05833 -0.06036 0.05833 -0.05458 0.05677 -0.04972 C 0.05486 -0.04371 0.0434 -0.04186 0.0434 -0.04186 C 0.03941 -0.03677 0.02813 -0.03053 0.0224 -0.02798 C 0.01945 -0.0266 0.01354 -0.02382 0.01354 -0.02382 C 0.01007 -0.01943 0.00781 -0.01457 0.00451 -0.00995 C 0.00399 -0.0081 0.00417 -0.00532 0.00295 -0.00416 C -0.00226 0.00092 -0.0125 -1.42461E-006 -8.33333E-007 -1.42461E-006 Z">
                                      <p:cBhvr>
                                        <p:cTn id="387" dur="13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8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389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Ura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4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7" dur="4127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1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402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remove" presetClass="emph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indefinit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7" dur="1411" fill="hold"/>
                                        <p:tgtEl>
                                          <p:spTgt spid="2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8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409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indefinite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4" dur="1411" fill="hold"/>
                                        <p:tgtEl>
                                          <p:spTgt spid="2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5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416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indefinite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1" dur="1411" fill="hold"/>
                                        <p:tgtEl>
                                          <p:spTgt spid="2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3"/>
          <p:cNvGrpSpPr/>
          <p:nvPr/>
        </p:nvGrpSpPr>
        <p:grpSpPr>
          <a:xfrm>
            <a:off x="1981080" y="3581280"/>
            <a:ext cx="4495680" cy="1693800"/>
            <a:chOff x="1981080" y="3581280"/>
            <a:chExt cx="4495680" cy="1693800"/>
          </a:xfrm>
        </p:grpSpPr>
        <p:pic>
          <p:nvPicPr>
            <p:cNvPr id="209" name="Picture 4" descr=""/>
            <p:cNvPicPr/>
            <p:nvPr/>
          </p:nvPicPr>
          <p:blipFill>
            <a:blip r:embed="rId1"/>
            <a:stretch/>
          </p:blipFill>
          <p:spPr>
            <a:xfrm>
              <a:off x="2895480" y="3581280"/>
              <a:ext cx="152388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Text Box 5"/>
            <p:cNvSpPr/>
            <p:nvPr/>
          </p:nvSpPr>
          <p:spPr>
            <a:xfrm>
              <a:off x="1981080" y="3962160"/>
              <a:ext cx="4495680" cy="131292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0" spc="-1" strike="noStrike">
                  <a:solidFill>
                    <a:srgbClr val="000000"/>
                  </a:solidFill>
                  <a:latin typeface="Calibri"/>
                </a:rPr>
                <a:t>a pen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Group 6"/>
          <p:cNvGrpSpPr/>
          <p:nvPr/>
        </p:nvGrpSpPr>
        <p:grpSpPr>
          <a:xfrm>
            <a:off x="4114800" y="2008440"/>
            <a:ext cx="4495680" cy="2450160"/>
            <a:chOff x="4114800" y="2008440"/>
            <a:chExt cx="4495680" cy="2450160"/>
          </a:xfrm>
        </p:grpSpPr>
        <p:pic>
          <p:nvPicPr>
            <p:cNvPr id="212" name="Picture 7" descr=""/>
            <p:cNvPicPr/>
            <p:nvPr/>
          </p:nvPicPr>
          <p:blipFill>
            <a:blip r:embed="rId2"/>
            <a:stretch/>
          </p:blipFill>
          <p:spPr>
            <a:xfrm rot="2679600">
              <a:off x="5562360" y="2361960"/>
              <a:ext cx="1722240" cy="174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Text Box 8"/>
            <p:cNvSpPr/>
            <p:nvPr/>
          </p:nvSpPr>
          <p:spPr>
            <a:xfrm>
              <a:off x="4114800" y="2819160"/>
              <a:ext cx="4495680" cy="131292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0" spc="-1" strike="noStrike">
                  <a:solidFill>
                    <a:srgbClr val="000000"/>
                  </a:solidFill>
                  <a:latin typeface="Calibri"/>
                </a:rPr>
                <a:t>a bus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Group 9"/>
          <p:cNvGrpSpPr/>
          <p:nvPr/>
        </p:nvGrpSpPr>
        <p:grpSpPr>
          <a:xfrm>
            <a:off x="5029200" y="1371600"/>
            <a:ext cx="3967200" cy="1693800"/>
            <a:chOff x="5029200" y="1371600"/>
            <a:chExt cx="3967200" cy="1693800"/>
          </a:xfrm>
        </p:grpSpPr>
        <p:pic>
          <p:nvPicPr>
            <p:cNvPr id="215" name="Picture 10" descr=""/>
            <p:cNvPicPr/>
            <p:nvPr/>
          </p:nvPicPr>
          <p:blipFill>
            <a:blip r:embed="rId3"/>
            <a:stretch/>
          </p:blipFill>
          <p:spPr>
            <a:xfrm>
              <a:off x="7315200" y="1371600"/>
              <a:ext cx="1314720" cy="15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Text Box 11"/>
            <p:cNvSpPr/>
            <p:nvPr/>
          </p:nvSpPr>
          <p:spPr>
            <a:xfrm>
              <a:off x="5029200" y="1752480"/>
              <a:ext cx="3967200" cy="131292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0" spc="-1" strike="noStrike">
                  <a:solidFill>
                    <a:srgbClr val="000000"/>
                  </a:solidFill>
                  <a:latin typeface="Calibri"/>
                </a:rPr>
                <a:t>a hat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Group 12"/>
          <p:cNvGrpSpPr/>
          <p:nvPr/>
        </p:nvGrpSpPr>
        <p:grpSpPr>
          <a:xfrm>
            <a:off x="3352680" y="360000"/>
            <a:ext cx="4572000" cy="1816560"/>
            <a:chOff x="3352680" y="360000"/>
            <a:chExt cx="4572000" cy="1816560"/>
          </a:xfrm>
        </p:grpSpPr>
        <p:pic>
          <p:nvPicPr>
            <p:cNvPr id="218" name="Picture 13" descr=""/>
            <p:cNvPicPr/>
            <p:nvPr/>
          </p:nvPicPr>
          <p:blipFill>
            <a:blip r:embed="rId4"/>
            <a:stretch/>
          </p:blipFill>
          <p:spPr>
            <a:xfrm rot="3947400">
              <a:off x="4440240" y="512280"/>
              <a:ext cx="1301760" cy="149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Text Box 14"/>
            <p:cNvSpPr/>
            <p:nvPr/>
          </p:nvSpPr>
          <p:spPr>
            <a:xfrm>
              <a:off x="3352680" y="863640"/>
              <a:ext cx="4572000" cy="131292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0" spc="-1" strike="noStrike">
                  <a:solidFill>
                    <a:srgbClr val="000000"/>
                  </a:solidFill>
                  <a:latin typeface="Calibri"/>
                </a:rPr>
                <a:t>a cup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0" name="triangle.wav" descr=""/>
          <p:cNvPicPr/>
          <p:nvPr/>
        </p:nvPicPr>
        <p:blipFill>
          <a:blip r:embed="rId5"/>
          <a:stretch/>
        </p:blipFill>
        <p:spPr>
          <a:xfrm>
            <a:off x="-30492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21" name="poprobuy_eshe.wav" descr=""/>
          <p:cNvPicPr/>
          <p:nvPr/>
        </p:nvPicPr>
        <p:blipFill>
          <a:blip r:embed="rId6"/>
          <a:stretch/>
        </p:blipFill>
        <p:spPr>
          <a:xfrm>
            <a:off x="-304920" y="457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22" name="poprobuy_eshe.wav" descr=""/>
          <p:cNvPicPr/>
          <p:nvPr/>
        </p:nvPicPr>
        <p:blipFill>
          <a:blip r:embed="rId7"/>
          <a:stretch/>
        </p:blipFill>
        <p:spPr>
          <a:xfrm>
            <a:off x="-304920" y="914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23" name="poprobuy_eshe.wav" descr=""/>
          <p:cNvPicPr/>
          <p:nvPr/>
        </p:nvPicPr>
        <p:blipFill>
          <a:blip r:embed="rId8"/>
          <a:stretch/>
        </p:blipFill>
        <p:spPr>
          <a:xfrm>
            <a:off x="-304920" y="1523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1" descr="ukraschenie_8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7431120" y="4419720"/>
            <a:ext cx="1712880" cy="236196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24" descr="bus.gif"/>
          <p:cNvPicPr/>
          <p:nvPr/>
        </p:nvPicPr>
        <p:blipFill>
          <a:blip r:embed="rId10"/>
          <a:stretch/>
        </p:blipFill>
        <p:spPr>
          <a:xfrm>
            <a:off x="4648320" y="4952880"/>
            <a:ext cx="254772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withEffect" fill="hold" presetClass="path" presetID="3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15799 0.01896 C -0.15486 0.01272 -0.14062 -0.05296 -0.10469 -0.04857 C -0.05 -0.04233 -0.02847 0.00416 0.02205 -0.04233 C 0.05382 -0.06985 0.09115 -0.13923 0.11858 -0.13715 C 0.18056 -0.13483 0.1934 -0.0636 0.1934 0.00208 C 0.19497 0.09458 0.11441 0.17275 0.01632 0.18154 C -0.08299 0.18779 -0.1651 0.08834 -0.15799 0.01896 Z">
                                      <p:cBhvr>
                                        <p:cTn id="427" dur="13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5.55556E-007 7.90009E-006 C -0.01041 0.00486 -0.0059 0.00301 -0.01336 0.00602 C -0.02066 0.01249 -0.029 0.01434 -0.03733 0.01804 C -0.04914 0.02336 -0.06112 0.02891 -0.07309 0.03377 C -0.08247 0.0421 -0.09046 0.05135 -0.09705 0.0636 C -0.10086 0.08026 -0.11875 0.08465 -0.12987 0.08951 C -0.13091 0.08997 -0.1375 0.09344 -0.13872 0.09344 C -0.15313 0.09459 -0.16771 0.09483 -0.18212 0.09552 C -0.20191 0.09436 -0.21476 0.09737 -0.23125 0.08951 C -0.30035 0.0939 -0.34497 0.09436 -0.42691 0.09552 C -0.44184 0.09968 -0.42778 0.09459 -0.43872 0.10153 C -0.44341 0.10454 -0.44896 0.10454 -0.45365 0.10754 C -0.45834 0.11078 -0.46007 0.11402 -0.46407 0.11934 C -0.47066 0.14455 -0.49271 0.15264 -0.51042 0.15704 C -0.52257 0.16814 -0.53959 0.17114 -0.55365 0.17693 C -0.56407 0.18618 -0.55921 0.18363 -0.56719 0.18687 C -0.56858 0.18895 -0.57032 0.19057 -0.57153 0.19288 C -0.5724 0.19473 -0.57205 0.19728 -0.57309 0.1989 C -0.57882 0.20815 -0.58698 0.213 -0.59254 0.22272 C -0.59653 0.24631 -0.5908 0.2174 -0.59705 0.23659 C -0.59966 0.24446 -0.59931 0.25116 -0.60296 0.25856 C -0.60365 0.27406 -0.6125 0.32332 -0.59705 0.33002 C -0.5875 0.34274 -0.59757 0.33118 -0.58803 0.33812 C -0.5849 0.34043 -0.579 0.34598 -0.579 0.34598 C -0.57275 0.3587 -0.5632 0.37535 -0.55365 0.38391 C -0.54584 0.39108 -0.54983 0.38437 -0.54323 0.39177 C -0.54167 0.39362 -0.54046 0.39617 -0.53872 0.39779 C -0.53612 0.4001 -0.53264 0.39987 -0.52987 0.40172 C -0.51737 0.41027 -0.50209 0.41351 -0.48803 0.41559 C -0.46858 0.4149 -0.44723 0.42299 -0.42987 0.41166 C -0.4158 0.40241 -0.39723 0.38969 -0.38959 0.3698 C -0.38438 0.35616 -0.38247 0.33881 -0.37605 0.32609 C -0.3691 0.31245 -0.34306 0.30551 -0.33125 0.30019 C -0.32639 0.29788 -0.32275 0.29256 -0.31789 0.29025 C -0.31303 0.284 -0.3125 0.28076 -0.31042 0.27244 C -0.3099 0.25532 -0.30973 0.23798 -0.30886 0.22087 C -0.30834 0.21115 -0.30365 0.19774 -0.30139 0.18895 C -0.29514 0.16513 -0.29063 0.14015 -0.28212 0.11749 C -0.28056 0.10569 -0.27952 0.09344 -0.27466 0.08349 C -0.27257 0.07332 -0.27101 0.06129 -0.26563 0.05366 C -0.25938 0.0303 -0.2533 0.02221 -0.23577 0.01596 C -0.22987 0.01666 -0.22379 0.01643 -0.21789 0.01804 C -0.2125 0.01943 -0.20851 0.02753 -0.20296 0.02984 C -0.19862 0.03562 -0.19549 0.03909 -0.18959 0.04186 C -0.18351 0.0495 -0.17813 0.05505 -0.17014 0.05782 C -0.16407 0.06314 -0.15903 0.06846 -0.15226 0.0717 C -0.14011 0.08696 -0.12639 0.10408 -0.11042 0.11148 C -0.10139 0.1235 -0.09723 0.11818 -0.08646 0.12535 C -0.07881 0.13044 -0.07101 0.13298 -0.06268 0.1353 C 0.03733 0.13322 0.00851 0.14131 0.05382 0.12743 C 0.05817 0.12165 0.06302 0.11911 0.06719 0.11333 C 0.06945 0.10477 0.07119 0.09621 0.0731 0.08766 C 0.07395 0.08349 0.07622 0.07563 0.07622 0.07563 C 0.07587 0.05158 0.0882 -0.02266 0.0658 -0.05365 C 0.06284 -0.06521 0.06667 -0.0555 0.05972 -0.06151 C 0.05799 -0.06313 0.05677 -0.06567 0.05521 -0.06752 C 0.04914 -0.07423 0.05277 -0.06914 0.04635 -0.07354 C 0.03317 -0.08233 0.02327 -0.09944 0.00903 -0.10522 C 0.00261 -0.11424 -0.00746 -0.12141 -0.01631 -0.12511 C -0.03629 -0.12442 -0.0691 -0.14338 -0.07605 -0.11332 C -0.07291 -0.08996 -0.07379 -0.08741 -0.06112 -0.07354 C -0.05348 -0.06498 -0.06007 -0.06914 -0.05226 -0.06544 C -0.0507 -0.06359 -0.04948 -0.06128 -0.04775 -0.05966 C -0.04636 -0.05851 -0.04461 -0.05874 -0.04323 -0.05758 C -0.03263 -0.0481 -0.04445 -0.05388 -0.03421 -0.04972 C -0.02673 -0.03931 -0.03716 -0.05272 -0.02535 -0.04162 C -0.02361 -0.04 -0.02256 -0.03723 -0.02083 -0.03561 C -0.01823 -0.0333 -0.01492 -0.03307 -0.01198 -0.03168 C -0.0073 -0.02567 -0.00156 -0.02196 0.00295 -0.01572 C 0.00244 -0.0111 0.00313 -0.00601 0.00157 -0.00184 C 0.00087 7.90009E-006 -0.00173 -0.00138 -0.00295 7.90009E-006 C -0.00364 0.00093 -0.00105 7.90009E-006 -5.55556E-007 7.90009E-006 Z">
                                      <p:cBhvr>
                                        <p:cTn id="429" dur="13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0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8.69565E-007 C 0.01337 0.0007 0.02691 0.00023 0.04028 0.00208 C 0.04201 0.00232 0.04305 0.00555 0.04479 0.00602 C 0.04913 0.0074 0.05364 0.00717 0.05816 0.00787 C 0.10243 0.00717 0.14687 0.00717 0.19114 0.00602 C 0.19618 0.00578 0.20139 0.00185 0.20607 0.00393 C 0.20798 0.00486 0.20538 0.00948 0.20451 0.01203 C 0.20295 0.01619 0.20052 0.01989 0.19861 0.02382 C 0.19184 0.03724 0.16493 0.04417 0.15382 0.04764 C 0.12552 0.07216 0.07465 0.06476 0.04774 0.06568 C -0.03282 0.06453 -0.05955 0.0784 -0.11493 0.05574 C -0.12778 0.04394 -0.14757 0.03978 -0.16268 0.03377 C -0.17379 0.02937 -0.18455 0.0229 -0.19549 0.01781 C -0.19219 0.03053 -0.18854 0.0377 -0.179 0.04163 C -0.17361 0.04926 -0.17882 0.04302 -0.17014 0.04972 C -0.16702 0.05227 -0.16111 0.05759 -0.16111 0.05759 C -0.15556 0.06892 -0.14636 0.07748 -0.13733 0.08349 C -0.13125 0.09598 -0.13802 0.08465 -0.12986 0.09135 C -0.12518 0.09528 -0.12413 0.09875 -0.11788 0.1013 C -0.10452 0.11379 -0.0908 0.12165 -0.07466 0.12535 C -0.06962 0.12974 -0.06511 0.13021 -0.05972 0.13321 C -0.03785 0.1457 -0.01945 0.15079 0.00451 0.1531 C -0.00347 0.15634 -0.01025 0.16582 -0.01493 0.17484 C -0.01684 0.18317 -0.0217 0.18941 -0.02535 0.19681 C -0.02622 0.19866 -0.02587 0.20121 -0.02691 0.20282 C -0.029 0.20652 -0.03247 0.20884 -0.03438 0.21277 C -0.04167 0.22757 -0.05174 0.23543 -0.06424 0.24052 C -0.0691 0.24491 -0.07361 0.24607 -0.079 0.24861 C -0.19167 0.24538 -0.12344 0.25463 -0.16111 0.23867 C -0.17032 0.22641 -0.18212 0.22225 -0.19393 0.2167 C -0.1967 0.21323 -0.20035 0.21069 -0.20295 0.20676 C -0.20538 0.20306 -0.20625 0.19797 -0.20886 0.19473 C -0.2099 0.19334 -0.21094 0.19219 -0.21198 0.1908 C -0.21389 0.1827 -0.2158 0.17484 -0.21788 0.16698 C -0.21858 0.19473 -0.20764 0.23243 -0.22986 0.2426 C -0.23542 0.24815 -0.23854 0.24977 -0.24479 0.25255 C -0.24931 0.25856 -0.25504 0.26365 -0.26111 0.26642 C -0.25278 0.27799 -0.26146 0.26827 -0.2507 0.27429 C -0.24896 0.27521 -0.24792 0.27752 -0.24618 0.27845 C -0.24167 0.28099 -0.23594 0.28215 -0.23125 0.28423 C -0.22275 0.28793 -0.21476 0.29209 -0.20591 0.29417 C -0.07448 0.29163 -0.13976 0.30204 -0.08959 0.28423 C -0.0842 0.2796 -0.07865 0.28007 -0.07309 0.27637 C -0.06094 0.26827 -0.0757 0.2759 -0.06424 0.27035 C -0.05799 0.25856 -0.04566 0.25578 -0.03872 0.24445 C -0.02882 0.22826 -0.02118 0.20999 -0.01042 0.19473 C -0.00886 0.18872 -0.00469 0.17923 -0.00139 0.17484 C 0.00069 0.16258 0.0059 0.14963 0.00903 0.13714 C 0.01041 0.13113 0.01354 0.11934 0.01354 0.11934 C 0.01284 0.0895 0.02396 0.04602 -0.00139 0.03377 C -0.00573 0.02822 -0.004 0.03192 -0.00591 0.02382 C -0.00695 0.01989 -0.00886 0.01203 -0.00886 0.01203 C -0.00695 -0.00115 -0.0099 0.00278 3.33333E-006 -8.69565E-007 Z">
                                      <p:cBhvr>
                                        <p:cTn id="431" dur="13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2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8.33333E-007 -1.42461E-006 C -0.07396 -0.00648 0.01493 0.00069 -0.15816 -0.00416 C -0.16337 -0.0044 -0.16701 -0.00995 -0.17153 -0.01203 C -0.17691 -0.01457 -0.18299 -0.01434 -0.18802 -0.01804 C -0.20382 -0.0296 -0.19132 -0.02313 -0.20139 -0.02798 C -0.20503 -0.03261 -0.21337 -0.03978 -0.21337 -0.03978 C -0.21944 -0.06291 -0.2125 -0.08603 -0.21042 -0.10939 C -0.21146 -0.12882 -0.21215 -0.14662 -0.22239 -0.16119 C -0.22413 -0.16883 -0.22639 -0.17068 -0.23125 -0.17507 C -0.23229 -0.17715 -0.23299 -0.17946 -0.23437 -0.18108 C -0.23559 -0.18224 -0.23767 -0.18155 -0.23871 -0.18293 C -0.23976 -0.18432 -0.23924 -0.18733 -0.24028 -0.18895 C -0.24271 -0.19288 -0.2467 -0.19496 -0.24913 -0.19889 C -0.25816 -0.21346 -0.24583 -0.19542 -0.25521 -0.21277 C -0.2592 -0.22017 -0.26614 -0.22341 -0.27014 -0.23081 C -0.27691 -0.24353 -0.26875 -0.23497 -0.2776 -0.2426 C -0.27917 -0.24908 -0.28507 -0.26064 -0.28507 -0.26064 C -0.28924 -0.27798 -0.28246 -0.25255 -0.29097 -0.27243 C -0.29201 -0.27475 -0.29167 -0.27798 -0.29253 -0.28053 C -0.29739 -0.29556 -0.29392 -0.27729 -0.29705 -0.29232 C -0.29809 -0.29764 -0.3 -0.30828 -0.3 -0.30828 C -0.29896 -0.36378 -0.30399 -0.37766 -0.29392 -0.41559 C -0.29219 -0.4223 -0.28646 -0.42553 -0.28351 -0.43155 C -0.27951 -0.44889 -0.25694 -0.45629 -0.24618 -0.46531 C -0.23576 -0.47387 -0.24462 -0.46947 -0.23576 -0.47317 C -0.22708 -0.48127 -0.21337 -0.48358 -0.20295 -0.48728 C -0.17309 -0.48451 -0.18837 -0.48705 -0.17153 -0.47919 C -0.17049 -0.47711 -0.16944 -0.47526 -0.16858 -0.47317 C -0.16788 -0.47132 -0.16805 -0.46901 -0.16719 -0.46739 C -0.16441 -0.46138 -0.15694 -0.4556 -0.15226 -0.45329 C -0.14739 -0.44727 -0.14375 -0.44773 -0.13733 -0.44542 C -0.12066 -0.43964 -0.11892 -0.43918 -0.09705 -0.43756 C -0.08628 -0.4327 -0.09062 -0.43571 -0.08351 -0.42946 C -0.08055 -0.42345 -0.0776 -0.41767 -0.07465 -0.41166 C -0.07361 -0.40958 -0.07153 -0.40564 -0.07153 -0.40564 C -0.06979 -0.39824 -0.06701 -0.39339 -0.06562 -0.38576 C -0.0651 -0.35685 -0.07483 -0.31846 -0.05816 -0.29625 C -0.05573 -0.28654 -0.05833 -0.29232 -0.05069 -0.28631 C -0.0401 -0.27798 -0.03698 -0.27752 -0.02535 -0.27243 C -0.00069 -0.26156 -0.01962 -0.26665 -0.00139 -0.26249 C 0.00243 -0.25995 0.0066 -0.25902 0.01042 -0.25648 C 0.01163 -0.25555 0.01233 -0.2537 0.01354 -0.25255 C 0.01858 -0.24815 0.02448 -0.24422 0.02986 -0.24075 C 0.03351 -0.23566 0.0375 -0.23474 0.04184 -0.23081 C 0.04375 -0.22317 0.04653 -0.21439 0.05087 -0.20884 C 0.05243 -0.20028 0.05521 -0.18293 0.05521 -0.18293 C 0.05642 -0.14871 0.05833 -0.09736 0.05833 -0.06568 C 0.05833 -0.06036 0.05833 -0.05458 0.05677 -0.04972 C 0.05486 -0.04371 0.0434 -0.04186 0.0434 -0.04186 C 0.03941 -0.03677 0.02813 -0.03053 0.0224 -0.02798 C 0.01945 -0.0266 0.01354 -0.02382 0.01354 -0.02382 C 0.01007 -0.01943 0.00781 -0.01457 0.00451 -0.00995 C 0.00399 -0.0081 0.00417 -0.00532 0.00295 -0.00416 C -0.00226 0.00092 -0.0125 -1.42461E-006 -8.33333E-007 -1.42461E-006 Z">
                                      <p:cBhvr>
                                        <p:cTn id="433" dur="130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4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435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remove" presetClass="emph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indefinite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0" dur="1411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1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442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remove" presetClass="emph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indefinite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7" dur="1411" fill="hold"/>
                                        <p:tgtEl>
                                          <p:spTgt spid="2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8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449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remove" presetClass="emph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indefinite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4" dur="1411" fill="hold"/>
                                        <p:tgtEl>
                                          <p:spTgt spid="2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5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456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Ura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459" dur="1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1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4" dur="4127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ukraschenie_8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377120" y="4343400"/>
            <a:ext cx="1766880" cy="2438280"/>
          </a:xfrm>
          <a:prstGeom prst="rect">
            <a:avLst/>
          </a:prstGeom>
          <a:ln w="0">
            <a:noFill/>
          </a:ln>
        </p:spPr>
      </p:pic>
      <p:grpSp>
        <p:nvGrpSpPr>
          <p:cNvPr id="227" name="Group 3"/>
          <p:cNvGrpSpPr/>
          <p:nvPr/>
        </p:nvGrpSpPr>
        <p:grpSpPr>
          <a:xfrm>
            <a:off x="2057400" y="3581280"/>
            <a:ext cx="4343400" cy="1523880"/>
            <a:chOff x="2057400" y="3581280"/>
            <a:chExt cx="4343400" cy="1523880"/>
          </a:xfrm>
        </p:grpSpPr>
        <p:pic>
          <p:nvPicPr>
            <p:cNvPr id="228" name="Picture 4" descr=""/>
            <p:cNvPicPr/>
            <p:nvPr/>
          </p:nvPicPr>
          <p:blipFill>
            <a:blip r:embed="rId2"/>
            <a:stretch/>
          </p:blipFill>
          <p:spPr>
            <a:xfrm>
              <a:off x="2895480" y="3581280"/>
              <a:ext cx="152388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Text Box 5"/>
            <p:cNvSpPr/>
            <p:nvPr/>
          </p:nvSpPr>
          <p:spPr>
            <a:xfrm>
              <a:off x="2057400" y="3733560"/>
              <a:ext cx="4343400" cy="131292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0" spc="-1" strike="noStrike">
                  <a:solidFill>
                    <a:srgbClr val="000000"/>
                  </a:solidFill>
                  <a:latin typeface="Calibri"/>
                </a:rPr>
                <a:t>a lamp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6"/>
          <p:cNvGrpSpPr/>
          <p:nvPr/>
        </p:nvGrpSpPr>
        <p:grpSpPr>
          <a:xfrm>
            <a:off x="4343400" y="2008440"/>
            <a:ext cx="4191120" cy="2450520"/>
            <a:chOff x="4343400" y="2008440"/>
            <a:chExt cx="4191120" cy="2450520"/>
          </a:xfrm>
        </p:grpSpPr>
        <p:pic>
          <p:nvPicPr>
            <p:cNvPr id="231" name="Picture 7" descr=""/>
            <p:cNvPicPr/>
            <p:nvPr/>
          </p:nvPicPr>
          <p:blipFill>
            <a:blip r:embed="rId3"/>
            <a:stretch/>
          </p:blipFill>
          <p:spPr>
            <a:xfrm rot="2679600">
              <a:off x="5562360" y="2361960"/>
              <a:ext cx="1722600" cy="174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Text Box 8"/>
            <p:cNvSpPr/>
            <p:nvPr/>
          </p:nvSpPr>
          <p:spPr>
            <a:xfrm>
              <a:off x="4343400" y="2819160"/>
              <a:ext cx="4191120" cy="131292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0" spc="-1" strike="noStrike">
                  <a:solidFill>
                    <a:srgbClr val="000000"/>
                  </a:solidFill>
                  <a:latin typeface="Calibri"/>
                </a:rPr>
                <a:t>a hen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9"/>
          <p:cNvGrpSpPr/>
          <p:nvPr/>
        </p:nvGrpSpPr>
        <p:grpSpPr>
          <a:xfrm>
            <a:off x="5410080" y="1371600"/>
            <a:ext cx="3585960" cy="1693800"/>
            <a:chOff x="5410080" y="1371600"/>
            <a:chExt cx="3585960" cy="1693800"/>
          </a:xfrm>
        </p:grpSpPr>
        <p:pic>
          <p:nvPicPr>
            <p:cNvPr id="234" name="Picture 10" descr=""/>
            <p:cNvPicPr/>
            <p:nvPr/>
          </p:nvPicPr>
          <p:blipFill>
            <a:blip r:embed="rId4"/>
            <a:stretch/>
          </p:blipFill>
          <p:spPr>
            <a:xfrm>
              <a:off x="7314840" y="1371600"/>
              <a:ext cx="1314720" cy="15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Text Box 11"/>
            <p:cNvSpPr/>
            <p:nvPr/>
          </p:nvSpPr>
          <p:spPr>
            <a:xfrm>
              <a:off x="5410080" y="1752480"/>
              <a:ext cx="3585960" cy="131292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0" spc="-1" strike="noStrike">
                  <a:solidFill>
                    <a:srgbClr val="000000"/>
                  </a:solidFill>
                  <a:latin typeface="Calibri"/>
                </a:rPr>
                <a:t>a </a:t>
              </a:r>
              <a:r>
                <a:rPr b="1" i="1" lang="en-US" sz="8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i="1" lang="en-US" sz="8000" spc="-1" strike="noStrike">
                  <a:solidFill>
                    <a:srgbClr val="000000"/>
                  </a:solidFill>
                  <a:latin typeface="Calibri"/>
                </a:rPr>
                <a:t>rog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Group 12"/>
          <p:cNvGrpSpPr/>
          <p:nvPr/>
        </p:nvGrpSpPr>
        <p:grpSpPr>
          <a:xfrm>
            <a:off x="3352680" y="360000"/>
            <a:ext cx="4038840" cy="1816560"/>
            <a:chOff x="3352680" y="360000"/>
            <a:chExt cx="4038840" cy="1816560"/>
          </a:xfrm>
        </p:grpSpPr>
        <p:pic>
          <p:nvPicPr>
            <p:cNvPr id="237" name="Picture 13" descr=""/>
            <p:cNvPicPr/>
            <p:nvPr/>
          </p:nvPicPr>
          <p:blipFill>
            <a:blip r:embed="rId5"/>
            <a:stretch/>
          </p:blipFill>
          <p:spPr>
            <a:xfrm rot="3947400">
              <a:off x="4440240" y="512280"/>
              <a:ext cx="1301760" cy="149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Text Box 14"/>
            <p:cNvSpPr/>
            <p:nvPr/>
          </p:nvSpPr>
          <p:spPr>
            <a:xfrm>
              <a:off x="3352680" y="863640"/>
              <a:ext cx="4038840" cy="131292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0" spc="-1" strike="noStrike">
                  <a:solidFill>
                    <a:srgbClr val="000000"/>
                  </a:solidFill>
                  <a:latin typeface="Calibri"/>
                </a:rPr>
                <a:t>a kitten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9" name="triangle.wav" descr=""/>
          <p:cNvPicPr/>
          <p:nvPr/>
        </p:nvPicPr>
        <p:blipFill>
          <a:blip r:embed="rId6"/>
          <a:stretch/>
        </p:blipFill>
        <p:spPr>
          <a:xfrm>
            <a:off x="-30492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40" name="poprobuy_eshe.wav" descr=""/>
          <p:cNvPicPr/>
          <p:nvPr/>
        </p:nvPicPr>
        <p:blipFill>
          <a:blip r:embed="rId7"/>
          <a:stretch/>
        </p:blipFill>
        <p:spPr>
          <a:xfrm>
            <a:off x="-304920" y="457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41" name="poprobuy_eshe.wav" descr=""/>
          <p:cNvPicPr/>
          <p:nvPr/>
        </p:nvPicPr>
        <p:blipFill>
          <a:blip r:embed="rId8"/>
          <a:stretch/>
        </p:blipFill>
        <p:spPr>
          <a:xfrm>
            <a:off x="-304920" y="914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42" name="poprobuy_eshe.wav" descr=""/>
          <p:cNvPicPr/>
          <p:nvPr/>
        </p:nvPicPr>
        <p:blipFill>
          <a:blip r:embed="rId9"/>
          <a:stretch/>
        </p:blipFill>
        <p:spPr>
          <a:xfrm>
            <a:off x="-304920" y="1523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23" descr="T-kotenok_enl.png"/>
          <p:cNvPicPr/>
          <p:nvPr/>
        </p:nvPicPr>
        <p:blipFill>
          <a:blip r:embed="rId10"/>
          <a:srcRect l="9095" t="0" r="9045" b="0"/>
          <a:stretch/>
        </p:blipFill>
        <p:spPr>
          <a:xfrm>
            <a:off x="2514600" y="4952880"/>
            <a:ext cx="1720800" cy="210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withEffect" fill="hold" presetClass="path" presetID="3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15799 0.01896 C -0.15486 0.01272 -0.14062 -0.05296 -0.10469 -0.04857 C -0.05 -0.04233 -0.02847 0.00416 0.02205 -0.04233 C 0.05382 -0.06985 0.09115 -0.13923 0.11858 -0.13715 C 0.18056 -0.13483 0.1934 -0.0636 0.1934 0.00208 C 0.19497 0.09458 0.11441 0.17275 0.01632 0.18154 C -0.08299 0.18779 -0.1651 0.08834 -0.15799 0.01896 Z">
                                      <p:cBhvr>
                                        <p:cTn id="473" dur="13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4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5.55556E-007 7.90009E-006 C -0.01041 0.00486 -0.0059 0.00301 -0.01336 0.00602 C -0.02066 0.01249 -0.029 0.01434 -0.03733 0.01804 C -0.04914 0.02336 -0.06112 0.02891 -0.07309 0.03377 C -0.08247 0.0421 -0.09046 0.05135 -0.09705 0.0636 C -0.10086 0.08026 -0.11875 0.08465 -0.12987 0.08951 C -0.13091 0.08997 -0.1375 0.09344 -0.13872 0.09344 C -0.15313 0.09459 -0.16771 0.09483 -0.18212 0.09552 C -0.20191 0.09436 -0.21476 0.09737 -0.23125 0.08951 C -0.30035 0.0939 -0.34497 0.09436 -0.42691 0.09552 C -0.44184 0.09968 -0.42778 0.09459 -0.43872 0.10153 C -0.44341 0.10454 -0.44896 0.10454 -0.45365 0.10754 C -0.45834 0.11078 -0.46007 0.11402 -0.46407 0.11934 C -0.47066 0.14455 -0.49271 0.15264 -0.51042 0.15704 C -0.52257 0.16814 -0.53959 0.17114 -0.55365 0.17693 C -0.56407 0.18618 -0.55921 0.18363 -0.56719 0.18687 C -0.56858 0.18895 -0.57032 0.19057 -0.57153 0.19288 C -0.5724 0.19473 -0.57205 0.19728 -0.57309 0.1989 C -0.57882 0.20815 -0.58698 0.213 -0.59254 0.22272 C -0.59653 0.24631 -0.5908 0.2174 -0.59705 0.23659 C -0.59966 0.24446 -0.59931 0.25116 -0.60296 0.25856 C -0.60365 0.27406 -0.6125 0.32332 -0.59705 0.33002 C -0.5875 0.34274 -0.59757 0.33118 -0.58803 0.33812 C -0.5849 0.34043 -0.579 0.34598 -0.579 0.34598 C -0.57275 0.3587 -0.5632 0.37535 -0.55365 0.38391 C -0.54584 0.39108 -0.54983 0.38437 -0.54323 0.39177 C -0.54167 0.39362 -0.54046 0.39617 -0.53872 0.39779 C -0.53612 0.4001 -0.53264 0.39987 -0.52987 0.40172 C -0.51737 0.41027 -0.50209 0.41351 -0.48803 0.41559 C -0.46858 0.4149 -0.44723 0.42299 -0.42987 0.41166 C -0.4158 0.40241 -0.39723 0.38969 -0.38959 0.3698 C -0.38438 0.35616 -0.38247 0.33881 -0.37605 0.32609 C -0.3691 0.31245 -0.34306 0.30551 -0.33125 0.30019 C -0.32639 0.29788 -0.32275 0.29256 -0.31789 0.29025 C -0.31303 0.284 -0.3125 0.28076 -0.31042 0.27244 C -0.3099 0.25532 -0.30973 0.23798 -0.30886 0.22087 C -0.30834 0.21115 -0.30365 0.19774 -0.30139 0.18895 C -0.29514 0.16513 -0.29063 0.14015 -0.28212 0.11749 C -0.28056 0.10569 -0.27952 0.09344 -0.27466 0.08349 C -0.27257 0.07332 -0.27101 0.06129 -0.26563 0.05366 C -0.25938 0.0303 -0.2533 0.02221 -0.23577 0.01596 C -0.22987 0.01666 -0.22379 0.01643 -0.21789 0.01804 C -0.2125 0.01943 -0.20851 0.02753 -0.20296 0.02984 C -0.19862 0.03562 -0.19549 0.03909 -0.18959 0.04186 C -0.18351 0.0495 -0.17813 0.05505 -0.17014 0.05782 C -0.16407 0.06314 -0.15903 0.06846 -0.15226 0.0717 C -0.14011 0.08696 -0.12639 0.10408 -0.11042 0.11148 C -0.10139 0.1235 -0.09723 0.11818 -0.08646 0.12535 C -0.07881 0.13044 -0.07101 0.13298 -0.06268 0.1353 C 0.03733 0.13322 0.00851 0.14131 0.05382 0.12743 C 0.05817 0.12165 0.06302 0.11911 0.06719 0.11333 C 0.06945 0.10477 0.07119 0.09621 0.0731 0.08766 C 0.07395 0.08349 0.07622 0.07563 0.07622 0.07563 C 0.07587 0.05158 0.0882 -0.02266 0.0658 -0.05365 C 0.06284 -0.06521 0.06667 -0.0555 0.05972 -0.06151 C 0.05799 -0.06313 0.05677 -0.06567 0.05521 -0.06752 C 0.04914 -0.07423 0.05277 -0.06914 0.04635 -0.07354 C 0.03317 -0.08233 0.02327 -0.09944 0.00903 -0.10522 C 0.00261 -0.11424 -0.00746 -0.12141 -0.01631 -0.12511 C -0.03629 -0.12442 -0.0691 -0.14338 -0.07605 -0.11332 C -0.07291 -0.08996 -0.07379 -0.08741 -0.06112 -0.07354 C -0.05348 -0.06498 -0.06007 -0.06914 -0.05226 -0.06544 C -0.0507 -0.06359 -0.04948 -0.06128 -0.04775 -0.05966 C -0.04636 -0.05851 -0.04461 -0.05874 -0.04323 -0.05758 C -0.03263 -0.0481 -0.04445 -0.05388 -0.03421 -0.04972 C -0.02673 -0.03931 -0.03716 -0.05272 -0.02535 -0.04162 C -0.02361 -0.04 -0.02256 -0.03723 -0.02083 -0.03561 C -0.01823 -0.0333 -0.01492 -0.03307 -0.01198 -0.03168 C -0.0073 -0.02567 -0.00156 -0.02196 0.00295 -0.01572 C 0.00244 -0.0111 0.00313 -0.00601 0.00157 -0.00184 C 0.00087 7.90009E-006 -0.00173 -0.00138 -0.00295 7.90009E-006 C -0.00364 0.00093 -0.00105 7.90009E-006 -5.55556E-007 7.90009E-006 Z">
                                      <p:cBhvr>
                                        <p:cTn id="475" dur="13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8.69565E-007 C 0.01337 0.0007 0.02691 0.00023 0.04028 0.00208 C 0.04201 0.00232 0.04305 0.00555 0.04479 0.00602 C 0.04913 0.0074 0.05364 0.00717 0.05816 0.00787 C 0.10243 0.00717 0.14687 0.00717 0.19114 0.00602 C 0.19618 0.00578 0.20139 0.00185 0.20607 0.00393 C 0.20798 0.00486 0.20538 0.00948 0.20451 0.01203 C 0.20295 0.01619 0.20052 0.01989 0.19861 0.02382 C 0.19184 0.03724 0.16493 0.04417 0.15382 0.04764 C 0.12552 0.07216 0.07465 0.06476 0.04774 0.06568 C -0.03282 0.06453 -0.05955 0.0784 -0.11493 0.05574 C -0.12778 0.04394 -0.14757 0.03978 -0.16268 0.03377 C -0.17379 0.02937 -0.18455 0.0229 -0.19549 0.01781 C -0.19219 0.03053 -0.18854 0.0377 -0.179 0.04163 C -0.17361 0.04926 -0.17882 0.04302 -0.17014 0.04972 C -0.16702 0.05227 -0.16111 0.05759 -0.16111 0.05759 C -0.15556 0.06892 -0.14636 0.07748 -0.13733 0.08349 C -0.13125 0.09598 -0.13802 0.08465 -0.12986 0.09135 C -0.12518 0.09528 -0.12413 0.09875 -0.11788 0.1013 C -0.10452 0.11379 -0.0908 0.12165 -0.07466 0.12535 C -0.06962 0.12974 -0.06511 0.13021 -0.05972 0.13321 C -0.03785 0.1457 -0.01945 0.15079 0.00451 0.1531 C -0.00347 0.15634 -0.01025 0.16582 -0.01493 0.17484 C -0.01684 0.18317 -0.0217 0.18941 -0.02535 0.19681 C -0.02622 0.19866 -0.02587 0.20121 -0.02691 0.20282 C -0.029 0.20652 -0.03247 0.20884 -0.03438 0.21277 C -0.04167 0.22757 -0.05174 0.23543 -0.06424 0.24052 C -0.0691 0.24491 -0.07361 0.24607 -0.079 0.24861 C -0.19167 0.24538 -0.12344 0.25463 -0.16111 0.23867 C -0.17032 0.22641 -0.18212 0.22225 -0.19393 0.2167 C -0.1967 0.21323 -0.20035 0.21069 -0.20295 0.20676 C -0.20538 0.20306 -0.20625 0.19797 -0.20886 0.19473 C -0.2099 0.19334 -0.21094 0.19219 -0.21198 0.1908 C -0.21389 0.1827 -0.2158 0.17484 -0.21788 0.16698 C -0.21858 0.19473 -0.20764 0.23243 -0.22986 0.2426 C -0.23542 0.24815 -0.23854 0.24977 -0.24479 0.25255 C -0.24931 0.25856 -0.25504 0.26365 -0.26111 0.26642 C -0.25278 0.27799 -0.26146 0.26827 -0.2507 0.27429 C -0.24896 0.27521 -0.24792 0.27752 -0.24618 0.27845 C -0.24167 0.28099 -0.23594 0.28215 -0.23125 0.28423 C -0.22275 0.28793 -0.21476 0.29209 -0.20591 0.29417 C -0.07448 0.29163 -0.13976 0.30204 -0.08959 0.28423 C -0.0842 0.2796 -0.07865 0.28007 -0.07309 0.27637 C -0.06094 0.26827 -0.0757 0.2759 -0.06424 0.27035 C -0.05799 0.25856 -0.04566 0.25578 -0.03872 0.24445 C -0.02882 0.22826 -0.02118 0.20999 -0.01042 0.19473 C -0.00886 0.18872 -0.00469 0.17923 -0.00139 0.17484 C 0.00069 0.16258 0.0059 0.14963 0.00903 0.13714 C 0.01041 0.13113 0.01354 0.11934 0.01354 0.11934 C 0.01284 0.0895 0.02396 0.04602 -0.00139 0.03377 C -0.00573 0.02822 -0.004 0.03192 -0.00591 0.02382 C -0.00695 0.01989 -0.00886 0.01203 -0.00886 0.01203 C -0.00695 -0.00115 -0.0099 0.00278 3.33333E-006 -8.69565E-007 Z">
                                      <p:cBhvr>
                                        <p:cTn id="477" dur="13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8.33333E-007 -1.42461E-006 C -0.07396 -0.00648 0.01493 0.00069 -0.15816 -0.00416 C -0.16337 -0.0044 -0.16701 -0.00995 -0.17153 -0.01203 C -0.17691 -0.01457 -0.18299 -0.01434 -0.18802 -0.01804 C -0.20382 -0.0296 -0.19132 -0.02313 -0.20139 -0.02798 C -0.20503 -0.03261 -0.21337 -0.03978 -0.21337 -0.03978 C -0.21944 -0.06291 -0.2125 -0.08603 -0.21042 -0.10939 C -0.21146 -0.12882 -0.21215 -0.14662 -0.22239 -0.16119 C -0.22413 -0.16883 -0.22639 -0.17068 -0.23125 -0.17507 C -0.23229 -0.17715 -0.23299 -0.17946 -0.23437 -0.18108 C -0.23559 -0.18224 -0.23767 -0.18155 -0.23871 -0.18293 C -0.23976 -0.18432 -0.23924 -0.18733 -0.24028 -0.18895 C -0.24271 -0.19288 -0.2467 -0.19496 -0.24913 -0.19889 C -0.25816 -0.21346 -0.24583 -0.19542 -0.25521 -0.21277 C -0.2592 -0.22017 -0.26614 -0.22341 -0.27014 -0.23081 C -0.27691 -0.24353 -0.26875 -0.23497 -0.2776 -0.2426 C -0.27917 -0.24908 -0.28507 -0.26064 -0.28507 -0.26064 C -0.28924 -0.27798 -0.28246 -0.25255 -0.29097 -0.27243 C -0.29201 -0.27475 -0.29167 -0.27798 -0.29253 -0.28053 C -0.29739 -0.29556 -0.29392 -0.27729 -0.29705 -0.29232 C -0.29809 -0.29764 -0.3 -0.30828 -0.3 -0.30828 C -0.29896 -0.36378 -0.30399 -0.37766 -0.29392 -0.41559 C -0.29219 -0.4223 -0.28646 -0.42553 -0.28351 -0.43155 C -0.27951 -0.44889 -0.25694 -0.45629 -0.24618 -0.46531 C -0.23576 -0.47387 -0.24462 -0.46947 -0.23576 -0.47317 C -0.22708 -0.48127 -0.21337 -0.48358 -0.20295 -0.48728 C -0.17309 -0.48451 -0.18837 -0.48705 -0.17153 -0.47919 C -0.17049 -0.47711 -0.16944 -0.47526 -0.16858 -0.47317 C -0.16788 -0.47132 -0.16805 -0.46901 -0.16719 -0.46739 C -0.16441 -0.46138 -0.15694 -0.4556 -0.15226 -0.45329 C -0.14739 -0.44727 -0.14375 -0.44773 -0.13733 -0.44542 C -0.12066 -0.43964 -0.11892 -0.43918 -0.09705 -0.43756 C -0.08628 -0.4327 -0.09062 -0.43571 -0.08351 -0.42946 C -0.08055 -0.42345 -0.0776 -0.41767 -0.07465 -0.41166 C -0.07361 -0.40958 -0.07153 -0.40564 -0.07153 -0.40564 C -0.06979 -0.39824 -0.06701 -0.39339 -0.06562 -0.38576 C -0.0651 -0.35685 -0.07483 -0.31846 -0.05816 -0.29625 C -0.05573 -0.28654 -0.05833 -0.29232 -0.05069 -0.28631 C -0.0401 -0.27798 -0.03698 -0.27752 -0.02535 -0.27243 C -0.00069 -0.26156 -0.01962 -0.26665 -0.00139 -0.26249 C 0.00243 -0.25995 0.0066 -0.25902 0.01042 -0.25648 C 0.01163 -0.25555 0.01233 -0.2537 0.01354 -0.25255 C 0.01858 -0.24815 0.02448 -0.24422 0.02986 -0.24075 C 0.03351 -0.23566 0.0375 -0.23474 0.04184 -0.23081 C 0.04375 -0.22317 0.04653 -0.21439 0.05087 -0.20884 C 0.05243 -0.20028 0.05521 -0.18293 0.05521 -0.18293 C 0.05642 -0.14871 0.05833 -0.09736 0.05833 -0.06568 C 0.05833 -0.06036 0.05833 -0.05458 0.05677 -0.04972 C 0.05486 -0.04371 0.0434 -0.04186 0.0434 -0.04186 C 0.03941 -0.03677 0.02813 -0.03053 0.0224 -0.02798 C 0.01945 -0.0266 0.01354 -0.02382 0.01354 -0.02382 C 0.01007 -0.01943 0.00781 -0.01457 0.00451 -0.00995 C 0.00399 -0.0081 0.00417 -0.00532 0.00295 -0.00416 C -0.00226 0.00092 -0.0125 -1.42461E-006 -8.33333E-007 -1.42461E-006 Z">
                                      <p:cBhvr>
                                        <p:cTn id="479" dur="13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0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481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indefinite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6" dur="1411" fill="hold"/>
                                        <p:tgtEl>
                                          <p:spTgt spid="2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7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488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Ura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491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6" dur="4127" fill="hold"/>
                                        <p:tgtEl>
                                          <p:spTgt spid="2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0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501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indefinite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6" dur="1411" fill="hold"/>
                                        <p:tgtEl>
                                          <p:spTgt spid="2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7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508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indefinite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3" dur="1411" fill="hold"/>
                                        <p:tgtEl>
                                          <p:spTgt spid="2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Group 3"/>
          <p:cNvGrpSpPr/>
          <p:nvPr/>
        </p:nvGrpSpPr>
        <p:grpSpPr>
          <a:xfrm>
            <a:off x="1828800" y="3581280"/>
            <a:ext cx="5029200" cy="1693800"/>
            <a:chOff x="1828800" y="3581280"/>
            <a:chExt cx="5029200" cy="1693800"/>
          </a:xfrm>
        </p:grpSpPr>
        <p:pic>
          <p:nvPicPr>
            <p:cNvPr id="245" name="Picture 4" descr=""/>
            <p:cNvPicPr/>
            <p:nvPr/>
          </p:nvPicPr>
          <p:blipFill>
            <a:blip r:embed="rId1"/>
            <a:stretch/>
          </p:blipFill>
          <p:spPr>
            <a:xfrm>
              <a:off x="2895480" y="3581280"/>
              <a:ext cx="152388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 Box 5"/>
            <p:cNvSpPr/>
            <p:nvPr/>
          </p:nvSpPr>
          <p:spPr>
            <a:xfrm>
              <a:off x="1828800" y="3962160"/>
              <a:ext cx="5029200" cy="131292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0" spc="-1" strike="noStrike">
                  <a:solidFill>
                    <a:srgbClr val="000000"/>
                  </a:solidFill>
                  <a:latin typeface="Calibri"/>
                </a:rPr>
                <a:t>a doll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6"/>
          <p:cNvGrpSpPr/>
          <p:nvPr/>
        </p:nvGrpSpPr>
        <p:grpSpPr>
          <a:xfrm>
            <a:off x="3886200" y="2008440"/>
            <a:ext cx="4419720" cy="2450520"/>
            <a:chOff x="3886200" y="2008440"/>
            <a:chExt cx="4419720" cy="2450520"/>
          </a:xfrm>
        </p:grpSpPr>
        <p:pic>
          <p:nvPicPr>
            <p:cNvPr id="248" name="Picture 7" descr=""/>
            <p:cNvPicPr/>
            <p:nvPr/>
          </p:nvPicPr>
          <p:blipFill>
            <a:blip r:embed="rId2"/>
            <a:stretch/>
          </p:blipFill>
          <p:spPr>
            <a:xfrm rot="2679600">
              <a:off x="5562360" y="2361960"/>
              <a:ext cx="1722600" cy="174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Text Box 8"/>
            <p:cNvSpPr/>
            <p:nvPr/>
          </p:nvSpPr>
          <p:spPr>
            <a:xfrm>
              <a:off x="3886200" y="2819160"/>
              <a:ext cx="4419720" cy="131292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0" spc="-1" strike="noStrike">
                  <a:solidFill>
                    <a:srgbClr val="000000"/>
                  </a:solidFill>
                  <a:latin typeface="Calibri"/>
                </a:rPr>
                <a:t>a </a:t>
              </a:r>
              <a:r>
                <a:rPr b="1" i="1" lang="en-US" sz="8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i="1" lang="en-US" sz="8000" spc="-1" strike="noStrike">
                  <a:solidFill>
                    <a:srgbClr val="000000"/>
                  </a:solidFill>
                  <a:latin typeface="Calibri"/>
                </a:rPr>
                <a:t>ox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9"/>
          <p:cNvGrpSpPr/>
          <p:nvPr/>
        </p:nvGrpSpPr>
        <p:grpSpPr>
          <a:xfrm>
            <a:off x="5257800" y="1371600"/>
            <a:ext cx="3738600" cy="1693800"/>
            <a:chOff x="5257800" y="1371600"/>
            <a:chExt cx="3738600" cy="1693800"/>
          </a:xfrm>
        </p:grpSpPr>
        <p:pic>
          <p:nvPicPr>
            <p:cNvPr id="251" name="Picture 10" descr=""/>
            <p:cNvPicPr/>
            <p:nvPr/>
          </p:nvPicPr>
          <p:blipFill>
            <a:blip r:embed="rId3"/>
            <a:stretch/>
          </p:blipFill>
          <p:spPr>
            <a:xfrm>
              <a:off x="7315200" y="1371600"/>
              <a:ext cx="1314720" cy="15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Text Box 11"/>
            <p:cNvSpPr/>
            <p:nvPr/>
          </p:nvSpPr>
          <p:spPr>
            <a:xfrm>
              <a:off x="5257800" y="1752480"/>
              <a:ext cx="3738600" cy="131292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0" spc="-1" strike="noStrike">
                  <a:solidFill>
                    <a:srgbClr val="000000"/>
                  </a:solidFill>
                  <a:latin typeface="Calibri"/>
                </a:rPr>
                <a:t>a pig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2"/>
          <p:cNvGrpSpPr/>
          <p:nvPr/>
        </p:nvGrpSpPr>
        <p:grpSpPr>
          <a:xfrm>
            <a:off x="3048120" y="360000"/>
            <a:ext cx="4038480" cy="1816560"/>
            <a:chOff x="3048120" y="360000"/>
            <a:chExt cx="4038480" cy="1816560"/>
          </a:xfrm>
        </p:grpSpPr>
        <p:pic>
          <p:nvPicPr>
            <p:cNvPr id="254" name="Picture 13" descr=""/>
            <p:cNvPicPr/>
            <p:nvPr/>
          </p:nvPicPr>
          <p:blipFill>
            <a:blip r:embed="rId4"/>
            <a:stretch/>
          </p:blipFill>
          <p:spPr>
            <a:xfrm rot="3947400">
              <a:off x="4440240" y="512280"/>
              <a:ext cx="1301760" cy="149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Text Box 14"/>
            <p:cNvSpPr/>
            <p:nvPr/>
          </p:nvSpPr>
          <p:spPr>
            <a:xfrm>
              <a:off x="3048120" y="863640"/>
              <a:ext cx="4038480" cy="131292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0" spc="-1" strike="noStrike">
                  <a:solidFill>
                    <a:srgbClr val="000000"/>
                  </a:solidFill>
                  <a:latin typeface="Calibri"/>
                </a:rPr>
                <a:t>a cup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6" name="triangle.wav" descr=""/>
          <p:cNvPicPr/>
          <p:nvPr/>
        </p:nvPicPr>
        <p:blipFill>
          <a:blip r:embed="rId5"/>
          <a:stretch/>
        </p:blipFill>
        <p:spPr>
          <a:xfrm>
            <a:off x="-30492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57" name="poprobuy_eshe.wav" descr=""/>
          <p:cNvPicPr/>
          <p:nvPr/>
        </p:nvPicPr>
        <p:blipFill>
          <a:blip r:embed="rId6"/>
          <a:stretch/>
        </p:blipFill>
        <p:spPr>
          <a:xfrm>
            <a:off x="-304920" y="457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58" name="poprobuy_eshe.wav" descr=""/>
          <p:cNvPicPr/>
          <p:nvPr/>
        </p:nvPicPr>
        <p:blipFill>
          <a:blip r:embed="rId7"/>
          <a:stretch/>
        </p:blipFill>
        <p:spPr>
          <a:xfrm>
            <a:off x="-304920" y="914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59" name="poprobuy_eshe.wav" descr=""/>
          <p:cNvPicPr/>
          <p:nvPr/>
        </p:nvPicPr>
        <p:blipFill>
          <a:blip r:embed="rId8"/>
          <a:stretch/>
        </p:blipFill>
        <p:spPr>
          <a:xfrm>
            <a:off x="-304920" y="1523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1" descr="ukraschenie_8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7431120" y="4495680"/>
            <a:ext cx="1712880" cy="2362320"/>
          </a:xfrm>
          <a:prstGeom prst="rect">
            <a:avLst/>
          </a:prstGeom>
          <a:ln w="0">
            <a:noFill/>
          </a:ln>
        </p:spPr>
      </p:pic>
      <p:pic>
        <p:nvPicPr>
          <p:cNvPr id="261" name="Рисунок 22" descr="svin.png"/>
          <p:cNvPicPr/>
          <p:nvPr/>
        </p:nvPicPr>
        <p:blipFill>
          <a:blip r:embed="rId10"/>
          <a:stretch/>
        </p:blipFill>
        <p:spPr>
          <a:xfrm>
            <a:off x="4724280" y="5165640"/>
            <a:ext cx="2054520" cy="16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0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withEffect" fill="hold" presetClass="path" presetID="3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15799 0.01896 C -0.15486 0.01272 -0.14062 -0.05296 -0.10469 -0.04857 C -0.05 -0.04233 -0.02847 0.00416 0.02205 -0.04233 C 0.05382 -0.06985 0.09115 -0.13923 0.11858 -0.13715 C 0.18056 -0.13483 0.1934 -0.0636 0.1934 0.00208 C 0.19497 0.09458 0.11441 0.17275 0.01632 0.18154 C -0.08299 0.18779 -0.1651 0.08834 -0.15799 0.01896 Z">
                                      <p:cBhvr>
                                        <p:cTn id="519" dur="130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0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5.55556E-007 7.90009E-006 C -0.01041 0.00486 -0.0059 0.00301 -0.01336 0.00602 C -0.02066 0.01249 -0.029 0.01434 -0.03733 0.01804 C -0.04914 0.02336 -0.06112 0.02891 -0.07309 0.03377 C -0.08247 0.0421 -0.09046 0.05135 -0.09705 0.0636 C -0.10086 0.08026 -0.11875 0.08465 -0.12987 0.08951 C -0.13091 0.08997 -0.1375 0.09344 -0.13872 0.09344 C -0.15313 0.09459 -0.16771 0.09483 -0.18212 0.09552 C -0.20191 0.09436 -0.21476 0.09737 -0.23125 0.08951 C -0.30035 0.0939 -0.34497 0.09436 -0.42691 0.09552 C -0.44184 0.09968 -0.42778 0.09459 -0.43872 0.10153 C -0.44341 0.10454 -0.44896 0.10454 -0.45365 0.10754 C -0.45834 0.11078 -0.46007 0.11402 -0.46407 0.11934 C -0.47066 0.14455 -0.49271 0.15264 -0.51042 0.15704 C -0.52257 0.16814 -0.53959 0.17114 -0.55365 0.17693 C -0.56407 0.18618 -0.55921 0.18363 -0.56719 0.18687 C -0.56858 0.18895 -0.57032 0.19057 -0.57153 0.19288 C -0.5724 0.19473 -0.57205 0.19728 -0.57309 0.1989 C -0.57882 0.20815 -0.58698 0.213 -0.59254 0.22272 C -0.59653 0.24631 -0.5908 0.2174 -0.59705 0.23659 C -0.59966 0.24446 -0.59931 0.25116 -0.60296 0.25856 C -0.60365 0.27406 -0.6125 0.32332 -0.59705 0.33002 C -0.5875 0.34274 -0.59757 0.33118 -0.58803 0.33812 C -0.5849 0.34043 -0.579 0.34598 -0.579 0.34598 C -0.57275 0.3587 -0.5632 0.37535 -0.55365 0.38391 C -0.54584 0.39108 -0.54983 0.38437 -0.54323 0.39177 C -0.54167 0.39362 -0.54046 0.39617 -0.53872 0.39779 C -0.53612 0.4001 -0.53264 0.39987 -0.52987 0.40172 C -0.51737 0.41027 -0.50209 0.41351 -0.48803 0.41559 C -0.46858 0.4149 -0.44723 0.42299 -0.42987 0.41166 C -0.4158 0.40241 -0.39723 0.38969 -0.38959 0.3698 C -0.38438 0.35616 -0.38247 0.33881 -0.37605 0.32609 C -0.3691 0.31245 -0.34306 0.30551 -0.33125 0.30019 C -0.32639 0.29788 -0.32275 0.29256 -0.31789 0.29025 C -0.31303 0.284 -0.3125 0.28076 -0.31042 0.27244 C -0.3099 0.25532 -0.30973 0.23798 -0.30886 0.22087 C -0.30834 0.21115 -0.30365 0.19774 -0.30139 0.18895 C -0.29514 0.16513 -0.29063 0.14015 -0.28212 0.11749 C -0.28056 0.10569 -0.27952 0.09344 -0.27466 0.08349 C -0.27257 0.07332 -0.27101 0.06129 -0.26563 0.05366 C -0.25938 0.0303 -0.2533 0.02221 -0.23577 0.01596 C -0.22987 0.01666 -0.22379 0.01643 -0.21789 0.01804 C -0.2125 0.01943 -0.20851 0.02753 -0.20296 0.02984 C -0.19862 0.03562 -0.19549 0.03909 -0.18959 0.04186 C -0.18351 0.0495 -0.17813 0.05505 -0.17014 0.05782 C -0.16407 0.06314 -0.15903 0.06846 -0.15226 0.0717 C -0.14011 0.08696 -0.12639 0.10408 -0.11042 0.11148 C -0.10139 0.1235 -0.09723 0.11818 -0.08646 0.12535 C -0.07881 0.13044 -0.07101 0.13298 -0.06268 0.1353 C 0.03733 0.13322 0.00851 0.14131 0.05382 0.12743 C 0.05817 0.12165 0.06302 0.11911 0.06719 0.11333 C 0.06945 0.10477 0.07119 0.09621 0.0731 0.08766 C 0.07395 0.08349 0.07622 0.07563 0.07622 0.07563 C 0.07587 0.05158 0.0882 -0.02266 0.0658 -0.05365 C 0.06284 -0.06521 0.06667 -0.0555 0.05972 -0.06151 C 0.05799 -0.06313 0.05677 -0.06567 0.05521 -0.06752 C 0.04914 -0.07423 0.05277 -0.06914 0.04635 -0.07354 C 0.03317 -0.08233 0.02327 -0.09944 0.00903 -0.10522 C 0.00261 -0.11424 -0.00746 -0.12141 -0.01631 -0.12511 C -0.03629 -0.12442 -0.0691 -0.14338 -0.07605 -0.11332 C -0.07291 -0.08996 -0.07379 -0.08741 -0.06112 -0.07354 C -0.05348 -0.06498 -0.06007 -0.06914 -0.05226 -0.06544 C -0.0507 -0.06359 -0.04948 -0.06128 -0.04775 -0.05966 C -0.04636 -0.05851 -0.04461 -0.05874 -0.04323 -0.05758 C -0.03263 -0.0481 -0.04445 -0.05388 -0.03421 -0.04972 C -0.02673 -0.03931 -0.03716 -0.05272 -0.02535 -0.04162 C -0.02361 -0.04 -0.02256 -0.03723 -0.02083 -0.03561 C -0.01823 -0.0333 -0.01492 -0.03307 -0.01198 -0.03168 C -0.0073 -0.02567 -0.00156 -0.02196 0.00295 -0.01572 C 0.00244 -0.0111 0.00313 -0.00601 0.00157 -0.00184 C 0.00087 7.90009E-006 -0.00173 -0.00138 -0.00295 7.90009E-006 C -0.00364 0.00093 -0.00105 7.90009E-006 -5.55556E-007 7.90009E-006 Z">
                                      <p:cBhvr>
                                        <p:cTn id="521" dur="13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2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8.69565E-007 C 0.01337 0.0007 0.02691 0.00023 0.04028 0.00208 C 0.04201 0.00232 0.04305 0.00555 0.04479 0.00602 C 0.04913 0.0074 0.05364 0.00717 0.05816 0.00787 C 0.10243 0.00717 0.14687 0.00717 0.19114 0.00602 C 0.19618 0.00578 0.20139 0.00185 0.20607 0.00393 C 0.20798 0.00486 0.20538 0.00948 0.20451 0.01203 C 0.20295 0.01619 0.20052 0.01989 0.19861 0.02382 C 0.19184 0.03724 0.16493 0.04417 0.15382 0.04764 C 0.12552 0.07216 0.07465 0.06476 0.04774 0.06568 C -0.03282 0.06453 -0.05955 0.0784 -0.11493 0.05574 C -0.12778 0.04394 -0.14757 0.03978 -0.16268 0.03377 C -0.17379 0.02937 -0.18455 0.0229 -0.19549 0.01781 C -0.19219 0.03053 -0.18854 0.0377 -0.179 0.04163 C -0.17361 0.04926 -0.17882 0.04302 -0.17014 0.04972 C -0.16702 0.05227 -0.16111 0.05759 -0.16111 0.05759 C -0.15556 0.06892 -0.14636 0.07748 -0.13733 0.08349 C -0.13125 0.09598 -0.13802 0.08465 -0.12986 0.09135 C -0.12518 0.09528 -0.12413 0.09875 -0.11788 0.1013 C -0.10452 0.11379 -0.0908 0.12165 -0.07466 0.12535 C -0.06962 0.12974 -0.06511 0.13021 -0.05972 0.13321 C -0.03785 0.1457 -0.01945 0.15079 0.00451 0.1531 C -0.00347 0.15634 -0.01025 0.16582 -0.01493 0.17484 C -0.01684 0.18317 -0.0217 0.18941 -0.02535 0.19681 C -0.02622 0.19866 -0.02587 0.20121 -0.02691 0.20282 C -0.029 0.20652 -0.03247 0.20884 -0.03438 0.21277 C -0.04167 0.22757 -0.05174 0.23543 -0.06424 0.24052 C -0.0691 0.24491 -0.07361 0.24607 -0.079 0.24861 C -0.19167 0.24538 -0.12344 0.25463 -0.16111 0.23867 C -0.17032 0.22641 -0.18212 0.22225 -0.19393 0.2167 C -0.1967 0.21323 -0.20035 0.21069 -0.20295 0.20676 C -0.20538 0.20306 -0.20625 0.19797 -0.20886 0.19473 C -0.2099 0.19334 -0.21094 0.19219 -0.21198 0.1908 C -0.21389 0.1827 -0.2158 0.17484 -0.21788 0.16698 C -0.21858 0.19473 -0.20764 0.23243 -0.22986 0.2426 C -0.23542 0.24815 -0.23854 0.24977 -0.24479 0.25255 C -0.24931 0.25856 -0.25504 0.26365 -0.26111 0.26642 C -0.25278 0.27799 -0.26146 0.26827 -0.2507 0.27429 C -0.24896 0.27521 -0.24792 0.27752 -0.24618 0.27845 C -0.24167 0.28099 -0.23594 0.28215 -0.23125 0.28423 C -0.22275 0.28793 -0.21476 0.29209 -0.20591 0.29417 C -0.07448 0.29163 -0.13976 0.30204 -0.08959 0.28423 C -0.0842 0.2796 -0.07865 0.28007 -0.07309 0.27637 C -0.06094 0.26827 -0.0757 0.2759 -0.06424 0.27035 C -0.05799 0.25856 -0.04566 0.25578 -0.03872 0.24445 C -0.02882 0.22826 -0.02118 0.20999 -0.01042 0.19473 C -0.00886 0.18872 -0.00469 0.17923 -0.00139 0.17484 C 0.00069 0.16258 0.0059 0.14963 0.00903 0.13714 C 0.01041 0.13113 0.01354 0.11934 0.01354 0.11934 C 0.01284 0.0895 0.02396 0.04602 -0.00139 0.03377 C -0.00573 0.02822 -0.004 0.03192 -0.00591 0.02382 C -0.00695 0.01989 -0.00886 0.01203 -0.00886 0.01203 C -0.00695 -0.00115 -0.0099 0.00278 3.33333E-006 -8.69565E-007 Z">
                                      <p:cBhvr>
                                        <p:cTn id="523" dur="13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4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8.33333E-007 -1.42461E-006 C -0.07396 -0.00648 0.01493 0.00069 -0.15816 -0.00416 C -0.16337 -0.0044 -0.16701 -0.00995 -0.17153 -0.01203 C -0.17691 -0.01457 -0.18299 -0.01434 -0.18802 -0.01804 C -0.20382 -0.0296 -0.19132 -0.02313 -0.20139 -0.02798 C -0.20503 -0.03261 -0.21337 -0.03978 -0.21337 -0.03978 C -0.21944 -0.06291 -0.2125 -0.08603 -0.21042 -0.10939 C -0.21146 -0.12882 -0.21215 -0.14662 -0.22239 -0.16119 C -0.22413 -0.16883 -0.22639 -0.17068 -0.23125 -0.17507 C -0.23229 -0.17715 -0.23299 -0.17946 -0.23437 -0.18108 C -0.23559 -0.18224 -0.23767 -0.18155 -0.23871 -0.18293 C -0.23976 -0.18432 -0.23924 -0.18733 -0.24028 -0.18895 C -0.24271 -0.19288 -0.2467 -0.19496 -0.24913 -0.19889 C -0.25816 -0.21346 -0.24583 -0.19542 -0.25521 -0.21277 C -0.2592 -0.22017 -0.26614 -0.22341 -0.27014 -0.23081 C -0.27691 -0.24353 -0.26875 -0.23497 -0.2776 -0.2426 C -0.27917 -0.24908 -0.28507 -0.26064 -0.28507 -0.26064 C -0.28924 -0.27798 -0.28246 -0.25255 -0.29097 -0.27243 C -0.29201 -0.27475 -0.29167 -0.27798 -0.29253 -0.28053 C -0.29739 -0.29556 -0.29392 -0.27729 -0.29705 -0.29232 C -0.29809 -0.29764 -0.3 -0.30828 -0.3 -0.30828 C -0.29896 -0.36378 -0.30399 -0.37766 -0.29392 -0.41559 C -0.29219 -0.4223 -0.28646 -0.42553 -0.28351 -0.43155 C -0.27951 -0.44889 -0.25694 -0.45629 -0.24618 -0.46531 C -0.23576 -0.47387 -0.24462 -0.46947 -0.23576 -0.47317 C -0.22708 -0.48127 -0.21337 -0.48358 -0.20295 -0.48728 C -0.17309 -0.48451 -0.18837 -0.48705 -0.17153 -0.47919 C -0.17049 -0.47711 -0.16944 -0.47526 -0.16858 -0.47317 C -0.16788 -0.47132 -0.16805 -0.46901 -0.16719 -0.46739 C -0.16441 -0.46138 -0.15694 -0.4556 -0.15226 -0.45329 C -0.14739 -0.44727 -0.14375 -0.44773 -0.13733 -0.44542 C -0.12066 -0.43964 -0.11892 -0.43918 -0.09705 -0.43756 C -0.08628 -0.4327 -0.09062 -0.43571 -0.08351 -0.42946 C -0.08055 -0.42345 -0.0776 -0.41767 -0.07465 -0.41166 C -0.07361 -0.40958 -0.07153 -0.40564 -0.07153 -0.40564 C -0.06979 -0.39824 -0.06701 -0.39339 -0.06562 -0.38576 C -0.0651 -0.35685 -0.07483 -0.31846 -0.05816 -0.29625 C -0.05573 -0.28654 -0.05833 -0.29232 -0.05069 -0.28631 C -0.0401 -0.27798 -0.03698 -0.27752 -0.02535 -0.27243 C -0.00069 -0.26156 -0.01962 -0.26665 -0.00139 -0.26249 C 0.00243 -0.25995 0.0066 -0.25902 0.01042 -0.25648 C 0.01163 -0.25555 0.01233 -0.2537 0.01354 -0.25255 C 0.01858 -0.24815 0.02448 -0.24422 0.02986 -0.24075 C 0.03351 -0.23566 0.0375 -0.23474 0.04184 -0.23081 C 0.04375 -0.22317 0.04653 -0.21439 0.05087 -0.20884 C 0.05243 -0.20028 0.05521 -0.18293 0.05521 -0.18293 C 0.05642 -0.14871 0.05833 -0.09736 0.05833 -0.06568 C 0.05833 -0.06036 0.05833 -0.05458 0.05677 -0.04972 C 0.05486 -0.04371 0.0434 -0.04186 0.0434 -0.04186 C 0.03941 -0.03677 0.02813 -0.03053 0.0224 -0.02798 C 0.01945 -0.0266 0.01354 -0.02382 0.01354 -0.02382 C 0.01007 -0.01943 0.00781 -0.01457 0.00451 -0.00995 C 0.00399 -0.0081 0.00417 -0.00532 0.00295 -0.00416 C -0.00226 0.00092 -0.0125 -1.42461E-006 -8.33333E-007 -1.42461E-006 Z">
                                      <p:cBhvr>
                                        <p:cTn id="525" dur="13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6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527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remove" presetClass="emph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indefinite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2" dur="1411" fill="hold"/>
                                        <p:tgtEl>
                                          <p:spTgt spid="2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3" restart="whenNotActive" nodeType="interactiveSeq" fill="hold">
                <p:stCondLst>
                  <p:cond evt="onClick">
                    <p:tgtEl>
                      <p:spTgt spid="253"/>
                    </p:tgtEl>
                  </p:cond>
                </p:stCondLst>
                <p:childTnLst>
                  <p:par>
                    <p:cTn id="534" fill="hold">
                      <p:stCondLst>
                        <p:cond evt="onClick">
                          <p:tgtEl>
                            <p:spTgt spid="253"/>
                          </p:tgtEl>
                        </p:cond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remove" presetClass="emph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9" dur="1411" fill="hold"/>
                                        <p:tgtEl>
                                          <p:spTgt spid="2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0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541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Ura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544" dur="10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6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9" dur="4127" fill="hold"/>
                                        <p:tgtEl>
                                          <p:spTgt spid="2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3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554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indefinite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9" dur="1411" fill="hold"/>
                                        <p:tgtEl>
                                          <p:spTgt spid="2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Group 5"/>
          <p:cNvGrpSpPr/>
          <p:nvPr/>
        </p:nvGrpSpPr>
        <p:grpSpPr>
          <a:xfrm>
            <a:off x="11506320" y="0"/>
            <a:ext cx="1523880" cy="1523880"/>
            <a:chOff x="11506320" y="0"/>
            <a:chExt cx="1523880" cy="1523880"/>
          </a:xfrm>
        </p:grpSpPr>
        <p:pic>
          <p:nvPicPr>
            <p:cNvPr id="263" name="Picture 6" descr=""/>
            <p:cNvPicPr/>
            <p:nvPr/>
          </p:nvPicPr>
          <p:blipFill>
            <a:blip r:embed="rId1"/>
            <a:stretch/>
          </p:blipFill>
          <p:spPr>
            <a:xfrm>
              <a:off x="11506320" y="0"/>
              <a:ext cx="152388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Text Box 7"/>
            <p:cNvSpPr/>
            <p:nvPr/>
          </p:nvSpPr>
          <p:spPr>
            <a:xfrm>
              <a:off x="12040920" y="380880"/>
              <a:ext cx="573840" cy="76428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Arial"/>
                </a:rPr>
                <a:t>Л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Group 14"/>
          <p:cNvGrpSpPr/>
          <p:nvPr/>
        </p:nvGrpSpPr>
        <p:grpSpPr>
          <a:xfrm>
            <a:off x="10009440" y="55440"/>
            <a:ext cx="1897920" cy="1800360"/>
            <a:chOff x="10009440" y="55440"/>
            <a:chExt cx="1897920" cy="1800360"/>
          </a:xfrm>
        </p:grpSpPr>
        <p:pic>
          <p:nvPicPr>
            <p:cNvPr id="266" name="Picture 15" descr=""/>
            <p:cNvPicPr/>
            <p:nvPr/>
          </p:nvPicPr>
          <p:blipFill>
            <a:blip r:embed="rId2"/>
            <a:stretch/>
          </p:blipFill>
          <p:spPr>
            <a:xfrm rot="3947400">
              <a:off x="10307520" y="207720"/>
              <a:ext cx="1301760" cy="149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Text Box 16"/>
            <p:cNvSpPr/>
            <p:nvPr/>
          </p:nvSpPr>
          <p:spPr>
            <a:xfrm>
              <a:off x="10628280" y="559080"/>
              <a:ext cx="615240" cy="76428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8" name="Picture 4" descr="ukraschenie_8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5638680" y="3962520"/>
            <a:ext cx="1824120" cy="2514600"/>
          </a:xfrm>
          <a:prstGeom prst="rect">
            <a:avLst/>
          </a:prstGeom>
          <a:ln w="0">
            <a:noFill/>
          </a:ln>
        </p:spPr>
      </p:pic>
      <p:grpSp>
        <p:nvGrpSpPr>
          <p:cNvPr id="269" name="Group 8"/>
          <p:cNvGrpSpPr/>
          <p:nvPr/>
        </p:nvGrpSpPr>
        <p:grpSpPr>
          <a:xfrm>
            <a:off x="12209040" y="180000"/>
            <a:ext cx="2450520" cy="2450520"/>
            <a:chOff x="12209040" y="180000"/>
            <a:chExt cx="2450520" cy="2450520"/>
          </a:xfrm>
        </p:grpSpPr>
        <p:pic>
          <p:nvPicPr>
            <p:cNvPr id="270" name="Picture 9" descr=""/>
            <p:cNvPicPr/>
            <p:nvPr/>
          </p:nvPicPr>
          <p:blipFill>
            <a:blip r:embed="rId4"/>
            <a:stretch/>
          </p:blipFill>
          <p:spPr>
            <a:xfrm rot="2679600">
              <a:off x="12572640" y="533520"/>
              <a:ext cx="1722600" cy="17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Text Box 10"/>
            <p:cNvSpPr/>
            <p:nvPr/>
          </p:nvSpPr>
          <p:spPr>
            <a:xfrm>
              <a:off x="13108320" y="990720"/>
              <a:ext cx="615240" cy="76428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11"/>
          <p:cNvGrpSpPr/>
          <p:nvPr/>
        </p:nvGrpSpPr>
        <p:grpSpPr>
          <a:xfrm>
            <a:off x="9144000" y="609480"/>
            <a:ext cx="1314360" cy="1549440"/>
            <a:chOff x="9144000" y="609480"/>
            <a:chExt cx="1314360" cy="1549440"/>
          </a:xfrm>
        </p:grpSpPr>
        <p:pic>
          <p:nvPicPr>
            <p:cNvPr id="273" name="Picture 12" descr=""/>
            <p:cNvPicPr/>
            <p:nvPr/>
          </p:nvPicPr>
          <p:blipFill>
            <a:blip r:embed="rId5"/>
            <a:stretch/>
          </p:blipFill>
          <p:spPr>
            <a:xfrm>
              <a:off x="9144000" y="609480"/>
              <a:ext cx="1314360" cy="15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Text Box 13"/>
            <p:cNvSpPr/>
            <p:nvPr/>
          </p:nvSpPr>
          <p:spPr>
            <a:xfrm>
              <a:off x="9601920" y="990360"/>
              <a:ext cx="646920" cy="76428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Group 17"/>
          <p:cNvGrpSpPr/>
          <p:nvPr/>
        </p:nvGrpSpPr>
        <p:grpSpPr>
          <a:xfrm>
            <a:off x="13944600" y="685800"/>
            <a:ext cx="1314360" cy="1549440"/>
            <a:chOff x="13944600" y="685800"/>
            <a:chExt cx="1314360" cy="1549440"/>
          </a:xfrm>
        </p:grpSpPr>
        <p:pic>
          <p:nvPicPr>
            <p:cNvPr id="276" name="Picture 18" descr=""/>
            <p:cNvPicPr/>
            <p:nvPr/>
          </p:nvPicPr>
          <p:blipFill>
            <a:blip r:embed="rId6"/>
            <a:stretch/>
          </p:blipFill>
          <p:spPr>
            <a:xfrm>
              <a:off x="13944600" y="685800"/>
              <a:ext cx="1314360" cy="15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Text Box 19"/>
            <p:cNvSpPr/>
            <p:nvPr/>
          </p:nvSpPr>
          <p:spPr>
            <a:xfrm>
              <a:off x="14403240" y="1066680"/>
              <a:ext cx="578520" cy="76428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Arial"/>
                </a:rPr>
                <a:t>Д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Group 20"/>
          <p:cNvGrpSpPr/>
          <p:nvPr/>
        </p:nvGrpSpPr>
        <p:grpSpPr>
          <a:xfrm>
            <a:off x="14886360" y="360000"/>
            <a:ext cx="1897920" cy="1800360"/>
            <a:chOff x="14886360" y="360000"/>
            <a:chExt cx="1897920" cy="1800360"/>
          </a:xfrm>
        </p:grpSpPr>
        <p:pic>
          <p:nvPicPr>
            <p:cNvPr id="279" name="Picture 21" descr=""/>
            <p:cNvPicPr/>
            <p:nvPr/>
          </p:nvPicPr>
          <p:blipFill>
            <a:blip r:embed="rId7"/>
            <a:stretch/>
          </p:blipFill>
          <p:spPr>
            <a:xfrm rot="3947400">
              <a:off x="15184440" y="512280"/>
              <a:ext cx="1301760" cy="149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Text Box 22"/>
            <p:cNvSpPr/>
            <p:nvPr/>
          </p:nvSpPr>
          <p:spPr>
            <a:xfrm>
              <a:off x="15504840" y="863640"/>
              <a:ext cx="589320" cy="76428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Arial"/>
                </a:rPr>
                <a:t>Ц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Group 23"/>
          <p:cNvGrpSpPr/>
          <p:nvPr/>
        </p:nvGrpSpPr>
        <p:grpSpPr>
          <a:xfrm>
            <a:off x="16230600" y="0"/>
            <a:ext cx="1523880" cy="1523880"/>
            <a:chOff x="16230600" y="0"/>
            <a:chExt cx="1523880" cy="1523880"/>
          </a:xfrm>
        </p:grpSpPr>
        <p:pic>
          <p:nvPicPr>
            <p:cNvPr id="282" name="Picture 24" descr=""/>
            <p:cNvPicPr/>
            <p:nvPr/>
          </p:nvPicPr>
          <p:blipFill>
            <a:blip r:embed="rId8"/>
            <a:stretch/>
          </p:blipFill>
          <p:spPr>
            <a:xfrm>
              <a:off x="16230600" y="0"/>
              <a:ext cx="152388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Text Box 25"/>
            <p:cNvSpPr/>
            <p:nvPr/>
          </p:nvSpPr>
          <p:spPr>
            <a:xfrm>
              <a:off x="16765920" y="380880"/>
              <a:ext cx="727920" cy="76428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Arial"/>
                </a:rPr>
                <a:t>Ы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21 0.05509 C -0.03212 0.0382 -0.11615 -0.02801 -0.16494 -0.04629 C -0.21337 -0.06458 -0.25452 -0.07824 -0.29601 -0.05463 C -0.33803 -0.03102 -0.34445 0.03889 -0.41598 0.09537 C -0.4875 0.15185 -0.65504 0.21898 -0.72518 0.28426 C -0.79497 0.34954 -0.76771 0.45741 -0.83594 0.48704 C -0.90365 0.51667 -0.95764 0.46111 -1.13247 0.46204 C -1.30782 0.46296 -1.73021 0.48611 -1.88855 0.49259 E">
                                      <p:cBhvr>
                                        <p:cTn id="565" dur="9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1.85185E-006 C -0.08281 0.04977 -0.17327 0.10185 -0.24045 0.10278 C -0.30729 0.10371 -0.3592 0.01945 -0.4033 0.00509 C -0.44722 -0.00926 -0.46719 -0.01157 -0.50486 0.01621 C -0.54236 0.04398 -0.5592 0.11435 -0.62847 0.17176 C -0.69827 0.22917 -0.85469 0.29861 -0.92257 0.36065 C -0.99028 0.42269 -0.91858 0.51713 -1.03525 0.54398 C -1.15226 0.57084 -1.47969 0.52361 -1.6224 0.52222 C -1.76476 0.52084 -1.84514 0.5338 -1.89011 0.53588 E">
                                      <p:cBhvr>
                                        <p:cTn id="567" dur="9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C -0.06094 0.00232 -0.12153 0.00463 -0.16945 0.02222 C -0.21736 0.03982 -0.24636 0.09074 -0.28837 0.10556 C -0.33039 0.12037 -0.38455 0.12037 -0.42205 0.11111 C -0.45955 0.10185 -0.48403 0.06435 -0.51389 0.05 C -0.54358 0.03565 -0.56806 0.01019 -0.60104 0.025 C -0.63403 0.03982 -0.67709 0.10602 -0.71198 0.13889 C -0.7467 0.17176 -0.77952 0.19861 -0.80973 0.22222 C -0.83993 0.24583 -0.85417 0.25278 -0.89289 0.28056 C -0.9316 0.30833 -1.00973 0.35093 -1.04202 0.38889 C -1.07431 0.42685 -1.0717 0.47685 -1.08664 0.50833 C -1.10157 0.53982 -1.10348 0.56898 -1.13143 0.57778 C -1.1592 0.58658 -1.22344 0.56482 -1.25278 0.56111 C -1.28247 0.55741 -1.28525 0.55509 -1.30799 0.55556 C -1.33108 0.55602 -1.33976 0.56158 -1.3908 0.56389 C -1.44236 0.5662 -1.56719 0.57176 -1.61684 0.56945 C -1.66632 0.56713 -1.65834 0.55185 -1.68802 0.55 C -1.71736 0.54815 -1.75973 0.5537 -1.79358 0.55833 C -1.82743 0.56296 -1.87605 0.57454 -1.89167 0.57778 E">
                                      <p:cBhvr>
                                        <p:cTn id="569" dur="9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11111E-006 C -0.02865 -0.03518 -0.05677 -0.07037 -0.08976 -0.08611 C -0.12309 -0.10185 -0.16285 -0.09722 -0.2 -0.09444 C -0.23698 -0.09167 -0.27726 -0.08518 -0.3125 -0.06944 C -0.34775 -0.0537 -0.38143 -0.01713 -0.41129 -1.11111E-006 C -0.44063 0.01713 -0.46476 0.02917 -0.48959 0.03333 C -0.51354 0.0375 -0.53282 0.0375 -0.55799 0.025 C -0.58334 0.0125 -0.61354 -0.02639 -0.64063 -0.04167 C -0.66771 -0.05694 -0.69775 -0.0625 -0.72084 -0.06667 C -0.74393 -0.07083 -0.76025 -0.07685 -0.7783 -0.06667 C -0.79636 -0.05648 -0.80226 -0.03565 -0.82882 -0.00555 C -0.85504 0.02454 -0.88837 0.0787 -0.93646 0.11389 C -0.98525 0.14908 -1.08195 0.1838 -1.12014 0.20556 C -1.15868 0.22732 -1.14132 0.21945 -1.16632 0.24445 C -1.19132 0.26945 -1.24879 0.32315 -1.26945 0.35556 C -1.28993 0.38796 -1.27691 0.41759 -1.28993 0.43889 C -1.3033 0.46019 -1.2967 0.47963 -1.3474 0.48333 C -1.39827 0.48704 -1.50209 0.46158 -1.59445 0.46111 C -1.68698 0.46065 -1.85087 0.47732 -1.90243 0.48056 E">
                                      <p:cBhvr>
                                        <p:cTn id="571" dur="9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8 -2.96296E-006 C -0.03472 0.0088 -0.06893 0.0176 -0.09497 0.01111 C -0.12101 0.00463 -0.1283 -0.02129 -0.15764 -0.03889 C -0.18698 -0.05648 -0.22709 -0.08889 -0.27049 -0.09444 C -0.31407 -0.1 -0.36771 -0.09305 -0.41893 -0.07222 C -0.47032 -0.05139 -0.53369 0.01713 -0.57813 0.03056 C -0.62188 0.04398 -0.6441 0.02408 -0.68473 0.00834 C -0.725 -0.0074 -0.77935 -0.06157 -0.82032 -0.06389 C -0.86146 -0.0662 -0.89584 -0.04352 -0.93143 -0.00555 C -0.96702 0.03241 -0.97691 0.12269 -1.03369 0.16389 C -1.0908 0.2051 -1.22466 0.20695 -1.2724 0.24167 C -1.31997 0.27639 -1.30452 0.33889 -1.32032 0.37223 C -1.33629 0.40556 -1.34428 0.42361 -1.36841 0.44167 C -1.39289 0.45973 -1.3757 0.475 -1.46685 0.48056 C -1.55764 0.48611 -1.83855 0.47593 -1.91355 0.475 E">
                                      <p:cBhvr>
                                        <p:cTn id="573" dur="9000" fill="hold"/>
                                        <p:tgtEl>
                                          <p:spTgt spid="2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3.7037E-006 C -0.04722 0.025 -0.09358 0.05 -0.14097 0.05 C -0.18802 0.05 -0.2368 0.0199 -0.28299 3.7037E-006 C -0.32934 -0.01991 -0.37552 -0.06806 -0.41944 -0.06945 C -0.46337 -0.07084 -0.50642 -0.03102 -0.54583 -0.00834 C -0.58542 0.01435 -0.61701 0.05879 -0.65642 0.06666 C -0.69618 0.07453 -0.74097 0.05509 -0.78333 0.03889 C -0.825 0.02268 -0.86788 -0.03611 -0.90955 -0.03056 C -0.95104 -0.025 -0.99687 0.03611 -1.03194 0.07222 C -1.06719 0.10833 -1.0875 0.15648 -1.12101 0.18611 C -1.15434 0.21574 -1.20121 0.22731 -1.23194 0.25 C -1.2618 0.27245 -1.28333 0.2912 -1.30243 0.32222 C -1.32222 0.35324 -1.33177 0.40463 -1.34809 0.43611 C -1.36441 0.46759 -1.37378 0.49768 -1.40139 0.51111 C -1.42917 0.52453 -1.47986 0.52222 -1.51406 0.51666 C -1.54826 0.51111 -1.5743 0.4824 -1.60712 0.47777 C -1.63958 0.47314 -1.66128 0.48518 -1.71128 0.48889 C -1.76059 0.49259 -1.87361 0.49768 -1.90677 0.5 E">
                                      <p:cBhvr>
                                        <p:cTn id="575" dur="9000" fill="hold"/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11111E-006 C -0.03663 0.0213 -0.07291 0.04259 -0.1118 0.06389 C -0.15069 0.08519 -0.18836 0.125 -0.23368 0.12778 C -0.27916 0.13056 -0.33975 0.09815 -0.38385 0.08056 C -0.4283 0.06296 -0.44722 0.02454 -0.49982 0.02222 C -0.55208 0.01991 -0.64652 0.04722 -0.69878 0.06667 C -0.75086 0.08611 -0.77118 0.14028 -0.81232 0.13889 C -0.85382 0.1375 -0.89913 0.0713 -0.94635 0.05833 C -0.99375 0.04537 -1.05642 0.03102 -1.0967 0.06111 C -1.13698 0.0912 -1.14305 0.20093 -1.18802 0.23889 C -1.23316 0.27685 -1.32118 0.27269 -1.36666 0.28889 C -1.4125 0.30509 -1.43142 0.29722 -1.46232 0.33611 C -1.49305 0.375 -1.52395 0.47824 -1.55156 0.52222 C -1.57934 0.5662 -1.59323 0.59352 -1.62864 0.6 C -1.66441 0.60648 -1.71527 0.56713 -1.76458 0.56111 C -1.81423 0.55509 -1.89809 0.56343 -1.925 0.56389 E">
                                      <p:cBhvr>
                                        <p:cTn id="577" dur="9000" fill="hold"/>
                                        <p:tgtEl>
                                          <p:spTgt spid="2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685800" y="3048120"/>
            <a:ext cx="8305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radikal.ru/F/i035.radikal.ru/1103/21/1d21b48fba46.jpg.htm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ф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i021.radikal.ru/0807/a3/d9eeddbd974f.pn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листь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s48.radikal.ru/i120/0907/6b/d4b5f0858006.p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alexandr-matyuhin.narod.ru/ramki/ukraschenie_8.png гусени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music.mcgill.ca/~gary/307/sounds/triangle.wav зв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minusovki.mptri.net/pages/75/7591.shtml минусовка вальса из м/ф «Анастас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9"/>
          <p:cNvSpPr/>
          <p:nvPr/>
        </p:nvSpPr>
        <p:spPr>
          <a:xfrm>
            <a:off x="3659400" y="380880"/>
            <a:ext cx="29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рнет - ресур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6" descr="ukraschenie_8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377120" y="4419720"/>
            <a:ext cx="1766880" cy="2438280"/>
          </a:xfrm>
          <a:prstGeom prst="rect">
            <a:avLst/>
          </a:prstGeom>
          <a:ln w="0">
            <a:noFill/>
          </a:ln>
        </p:spPr>
      </p:pic>
      <p:grpSp>
        <p:nvGrpSpPr>
          <p:cNvPr id="45" name="Group 18"/>
          <p:cNvGrpSpPr/>
          <p:nvPr/>
        </p:nvGrpSpPr>
        <p:grpSpPr>
          <a:xfrm>
            <a:off x="2895480" y="3581280"/>
            <a:ext cx="3256200" cy="1693800"/>
            <a:chOff x="2895480" y="3581280"/>
            <a:chExt cx="3256200" cy="1693800"/>
          </a:xfrm>
        </p:grpSpPr>
        <p:pic>
          <p:nvPicPr>
            <p:cNvPr id="46" name="Picture 13" descr=""/>
            <p:cNvPicPr/>
            <p:nvPr/>
          </p:nvPicPr>
          <p:blipFill>
            <a:blip r:embed="rId2"/>
            <a:stretch/>
          </p:blipFill>
          <p:spPr>
            <a:xfrm>
              <a:off x="2895480" y="3581280"/>
              <a:ext cx="152388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xt Box 17"/>
            <p:cNvSpPr/>
            <p:nvPr/>
          </p:nvSpPr>
          <p:spPr>
            <a:xfrm>
              <a:off x="3435120" y="3962160"/>
              <a:ext cx="2716560" cy="131292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0" spc="-1" strike="noStrike">
                  <a:solidFill>
                    <a:srgbClr val="000000"/>
                  </a:solidFill>
                  <a:latin typeface="Calibri"/>
                </a:rPr>
                <a:t>a </a:t>
              </a:r>
              <a:r>
                <a:rPr b="1" i="1" lang="en-US" sz="8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i="1" lang="en-US" sz="8000" spc="-1" strike="noStrike">
                  <a:solidFill>
                    <a:srgbClr val="000000"/>
                  </a:solidFill>
                  <a:latin typeface="Calibri"/>
                </a:rPr>
                <a:t>rog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Group 20"/>
          <p:cNvGrpSpPr/>
          <p:nvPr/>
        </p:nvGrpSpPr>
        <p:grpSpPr>
          <a:xfrm>
            <a:off x="5198400" y="2008440"/>
            <a:ext cx="2726280" cy="2450160"/>
            <a:chOff x="5198400" y="2008440"/>
            <a:chExt cx="2726280" cy="2450160"/>
          </a:xfrm>
        </p:grpSpPr>
        <p:pic>
          <p:nvPicPr>
            <p:cNvPr id="49" name="Picture 12" descr=""/>
            <p:cNvPicPr/>
            <p:nvPr/>
          </p:nvPicPr>
          <p:blipFill>
            <a:blip r:embed="rId3"/>
            <a:stretch/>
          </p:blipFill>
          <p:spPr>
            <a:xfrm rot="2679600">
              <a:off x="5562360" y="2361960"/>
              <a:ext cx="1722240" cy="174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Text Box 19"/>
            <p:cNvSpPr/>
            <p:nvPr/>
          </p:nvSpPr>
          <p:spPr>
            <a:xfrm>
              <a:off x="5334120" y="2819160"/>
              <a:ext cx="2590560" cy="131292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0" spc="-1" strike="noStrike">
                  <a:solidFill>
                    <a:srgbClr val="000000"/>
                  </a:solidFill>
                  <a:latin typeface="Calibri"/>
                </a:rPr>
                <a:t>a hen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24"/>
          <p:cNvGrpSpPr/>
          <p:nvPr/>
        </p:nvGrpSpPr>
        <p:grpSpPr>
          <a:xfrm>
            <a:off x="6324480" y="1371600"/>
            <a:ext cx="2590560" cy="1693800"/>
            <a:chOff x="6324480" y="1371600"/>
            <a:chExt cx="2590560" cy="1693800"/>
          </a:xfrm>
        </p:grpSpPr>
        <p:pic>
          <p:nvPicPr>
            <p:cNvPr id="52" name="Picture 14" descr=""/>
            <p:cNvPicPr/>
            <p:nvPr/>
          </p:nvPicPr>
          <p:blipFill>
            <a:blip r:embed="rId4"/>
            <a:stretch/>
          </p:blipFill>
          <p:spPr>
            <a:xfrm>
              <a:off x="7314840" y="1371600"/>
              <a:ext cx="1314720" cy="15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Text Box 21"/>
            <p:cNvSpPr/>
            <p:nvPr/>
          </p:nvSpPr>
          <p:spPr>
            <a:xfrm>
              <a:off x="6324480" y="1752480"/>
              <a:ext cx="2590560" cy="131292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0" spc="-1" strike="noStrike">
                  <a:solidFill>
                    <a:srgbClr val="000000"/>
                  </a:solidFill>
                  <a:latin typeface="Calibri"/>
                </a:rPr>
                <a:t>a dog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Group 23"/>
          <p:cNvGrpSpPr/>
          <p:nvPr/>
        </p:nvGrpSpPr>
        <p:grpSpPr>
          <a:xfrm>
            <a:off x="3733920" y="360000"/>
            <a:ext cx="2743200" cy="1816560"/>
            <a:chOff x="3733920" y="360000"/>
            <a:chExt cx="2743200" cy="1816560"/>
          </a:xfrm>
        </p:grpSpPr>
        <p:pic>
          <p:nvPicPr>
            <p:cNvPr id="55" name="Picture 11" descr=""/>
            <p:cNvPicPr/>
            <p:nvPr/>
          </p:nvPicPr>
          <p:blipFill>
            <a:blip r:embed="rId5"/>
            <a:stretch/>
          </p:blipFill>
          <p:spPr>
            <a:xfrm rot="3947400">
              <a:off x="4440240" y="512280"/>
              <a:ext cx="1301760" cy="149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Text Box 22"/>
            <p:cNvSpPr/>
            <p:nvPr/>
          </p:nvSpPr>
          <p:spPr>
            <a:xfrm>
              <a:off x="3733920" y="863640"/>
              <a:ext cx="2743200" cy="131292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0" spc="-1" strike="noStrike">
                  <a:solidFill>
                    <a:srgbClr val="000000"/>
                  </a:solidFill>
                  <a:latin typeface="Calibri"/>
                </a:rPr>
                <a:t>a cat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" name="triangle.wav" descr=""/>
          <p:cNvPicPr/>
          <p:nvPr/>
        </p:nvPicPr>
        <p:blipFill>
          <a:blip r:embed="rId6"/>
          <a:stretch/>
        </p:blipFill>
        <p:spPr>
          <a:xfrm>
            <a:off x="-30492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8" name="poprobuy_eshe.wav" descr=""/>
          <p:cNvPicPr/>
          <p:nvPr/>
        </p:nvPicPr>
        <p:blipFill>
          <a:blip r:embed="rId7"/>
          <a:stretch/>
        </p:blipFill>
        <p:spPr>
          <a:xfrm>
            <a:off x="-304920" y="457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9" name="poprobuy_eshe.wav" descr=""/>
          <p:cNvPicPr/>
          <p:nvPr/>
        </p:nvPicPr>
        <p:blipFill>
          <a:blip r:embed="rId8"/>
          <a:stretch/>
        </p:blipFill>
        <p:spPr>
          <a:xfrm>
            <a:off x="-304920" y="914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0" name="poprobuy_eshe.wav" descr=""/>
          <p:cNvPicPr/>
          <p:nvPr/>
        </p:nvPicPr>
        <p:blipFill>
          <a:blip r:embed="rId9"/>
          <a:stretch/>
        </p:blipFill>
        <p:spPr>
          <a:xfrm>
            <a:off x="-304920" y="1523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17" descr="cat1.png"/>
          <p:cNvPicPr/>
          <p:nvPr/>
        </p:nvPicPr>
        <p:blipFill>
          <a:blip r:embed="rId10"/>
          <a:stretch/>
        </p:blipFill>
        <p:spPr>
          <a:xfrm>
            <a:off x="2057400" y="4648320"/>
            <a:ext cx="1390680" cy="1957320"/>
          </a:xfrm>
          <a:prstGeom prst="rect">
            <a:avLst/>
          </a:prstGeom>
          <a:ln w="0">
            <a:noFill/>
          </a:ln>
        </p:spPr>
      </p:pic>
      <p:pic>
        <p:nvPicPr>
          <p:cNvPr id="62" name="walzer.wav" descr=""/>
          <p:cNvPicPr/>
          <p:nvPr/>
        </p:nvPicPr>
        <p:blipFill>
          <a:blip r:embed="rId11"/>
          <a:stretch/>
        </p:blipFill>
        <p:spPr>
          <a:xfrm>
            <a:off x="9144000" y="1676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3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15799 0.01896 C -0.15486 0.01272 -0.14062 -0.05296 -0.10469 -0.04857 C -0.05 -0.04233 -0.02847 0.00416 0.02205 -0.04233 C 0.05382 -0.06985 0.09115 -0.13923 0.11858 -0.13715 C 0.18056 -0.13483 0.1934 -0.0636 0.1934 0.00208 C 0.19497 0.09458 0.11441 0.17275 0.01632 0.18154 C -0.08299 0.18779 -0.1651 0.08834 -0.15799 0.01896 Z">
                                      <p:cBhvr>
                                        <p:cTn id="6" dur="13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5.55556E-007 7.90009E-006 C -0.01041 0.00486 -0.0059 0.00301 -0.01336 0.00602 C -0.02066 0.01249 -0.029 0.01434 -0.03733 0.01804 C -0.04914 0.02336 -0.06112 0.02891 -0.07309 0.03377 C -0.08247 0.0421 -0.09046 0.05135 -0.09705 0.0636 C -0.10086 0.08026 -0.11875 0.08465 -0.12987 0.08951 C -0.13091 0.08997 -0.1375 0.09344 -0.13872 0.09344 C -0.15313 0.09459 -0.16771 0.09483 -0.18212 0.09552 C -0.20191 0.09436 -0.21476 0.09737 -0.23125 0.08951 C -0.30035 0.0939 -0.34497 0.09436 -0.42691 0.09552 C -0.44184 0.09968 -0.42778 0.09459 -0.43872 0.10153 C -0.44341 0.10454 -0.44896 0.10454 -0.45365 0.10754 C -0.45834 0.11078 -0.46007 0.11402 -0.46407 0.11934 C -0.47066 0.14455 -0.49271 0.15264 -0.51042 0.15704 C -0.52257 0.16814 -0.53959 0.17114 -0.55365 0.17693 C -0.56407 0.18618 -0.55921 0.18363 -0.56719 0.18687 C -0.56858 0.18895 -0.57032 0.19057 -0.57153 0.19288 C -0.5724 0.19473 -0.57205 0.19728 -0.57309 0.1989 C -0.57882 0.20815 -0.58698 0.213 -0.59254 0.22272 C -0.59653 0.24631 -0.5908 0.2174 -0.59705 0.23659 C -0.59966 0.24446 -0.59931 0.25116 -0.60296 0.25856 C -0.60365 0.27406 -0.6125 0.32332 -0.59705 0.33002 C -0.5875 0.34274 -0.59757 0.33118 -0.58803 0.33812 C -0.5849 0.34043 -0.579 0.34598 -0.579 0.34598 C -0.57275 0.3587 -0.5632 0.37535 -0.55365 0.38391 C -0.54584 0.39108 -0.54983 0.38437 -0.54323 0.39177 C -0.54167 0.39362 -0.54046 0.39617 -0.53872 0.39779 C -0.53612 0.4001 -0.53264 0.39987 -0.52987 0.40172 C -0.51737 0.41027 -0.50209 0.41351 -0.48803 0.41559 C -0.46858 0.4149 -0.44723 0.42299 -0.42987 0.41166 C -0.4158 0.40241 -0.39723 0.38969 -0.38959 0.3698 C -0.38438 0.35616 -0.38247 0.33881 -0.37605 0.32609 C -0.3691 0.31245 -0.34306 0.30551 -0.33125 0.30019 C -0.32639 0.29788 -0.32275 0.29256 -0.31789 0.29025 C -0.31303 0.284 -0.3125 0.28076 -0.31042 0.27244 C -0.3099 0.25532 -0.30973 0.23798 -0.30886 0.22087 C -0.30834 0.21115 -0.30365 0.19774 -0.30139 0.18895 C -0.29514 0.16513 -0.29063 0.14015 -0.28212 0.11749 C -0.28056 0.10569 -0.27952 0.09344 -0.27466 0.08349 C -0.27257 0.07332 -0.27101 0.06129 -0.26563 0.05366 C -0.25938 0.0303 -0.2533 0.02221 -0.23577 0.01596 C -0.22987 0.01666 -0.22379 0.01643 -0.21789 0.01804 C -0.2125 0.01943 -0.20851 0.02753 -0.20296 0.02984 C -0.19862 0.03562 -0.19549 0.03909 -0.18959 0.04186 C -0.18351 0.0495 -0.17813 0.05505 -0.17014 0.05782 C -0.16407 0.06314 -0.15903 0.06846 -0.15226 0.0717 C -0.14011 0.08696 -0.12639 0.10408 -0.11042 0.11148 C -0.10139 0.1235 -0.09723 0.11818 -0.08646 0.12535 C -0.07881 0.13044 -0.07101 0.13298 -0.06268 0.1353 C 0.03733 0.13322 0.00851 0.14131 0.05382 0.12743 C 0.05817 0.12165 0.06302 0.11911 0.06719 0.11333 C 0.06945 0.10477 0.07119 0.09621 0.0731 0.08766 C 0.07395 0.08349 0.07622 0.07563 0.07622 0.07563 C 0.07587 0.05158 0.0882 -0.02266 0.0658 -0.05365 C 0.06284 -0.06521 0.06667 -0.0555 0.05972 -0.06151 C 0.05799 -0.06313 0.05677 -0.06567 0.05521 -0.06752 C 0.04914 -0.07423 0.05277 -0.06914 0.04635 -0.07354 C 0.03317 -0.08233 0.02327 -0.09944 0.00903 -0.10522 C 0.00261 -0.11424 -0.00746 -0.12141 -0.01631 -0.12511 C -0.03629 -0.12442 -0.0691 -0.14338 -0.07605 -0.11332 C -0.07291 -0.08996 -0.07379 -0.08741 -0.06112 -0.07354 C -0.05348 -0.06498 -0.06007 -0.06914 -0.05226 -0.06544 C -0.0507 -0.06359 -0.04948 -0.06128 -0.04775 -0.05966 C -0.04636 -0.05851 -0.04461 -0.05874 -0.04323 -0.05758 C -0.03263 -0.0481 -0.04445 -0.05388 -0.03421 -0.04972 C -0.02673 -0.03931 -0.03716 -0.05272 -0.02535 -0.04162 C -0.02361 -0.04 -0.02256 -0.03723 -0.02083 -0.03561 C -0.01823 -0.0333 -0.01492 -0.03307 -0.01198 -0.03168 C -0.0073 -0.02567 -0.00156 -0.02196 0.00295 -0.01572 C 0.00244 -0.0111 0.00313 -0.00601 0.00157 -0.00184 C 0.00087 7.90009E-006 -0.00173 -0.00138 -0.00295 7.90009E-006 C -0.00364 0.00093 -0.00105 7.90009E-006 -5.55556E-007 7.90009E-006 Z">
                                      <p:cBhvr>
                                        <p:cTn id="8" dur="13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8.69565E-007 C 0.01337 0.0007 0.02691 0.00023 0.04028 0.00208 C 0.04201 0.00232 0.04305 0.00555 0.04479 0.00602 C 0.04913 0.0074 0.05364 0.00717 0.05816 0.00787 C 0.10243 0.00717 0.14687 0.00717 0.19114 0.00602 C 0.19618 0.00578 0.20139 0.00185 0.20607 0.00393 C 0.20798 0.00486 0.20538 0.00948 0.20451 0.01203 C 0.20295 0.01619 0.20052 0.01989 0.19861 0.02382 C 0.19184 0.03724 0.16493 0.04417 0.15382 0.04764 C 0.12552 0.07216 0.07465 0.06476 0.04774 0.06568 C -0.03282 0.06453 -0.05955 0.0784 -0.11493 0.05574 C -0.12778 0.04394 -0.14757 0.03978 -0.16268 0.03377 C -0.17379 0.02937 -0.18455 0.0229 -0.19549 0.01781 C -0.19219 0.03053 -0.18854 0.0377 -0.179 0.04163 C -0.17361 0.04926 -0.17882 0.04302 -0.17014 0.04972 C -0.16702 0.05227 -0.16111 0.05759 -0.16111 0.05759 C -0.15556 0.06892 -0.14636 0.07748 -0.13733 0.08349 C -0.13125 0.09598 -0.13802 0.08465 -0.12986 0.09135 C -0.12518 0.09528 -0.12413 0.09875 -0.11788 0.1013 C -0.10452 0.11379 -0.0908 0.12165 -0.07466 0.12535 C -0.06962 0.12974 -0.06511 0.13021 -0.05972 0.13321 C -0.03785 0.1457 -0.01945 0.15079 0.00451 0.1531 C -0.00347 0.15634 -0.01025 0.16582 -0.01493 0.17484 C -0.01684 0.18317 -0.0217 0.18941 -0.02535 0.19681 C -0.02622 0.19866 -0.02587 0.20121 -0.02691 0.20282 C -0.029 0.20652 -0.03247 0.20884 -0.03438 0.21277 C -0.04167 0.22757 -0.05174 0.23543 -0.06424 0.24052 C -0.0691 0.24491 -0.07361 0.24607 -0.079 0.24861 C -0.19167 0.24538 -0.12344 0.25463 -0.16111 0.23867 C -0.17032 0.22641 -0.18212 0.22225 -0.19393 0.2167 C -0.1967 0.21323 -0.20035 0.21069 -0.20295 0.20676 C -0.20538 0.20306 -0.20625 0.19797 -0.20886 0.19473 C -0.2099 0.19334 -0.21094 0.19219 -0.21198 0.1908 C -0.21389 0.1827 -0.2158 0.17484 -0.21788 0.16698 C -0.21858 0.19473 -0.20764 0.23243 -0.22986 0.2426 C -0.23542 0.24815 -0.23854 0.24977 -0.24479 0.25255 C -0.24931 0.25856 -0.25504 0.26365 -0.26111 0.26642 C -0.25278 0.27799 -0.26146 0.26827 -0.2507 0.27429 C -0.24896 0.27521 -0.24792 0.27752 -0.24618 0.27845 C -0.24167 0.28099 -0.23594 0.28215 -0.23125 0.28423 C -0.22275 0.28793 -0.21476 0.29209 -0.20591 0.29417 C -0.07448 0.29163 -0.13976 0.30204 -0.08959 0.28423 C -0.0842 0.2796 -0.07865 0.28007 -0.07309 0.27637 C -0.06094 0.26827 -0.0757 0.2759 -0.06424 0.27035 C -0.05799 0.25856 -0.04566 0.25578 -0.03872 0.24445 C -0.02882 0.22826 -0.02118 0.20999 -0.01042 0.19473 C -0.00886 0.18872 -0.00469 0.17923 -0.00139 0.17484 C 0.00069 0.16258 0.0059 0.14963 0.00903 0.13714 C 0.01041 0.13113 0.01354 0.11934 0.01354 0.11934 C 0.01284 0.0895 0.02396 0.04602 -0.00139 0.03377 C -0.00573 0.02822 -0.004 0.03192 -0.00591 0.02382 C -0.00695 0.01989 -0.00886 0.01203 -0.00886 0.01203 C -0.00695 -0.00115 -0.0099 0.00278 3.33333E-006 -8.69565E-007 Z">
                                      <p:cBhvr>
                                        <p:cTn id="10" dur="13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8.33333E-007 -1.42461E-006 C -0.07396 -0.00648 0.01493 0.00069 -0.15816 -0.00416 C -0.16337 -0.0044 -0.16701 -0.00995 -0.17153 -0.01203 C -0.17691 -0.01457 -0.18299 -0.01434 -0.18802 -0.01804 C -0.20382 -0.0296 -0.19132 -0.02313 -0.20139 -0.02798 C -0.20503 -0.03261 -0.21337 -0.03978 -0.21337 -0.03978 C -0.21944 -0.06291 -0.2125 -0.08603 -0.21042 -0.10939 C -0.21146 -0.12882 -0.21215 -0.14662 -0.22239 -0.16119 C -0.22413 -0.16883 -0.22639 -0.17068 -0.23125 -0.17507 C -0.23229 -0.17715 -0.23299 -0.17946 -0.23437 -0.18108 C -0.23559 -0.18224 -0.23767 -0.18155 -0.23871 -0.18293 C -0.23976 -0.18432 -0.23924 -0.18733 -0.24028 -0.18895 C -0.24271 -0.19288 -0.2467 -0.19496 -0.24913 -0.19889 C -0.25816 -0.21346 -0.24583 -0.19542 -0.25521 -0.21277 C -0.2592 -0.22017 -0.26614 -0.22341 -0.27014 -0.23081 C -0.27691 -0.24353 -0.26875 -0.23497 -0.2776 -0.2426 C -0.27917 -0.24908 -0.28507 -0.26064 -0.28507 -0.26064 C -0.28924 -0.27798 -0.28246 -0.25255 -0.29097 -0.27243 C -0.29201 -0.27475 -0.29167 -0.27798 -0.29253 -0.28053 C -0.29739 -0.29556 -0.29392 -0.27729 -0.29705 -0.29232 C -0.29809 -0.29764 -0.3 -0.30828 -0.3 -0.30828 C -0.29896 -0.36378 -0.30399 -0.37766 -0.29392 -0.41559 C -0.29219 -0.4223 -0.28646 -0.42553 -0.28351 -0.43155 C -0.27951 -0.44889 -0.25694 -0.45629 -0.24618 -0.46531 C -0.23576 -0.47387 -0.24462 -0.46947 -0.23576 -0.47317 C -0.22708 -0.48127 -0.21337 -0.48358 -0.20295 -0.48728 C -0.17309 -0.48451 -0.18837 -0.48705 -0.17153 -0.47919 C -0.17049 -0.47711 -0.16944 -0.47526 -0.16858 -0.47317 C -0.16788 -0.47132 -0.16805 -0.46901 -0.16719 -0.46739 C -0.16441 -0.46138 -0.15694 -0.4556 -0.15226 -0.45329 C -0.14739 -0.44727 -0.14375 -0.44773 -0.13733 -0.44542 C -0.12066 -0.43964 -0.11892 -0.43918 -0.09705 -0.43756 C -0.08628 -0.4327 -0.09062 -0.43571 -0.08351 -0.42946 C -0.08055 -0.42345 -0.0776 -0.41767 -0.07465 -0.41166 C -0.07361 -0.40958 -0.07153 -0.40564 -0.07153 -0.40564 C -0.06979 -0.39824 -0.06701 -0.39339 -0.06562 -0.38576 C -0.0651 -0.35685 -0.07483 -0.31846 -0.05816 -0.29625 C -0.05573 -0.28654 -0.05833 -0.29232 -0.05069 -0.28631 C -0.0401 -0.27798 -0.03698 -0.27752 -0.02535 -0.27243 C -0.00069 -0.26156 -0.01962 -0.26665 -0.00139 -0.26249 C 0.00243 -0.25995 0.0066 -0.25902 0.01042 -0.25648 C 0.01163 -0.25555 0.01233 -0.2537 0.01354 -0.25255 C 0.01858 -0.24815 0.02448 -0.24422 0.02986 -0.24075 C 0.03351 -0.23566 0.0375 -0.23474 0.04184 -0.23081 C 0.04375 -0.22317 0.04653 -0.21439 0.05087 -0.20884 C 0.05243 -0.20028 0.05521 -0.18293 0.05521 -0.18293 C 0.05642 -0.14871 0.05833 -0.09736 0.05833 -0.06568 C 0.05833 -0.06036 0.05833 -0.05458 0.05677 -0.04972 C 0.05486 -0.04371 0.0434 -0.04186 0.0434 -0.04186 C 0.03941 -0.03677 0.02813 -0.03053 0.0224 -0.02798 C 0.01945 -0.0266 0.01354 -0.02382 0.01354 -0.02382 C 0.01007 -0.01943 0.00781 -0.01457 0.00451 -0.00995 C 0.00399 -0.0081 0.00417 -0.00532 0.00295 -0.00416 C -0.00226 0.00092 -0.0125 -1.42461E-006 -8.33333E-007 -1.42461E-006 Z">
                                      <p:cBhvr>
                                        <p:cTn id="12" dur="13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16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indefinite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141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Ura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26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4127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indefinite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141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indefinite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41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3"/>
          <p:cNvGrpSpPr/>
          <p:nvPr/>
        </p:nvGrpSpPr>
        <p:grpSpPr>
          <a:xfrm>
            <a:off x="2362320" y="3581280"/>
            <a:ext cx="2895480" cy="1693800"/>
            <a:chOff x="2362320" y="3581280"/>
            <a:chExt cx="2895480" cy="1693800"/>
          </a:xfrm>
        </p:grpSpPr>
        <p:pic>
          <p:nvPicPr>
            <p:cNvPr id="64" name="Picture 4" descr=""/>
            <p:cNvPicPr/>
            <p:nvPr/>
          </p:nvPicPr>
          <p:blipFill>
            <a:blip r:embed="rId1"/>
            <a:stretch/>
          </p:blipFill>
          <p:spPr>
            <a:xfrm>
              <a:off x="2895480" y="3581280"/>
              <a:ext cx="152352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5"/>
            <p:cNvSpPr/>
            <p:nvPr/>
          </p:nvSpPr>
          <p:spPr>
            <a:xfrm>
              <a:off x="2362320" y="3962160"/>
              <a:ext cx="2895480" cy="131292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0" spc="-1" strike="noStrike">
                  <a:solidFill>
                    <a:srgbClr val="000000"/>
                  </a:solidFill>
                  <a:latin typeface="Calibri"/>
                </a:rPr>
                <a:t>a hen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oup 6"/>
          <p:cNvGrpSpPr/>
          <p:nvPr/>
        </p:nvGrpSpPr>
        <p:grpSpPr>
          <a:xfrm>
            <a:off x="5198760" y="2008440"/>
            <a:ext cx="3030840" cy="2450520"/>
            <a:chOff x="5198760" y="2008440"/>
            <a:chExt cx="3030840" cy="2450520"/>
          </a:xfrm>
        </p:grpSpPr>
        <p:pic>
          <p:nvPicPr>
            <p:cNvPr id="67" name="Picture 7" descr=""/>
            <p:cNvPicPr/>
            <p:nvPr/>
          </p:nvPicPr>
          <p:blipFill>
            <a:blip r:embed="rId2"/>
            <a:stretch/>
          </p:blipFill>
          <p:spPr>
            <a:xfrm rot="2679600">
              <a:off x="5562360" y="2361960"/>
              <a:ext cx="1722600" cy="174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8"/>
            <p:cNvSpPr/>
            <p:nvPr/>
          </p:nvSpPr>
          <p:spPr>
            <a:xfrm>
              <a:off x="5334120" y="2819160"/>
              <a:ext cx="2895480" cy="131292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0" spc="-1" strike="noStrike">
                  <a:solidFill>
                    <a:srgbClr val="000000"/>
                  </a:solidFill>
                  <a:latin typeface="Calibri"/>
                </a:rPr>
                <a:t>a cat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9"/>
          <p:cNvGrpSpPr/>
          <p:nvPr/>
        </p:nvGrpSpPr>
        <p:grpSpPr>
          <a:xfrm>
            <a:off x="5943600" y="1371600"/>
            <a:ext cx="2895480" cy="1693800"/>
            <a:chOff x="5943600" y="1371600"/>
            <a:chExt cx="2895480" cy="1693800"/>
          </a:xfrm>
        </p:grpSpPr>
        <p:pic>
          <p:nvPicPr>
            <p:cNvPr id="70" name="Picture 10" descr=""/>
            <p:cNvPicPr/>
            <p:nvPr/>
          </p:nvPicPr>
          <p:blipFill>
            <a:blip r:embed="rId3"/>
            <a:stretch/>
          </p:blipFill>
          <p:spPr>
            <a:xfrm>
              <a:off x="7314840" y="1371600"/>
              <a:ext cx="1314360" cy="15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1"/>
            <p:cNvSpPr/>
            <p:nvPr/>
          </p:nvSpPr>
          <p:spPr>
            <a:xfrm>
              <a:off x="5943600" y="1752480"/>
              <a:ext cx="2895480" cy="131292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0" spc="-1" strike="noStrike">
                  <a:solidFill>
                    <a:srgbClr val="000000"/>
                  </a:solidFill>
                  <a:latin typeface="Calibri"/>
                </a:rPr>
                <a:t>a </a:t>
              </a:r>
              <a:r>
                <a:rPr b="1" i="1" lang="en-US" sz="8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i="1" lang="en-US" sz="8000" spc="-1" strike="noStrike">
                  <a:solidFill>
                    <a:srgbClr val="000000"/>
                  </a:solidFill>
                  <a:latin typeface="Calibri"/>
                </a:rPr>
                <a:t>rog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Group 12"/>
          <p:cNvGrpSpPr/>
          <p:nvPr/>
        </p:nvGrpSpPr>
        <p:grpSpPr>
          <a:xfrm>
            <a:off x="3962520" y="360000"/>
            <a:ext cx="2514600" cy="1816560"/>
            <a:chOff x="3962520" y="360000"/>
            <a:chExt cx="2514600" cy="1816560"/>
          </a:xfrm>
        </p:grpSpPr>
        <p:pic>
          <p:nvPicPr>
            <p:cNvPr id="73" name="Picture 13" descr=""/>
            <p:cNvPicPr/>
            <p:nvPr/>
          </p:nvPicPr>
          <p:blipFill>
            <a:blip r:embed="rId4"/>
            <a:stretch/>
          </p:blipFill>
          <p:spPr>
            <a:xfrm rot="3947400">
              <a:off x="4440240" y="512280"/>
              <a:ext cx="1301760" cy="149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4"/>
            <p:cNvSpPr/>
            <p:nvPr/>
          </p:nvSpPr>
          <p:spPr>
            <a:xfrm>
              <a:off x="3962520" y="863640"/>
              <a:ext cx="2514600" cy="131292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0" spc="-1" strike="noStrike">
                  <a:solidFill>
                    <a:srgbClr val="000000"/>
                  </a:solidFill>
                  <a:latin typeface="Calibri"/>
                </a:rPr>
                <a:t>a pig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" name="triangle.wav" descr=""/>
          <p:cNvPicPr/>
          <p:nvPr/>
        </p:nvPicPr>
        <p:blipFill>
          <a:blip r:embed="rId5"/>
          <a:stretch/>
        </p:blipFill>
        <p:spPr>
          <a:xfrm>
            <a:off x="-30492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6" name="poprobuy_eshe.wav" descr=""/>
          <p:cNvPicPr/>
          <p:nvPr/>
        </p:nvPicPr>
        <p:blipFill>
          <a:blip r:embed="rId6"/>
          <a:stretch/>
        </p:blipFill>
        <p:spPr>
          <a:xfrm>
            <a:off x="-304920" y="457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7" name="poprobuy_eshe.wav" descr=""/>
          <p:cNvPicPr/>
          <p:nvPr/>
        </p:nvPicPr>
        <p:blipFill>
          <a:blip r:embed="rId7"/>
          <a:stretch/>
        </p:blipFill>
        <p:spPr>
          <a:xfrm>
            <a:off x="-304920" y="914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8" name="poprobuy_eshe.wav" descr=""/>
          <p:cNvPicPr/>
          <p:nvPr/>
        </p:nvPicPr>
        <p:blipFill>
          <a:blip r:embed="rId8"/>
          <a:stretch/>
        </p:blipFill>
        <p:spPr>
          <a:xfrm>
            <a:off x="-304920" y="1523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3" descr="ukraschenie_8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7431120" y="4419720"/>
            <a:ext cx="1712880" cy="236196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13" descr="kuriza.png"/>
          <p:cNvPicPr/>
          <p:nvPr/>
        </p:nvPicPr>
        <p:blipFill>
          <a:blip r:embed="rId10"/>
          <a:stretch/>
        </p:blipFill>
        <p:spPr>
          <a:xfrm>
            <a:off x="4724280" y="4967280"/>
            <a:ext cx="1584360" cy="189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path" presetID="3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15799 0.01896 C -0.15486 0.01272 -0.14062 -0.05296 -0.10469 -0.04857 C -0.05 -0.04233 -0.02847 0.00416 0.02205 -0.04233 C 0.05382 -0.06985 0.09115 -0.13923 0.11858 -0.13715 C 0.18056 -0.13483 0.1934 -0.0636 0.1934 0.00208 C 0.19497 0.09458 0.11441 0.17275 0.01632 0.18154 C -0.08299 0.18779 -0.1651 0.08834 -0.15799 0.01896 Z">
                                      <p:cBhvr>
                                        <p:cTn id="54" dur="13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5.55556E-007 7.90009E-006 C -0.01041 0.00486 -0.0059 0.00301 -0.01336 0.00602 C -0.02066 0.01249 -0.029 0.01434 -0.03733 0.01804 C -0.04914 0.02336 -0.06112 0.02891 -0.07309 0.03377 C -0.08247 0.0421 -0.09046 0.05135 -0.09705 0.0636 C -0.10086 0.08026 -0.11875 0.08465 -0.12987 0.08951 C -0.13091 0.08997 -0.1375 0.09344 -0.13872 0.09344 C -0.15313 0.09459 -0.16771 0.09483 -0.18212 0.09552 C -0.20191 0.09436 -0.21476 0.09737 -0.23125 0.08951 C -0.30035 0.0939 -0.34497 0.09436 -0.42691 0.09552 C -0.44184 0.09968 -0.42778 0.09459 -0.43872 0.10153 C -0.44341 0.10454 -0.44896 0.10454 -0.45365 0.10754 C -0.45834 0.11078 -0.46007 0.11402 -0.46407 0.11934 C -0.47066 0.14455 -0.49271 0.15264 -0.51042 0.15704 C -0.52257 0.16814 -0.53959 0.17114 -0.55365 0.17693 C -0.56407 0.18618 -0.55921 0.18363 -0.56719 0.18687 C -0.56858 0.18895 -0.57032 0.19057 -0.57153 0.19288 C -0.5724 0.19473 -0.57205 0.19728 -0.57309 0.1989 C -0.57882 0.20815 -0.58698 0.213 -0.59254 0.22272 C -0.59653 0.24631 -0.5908 0.2174 -0.59705 0.23659 C -0.59966 0.24446 -0.59931 0.25116 -0.60296 0.25856 C -0.60365 0.27406 -0.6125 0.32332 -0.59705 0.33002 C -0.5875 0.34274 -0.59757 0.33118 -0.58803 0.33812 C -0.5849 0.34043 -0.579 0.34598 -0.579 0.34598 C -0.57275 0.3587 -0.5632 0.37535 -0.55365 0.38391 C -0.54584 0.39108 -0.54983 0.38437 -0.54323 0.39177 C -0.54167 0.39362 -0.54046 0.39617 -0.53872 0.39779 C -0.53612 0.4001 -0.53264 0.39987 -0.52987 0.40172 C -0.51737 0.41027 -0.50209 0.41351 -0.48803 0.41559 C -0.46858 0.4149 -0.44723 0.42299 -0.42987 0.41166 C -0.4158 0.40241 -0.39723 0.38969 -0.38959 0.3698 C -0.38438 0.35616 -0.38247 0.33881 -0.37605 0.32609 C -0.3691 0.31245 -0.34306 0.30551 -0.33125 0.30019 C -0.32639 0.29788 -0.32275 0.29256 -0.31789 0.29025 C -0.31303 0.284 -0.3125 0.28076 -0.31042 0.27244 C -0.3099 0.25532 -0.30973 0.23798 -0.30886 0.22087 C -0.30834 0.21115 -0.30365 0.19774 -0.30139 0.18895 C -0.29514 0.16513 -0.29063 0.14015 -0.28212 0.11749 C -0.28056 0.10569 -0.27952 0.09344 -0.27466 0.08349 C -0.27257 0.07332 -0.27101 0.06129 -0.26563 0.05366 C -0.25938 0.0303 -0.2533 0.02221 -0.23577 0.01596 C -0.22987 0.01666 -0.22379 0.01643 -0.21789 0.01804 C -0.2125 0.01943 -0.20851 0.02753 -0.20296 0.02984 C -0.19862 0.03562 -0.19549 0.03909 -0.18959 0.04186 C -0.18351 0.0495 -0.17813 0.05505 -0.17014 0.05782 C -0.16407 0.06314 -0.15903 0.06846 -0.15226 0.0717 C -0.14011 0.08696 -0.12639 0.10408 -0.11042 0.11148 C -0.10139 0.1235 -0.09723 0.11818 -0.08646 0.12535 C -0.07881 0.13044 -0.07101 0.13298 -0.06268 0.1353 C 0.03733 0.13322 0.00851 0.14131 0.05382 0.12743 C 0.05817 0.12165 0.06302 0.11911 0.06719 0.11333 C 0.06945 0.10477 0.07119 0.09621 0.0731 0.08766 C 0.07395 0.08349 0.07622 0.07563 0.07622 0.07563 C 0.07587 0.05158 0.0882 -0.02266 0.0658 -0.05365 C 0.06284 -0.06521 0.06667 -0.0555 0.05972 -0.06151 C 0.05799 -0.06313 0.05677 -0.06567 0.05521 -0.06752 C 0.04914 -0.07423 0.05277 -0.06914 0.04635 -0.07354 C 0.03317 -0.08233 0.02327 -0.09944 0.00903 -0.10522 C 0.00261 -0.11424 -0.00746 -0.12141 -0.01631 -0.12511 C -0.03629 -0.12442 -0.0691 -0.14338 -0.07605 -0.11332 C -0.07291 -0.08996 -0.07379 -0.08741 -0.06112 -0.07354 C -0.05348 -0.06498 -0.06007 -0.06914 -0.05226 -0.06544 C -0.0507 -0.06359 -0.04948 -0.06128 -0.04775 -0.05966 C -0.04636 -0.05851 -0.04461 -0.05874 -0.04323 -0.05758 C -0.03263 -0.0481 -0.04445 -0.05388 -0.03421 -0.04972 C -0.02673 -0.03931 -0.03716 -0.05272 -0.02535 -0.04162 C -0.02361 -0.04 -0.02256 -0.03723 -0.02083 -0.03561 C -0.01823 -0.0333 -0.01492 -0.03307 -0.01198 -0.03168 C -0.0073 -0.02567 -0.00156 -0.02196 0.00295 -0.01572 C 0.00244 -0.0111 0.00313 -0.00601 0.00157 -0.00184 C 0.00087 7.90009E-006 -0.00173 -0.00138 -0.00295 7.90009E-006 C -0.00364 0.00093 -0.00105 7.90009E-006 -5.55556E-007 7.90009E-006 Z">
                                      <p:cBhvr>
                                        <p:cTn id="56" dur="13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8.69565E-007 C 0.01337 0.0007 0.02691 0.00023 0.04028 0.00208 C 0.04201 0.00232 0.04305 0.00555 0.04479 0.00602 C 0.04913 0.0074 0.05364 0.00717 0.05816 0.00787 C 0.10243 0.00717 0.14687 0.00717 0.19114 0.00602 C 0.19618 0.00578 0.20139 0.00185 0.20607 0.00393 C 0.20798 0.00486 0.20538 0.00948 0.20451 0.01203 C 0.20295 0.01619 0.20052 0.01989 0.19861 0.02382 C 0.19184 0.03724 0.16493 0.04417 0.15382 0.04764 C 0.12552 0.07216 0.07465 0.06476 0.04774 0.06568 C -0.03282 0.06453 -0.05955 0.0784 -0.11493 0.05574 C -0.12778 0.04394 -0.14757 0.03978 -0.16268 0.03377 C -0.17379 0.02937 -0.18455 0.0229 -0.19549 0.01781 C -0.19219 0.03053 -0.18854 0.0377 -0.179 0.04163 C -0.17361 0.04926 -0.17882 0.04302 -0.17014 0.04972 C -0.16702 0.05227 -0.16111 0.05759 -0.16111 0.05759 C -0.15556 0.06892 -0.14636 0.07748 -0.13733 0.08349 C -0.13125 0.09598 -0.13802 0.08465 -0.12986 0.09135 C -0.12518 0.09528 -0.12413 0.09875 -0.11788 0.1013 C -0.10452 0.11379 -0.0908 0.12165 -0.07466 0.12535 C -0.06962 0.12974 -0.06511 0.13021 -0.05972 0.13321 C -0.03785 0.1457 -0.01945 0.15079 0.00451 0.1531 C -0.00347 0.15634 -0.01025 0.16582 -0.01493 0.17484 C -0.01684 0.18317 -0.0217 0.18941 -0.02535 0.19681 C -0.02622 0.19866 -0.02587 0.20121 -0.02691 0.20282 C -0.029 0.20652 -0.03247 0.20884 -0.03438 0.21277 C -0.04167 0.22757 -0.05174 0.23543 -0.06424 0.24052 C -0.0691 0.24491 -0.07361 0.24607 -0.079 0.24861 C -0.19167 0.24538 -0.12344 0.25463 -0.16111 0.23867 C -0.17032 0.22641 -0.18212 0.22225 -0.19393 0.2167 C -0.1967 0.21323 -0.20035 0.21069 -0.20295 0.20676 C -0.20538 0.20306 -0.20625 0.19797 -0.20886 0.19473 C -0.2099 0.19334 -0.21094 0.19219 -0.21198 0.1908 C -0.21389 0.1827 -0.2158 0.17484 -0.21788 0.16698 C -0.21858 0.19473 -0.20764 0.23243 -0.22986 0.2426 C -0.23542 0.24815 -0.23854 0.24977 -0.24479 0.25255 C -0.24931 0.25856 -0.25504 0.26365 -0.26111 0.26642 C -0.25278 0.27799 -0.26146 0.26827 -0.2507 0.27429 C -0.24896 0.27521 -0.24792 0.27752 -0.24618 0.27845 C -0.24167 0.28099 -0.23594 0.28215 -0.23125 0.28423 C -0.22275 0.28793 -0.21476 0.29209 -0.20591 0.29417 C -0.07448 0.29163 -0.13976 0.30204 -0.08959 0.28423 C -0.0842 0.2796 -0.07865 0.28007 -0.07309 0.27637 C -0.06094 0.26827 -0.0757 0.2759 -0.06424 0.27035 C -0.05799 0.25856 -0.04566 0.25578 -0.03872 0.24445 C -0.02882 0.22826 -0.02118 0.20999 -0.01042 0.19473 C -0.00886 0.18872 -0.00469 0.17923 -0.00139 0.17484 C 0.00069 0.16258 0.0059 0.14963 0.00903 0.13714 C 0.01041 0.13113 0.01354 0.11934 0.01354 0.11934 C 0.01284 0.0895 0.02396 0.04602 -0.00139 0.03377 C -0.00573 0.02822 -0.004 0.03192 -0.00591 0.02382 C -0.00695 0.01989 -0.00886 0.01203 -0.00886 0.01203 C -0.00695 -0.00115 -0.0099 0.00278 3.33333E-006 -8.69565E-007 Z">
                                      <p:cBhvr>
                                        <p:cTn id="58" dur="13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8.33333E-007 -1.42461E-006 C -0.07396 -0.00648 0.01493 0.00069 -0.15816 -0.00416 C -0.16337 -0.0044 -0.16701 -0.00995 -0.17153 -0.01203 C -0.17691 -0.01457 -0.18299 -0.01434 -0.18802 -0.01804 C -0.20382 -0.0296 -0.19132 -0.02313 -0.20139 -0.02798 C -0.20503 -0.03261 -0.21337 -0.03978 -0.21337 -0.03978 C -0.21944 -0.06291 -0.2125 -0.08603 -0.21042 -0.10939 C -0.21146 -0.12882 -0.21215 -0.14662 -0.22239 -0.16119 C -0.22413 -0.16883 -0.22639 -0.17068 -0.23125 -0.17507 C -0.23229 -0.17715 -0.23299 -0.17946 -0.23437 -0.18108 C -0.23559 -0.18224 -0.23767 -0.18155 -0.23871 -0.18293 C -0.23976 -0.18432 -0.23924 -0.18733 -0.24028 -0.18895 C -0.24271 -0.19288 -0.2467 -0.19496 -0.24913 -0.19889 C -0.25816 -0.21346 -0.24583 -0.19542 -0.25521 -0.21277 C -0.2592 -0.22017 -0.26614 -0.22341 -0.27014 -0.23081 C -0.27691 -0.24353 -0.26875 -0.23497 -0.2776 -0.2426 C -0.27917 -0.24908 -0.28507 -0.26064 -0.28507 -0.26064 C -0.28924 -0.27798 -0.28246 -0.25255 -0.29097 -0.27243 C -0.29201 -0.27475 -0.29167 -0.27798 -0.29253 -0.28053 C -0.29739 -0.29556 -0.29392 -0.27729 -0.29705 -0.29232 C -0.29809 -0.29764 -0.3 -0.30828 -0.3 -0.30828 C -0.29896 -0.36378 -0.30399 -0.37766 -0.29392 -0.41559 C -0.29219 -0.4223 -0.28646 -0.42553 -0.28351 -0.43155 C -0.27951 -0.44889 -0.25694 -0.45629 -0.24618 -0.46531 C -0.23576 -0.47387 -0.24462 -0.46947 -0.23576 -0.47317 C -0.22708 -0.48127 -0.21337 -0.48358 -0.20295 -0.48728 C -0.17309 -0.48451 -0.18837 -0.48705 -0.17153 -0.47919 C -0.17049 -0.47711 -0.16944 -0.47526 -0.16858 -0.47317 C -0.16788 -0.47132 -0.16805 -0.46901 -0.16719 -0.46739 C -0.16441 -0.46138 -0.15694 -0.4556 -0.15226 -0.45329 C -0.14739 -0.44727 -0.14375 -0.44773 -0.13733 -0.44542 C -0.12066 -0.43964 -0.11892 -0.43918 -0.09705 -0.43756 C -0.08628 -0.4327 -0.09062 -0.43571 -0.08351 -0.42946 C -0.08055 -0.42345 -0.0776 -0.41767 -0.07465 -0.41166 C -0.07361 -0.40958 -0.07153 -0.40564 -0.07153 -0.40564 C -0.06979 -0.39824 -0.06701 -0.39339 -0.06562 -0.38576 C -0.0651 -0.35685 -0.07483 -0.31846 -0.05816 -0.29625 C -0.05573 -0.28654 -0.05833 -0.29232 -0.05069 -0.28631 C -0.0401 -0.27798 -0.03698 -0.27752 -0.02535 -0.27243 C -0.00069 -0.26156 -0.01962 -0.26665 -0.00139 -0.26249 C 0.00243 -0.25995 0.0066 -0.25902 0.01042 -0.25648 C 0.01163 -0.25555 0.01233 -0.2537 0.01354 -0.25255 C 0.01858 -0.24815 0.02448 -0.24422 0.02986 -0.24075 C 0.03351 -0.23566 0.0375 -0.23474 0.04184 -0.23081 C 0.04375 -0.22317 0.04653 -0.21439 0.05087 -0.20884 C 0.05243 -0.20028 0.05521 -0.18293 0.05521 -0.18293 C 0.05642 -0.14871 0.05833 -0.09736 0.05833 -0.06568 C 0.05833 -0.06036 0.05833 -0.05458 0.05677 -0.04972 C 0.05486 -0.04371 0.0434 -0.04186 0.0434 -0.04186 C 0.03941 -0.03677 0.02813 -0.03053 0.0224 -0.02798 C 0.01945 -0.0266 0.01354 -0.02382 0.01354 -0.02382 C 0.01007 -0.01943 0.00781 -0.01457 0.00451 -0.00995 C 0.00399 -0.0081 0.00417 -0.00532 0.00295 -0.00416 C -0.00226 0.00092 -0.0125 -1.42461E-006 -8.33333E-007 -1.42461E-006 Z">
                                      <p:cBhvr>
                                        <p:cTn id="60" dur="13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Ura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65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4127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remove" presetClass="emph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indefinite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1411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indefinite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1411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indefinite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" dur="1411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2362320" y="3581280"/>
            <a:ext cx="3581280" cy="1693800"/>
            <a:chOff x="2362320" y="3581280"/>
            <a:chExt cx="3581280" cy="1693800"/>
          </a:xfrm>
        </p:grpSpPr>
        <p:pic>
          <p:nvPicPr>
            <p:cNvPr id="82" name="Picture 3" descr=""/>
            <p:cNvPicPr/>
            <p:nvPr/>
          </p:nvPicPr>
          <p:blipFill>
            <a:blip r:embed="rId1"/>
            <a:stretch/>
          </p:blipFill>
          <p:spPr>
            <a:xfrm>
              <a:off x="2895480" y="3581280"/>
              <a:ext cx="152352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4"/>
            <p:cNvSpPr/>
            <p:nvPr/>
          </p:nvSpPr>
          <p:spPr>
            <a:xfrm>
              <a:off x="2362320" y="3962160"/>
              <a:ext cx="3581280" cy="131292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0" spc="-1" strike="noStrike">
                  <a:solidFill>
                    <a:srgbClr val="000000"/>
                  </a:solidFill>
                  <a:latin typeface="Calibri"/>
                </a:rPr>
                <a:t>a dress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5"/>
          <p:cNvGrpSpPr/>
          <p:nvPr/>
        </p:nvGrpSpPr>
        <p:grpSpPr>
          <a:xfrm>
            <a:off x="4876920" y="2008440"/>
            <a:ext cx="3429000" cy="2450520"/>
            <a:chOff x="4876920" y="2008440"/>
            <a:chExt cx="3429000" cy="2450520"/>
          </a:xfrm>
        </p:grpSpPr>
        <p:pic>
          <p:nvPicPr>
            <p:cNvPr id="85" name="Picture 6" descr=""/>
            <p:cNvPicPr/>
            <p:nvPr/>
          </p:nvPicPr>
          <p:blipFill>
            <a:blip r:embed="rId2"/>
            <a:stretch/>
          </p:blipFill>
          <p:spPr>
            <a:xfrm rot="2679600">
              <a:off x="5562360" y="2361960"/>
              <a:ext cx="1722600" cy="174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7"/>
            <p:cNvSpPr/>
            <p:nvPr/>
          </p:nvSpPr>
          <p:spPr>
            <a:xfrm>
              <a:off x="4876920" y="2819160"/>
              <a:ext cx="3429000" cy="131292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0" spc="-1" strike="noStrike">
                  <a:solidFill>
                    <a:srgbClr val="000000"/>
                  </a:solidFill>
                  <a:latin typeface="Calibri"/>
                </a:rPr>
                <a:t>a </a:t>
              </a:r>
              <a:r>
                <a:rPr b="1" i="1" lang="en-US" sz="8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i="1" lang="en-US" sz="8000" spc="-1" strike="noStrike">
                  <a:solidFill>
                    <a:srgbClr val="000000"/>
                  </a:solidFill>
                  <a:latin typeface="Calibri"/>
                </a:rPr>
                <a:t>ox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8"/>
          <p:cNvGrpSpPr/>
          <p:nvPr/>
        </p:nvGrpSpPr>
        <p:grpSpPr>
          <a:xfrm>
            <a:off x="5867280" y="1371600"/>
            <a:ext cx="3276360" cy="1693800"/>
            <a:chOff x="5867280" y="1371600"/>
            <a:chExt cx="3276360" cy="1693800"/>
          </a:xfrm>
        </p:grpSpPr>
        <p:pic>
          <p:nvPicPr>
            <p:cNvPr id="88" name="Picture 9" descr=""/>
            <p:cNvPicPr/>
            <p:nvPr/>
          </p:nvPicPr>
          <p:blipFill>
            <a:blip r:embed="rId3"/>
            <a:stretch/>
          </p:blipFill>
          <p:spPr>
            <a:xfrm>
              <a:off x="7314840" y="1371600"/>
              <a:ext cx="1314720" cy="15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10"/>
            <p:cNvSpPr/>
            <p:nvPr/>
          </p:nvSpPr>
          <p:spPr>
            <a:xfrm>
              <a:off x="5867280" y="1752480"/>
              <a:ext cx="3276360" cy="131292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0" spc="-1" strike="noStrike">
                  <a:solidFill>
                    <a:srgbClr val="000000"/>
                  </a:solidFill>
                  <a:latin typeface="Calibri"/>
                </a:rPr>
                <a:t>a cup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11"/>
          <p:cNvGrpSpPr/>
          <p:nvPr/>
        </p:nvGrpSpPr>
        <p:grpSpPr>
          <a:xfrm>
            <a:off x="3352680" y="336600"/>
            <a:ext cx="3428640" cy="1847520"/>
            <a:chOff x="3352680" y="336600"/>
            <a:chExt cx="3428640" cy="1847520"/>
          </a:xfrm>
        </p:grpSpPr>
        <p:pic>
          <p:nvPicPr>
            <p:cNvPr id="91" name="Picture 12" descr=""/>
            <p:cNvPicPr/>
            <p:nvPr/>
          </p:nvPicPr>
          <p:blipFill>
            <a:blip r:embed="rId4"/>
            <a:stretch/>
          </p:blipFill>
          <p:spPr>
            <a:xfrm rot="3947400">
              <a:off x="4310280" y="455040"/>
              <a:ext cx="1301760" cy="160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13"/>
            <p:cNvSpPr/>
            <p:nvPr/>
          </p:nvSpPr>
          <p:spPr>
            <a:xfrm>
              <a:off x="3352680" y="863640"/>
              <a:ext cx="3428640" cy="131292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0" spc="-1" strike="noStrike">
                  <a:solidFill>
                    <a:srgbClr val="000000"/>
                  </a:solidFill>
                  <a:latin typeface="Calibri"/>
                </a:rPr>
                <a:t>a doll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3" name="triangle.wav" descr=""/>
          <p:cNvPicPr/>
          <p:nvPr/>
        </p:nvPicPr>
        <p:blipFill>
          <a:blip r:embed="rId5"/>
          <a:stretch/>
        </p:blipFill>
        <p:spPr>
          <a:xfrm>
            <a:off x="-30492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4" name="poprobuy_eshe.wav" descr=""/>
          <p:cNvPicPr/>
          <p:nvPr/>
        </p:nvPicPr>
        <p:blipFill>
          <a:blip r:embed="rId6"/>
          <a:stretch/>
        </p:blipFill>
        <p:spPr>
          <a:xfrm>
            <a:off x="-304920" y="457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5" name="poprobuy_eshe.wav" descr=""/>
          <p:cNvPicPr/>
          <p:nvPr/>
        </p:nvPicPr>
        <p:blipFill>
          <a:blip r:embed="rId7"/>
          <a:stretch/>
        </p:blipFill>
        <p:spPr>
          <a:xfrm>
            <a:off x="-304920" y="914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6" name="poprobuy_eshe.wav" descr=""/>
          <p:cNvPicPr/>
          <p:nvPr/>
        </p:nvPicPr>
        <p:blipFill>
          <a:blip r:embed="rId8"/>
          <a:stretch/>
        </p:blipFill>
        <p:spPr>
          <a:xfrm>
            <a:off x="-304920" y="1523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1" descr="ukraschenie_8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7431120" y="4419720"/>
            <a:ext cx="1712880" cy="236196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16" descr="чашка.png"/>
          <p:cNvPicPr/>
          <p:nvPr/>
        </p:nvPicPr>
        <p:blipFill>
          <a:blip r:embed="rId10"/>
          <a:stretch/>
        </p:blipFill>
        <p:spPr>
          <a:xfrm>
            <a:off x="4648320" y="5105520"/>
            <a:ext cx="1752480" cy="153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path" presetID="3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15799 0.01896 C -0.15486 0.01272 -0.14062 -0.05296 -0.10469 -0.04857 C -0.05 -0.04233 -0.02847 0.00416 0.02205 -0.04233 C 0.05382 -0.06985 0.09115 -0.13923 0.11858 -0.13715 C 0.18056 -0.13483 0.1934 -0.0636 0.1934 0.00208 C 0.19497 0.09458 0.11441 0.17275 0.01632 0.18154 C -0.08299 0.18779 -0.1651 0.08834 -0.15799 0.01896 Z">
                                      <p:cBhvr>
                                        <p:cTn id="100" dur="13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5.55556E-007 7.90009E-006 C -0.01041 0.00486 -0.0059 0.00301 -0.01336 0.00602 C -0.02066 0.01249 -0.029 0.01434 -0.03733 0.01804 C -0.04914 0.02336 -0.06112 0.02891 -0.07309 0.03377 C -0.08247 0.0421 -0.09046 0.05135 -0.09705 0.0636 C -0.10086 0.08026 -0.11875 0.08465 -0.12987 0.08951 C -0.13091 0.08997 -0.1375 0.09344 -0.13872 0.09344 C -0.15313 0.09459 -0.16771 0.09483 -0.18212 0.09552 C -0.20191 0.09436 -0.21476 0.09737 -0.23125 0.08951 C -0.30035 0.0939 -0.34497 0.09436 -0.42691 0.09552 C -0.44184 0.09968 -0.42778 0.09459 -0.43872 0.10153 C -0.44341 0.10454 -0.44896 0.10454 -0.45365 0.10754 C -0.45834 0.11078 -0.46007 0.11402 -0.46407 0.11934 C -0.47066 0.14455 -0.49271 0.15264 -0.51042 0.15704 C -0.52257 0.16814 -0.53959 0.17114 -0.55365 0.17693 C -0.56407 0.18618 -0.55921 0.18363 -0.56719 0.18687 C -0.56858 0.18895 -0.57032 0.19057 -0.57153 0.19288 C -0.5724 0.19473 -0.57205 0.19728 -0.57309 0.1989 C -0.57882 0.20815 -0.58698 0.213 -0.59254 0.22272 C -0.59653 0.24631 -0.5908 0.2174 -0.59705 0.23659 C -0.59966 0.24446 -0.59931 0.25116 -0.60296 0.25856 C -0.60365 0.27406 -0.6125 0.32332 -0.59705 0.33002 C -0.5875 0.34274 -0.59757 0.33118 -0.58803 0.33812 C -0.5849 0.34043 -0.579 0.34598 -0.579 0.34598 C -0.57275 0.3587 -0.5632 0.37535 -0.55365 0.38391 C -0.54584 0.39108 -0.54983 0.38437 -0.54323 0.39177 C -0.54167 0.39362 -0.54046 0.39617 -0.53872 0.39779 C -0.53612 0.4001 -0.53264 0.39987 -0.52987 0.40172 C -0.51737 0.41027 -0.50209 0.41351 -0.48803 0.41559 C -0.46858 0.4149 -0.44723 0.42299 -0.42987 0.41166 C -0.4158 0.40241 -0.39723 0.38969 -0.38959 0.3698 C -0.38438 0.35616 -0.38247 0.33881 -0.37605 0.32609 C -0.3691 0.31245 -0.34306 0.30551 -0.33125 0.30019 C -0.32639 0.29788 -0.32275 0.29256 -0.31789 0.29025 C -0.31303 0.284 -0.3125 0.28076 -0.31042 0.27244 C -0.3099 0.25532 -0.30973 0.23798 -0.30886 0.22087 C -0.30834 0.21115 -0.30365 0.19774 -0.30139 0.18895 C -0.29514 0.16513 -0.29063 0.14015 -0.28212 0.11749 C -0.28056 0.10569 -0.27952 0.09344 -0.27466 0.08349 C -0.27257 0.07332 -0.27101 0.06129 -0.26563 0.05366 C -0.25938 0.0303 -0.2533 0.02221 -0.23577 0.01596 C -0.22987 0.01666 -0.22379 0.01643 -0.21789 0.01804 C -0.2125 0.01943 -0.20851 0.02753 -0.20296 0.02984 C -0.19862 0.03562 -0.19549 0.03909 -0.18959 0.04186 C -0.18351 0.0495 -0.17813 0.05505 -0.17014 0.05782 C -0.16407 0.06314 -0.15903 0.06846 -0.15226 0.0717 C -0.14011 0.08696 -0.12639 0.10408 -0.11042 0.11148 C -0.10139 0.1235 -0.09723 0.11818 -0.08646 0.12535 C -0.07881 0.13044 -0.07101 0.13298 -0.06268 0.1353 C 0.03733 0.13322 0.00851 0.14131 0.05382 0.12743 C 0.05817 0.12165 0.06302 0.11911 0.06719 0.11333 C 0.06945 0.10477 0.07119 0.09621 0.0731 0.08766 C 0.07395 0.08349 0.07622 0.07563 0.07622 0.07563 C 0.07587 0.05158 0.0882 -0.02266 0.0658 -0.05365 C 0.06284 -0.06521 0.06667 -0.0555 0.05972 -0.06151 C 0.05799 -0.06313 0.05677 -0.06567 0.05521 -0.06752 C 0.04914 -0.07423 0.05277 -0.06914 0.04635 -0.07354 C 0.03317 -0.08233 0.02327 -0.09944 0.00903 -0.10522 C 0.00261 -0.11424 -0.00746 -0.12141 -0.01631 -0.12511 C -0.03629 -0.12442 -0.0691 -0.14338 -0.07605 -0.11332 C -0.07291 -0.08996 -0.07379 -0.08741 -0.06112 -0.07354 C -0.05348 -0.06498 -0.06007 -0.06914 -0.05226 -0.06544 C -0.0507 -0.06359 -0.04948 -0.06128 -0.04775 -0.05966 C -0.04636 -0.05851 -0.04461 -0.05874 -0.04323 -0.05758 C -0.03263 -0.0481 -0.04445 -0.05388 -0.03421 -0.04972 C -0.02673 -0.03931 -0.03716 -0.05272 -0.02535 -0.04162 C -0.02361 -0.04 -0.02256 -0.03723 -0.02083 -0.03561 C -0.01823 -0.0333 -0.01492 -0.03307 -0.01198 -0.03168 C -0.0073 -0.02567 -0.00156 -0.02196 0.00295 -0.01572 C 0.00244 -0.0111 0.00313 -0.00601 0.00157 -0.00184 C 0.00087 7.90009E-006 -0.00173 -0.00138 -0.00295 7.90009E-006 C -0.00364 0.00093 -0.00105 7.90009E-006 -5.55556E-007 7.90009E-006 Z">
                                      <p:cBhvr>
                                        <p:cTn id="102" dur="13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8.69565E-007 C 0.01337 0.0007 0.02691 0.00023 0.04028 0.00208 C 0.04201 0.00232 0.04305 0.00555 0.04479 0.00602 C 0.04913 0.0074 0.05364 0.00717 0.05816 0.00787 C 0.10243 0.00717 0.14687 0.00717 0.19114 0.00602 C 0.19618 0.00578 0.20139 0.00185 0.20607 0.00393 C 0.20798 0.00486 0.20538 0.00948 0.20451 0.01203 C 0.20295 0.01619 0.20052 0.01989 0.19861 0.02382 C 0.19184 0.03724 0.16493 0.04417 0.15382 0.04764 C 0.12552 0.07216 0.07465 0.06476 0.04774 0.06568 C -0.03282 0.06453 -0.05955 0.0784 -0.11493 0.05574 C -0.12778 0.04394 -0.14757 0.03978 -0.16268 0.03377 C -0.17379 0.02937 -0.18455 0.0229 -0.19549 0.01781 C -0.19219 0.03053 -0.18854 0.0377 -0.179 0.04163 C -0.17361 0.04926 -0.17882 0.04302 -0.17014 0.04972 C -0.16702 0.05227 -0.16111 0.05759 -0.16111 0.05759 C -0.15556 0.06892 -0.14636 0.07748 -0.13733 0.08349 C -0.13125 0.09598 -0.13802 0.08465 -0.12986 0.09135 C -0.12518 0.09528 -0.12413 0.09875 -0.11788 0.1013 C -0.10452 0.11379 -0.0908 0.12165 -0.07466 0.12535 C -0.06962 0.12974 -0.06511 0.13021 -0.05972 0.13321 C -0.03785 0.1457 -0.01945 0.15079 0.00451 0.1531 C -0.00347 0.15634 -0.01025 0.16582 -0.01493 0.17484 C -0.01684 0.18317 -0.0217 0.18941 -0.02535 0.19681 C -0.02622 0.19866 -0.02587 0.20121 -0.02691 0.20282 C -0.029 0.20652 -0.03247 0.20884 -0.03438 0.21277 C -0.04167 0.22757 -0.05174 0.23543 -0.06424 0.24052 C -0.0691 0.24491 -0.07361 0.24607 -0.079 0.24861 C -0.19167 0.24538 -0.12344 0.25463 -0.16111 0.23867 C -0.17032 0.22641 -0.18212 0.22225 -0.19393 0.2167 C -0.1967 0.21323 -0.20035 0.21069 -0.20295 0.20676 C -0.20538 0.20306 -0.20625 0.19797 -0.20886 0.19473 C -0.2099 0.19334 -0.21094 0.19219 -0.21198 0.1908 C -0.21389 0.1827 -0.2158 0.17484 -0.21788 0.16698 C -0.21858 0.19473 -0.20764 0.23243 -0.22986 0.2426 C -0.23542 0.24815 -0.23854 0.24977 -0.24479 0.25255 C -0.24931 0.25856 -0.25504 0.26365 -0.26111 0.26642 C -0.25278 0.27799 -0.26146 0.26827 -0.2507 0.27429 C -0.24896 0.27521 -0.24792 0.27752 -0.24618 0.27845 C -0.24167 0.28099 -0.23594 0.28215 -0.23125 0.28423 C -0.22275 0.28793 -0.21476 0.29209 -0.20591 0.29417 C -0.07448 0.29163 -0.13976 0.30204 -0.08959 0.28423 C -0.0842 0.2796 -0.07865 0.28007 -0.07309 0.27637 C -0.06094 0.26827 -0.0757 0.2759 -0.06424 0.27035 C -0.05799 0.25856 -0.04566 0.25578 -0.03872 0.24445 C -0.02882 0.22826 -0.02118 0.20999 -0.01042 0.19473 C -0.00886 0.18872 -0.00469 0.17923 -0.00139 0.17484 C 0.00069 0.16258 0.0059 0.14963 0.00903 0.13714 C 0.01041 0.13113 0.01354 0.11934 0.01354 0.11934 C 0.01284 0.0895 0.02396 0.04602 -0.00139 0.03377 C -0.00573 0.02822 -0.004 0.03192 -0.00591 0.02382 C -0.00695 0.01989 -0.00886 0.01203 -0.00886 0.01203 C -0.00695 -0.00115 -0.0099 0.00278 3.33333E-006 -8.69565E-007 Z">
                                      <p:cBhvr>
                                        <p:cTn id="104" dur="13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8.33333E-007 -1.42461E-006 C -0.07396 -0.00648 0.01493 0.00069 -0.15816 -0.00416 C -0.16337 -0.0044 -0.16701 -0.00995 -0.17153 -0.01203 C -0.17691 -0.01457 -0.18299 -0.01434 -0.18802 -0.01804 C -0.20382 -0.0296 -0.19132 -0.02313 -0.20139 -0.02798 C -0.20503 -0.03261 -0.21337 -0.03978 -0.21337 -0.03978 C -0.21944 -0.06291 -0.2125 -0.08603 -0.21042 -0.10939 C -0.21146 -0.12882 -0.21215 -0.14662 -0.22239 -0.16119 C -0.22413 -0.16883 -0.22639 -0.17068 -0.23125 -0.17507 C -0.23229 -0.17715 -0.23299 -0.17946 -0.23437 -0.18108 C -0.23559 -0.18224 -0.23767 -0.18155 -0.23871 -0.18293 C -0.23976 -0.18432 -0.23924 -0.18733 -0.24028 -0.18895 C -0.24271 -0.19288 -0.2467 -0.19496 -0.24913 -0.19889 C -0.25816 -0.21346 -0.24583 -0.19542 -0.25521 -0.21277 C -0.2592 -0.22017 -0.26614 -0.22341 -0.27014 -0.23081 C -0.27691 -0.24353 -0.26875 -0.23497 -0.2776 -0.2426 C -0.27917 -0.24908 -0.28507 -0.26064 -0.28507 -0.26064 C -0.28924 -0.27798 -0.28246 -0.25255 -0.29097 -0.27243 C -0.29201 -0.27475 -0.29167 -0.27798 -0.29253 -0.28053 C -0.29739 -0.29556 -0.29392 -0.27729 -0.29705 -0.29232 C -0.29809 -0.29764 -0.3 -0.30828 -0.3 -0.30828 C -0.29896 -0.36378 -0.30399 -0.37766 -0.29392 -0.41559 C -0.29219 -0.4223 -0.28646 -0.42553 -0.28351 -0.43155 C -0.27951 -0.44889 -0.25694 -0.45629 -0.24618 -0.46531 C -0.23576 -0.47387 -0.24462 -0.46947 -0.23576 -0.47317 C -0.22708 -0.48127 -0.21337 -0.48358 -0.20295 -0.48728 C -0.17309 -0.48451 -0.18837 -0.48705 -0.17153 -0.47919 C -0.17049 -0.47711 -0.16944 -0.47526 -0.16858 -0.47317 C -0.16788 -0.47132 -0.16805 -0.46901 -0.16719 -0.46739 C -0.16441 -0.46138 -0.15694 -0.4556 -0.15226 -0.45329 C -0.14739 -0.44727 -0.14375 -0.44773 -0.13733 -0.44542 C -0.12066 -0.43964 -0.11892 -0.43918 -0.09705 -0.43756 C -0.08628 -0.4327 -0.09062 -0.43571 -0.08351 -0.42946 C -0.08055 -0.42345 -0.0776 -0.41767 -0.07465 -0.41166 C -0.07361 -0.40958 -0.07153 -0.40564 -0.07153 -0.40564 C -0.06979 -0.39824 -0.06701 -0.39339 -0.06562 -0.38576 C -0.0651 -0.35685 -0.07483 -0.31846 -0.05816 -0.29625 C -0.05573 -0.28654 -0.05833 -0.29232 -0.05069 -0.28631 C -0.0401 -0.27798 -0.03698 -0.27752 -0.02535 -0.27243 C -0.00069 -0.26156 -0.01962 -0.26665 -0.00139 -0.26249 C 0.00243 -0.25995 0.0066 -0.25902 0.01042 -0.25648 C 0.01163 -0.25555 0.01233 -0.2537 0.01354 -0.25255 C 0.01858 -0.24815 0.02448 -0.24422 0.02986 -0.24075 C 0.03351 -0.23566 0.0375 -0.23474 0.04184 -0.23081 C 0.04375 -0.22317 0.04653 -0.21439 0.05087 -0.20884 C 0.05243 -0.20028 0.05521 -0.18293 0.05521 -0.18293 C 0.05642 -0.14871 0.05833 -0.09736 0.05833 -0.06568 C 0.05833 -0.06036 0.05833 -0.05458 0.05677 -0.04972 C 0.05486 -0.04371 0.0434 -0.04186 0.0434 -0.04186 C 0.03941 -0.03677 0.02813 -0.03053 0.0224 -0.02798 C 0.01945 -0.0266 0.01354 -0.02382 0.01354 -0.02382 C 0.01007 -0.01943 0.00781 -0.01457 0.00451 -0.00995 C 0.00399 -0.0081 0.00417 -0.00532 0.00295 -0.00416 C -0.00226 0.00092 -0.0125 -1.42461E-006 -8.33333E-007 -1.42461E-006 Z">
                                      <p:cBhvr>
                                        <p:cTn id="106" dur="13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remove" presetClass="emph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indefinite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141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remove" presetClass="emph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indefinite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141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22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Ura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125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0" dur="4127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indefinite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0" dur="141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Group 3"/>
          <p:cNvGrpSpPr/>
          <p:nvPr/>
        </p:nvGrpSpPr>
        <p:grpSpPr>
          <a:xfrm>
            <a:off x="1828800" y="3581280"/>
            <a:ext cx="3581280" cy="1693800"/>
            <a:chOff x="1828800" y="3581280"/>
            <a:chExt cx="3581280" cy="1693800"/>
          </a:xfrm>
        </p:grpSpPr>
        <p:pic>
          <p:nvPicPr>
            <p:cNvPr id="100" name="Picture 4" descr=""/>
            <p:cNvPicPr/>
            <p:nvPr/>
          </p:nvPicPr>
          <p:blipFill>
            <a:blip r:embed="rId1"/>
            <a:stretch/>
          </p:blipFill>
          <p:spPr>
            <a:xfrm>
              <a:off x="2895480" y="3581280"/>
              <a:ext cx="152388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5"/>
            <p:cNvSpPr/>
            <p:nvPr/>
          </p:nvSpPr>
          <p:spPr>
            <a:xfrm>
              <a:off x="1828800" y="3962160"/>
              <a:ext cx="3581280" cy="131292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0" spc="-1" strike="noStrike">
                  <a:solidFill>
                    <a:srgbClr val="000000"/>
                  </a:solidFill>
                  <a:latin typeface="Calibri"/>
                </a:rPr>
                <a:t>a pig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Group 6"/>
          <p:cNvGrpSpPr/>
          <p:nvPr/>
        </p:nvGrpSpPr>
        <p:grpSpPr>
          <a:xfrm>
            <a:off x="4419720" y="2008440"/>
            <a:ext cx="3733560" cy="2450160"/>
            <a:chOff x="4419720" y="2008440"/>
            <a:chExt cx="3733560" cy="2450160"/>
          </a:xfrm>
        </p:grpSpPr>
        <p:pic>
          <p:nvPicPr>
            <p:cNvPr id="103" name="Picture 7" descr=""/>
            <p:cNvPicPr/>
            <p:nvPr/>
          </p:nvPicPr>
          <p:blipFill>
            <a:blip r:embed="rId2"/>
            <a:stretch/>
          </p:blipFill>
          <p:spPr>
            <a:xfrm rot="2679600">
              <a:off x="5562360" y="2361960"/>
              <a:ext cx="1722240" cy="174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 Box 8"/>
            <p:cNvSpPr/>
            <p:nvPr/>
          </p:nvSpPr>
          <p:spPr>
            <a:xfrm>
              <a:off x="4419720" y="2819160"/>
              <a:ext cx="3733560" cy="131292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0" spc="-1" strike="noStrike">
                  <a:solidFill>
                    <a:srgbClr val="000000"/>
                  </a:solidFill>
                  <a:latin typeface="Calibri"/>
                </a:rPr>
                <a:t>a </a:t>
              </a:r>
              <a:r>
                <a:rPr b="1" i="1" lang="en-US" sz="8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i="1" lang="en-US" sz="8000" spc="-1" strike="noStrike">
                  <a:solidFill>
                    <a:srgbClr val="000000"/>
                  </a:solidFill>
                  <a:latin typeface="Calibri"/>
                </a:rPr>
                <a:t>rog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9"/>
          <p:cNvGrpSpPr/>
          <p:nvPr/>
        </p:nvGrpSpPr>
        <p:grpSpPr>
          <a:xfrm>
            <a:off x="5486400" y="1371600"/>
            <a:ext cx="3429000" cy="1693800"/>
            <a:chOff x="5486400" y="1371600"/>
            <a:chExt cx="3429000" cy="1693800"/>
          </a:xfrm>
        </p:grpSpPr>
        <p:pic>
          <p:nvPicPr>
            <p:cNvPr id="106" name="Picture 10" descr=""/>
            <p:cNvPicPr/>
            <p:nvPr/>
          </p:nvPicPr>
          <p:blipFill>
            <a:blip r:embed="rId3"/>
            <a:stretch/>
          </p:blipFill>
          <p:spPr>
            <a:xfrm>
              <a:off x="7315200" y="1371600"/>
              <a:ext cx="1314720" cy="15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Text Box 11"/>
            <p:cNvSpPr/>
            <p:nvPr/>
          </p:nvSpPr>
          <p:spPr>
            <a:xfrm>
              <a:off x="5486400" y="1752480"/>
              <a:ext cx="3429000" cy="131292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0" spc="-1" strike="noStrike">
                  <a:solidFill>
                    <a:srgbClr val="000000"/>
                  </a:solidFill>
                  <a:latin typeface="Calibri"/>
                </a:rPr>
                <a:t>a cat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12"/>
          <p:cNvGrpSpPr/>
          <p:nvPr/>
        </p:nvGrpSpPr>
        <p:grpSpPr>
          <a:xfrm>
            <a:off x="3200400" y="360000"/>
            <a:ext cx="3657600" cy="1816560"/>
            <a:chOff x="3200400" y="360000"/>
            <a:chExt cx="3657600" cy="1816560"/>
          </a:xfrm>
        </p:grpSpPr>
        <p:pic>
          <p:nvPicPr>
            <p:cNvPr id="109" name="Picture 13" descr=""/>
            <p:cNvPicPr/>
            <p:nvPr/>
          </p:nvPicPr>
          <p:blipFill>
            <a:blip r:embed="rId4"/>
            <a:stretch/>
          </p:blipFill>
          <p:spPr>
            <a:xfrm rot="3947400">
              <a:off x="4440240" y="512280"/>
              <a:ext cx="1301760" cy="149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14"/>
            <p:cNvSpPr/>
            <p:nvPr/>
          </p:nvSpPr>
          <p:spPr>
            <a:xfrm>
              <a:off x="3200400" y="863640"/>
              <a:ext cx="3657600" cy="131292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0" spc="-1" strike="noStrike">
                  <a:solidFill>
                    <a:srgbClr val="000000"/>
                  </a:solidFill>
                  <a:latin typeface="Calibri"/>
                </a:rPr>
                <a:t>a dog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1" name="triangle.wav" descr=""/>
          <p:cNvPicPr/>
          <p:nvPr/>
        </p:nvPicPr>
        <p:blipFill>
          <a:blip r:embed="rId5"/>
          <a:stretch/>
        </p:blipFill>
        <p:spPr>
          <a:xfrm>
            <a:off x="-30492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2" name="poprobuy_eshe.wav" descr=""/>
          <p:cNvPicPr/>
          <p:nvPr/>
        </p:nvPicPr>
        <p:blipFill>
          <a:blip r:embed="rId6"/>
          <a:stretch/>
        </p:blipFill>
        <p:spPr>
          <a:xfrm>
            <a:off x="-304920" y="457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3" name="poprobuy_eshe.wav" descr=""/>
          <p:cNvPicPr/>
          <p:nvPr/>
        </p:nvPicPr>
        <p:blipFill>
          <a:blip r:embed="rId7"/>
          <a:stretch/>
        </p:blipFill>
        <p:spPr>
          <a:xfrm>
            <a:off x="-304920" y="914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4" name="poprobuy_eshe.wav" descr=""/>
          <p:cNvPicPr/>
          <p:nvPr/>
        </p:nvPicPr>
        <p:blipFill>
          <a:blip r:embed="rId8"/>
          <a:stretch/>
        </p:blipFill>
        <p:spPr>
          <a:xfrm>
            <a:off x="-304920" y="1523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1" descr="ukraschenie_8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7431120" y="4419720"/>
            <a:ext cx="1712880" cy="236196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17" descr="лягушка002.png"/>
          <p:cNvPicPr/>
          <p:nvPr/>
        </p:nvPicPr>
        <p:blipFill>
          <a:blip r:embed="rId10"/>
          <a:stretch/>
        </p:blipFill>
        <p:spPr>
          <a:xfrm>
            <a:off x="3962520" y="4898880"/>
            <a:ext cx="2209680" cy="195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path" presetID="3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15799 0.01896 C -0.15486 0.01272 -0.14062 -0.05296 -0.10469 -0.04857 C -0.05 -0.04233 -0.02847 0.00416 0.02205 -0.04233 C 0.05382 -0.06985 0.09115 -0.13923 0.11858 -0.13715 C 0.18056 -0.13483 0.1934 -0.0636 0.1934 0.00208 C 0.19497 0.09458 0.11441 0.17275 0.01632 0.18154 C -0.08299 0.18779 -0.1651 0.08834 -0.15799 0.01896 Z">
                                      <p:cBhvr>
                                        <p:cTn id="146" dur="13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5.55556E-007 7.90009E-006 C -0.01041 0.00486 -0.0059 0.00301 -0.01336 0.00602 C -0.02066 0.01249 -0.029 0.01434 -0.03733 0.01804 C -0.04914 0.02336 -0.06112 0.02891 -0.07309 0.03377 C -0.08247 0.0421 -0.09046 0.05135 -0.09705 0.0636 C -0.10086 0.08026 -0.11875 0.08465 -0.12987 0.08951 C -0.13091 0.08997 -0.1375 0.09344 -0.13872 0.09344 C -0.15313 0.09459 -0.16771 0.09483 -0.18212 0.09552 C -0.20191 0.09436 -0.21476 0.09737 -0.23125 0.08951 C -0.30035 0.0939 -0.34497 0.09436 -0.42691 0.09552 C -0.44184 0.09968 -0.42778 0.09459 -0.43872 0.10153 C -0.44341 0.10454 -0.44896 0.10454 -0.45365 0.10754 C -0.45834 0.11078 -0.46007 0.11402 -0.46407 0.11934 C -0.47066 0.14455 -0.49271 0.15264 -0.51042 0.15704 C -0.52257 0.16814 -0.53959 0.17114 -0.55365 0.17693 C -0.56407 0.18618 -0.55921 0.18363 -0.56719 0.18687 C -0.56858 0.18895 -0.57032 0.19057 -0.57153 0.19288 C -0.5724 0.19473 -0.57205 0.19728 -0.57309 0.1989 C -0.57882 0.20815 -0.58698 0.213 -0.59254 0.22272 C -0.59653 0.24631 -0.5908 0.2174 -0.59705 0.23659 C -0.59966 0.24446 -0.59931 0.25116 -0.60296 0.25856 C -0.60365 0.27406 -0.6125 0.32332 -0.59705 0.33002 C -0.5875 0.34274 -0.59757 0.33118 -0.58803 0.33812 C -0.5849 0.34043 -0.579 0.34598 -0.579 0.34598 C -0.57275 0.3587 -0.5632 0.37535 -0.55365 0.38391 C -0.54584 0.39108 -0.54983 0.38437 -0.54323 0.39177 C -0.54167 0.39362 -0.54046 0.39617 -0.53872 0.39779 C -0.53612 0.4001 -0.53264 0.39987 -0.52987 0.40172 C -0.51737 0.41027 -0.50209 0.41351 -0.48803 0.41559 C -0.46858 0.4149 -0.44723 0.42299 -0.42987 0.41166 C -0.4158 0.40241 -0.39723 0.38969 -0.38959 0.3698 C -0.38438 0.35616 -0.38247 0.33881 -0.37605 0.32609 C -0.3691 0.31245 -0.34306 0.30551 -0.33125 0.30019 C -0.32639 0.29788 -0.32275 0.29256 -0.31789 0.29025 C -0.31303 0.284 -0.3125 0.28076 -0.31042 0.27244 C -0.3099 0.25532 -0.30973 0.23798 -0.30886 0.22087 C -0.30834 0.21115 -0.30365 0.19774 -0.30139 0.18895 C -0.29514 0.16513 -0.29063 0.14015 -0.28212 0.11749 C -0.28056 0.10569 -0.27952 0.09344 -0.27466 0.08349 C -0.27257 0.07332 -0.27101 0.06129 -0.26563 0.05366 C -0.25938 0.0303 -0.2533 0.02221 -0.23577 0.01596 C -0.22987 0.01666 -0.22379 0.01643 -0.21789 0.01804 C -0.2125 0.01943 -0.20851 0.02753 -0.20296 0.02984 C -0.19862 0.03562 -0.19549 0.03909 -0.18959 0.04186 C -0.18351 0.0495 -0.17813 0.05505 -0.17014 0.05782 C -0.16407 0.06314 -0.15903 0.06846 -0.15226 0.0717 C -0.14011 0.08696 -0.12639 0.10408 -0.11042 0.11148 C -0.10139 0.1235 -0.09723 0.11818 -0.08646 0.12535 C -0.07881 0.13044 -0.07101 0.13298 -0.06268 0.1353 C 0.03733 0.13322 0.00851 0.14131 0.05382 0.12743 C 0.05817 0.12165 0.06302 0.11911 0.06719 0.11333 C 0.06945 0.10477 0.07119 0.09621 0.0731 0.08766 C 0.07395 0.08349 0.07622 0.07563 0.07622 0.07563 C 0.07587 0.05158 0.0882 -0.02266 0.0658 -0.05365 C 0.06284 -0.06521 0.06667 -0.0555 0.05972 -0.06151 C 0.05799 -0.06313 0.05677 -0.06567 0.05521 -0.06752 C 0.04914 -0.07423 0.05277 -0.06914 0.04635 -0.07354 C 0.03317 -0.08233 0.02327 -0.09944 0.00903 -0.10522 C 0.00261 -0.11424 -0.00746 -0.12141 -0.01631 -0.12511 C -0.03629 -0.12442 -0.0691 -0.14338 -0.07605 -0.11332 C -0.07291 -0.08996 -0.07379 -0.08741 -0.06112 -0.07354 C -0.05348 -0.06498 -0.06007 -0.06914 -0.05226 -0.06544 C -0.0507 -0.06359 -0.04948 -0.06128 -0.04775 -0.05966 C -0.04636 -0.05851 -0.04461 -0.05874 -0.04323 -0.05758 C -0.03263 -0.0481 -0.04445 -0.05388 -0.03421 -0.04972 C -0.02673 -0.03931 -0.03716 -0.05272 -0.02535 -0.04162 C -0.02361 -0.04 -0.02256 -0.03723 -0.02083 -0.03561 C -0.01823 -0.0333 -0.01492 -0.03307 -0.01198 -0.03168 C -0.0073 -0.02567 -0.00156 -0.02196 0.00295 -0.01572 C 0.00244 -0.0111 0.00313 -0.00601 0.00157 -0.00184 C 0.00087 7.90009E-006 -0.00173 -0.00138 -0.00295 7.90009E-006 C -0.00364 0.00093 -0.00105 7.90009E-006 -5.55556E-007 7.90009E-006 Z">
                                      <p:cBhvr>
                                        <p:cTn id="148" dur="13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8.69565E-007 C 0.01337 0.0007 0.02691 0.00023 0.04028 0.00208 C 0.04201 0.00232 0.04305 0.00555 0.04479 0.00602 C 0.04913 0.0074 0.05364 0.00717 0.05816 0.00787 C 0.10243 0.00717 0.14687 0.00717 0.19114 0.00602 C 0.19618 0.00578 0.20139 0.00185 0.20607 0.00393 C 0.20798 0.00486 0.20538 0.00948 0.20451 0.01203 C 0.20295 0.01619 0.20052 0.01989 0.19861 0.02382 C 0.19184 0.03724 0.16493 0.04417 0.15382 0.04764 C 0.12552 0.07216 0.07465 0.06476 0.04774 0.06568 C -0.03282 0.06453 -0.05955 0.0784 -0.11493 0.05574 C -0.12778 0.04394 -0.14757 0.03978 -0.16268 0.03377 C -0.17379 0.02937 -0.18455 0.0229 -0.19549 0.01781 C -0.19219 0.03053 -0.18854 0.0377 -0.179 0.04163 C -0.17361 0.04926 -0.17882 0.04302 -0.17014 0.04972 C -0.16702 0.05227 -0.16111 0.05759 -0.16111 0.05759 C -0.15556 0.06892 -0.14636 0.07748 -0.13733 0.08349 C -0.13125 0.09598 -0.13802 0.08465 -0.12986 0.09135 C -0.12518 0.09528 -0.12413 0.09875 -0.11788 0.1013 C -0.10452 0.11379 -0.0908 0.12165 -0.07466 0.12535 C -0.06962 0.12974 -0.06511 0.13021 -0.05972 0.13321 C -0.03785 0.1457 -0.01945 0.15079 0.00451 0.1531 C -0.00347 0.15634 -0.01025 0.16582 -0.01493 0.17484 C -0.01684 0.18317 -0.0217 0.18941 -0.02535 0.19681 C -0.02622 0.19866 -0.02587 0.20121 -0.02691 0.20282 C -0.029 0.20652 -0.03247 0.20884 -0.03438 0.21277 C -0.04167 0.22757 -0.05174 0.23543 -0.06424 0.24052 C -0.0691 0.24491 -0.07361 0.24607 -0.079 0.24861 C -0.19167 0.24538 -0.12344 0.25463 -0.16111 0.23867 C -0.17032 0.22641 -0.18212 0.22225 -0.19393 0.2167 C -0.1967 0.21323 -0.20035 0.21069 -0.20295 0.20676 C -0.20538 0.20306 -0.20625 0.19797 -0.20886 0.19473 C -0.2099 0.19334 -0.21094 0.19219 -0.21198 0.1908 C -0.21389 0.1827 -0.2158 0.17484 -0.21788 0.16698 C -0.21858 0.19473 -0.20764 0.23243 -0.22986 0.2426 C -0.23542 0.24815 -0.23854 0.24977 -0.24479 0.25255 C -0.24931 0.25856 -0.25504 0.26365 -0.26111 0.26642 C -0.25278 0.27799 -0.26146 0.26827 -0.2507 0.27429 C -0.24896 0.27521 -0.24792 0.27752 -0.24618 0.27845 C -0.24167 0.28099 -0.23594 0.28215 -0.23125 0.28423 C -0.22275 0.28793 -0.21476 0.29209 -0.20591 0.29417 C -0.07448 0.29163 -0.13976 0.30204 -0.08959 0.28423 C -0.0842 0.2796 -0.07865 0.28007 -0.07309 0.27637 C -0.06094 0.26827 -0.0757 0.2759 -0.06424 0.27035 C -0.05799 0.25856 -0.04566 0.25578 -0.03872 0.24445 C -0.02882 0.22826 -0.02118 0.20999 -0.01042 0.19473 C -0.00886 0.18872 -0.00469 0.17923 -0.00139 0.17484 C 0.00069 0.16258 0.0059 0.14963 0.00903 0.13714 C 0.01041 0.13113 0.01354 0.11934 0.01354 0.11934 C 0.01284 0.0895 0.02396 0.04602 -0.00139 0.03377 C -0.00573 0.02822 -0.004 0.03192 -0.00591 0.02382 C -0.00695 0.01989 -0.00886 0.01203 -0.00886 0.01203 C -0.00695 -0.00115 -0.0099 0.00278 3.33333E-006 -8.69565E-007 Z">
                                      <p:cBhvr>
                                        <p:cTn id="150" dur="13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8.33333E-007 -1.42461E-006 C -0.07396 -0.00648 0.01493 0.00069 -0.15816 -0.00416 C -0.16337 -0.0044 -0.16701 -0.00995 -0.17153 -0.01203 C -0.17691 -0.01457 -0.18299 -0.01434 -0.18802 -0.01804 C -0.20382 -0.0296 -0.19132 -0.02313 -0.20139 -0.02798 C -0.20503 -0.03261 -0.21337 -0.03978 -0.21337 -0.03978 C -0.21944 -0.06291 -0.2125 -0.08603 -0.21042 -0.10939 C -0.21146 -0.12882 -0.21215 -0.14662 -0.22239 -0.16119 C -0.22413 -0.16883 -0.22639 -0.17068 -0.23125 -0.17507 C -0.23229 -0.17715 -0.23299 -0.17946 -0.23437 -0.18108 C -0.23559 -0.18224 -0.23767 -0.18155 -0.23871 -0.18293 C -0.23976 -0.18432 -0.23924 -0.18733 -0.24028 -0.18895 C -0.24271 -0.19288 -0.2467 -0.19496 -0.24913 -0.19889 C -0.25816 -0.21346 -0.24583 -0.19542 -0.25521 -0.21277 C -0.2592 -0.22017 -0.26614 -0.22341 -0.27014 -0.23081 C -0.27691 -0.24353 -0.26875 -0.23497 -0.2776 -0.2426 C -0.27917 -0.24908 -0.28507 -0.26064 -0.28507 -0.26064 C -0.28924 -0.27798 -0.28246 -0.25255 -0.29097 -0.27243 C -0.29201 -0.27475 -0.29167 -0.27798 -0.29253 -0.28053 C -0.29739 -0.29556 -0.29392 -0.27729 -0.29705 -0.29232 C -0.29809 -0.29764 -0.3 -0.30828 -0.3 -0.30828 C -0.29896 -0.36378 -0.30399 -0.37766 -0.29392 -0.41559 C -0.29219 -0.4223 -0.28646 -0.42553 -0.28351 -0.43155 C -0.27951 -0.44889 -0.25694 -0.45629 -0.24618 -0.46531 C -0.23576 -0.47387 -0.24462 -0.46947 -0.23576 -0.47317 C -0.22708 -0.48127 -0.21337 -0.48358 -0.20295 -0.48728 C -0.17309 -0.48451 -0.18837 -0.48705 -0.17153 -0.47919 C -0.17049 -0.47711 -0.16944 -0.47526 -0.16858 -0.47317 C -0.16788 -0.47132 -0.16805 -0.46901 -0.16719 -0.46739 C -0.16441 -0.46138 -0.15694 -0.4556 -0.15226 -0.45329 C -0.14739 -0.44727 -0.14375 -0.44773 -0.13733 -0.44542 C -0.12066 -0.43964 -0.11892 -0.43918 -0.09705 -0.43756 C -0.08628 -0.4327 -0.09062 -0.43571 -0.08351 -0.42946 C -0.08055 -0.42345 -0.0776 -0.41767 -0.07465 -0.41166 C -0.07361 -0.40958 -0.07153 -0.40564 -0.07153 -0.40564 C -0.06979 -0.39824 -0.06701 -0.39339 -0.06562 -0.38576 C -0.0651 -0.35685 -0.07483 -0.31846 -0.05816 -0.29625 C -0.05573 -0.28654 -0.05833 -0.29232 -0.05069 -0.28631 C -0.0401 -0.27798 -0.03698 -0.27752 -0.02535 -0.27243 C -0.00069 -0.26156 -0.01962 -0.26665 -0.00139 -0.26249 C 0.00243 -0.25995 0.0066 -0.25902 0.01042 -0.25648 C 0.01163 -0.25555 0.01233 -0.2537 0.01354 -0.25255 C 0.01858 -0.24815 0.02448 -0.24422 0.02986 -0.24075 C 0.03351 -0.23566 0.0375 -0.23474 0.04184 -0.23081 C 0.04375 -0.22317 0.04653 -0.21439 0.05087 -0.20884 C 0.05243 -0.20028 0.05521 -0.18293 0.05521 -0.18293 C 0.05642 -0.14871 0.05833 -0.09736 0.05833 -0.06568 C 0.05833 -0.06036 0.05833 -0.05458 0.05677 -0.04972 C 0.05486 -0.04371 0.0434 -0.04186 0.0434 -0.04186 C 0.03941 -0.03677 0.02813 -0.03053 0.0224 -0.02798 C 0.01945 -0.0266 0.01354 -0.02382 0.01354 -0.02382 C 0.01007 -0.01943 0.00781 -0.01457 0.00451 -0.00995 C 0.00399 -0.0081 0.00417 -0.00532 0.00295 -0.00416 C -0.00226 0.00092 -0.0125 -1.42461E-006 -8.33333E-007 -1.42461E-006 Z">
                                      <p:cBhvr>
                                        <p:cTn id="152" dur="13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54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remove" presetClass="emph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" dur="141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161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remove" presetClass="emph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indefinite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6" dur="141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68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remove" presetClass="emph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indefinite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3" dur="141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75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Ura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178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3" dur="4127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3"/>
          <p:cNvGrpSpPr/>
          <p:nvPr/>
        </p:nvGrpSpPr>
        <p:grpSpPr>
          <a:xfrm>
            <a:off x="2209680" y="3581280"/>
            <a:ext cx="3352680" cy="1693800"/>
            <a:chOff x="2209680" y="3581280"/>
            <a:chExt cx="3352680" cy="1693800"/>
          </a:xfrm>
        </p:grpSpPr>
        <p:pic>
          <p:nvPicPr>
            <p:cNvPr id="118" name="Picture 4" descr=""/>
            <p:cNvPicPr/>
            <p:nvPr/>
          </p:nvPicPr>
          <p:blipFill>
            <a:blip r:embed="rId1"/>
            <a:stretch/>
          </p:blipFill>
          <p:spPr>
            <a:xfrm>
              <a:off x="2895480" y="3581280"/>
              <a:ext cx="152388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5"/>
            <p:cNvSpPr/>
            <p:nvPr/>
          </p:nvSpPr>
          <p:spPr>
            <a:xfrm>
              <a:off x="2209680" y="3962160"/>
              <a:ext cx="3352680" cy="131292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0" spc="-1" strike="noStrike">
                  <a:solidFill>
                    <a:srgbClr val="000000"/>
                  </a:solidFill>
                  <a:latin typeface="Calibri"/>
                </a:rPr>
                <a:t>a hen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6"/>
          <p:cNvGrpSpPr/>
          <p:nvPr/>
        </p:nvGrpSpPr>
        <p:grpSpPr>
          <a:xfrm>
            <a:off x="4952880" y="2008440"/>
            <a:ext cx="3657600" cy="2450520"/>
            <a:chOff x="4952880" y="2008440"/>
            <a:chExt cx="3657600" cy="2450520"/>
          </a:xfrm>
        </p:grpSpPr>
        <p:pic>
          <p:nvPicPr>
            <p:cNvPr id="121" name="Picture 7" descr=""/>
            <p:cNvPicPr/>
            <p:nvPr/>
          </p:nvPicPr>
          <p:blipFill>
            <a:blip r:embed="rId2"/>
            <a:stretch/>
          </p:blipFill>
          <p:spPr>
            <a:xfrm rot="2679600">
              <a:off x="5562000" y="2361960"/>
              <a:ext cx="1722600" cy="174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Text Box 8"/>
            <p:cNvSpPr/>
            <p:nvPr/>
          </p:nvSpPr>
          <p:spPr>
            <a:xfrm>
              <a:off x="4952880" y="2819160"/>
              <a:ext cx="3657600" cy="131292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0" spc="-1" strike="noStrike">
                  <a:solidFill>
                    <a:srgbClr val="000000"/>
                  </a:solidFill>
                  <a:latin typeface="Calibri"/>
                </a:rPr>
                <a:t>a cat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9"/>
          <p:cNvGrpSpPr/>
          <p:nvPr/>
        </p:nvGrpSpPr>
        <p:grpSpPr>
          <a:xfrm>
            <a:off x="5638680" y="1371600"/>
            <a:ext cx="3504960" cy="1693800"/>
            <a:chOff x="5638680" y="1371600"/>
            <a:chExt cx="3504960" cy="1693800"/>
          </a:xfrm>
        </p:grpSpPr>
        <p:pic>
          <p:nvPicPr>
            <p:cNvPr id="124" name="Picture 10" descr=""/>
            <p:cNvPicPr/>
            <p:nvPr/>
          </p:nvPicPr>
          <p:blipFill>
            <a:blip r:embed="rId3"/>
            <a:stretch/>
          </p:blipFill>
          <p:spPr>
            <a:xfrm>
              <a:off x="7314840" y="1371600"/>
              <a:ext cx="1314720" cy="15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11"/>
            <p:cNvSpPr/>
            <p:nvPr/>
          </p:nvSpPr>
          <p:spPr>
            <a:xfrm>
              <a:off x="5638680" y="1752480"/>
              <a:ext cx="3504960" cy="131292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0" spc="-1" strike="noStrike">
                  <a:solidFill>
                    <a:srgbClr val="000000"/>
                  </a:solidFill>
                  <a:latin typeface="Calibri"/>
                </a:rPr>
                <a:t>a doll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12"/>
          <p:cNvGrpSpPr/>
          <p:nvPr/>
        </p:nvGrpSpPr>
        <p:grpSpPr>
          <a:xfrm>
            <a:off x="2971800" y="360000"/>
            <a:ext cx="3657600" cy="1816560"/>
            <a:chOff x="2971800" y="360000"/>
            <a:chExt cx="3657600" cy="1816560"/>
          </a:xfrm>
        </p:grpSpPr>
        <p:pic>
          <p:nvPicPr>
            <p:cNvPr id="127" name="Picture 13" descr=""/>
            <p:cNvPicPr/>
            <p:nvPr/>
          </p:nvPicPr>
          <p:blipFill>
            <a:blip r:embed="rId4"/>
            <a:stretch/>
          </p:blipFill>
          <p:spPr>
            <a:xfrm rot="3947400">
              <a:off x="4440240" y="512280"/>
              <a:ext cx="1301760" cy="149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14"/>
            <p:cNvSpPr/>
            <p:nvPr/>
          </p:nvSpPr>
          <p:spPr>
            <a:xfrm>
              <a:off x="2971800" y="863640"/>
              <a:ext cx="3657600" cy="131292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0" spc="-1" strike="noStrike">
                  <a:solidFill>
                    <a:srgbClr val="000000"/>
                  </a:solidFill>
                  <a:latin typeface="Calibri"/>
                </a:rPr>
                <a:t>a bus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9" name="triangle.wav" descr=""/>
          <p:cNvPicPr/>
          <p:nvPr/>
        </p:nvPicPr>
        <p:blipFill>
          <a:blip r:embed="rId5"/>
          <a:stretch/>
        </p:blipFill>
        <p:spPr>
          <a:xfrm>
            <a:off x="-30492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0" name="poprobuy_eshe.wav" descr=""/>
          <p:cNvPicPr/>
          <p:nvPr/>
        </p:nvPicPr>
        <p:blipFill>
          <a:blip r:embed="rId6"/>
          <a:stretch/>
        </p:blipFill>
        <p:spPr>
          <a:xfrm>
            <a:off x="-304920" y="457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1" name="poprobuy_eshe.wav" descr=""/>
          <p:cNvPicPr/>
          <p:nvPr/>
        </p:nvPicPr>
        <p:blipFill>
          <a:blip r:embed="rId7"/>
          <a:stretch/>
        </p:blipFill>
        <p:spPr>
          <a:xfrm>
            <a:off x="-304920" y="914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2" name="poprobuy_eshe.wav" descr=""/>
          <p:cNvPicPr/>
          <p:nvPr/>
        </p:nvPicPr>
        <p:blipFill>
          <a:blip r:embed="rId8"/>
          <a:stretch/>
        </p:blipFill>
        <p:spPr>
          <a:xfrm>
            <a:off x="-304920" y="1523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1" descr="ukraschenie_8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7431120" y="4419720"/>
            <a:ext cx="1712880" cy="236196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14" descr="aaa9d6ca6e68.png"/>
          <p:cNvPicPr/>
          <p:nvPr/>
        </p:nvPicPr>
        <p:blipFill>
          <a:blip r:embed="rId10"/>
          <a:stretch/>
        </p:blipFill>
        <p:spPr>
          <a:xfrm rot="4548000">
            <a:off x="4538880" y="4218480"/>
            <a:ext cx="1567080" cy="33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path" presetID="3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15799 0.01896 C -0.15486 0.01272 -0.14062 -0.05296 -0.10469 -0.04857 C -0.05 -0.04233 -0.02847 0.00416 0.02205 -0.04233 C 0.05382 -0.06985 0.09115 -0.13923 0.11858 -0.13715 C 0.18056 -0.13483 0.1934 -0.0636 0.1934 0.00208 C 0.19497 0.09458 0.11441 0.17275 0.01632 0.18154 C -0.08299 0.18779 -0.1651 0.08834 -0.15799 0.01896 Z">
                                      <p:cBhvr>
                                        <p:cTn id="192" dur="13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5.55556E-007 7.90009E-006 C -0.01041 0.00486 -0.0059 0.00301 -0.01336 0.00602 C -0.02066 0.01249 -0.029 0.01434 -0.03733 0.01804 C -0.04914 0.02336 -0.06112 0.02891 -0.07309 0.03377 C -0.08247 0.0421 -0.09046 0.05135 -0.09705 0.0636 C -0.10086 0.08026 -0.11875 0.08465 -0.12987 0.08951 C -0.13091 0.08997 -0.1375 0.09344 -0.13872 0.09344 C -0.15313 0.09459 -0.16771 0.09483 -0.18212 0.09552 C -0.20191 0.09436 -0.21476 0.09737 -0.23125 0.08951 C -0.30035 0.0939 -0.34497 0.09436 -0.42691 0.09552 C -0.44184 0.09968 -0.42778 0.09459 -0.43872 0.10153 C -0.44341 0.10454 -0.44896 0.10454 -0.45365 0.10754 C -0.45834 0.11078 -0.46007 0.11402 -0.46407 0.11934 C -0.47066 0.14455 -0.49271 0.15264 -0.51042 0.15704 C -0.52257 0.16814 -0.53959 0.17114 -0.55365 0.17693 C -0.56407 0.18618 -0.55921 0.18363 -0.56719 0.18687 C -0.56858 0.18895 -0.57032 0.19057 -0.57153 0.19288 C -0.5724 0.19473 -0.57205 0.19728 -0.57309 0.1989 C -0.57882 0.20815 -0.58698 0.213 -0.59254 0.22272 C -0.59653 0.24631 -0.5908 0.2174 -0.59705 0.23659 C -0.59966 0.24446 -0.59931 0.25116 -0.60296 0.25856 C -0.60365 0.27406 -0.6125 0.32332 -0.59705 0.33002 C -0.5875 0.34274 -0.59757 0.33118 -0.58803 0.33812 C -0.5849 0.34043 -0.579 0.34598 -0.579 0.34598 C -0.57275 0.3587 -0.5632 0.37535 -0.55365 0.38391 C -0.54584 0.39108 -0.54983 0.38437 -0.54323 0.39177 C -0.54167 0.39362 -0.54046 0.39617 -0.53872 0.39779 C -0.53612 0.4001 -0.53264 0.39987 -0.52987 0.40172 C -0.51737 0.41027 -0.50209 0.41351 -0.48803 0.41559 C -0.46858 0.4149 -0.44723 0.42299 -0.42987 0.41166 C -0.4158 0.40241 -0.39723 0.38969 -0.38959 0.3698 C -0.38438 0.35616 -0.38247 0.33881 -0.37605 0.32609 C -0.3691 0.31245 -0.34306 0.30551 -0.33125 0.30019 C -0.32639 0.29788 -0.32275 0.29256 -0.31789 0.29025 C -0.31303 0.284 -0.3125 0.28076 -0.31042 0.27244 C -0.3099 0.25532 -0.30973 0.23798 -0.30886 0.22087 C -0.30834 0.21115 -0.30365 0.19774 -0.30139 0.18895 C -0.29514 0.16513 -0.29063 0.14015 -0.28212 0.11749 C -0.28056 0.10569 -0.27952 0.09344 -0.27466 0.08349 C -0.27257 0.07332 -0.27101 0.06129 -0.26563 0.05366 C -0.25938 0.0303 -0.2533 0.02221 -0.23577 0.01596 C -0.22987 0.01666 -0.22379 0.01643 -0.21789 0.01804 C -0.2125 0.01943 -0.20851 0.02753 -0.20296 0.02984 C -0.19862 0.03562 -0.19549 0.03909 -0.18959 0.04186 C -0.18351 0.0495 -0.17813 0.05505 -0.17014 0.05782 C -0.16407 0.06314 -0.15903 0.06846 -0.15226 0.0717 C -0.14011 0.08696 -0.12639 0.10408 -0.11042 0.11148 C -0.10139 0.1235 -0.09723 0.11818 -0.08646 0.12535 C -0.07881 0.13044 -0.07101 0.13298 -0.06268 0.1353 C 0.03733 0.13322 0.00851 0.14131 0.05382 0.12743 C 0.05817 0.12165 0.06302 0.11911 0.06719 0.11333 C 0.06945 0.10477 0.07119 0.09621 0.0731 0.08766 C 0.07395 0.08349 0.07622 0.07563 0.07622 0.07563 C 0.07587 0.05158 0.0882 -0.02266 0.0658 -0.05365 C 0.06284 -0.06521 0.06667 -0.0555 0.05972 -0.06151 C 0.05799 -0.06313 0.05677 -0.06567 0.05521 -0.06752 C 0.04914 -0.07423 0.05277 -0.06914 0.04635 -0.07354 C 0.03317 -0.08233 0.02327 -0.09944 0.00903 -0.10522 C 0.00261 -0.11424 -0.00746 -0.12141 -0.01631 -0.12511 C -0.03629 -0.12442 -0.0691 -0.14338 -0.07605 -0.11332 C -0.07291 -0.08996 -0.07379 -0.08741 -0.06112 -0.07354 C -0.05348 -0.06498 -0.06007 -0.06914 -0.05226 -0.06544 C -0.0507 -0.06359 -0.04948 -0.06128 -0.04775 -0.05966 C -0.04636 -0.05851 -0.04461 -0.05874 -0.04323 -0.05758 C -0.03263 -0.0481 -0.04445 -0.05388 -0.03421 -0.04972 C -0.02673 -0.03931 -0.03716 -0.05272 -0.02535 -0.04162 C -0.02361 -0.04 -0.02256 -0.03723 -0.02083 -0.03561 C -0.01823 -0.0333 -0.01492 -0.03307 -0.01198 -0.03168 C -0.0073 -0.02567 -0.00156 -0.02196 0.00295 -0.01572 C 0.00244 -0.0111 0.00313 -0.00601 0.00157 -0.00184 C 0.00087 7.90009E-006 -0.00173 -0.00138 -0.00295 7.90009E-006 C -0.00364 0.00093 -0.00105 7.90009E-006 -5.55556E-007 7.90009E-006 Z">
                                      <p:cBhvr>
                                        <p:cTn id="194" dur="13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8.69565E-007 C 0.01337 0.0007 0.02691 0.00023 0.04028 0.00208 C 0.04201 0.00232 0.04305 0.00555 0.04479 0.00602 C 0.04913 0.0074 0.05364 0.00717 0.05816 0.00787 C 0.10243 0.00717 0.14687 0.00717 0.19114 0.00602 C 0.19618 0.00578 0.20139 0.00185 0.20607 0.00393 C 0.20798 0.00486 0.20538 0.00948 0.20451 0.01203 C 0.20295 0.01619 0.20052 0.01989 0.19861 0.02382 C 0.19184 0.03724 0.16493 0.04417 0.15382 0.04764 C 0.12552 0.07216 0.07465 0.06476 0.04774 0.06568 C -0.03282 0.06453 -0.05955 0.0784 -0.11493 0.05574 C -0.12778 0.04394 -0.14757 0.03978 -0.16268 0.03377 C -0.17379 0.02937 -0.18455 0.0229 -0.19549 0.01781 C -0.19219 0.03053 -0.18854 0.0377 -0.179 0.04163 C -0.17361 0.04926 -0.17882 0.04302 -0.17014 0.04972 C -0.16702 0.05227 -0.16111 0.05759 -0.16111 0.05759 C -0.15556 0.06892 -0.14636 0.07748 -0.13733 0.08349 C -0.13125 0.09598 -0.13802 0.08465 -0.12986 0.09135 C -0.12518 0.09528 -0.12413 0.09875 -0.11788 0.1013 C -0.10452 0.11379 -0.0908 0.12165 -0.07466 0.12535 C -0.06962 0.12974 -0.06511 0.13021 -0.05972 0.13321 C -0.03785 0.1457 -0.01945 0.15079 0.00451 0.1531 C -0.00347 0.15634 -0.01025 0.16582 -0.01493 0.17484 C -0.01684 0.18317 -0.0217 0.18941 -0.02535 0.19681 C -0.02622 0.19866 -0.02587 0.20121 -0.02691 0.20282 C -0.029 0.20652 -0.03247 0.20884 -0.03438 0.21277 C -0.04167 0.22757 -0.05174 0.23543 -0.06424 0.24052 C -0.0691 0.24491 -0.07361 0.24607 -0.079 0.24861 C -0.19167 0.24538 -0.12344 0.25463 -0.16111 0.23867 C -0.17032 0.22641 -0.18212 0.22225 -0.19393 0.2167 C -0.1967 0.21323 -0.20035 0.21069 -0.20295 0.20676 C -0.20538 0.20306 -0.20625 0.19797 -0.20886 0.19473 C -0.2099 0.19334 -0.21094 0.19219 -0.21198 0.1908 C -0.21389 0.1827 -0.2158 0.17484 -0.21788 0.16698 C -0.21858 0.19473 -0.20764 0.23243 -0.22986 0.2426 C -0.23542 0.24815 -0.23854 0.24977 -0.24479 0.25255 C -0.24931 0.25856 -0.25504 0.26365 -0.26111 0.26642 C -0.25278 0.27799 -0.26146 0.26827 -0.2507 0.27429 C -0.24896 0.27521 -0.24792 0.27752 -0.24618 0.27845 C -0.24167 0.28099 -0.23594 0.28215 -0.23125 0.28423 C -0.22275 0.28793 -0.21476 0.29209 -0.20591 0.29417 C -0.07448 0.29163 -0.13976 0.30204 -0.08959 0.28423 C -0.0842 0.2796 -0.07865 0.28007 -0.07309 0.27637 C -0.06094 0.26827 -0.0757 0.2759 -0.06424 0.27035 C -0.05799 0.25856 -0.04566 0.25578 -0.03872 0.24445 C -0.02882 0.22826 -0.02118 0.20999 -0.01042 0.19473 C -0.00886 0.18872 -0.00469 0.17923 -0.00139 0.17484 C 0.00069 0.16258 0.0059 0.14963 0.00903 0.13714 C 0.01041 0.13113 0.01354 0.11934 0.01354 0.11934 C 0.01284 0.0895 0.02396 0.04602 -0.00139 0.03377 C -0.00573 0.02822 -0.004 0.03192 -0.00591 0.02382 C -0.00695 0.01989 -0.00886 0.01203 -0.00886 0.01203 C -0.00695 -0.00115 -0.0099 0.00278 3.33333E-006 -8.69565E-007 Z">
                                      <p:cBhvr>
                                        <p:cTn id="196" dur="13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8.33333E-007 -1.42461E-006 C -0.07396 -0.00648 0.01493 0.00069 -0.15816 -0.00416 C -0.16337 -0.0044 -0.16701 -0.00995 -0.17153 -0.01203 C -0.17691 -0.01457 -0.18299 -0.01434 -0.18802 -0.01804 C -0.20382 -0.0296 -0.19132 -0.02313 -0.20139 -0.02798 C -0.20503 -0.03261 -0.21337 -0.03978 -0.21337 -0.03978 C -0.21944 -0.06291 -0.2125 -0.08603 -0.21042 -0.10939 C -0.21146 -0.12882 -0.21215 -0.14662 -0.22239 -0.16119 C -0.22413 -0.16883 -0.22639 -0.17068 -0.23125 -0.17507 C -0.23229 -0.17715 -0.23299 -0.17946 -0.23437 -0.18108 C -0.23559 -0.18224 -0.23767 -0.18155 -0.23871 -0.18293 C -0.23976 -0.18432 -0.23924 -0.18733 -0.24028 -0.18895 C -0.24271 -0.19288 -0.2467 -0.19496 -0.24913 -0.19889 C -0.25816 -0.21346 -0.24583 -0.19542 -0.25521 -0.21277 C -0.2592 -0.22017 -0.26614 -0.22341 -0.27014 -0.23081 C -0.27691 -0.24353 -0.26875 -0.23497 -0.2776 -0.2426 C -0.27917 -0.24908 -0.28507 -0.26064 -0.28507 -0.26064 C -0.28924 -0.27798 -0.28246 -0.25255 -0.29097 -0.27243 C -0.29201 -0.27475 -0.29167 -0.27798 -0.29253 -0.28053 C -0.29739 -0.29556 -0.29392 -0.27729 -0.29705 -0.29232 C -0.29809 -0.29764 -0.3 -0.30828 -0.3 -0.30828 C -0.29896 -0.36378 -0.30399 -0.37766 -0.29392 -0.41559 C -0.29219 -0.4223 -0.28646 -0.42553 -0.28351 -0.43155 C -0.27951 -0.44889 -0.25694 -0.45629 -0.24618 -0.46531 C -0.23576 -0.47387 -0.24462 -0.46947 -0.23576 -0.47317 C -0.22708 -0.48127 -0.21337 -0.48358 -0.20295 -0.48728 C -0.17309 -0.48451 -0.18837 -0.48705 -0.17153 -0.47919 C -0.17049 -0.47711 -0.16944 -0.47526 -0.16858 -0.47317 C -0.16788 -0.47132 -0.16805 -0.46901 -0.16719 -0.46739 C -0.16441 -0.46138 -0.15694 -0.4556 -0.15226 -0.45329 C -0.14739 -0.44727 -0.14375 -0.44773 -0.13733 -0.44542 C -0.12066 -0.43964 -0.11892 -0.43918 -0.09705 -0.43756 C -0.08628 -0.4327 -0.09062 -0.43571 -0.08351 -0.42946 C -0.08055 -0.42345 -0.0776 -0.41767 -0.07465 -0.41166 C -0.07361 -0.40958 -0.07153 -0.40564 -0.07153 -0.40564 C -0.06979 -0.39824 -0.06701 -0.39339 -0.06562 -0.38576 C -0.0651 -0.35685 -0.07483 -0.31846 -0.05816 -0.29625 C -0.05573 -0.28654 -0.05833 -0.29232 -0.05069 -0.28631 C -0.0401 -0.27798 -0.03698 -0.27752 -0.02535 -0.27243 C -0.00069 -0.26156 -0.01962 -0.26665 -0.00139 -0.26249 C 0.00243 -0.25995 0.0066 -0.25902 0.01042 -0.25648 C 0.01163 -0.25555 0.01233 -0.2537 0.01354 -0.25255 C 0.01858 -0.24815 0.02448 -0.24422 0.02986 -0.24075 C 0.03351 -0.23566 0.0375 -0.23474 0.04184 -0.23081 C 0.04375 -0.22317 0.04653 -0.21439 0.05087 -0.20884 C 0.05243 -0.20028 0.05521 -0.18293 0.05521 -0.18293 C 0.05642 -0.14871 0.05833 -0.09736 0.05833 -0.06568 C 0.05833 -0.06036 0.05833 -0.05458 0.05677 -0.04972 C 0.05486 -0.04371 0.0434 -0.04186 0.0434 -0.04186 C 0.03941 -0.03677 0.02813 -0.03053 0.0224 -0.02798 C 0.01945 -0.0266 0.01354 -0.02382 0.01354 -0.02382 C 0.01007 -0.01943 0.00781 -0.01457 0.00451 -0.00995 C 0.00399 -0.0081 0.00417 -0.00532 0.00295 -0.00416 C -0.00226 0.00092 -0.0125 -1.42461E-006 -8.33333E-007 -1.42461E-006 Z">
                                      <p:cBhvr>
                                        <p:cTn id="198" dur="13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200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remove" presetClass="emph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indefinite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5" dur="1411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207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remove" presetClass="emph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indefinite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2" dur="141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214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Ura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217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2" dur="4127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227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indefinite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2" dur="141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"/>
          <p:cNvGrpSpPr/>
          <p:nvPr/>
        </p:nvGrpSpPr>
        <p:grpSpPr>
          <a:xfrm>
            <a:off x="2819520" y="3581280"/>
            <a:ext cx="3809880" cy="1693800"/>
            <a:chOff x="2819520" y="3581280"/>
            <a:chExt cx="3809880" cy="1693800"/>
          </a:xfrm>
        </p:grpSpPr>
        <p:pic>
          <p:nvPicPr>
            <p:cNvPr id="136" name="Picture 3" descr=""/>
            <p:cNvPicPr/>
            <p:nvPr/>
          </p:nvPicPr>
          <p:blipFill>
            <a:blip r:embed="rId1"/>
            <a:stretch/>
          </p:blipFill>
          <p:spPr>
            <a:xfrm>
              <a:off x="2895480" y="3581280"/>
              <a:ext cx="152352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4"/>
            <p:cNvSpPr/>
            <p:nvPr/>
          </p:nvSpPr>
          <p:spPr>
            <a:xfrm>
              <a:off x="2819520" y="3962160"/>
              <a:ext cx="3809880" cy="131292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0" spc="-1" strike="noStrike">
                  <a:solidFill>
                    <a:srgbClr val="000000"/>
                  </a:solidFill>
                  <a:latin typeface="Calibri"/>
                </a:rPr>
                <a:t>a </a:t>
              </a:r>
              <a:r>
                <a:rPr b="1" i="1" lang="en-US" sz="8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i="1" lang="en-US" sz="8000" spc="-1" strike="noStrike">
                  <a:solidFill>
                    <a:srgbClr val="000000"/>
                  </a:solidFill>
                  <a:latin typeface="Calibri"/>
                </a:rPr>
                <a:t>ox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5"/>
          <p:cNvGrpSpPr/>
          <p:nvPr/>
        </p:nvGrpSpPr>
        <p:grpSpPr>
          <a:xfrm>
            <a:off x="4495680" y="2008440"/>
            <a:ext cx="3809880" cy="2450520"/>
            <a:chOff x="4495680" y="2008440"/>
            <a:chExt cx="3809880" cy="2450520"/>
          </a:xfrm>
        </p:grpSpPr>
        <p:pic>
          <p:nvPicPr>
            <p:cNvPr id="139" name="Picture 6" descr=""/>
            <p:cNvPicPr/>
            <p:nvPr/>
          </p:nvPicPr>
          <p:blipFill>
            <a:blip r:embed="rId2"/>
            <a:stretch/>
          </p:blipFill>
          <p:spPr>
            <a:xfrm rot="2679600">
              <a:off x="5562000" y="2361960"/>
              <a:ext cx="1722600" cy="174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 Box 7"/>
            <p:cNvSpPr/>
            <p:nvPr/>
          </p:nvSpPr>
          <p:spPr>
            <a:xfrm>
              <a:off x="4495680" y="2819160"/>
              <a:ext cx="3809880" cy="131292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0" spc="-1" strike="noStrike">
                  <a:solidFill>
                    <a:srgbClr val="000000"/>
                  </a:solidFill>
                  <a:latin typeface="Calibri"/>
                </a:rPr>
                <a:t>a dress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8"/>
          <p:cNvGrpSpPr/>
          <p:nvPr/>
        </p:nvGrpSpPr>
        <p:grpSpPr>
          <a:xfrm>
            <a:off x="5867280" y="1371600"/>
            <a:ext cx="2971800" cy="1693800"/>
            <a:chOff x="5867280" y="1371600"/>
            <a:chExt cx="2971800" cy="1693800"/>
          </a:xfrm>
        </p:grpSpPr>
        <p:pic>
          <p:nvPicPr>
            <p:cNvPr id="142" name="Picture 9" descr=""/>
            <p:cNvPicPr/>
            <p:nvPr/>
          </p:nvPicPr>
          <p:blipFill>
            <a:blip r:embed="rId3"/>
            <a:stretch/>
          </p:blipFill>
          <p:spPr>
            <a:xfrm>
              <a:off x="7314840" y="1371600"/>
              <a:ext cx="1314720" cy="15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Text Box 10"/>
            <p:cNvSpPr/>
            <p:nvPr/>
          </p:nvSpPr>
          <p:spPr>
            <a:xfrm>
              <a:off x="5867280" y="1752480"/>
              <a:ext cx="2971800" cy="131292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0" spc="-1" strike="noStrike">
                  <a:solidFill>
                    <a:srgbClr val="000000"/>
                  </a:solidFill>
                  <a:latin typeface="Calibri"/>
                </a:rPr>
                <a:t>a bus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11"/>
          <p:cNvGrpSpPr/>
          <p:nvPr/>
        </p:nvGrpSpPr>
        <p:grpSpPr>
          <a:xfrm>
            <a:off x="3809880" y="360000"/>
            <a:ext cx="2971800" cy="1816560"/>
            <a:chOff x="3809880" y="360000"/>
            <a:chExt cx="2971800" cy="1816560"/>
          </a:xfrm>
        </p:grpSpPr>
        <p:pic>
          <p:nvPicPr>
            <p:cNvPr id="145" name="Picture 12" descr=""/>
            <p:cNvPicPr/>
            <p:nvPr/>
          </p:nvPicPr>
          <p:blipFill>
            <a:blip r:embed="rId4"/>
            <a:stretch/>
          </p:blipFill>
          <p:spPr>
            <a:xfrm rot="3947400">
              <a:off x="4440240" y="512280"/>
              <a:ext cx="1301760" cy="149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Text Box 13"/>
            <p:cNvSpPr/>
            <p:nvPr/>
          </p:nvSpPr>
          <p:spPr>
            <a:xfrm>
              <a:off x="3809880" y="863640"/>
              <a:ext cx="2971800" cy="131292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0" spc="-1" strike="noStrike">
                  <a:solidFill>
                    <a:srgbClr val="000000"/>
                  </a:solidFill>
                  <a:latin typeface="Calibri"/>
                </a:rPr>
                <a:t>a cat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7" name="triangle.wav" descr=""/>
          <p:cNvPicPr/>
          <p:nvPr/>
        </p:nvPicPr>
        <p:blipFill>
          <a:blip r:embed="rId5"/>
          <a:stretch/>
        </p:blipFill>
        <p:spPr>
          <a:xfrm>
            <a:off x="-30492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8" name="poprobuy_eshe.wav" descr=""/>
          <p:cNvPicPr/>
          <p:nvPr/>
        </p:nvPicPr>
        <p:blipFill>
          <a:blip r:embed="rId6"/>
          <a:stretch/>
        </p:blipFill>
        <p:spPr>
          <a:xfrm>
            <a:off x="-304920" y="457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9" name="poprobuy_eshe.wav" descr=""/>
          <p:cNvPicPr/>
          <p:nvPr/>
        </p:nvPicPr>
        <p:blipFill>
          <a:blip r:embed="rId7"/>
          <a:stretch/>
        </p:blipFill>
        <p:spPr>
          <a:xfrm>
            <a:off x="-304920" y="914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0" name="poprobuy_eshe.wav" descr=""/>
          <p:cNvPicPr/>
          <p:nvPr/>
        </p:nvPicPr>
        <p:blipFill>
          <a:blip r:embed="rId8"/>
          <a:stretch/>
        </p:blipFill>
        <p:spPr>
          <a:xfrm>
            <a:off x="-304920" y="1523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1" descr="ukraschenie_8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7431120" y="4419720"/>
            <a:ext cx="1712880" cy="236196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25" descr="lisa.png"/>
          <p:cNvPicPr/>
          <p:nvPr/>
        </p:nvPicPr>
        <p:blipFill>
          <a:blip r:embed="rId10"/>
          <a:stretch/>
        </p:blipFill>
        <p:spPr>
          <a:xfrm>
            <a:off x="5029200" y="5005440"/>
            <a:ext cx="2082960" cy="185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path" presetID="3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15799 0.01896 C -0.15486 0.01272 -0.14062 -0.05296 -0.10469 -0.04857 C -0.05 -0.04233 -0.02847 0.00416 0.02205 -0.04233 C 0.05382 -0.06985 0.09115 -0.13923 0.11858 -0.13715 C 0.18056 -0.13483 0.1934 -0.0636 0.1934 0.00208 C 0.19497 0.09458 0.11441 0.17275 0.01632 0.18154 C -0.08299 0.18779 -0.1651 0.08834 -0.15799 0.01896 Z">
                                      <p:cBhvr>
                                        <p:cTn id="238" dur="13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5.55556E-007 7.90009E-006 C -0.01041 0.00486 -0.0059 0.00301 -0.01336 0.00602 C -0.02066 0.01249 -0.029 0.01434 -0.03733 0.01804 C -0.04914 0.02336 -0.06112 0.02891 -0.07309 0.03377 C -0.08247 0.0421 -0.09046 0.05135 -0.09705 0.0636 C -0.10086 0.08026 -0.11875 0.08465 -0.12987 0.08951 C -0.13091 0.08997 -0.1375 0.09344 -0.13872 0.09344 C -0.15313 0.09459 -0.16771 0.09483 -0.18212 0.09552 C -0.20191 0.09436 -0.21476 0.09737 -0.23125 0.08951 C -0.30035 0.0939 -0.34497 0.09436 -0.42691 0.09552 C -0.44184 0.09968 -0.42778 0.09459 -0.43872 0.10153 C -0.44341 0.10454 -0.44896 0.10454 -0.45365 0.10754 C -0.45834 0.11078 -0.46007 0.11402 -0.46407 0.11934 C -0.47066 0.14455 -0.49271 0.15264 -0.51042 0.15704 C -0.52257 0.16814 -0.53959 0.17114 -0.55365 0.17693 C -0.56407 0.18618 -0.55921 0.18363 -0.56719 0.18687 C -0.56858 0.18895 -0.57032 0.19057 -0.57153 0.19288 C -0.5724 0.19473 -0.57205 0.19728 -0.57309 0.1989 C -0.57882 0.20815 -0.58698 0.213 -0.59254 0.22272 C -0.59653 0.24631 -0.5908 0.2174 -0.59705 0.23659 C -0.59966 0.24446 -0.59931 0.25116 -0.60296 0.25856 C -0.60365 0.27406 -0.6125 0.32332 -0.59705 0.33002 C -0.5875 0.34274 -0.59757 0.33118 -0.58803 0.33812 C -0.5849 0.34043 -0.579 0.34598 -0.579 0.34598 C -0.57275 0.3587 -0.5632 0.37535 -0.55365 0.38391 C -0.54584 0.39108 -0.54983 0.38437 -0.54323 0.39177 C -0.54167 0.39362 -0.54046 0.39617 -0.53872 0.39779 C -0.53612 0.4001 -0.53264 0.39987 -0.52987 0.40172 C -0.51737 0.41027 -0.50209 0.41351 -0.48803 0.41559 C -0.46858 0.4149 -0.44723 0.42299 -0.42987 0.41166 C -0.4158 0.40241 -0.39723 0.38969 -0.38959 0.3698 C -0.38438 0.35616 -0.38247 0.33881 -0.37605 0.32609 C -0.3691 0.31245 -0.34306 0.30551 -0.33125 0.30019 C -0.32639 0.29788 -0.32275 0.29256 -0.31789 0.29025 C -0.31303 0.284 -0.3125 0.28076 -0.31042 0.27244 C -0.3099 0.25532 -0.30973 0.23798 -0.30886 0.22087 C -0.30834 0.21115 -0.30365 0.19774 -0.30139 0.18895 C -0.29514 0.16513 -0.29063 0.14015 -0.28212 0.11749 C -0.28056 0.10569 -0.27952 0.09344 -0.27466 0.08349 C -0.27257 0.07332 -0.27101 0.06129 -0.26563 0.05366 C -0.25938 0.0303 -0.2533 0.02221 -0.23577 0.01596 C -0.22987 0.01666 -0.22379 0.01643 -0.21789 0.01804 C -0.2125 0.01943 -0.20851 0.02753 -0.20296 0.02984 C -0.19862 0.03562 -0.19549 0.03909 -0.18959 0.04186 C -0.18351 0.0495 -0.17813 0.05505 -0.17014 0.05782 C -0.16407 0.06314 -0.15903 0.06846 -0.15226 0.0717 C -0.14011 0.08696 -0.12639 0.10408 -0.11042 0.11148 C -0.10139 0.1235 -0.09723 0.11818 -0.08646 0.12535 C -0.07881 0.13044 -0.07101 0.13298 -0.06268 0.1353 C 0.03733 0.13322 0.00851 0.14131 0.05382 0.12743 C 0.05817 0.12165 0.06302 0.11911 0.06719 0.11333 C 0.06945 0.10477 0.07119 0.09621 0.0731 0.08766 C 0.07395 0.08349 0.07622 0.07563 0.07622 0.07563 C 0.07587 0.05158 0.0882 -0.02266 0.0658 -0.05365 C 0.06284 -0.06521 0.06667 -0.0555 0.05972 -0.06151 C 0.05799 -0.06313 0.05677 -0.06567 0.05521 -0.06752 C 0.04914 -0.07423 0.05277 -0.06914 0.04635 -0.07354 C 0.03317 -0.08233 0.02327 -0.09944 0.00903 -0.10522 C 0.00261 -0.11424 -0.00746 -0.12141 -0.01631 -0.12511 C -0.03629 -0.12442 -0.0691 -0.14338 -0.07605 -0.11332 C -0.07291 -0.08996 -0.07379 -0.08741 -0.06112 -0.07354 C -0.05348 -0.06498 -0.06007 -0.06914 -0.05226 -0.06544 C -0.0507 -0.06359 -0.04948 -0.06128 -0.04775 -0.05966 C -0.04636 -0.05851 -0.04461 -0.05874 -0.04323 -0.05758 C -0.03263 -0.0481 -0.04445 -0.05388 -0.03421 -0.04972 C -0.02673 -0.03931 -0.03716 -0.05272 -0.02535 -0.04162 C -0.02361 -0.04 -0.02256 -0.03723 -0.02083 -0.03561 C -0.01823 -0.0333 -0.01492 -0.03307 -0.01198 -0.03168 C -0.0073 -0.02567 -0.00156 -0.02196 0.00295 -0.01572 C 0.00244 -0.0111 0.00313 -0.00601 0.00157 -0.00184 C 0.00087 7.90009E-006 -0.00173 -0.00138 -0.00295 7.90009E-006 C -0.00364 0.00093 -0.00105 7.90009E-006 -5.55556E-007 7.90009E-006 Z">
                                      <p:cBhvr>
                                        <p:cTn id="240" dur="13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8.69565E-007 C 0.01337 0.0007 0.02691 0.00023 0.04028 0.00208 C 0.04201 0.00232 0.04305 0.00555 0.04479 0.00602 C 0.04913 0.0074 0.05364 0.00717 0.05816 0.00787 C 0.10243 0.00717 0.14687 0.00717 0.19114 0.00602 C 0.19618 0.00578 0.20139 0.00185 0.20607 0.00393 C 0.20798 0.00486 0.20538 0.00948 0.20451 0.01203 C 0.20295 0.01619 0.20052 0.01989 0.19861 0.02382 C 0.19184 0.03724 0.16493 0.04417 0.15382 0.04764 C 0.12552 0.07216 0.07465 0.06476 0.04774 0.06568 C -0.03282 0.06453 -0.05955 0.0784 -0.11493 0.05574 C -0.12778 0.04394 -0.14757 0.03978 -0.16268 0.03377 C -0.17379 0.02937 -0.18455 0.0229 -0.19549 0.01781 C -0.19219 0.03053 -0.18854 0.0377 -0.179 0.04163 C -0.17361 0.04926 -0.17882 0.04302 -0.17014 0.04972 C -0.16702 0.05227 -0.16111 0.05759 -0.16111 0.05759 C -0.15556 0.06892 -0.14636 0.07748 -0.13733 0.08349 C -0.13125 0.09598 -0.13802 0.08465 -0.12986 0.09135 C -0.12518 0.09528 -0.12413 0.09875 -0.11788 0.1013 C -0.10452 0.11379 -0.0908 0.12165 -0.07466 0.12535 C -0.06962 0.12974 -0.06511 0.13021 -0.05972 0.13321 C -0.03785 0.1457 -0.01945 0.15079 0.00451 0.1531 C -0.00347 0.15634 -0.01025 0.16582 -0.01493 0.17484 C -0.01684 0.18317 -0.0217 0.18941 -0.02535 0.19681 C -0.02622 0.19866 -0.02587 0.20121 -0.02691 0.20282 C -0.029 0.20652 -0.03247 0.20884 -0.03438 0.21277 C -0.04167 0.22757 -0.05174 0.23543 -0.06424 0.24052 C -0.0691 0.24491 -0.07361 0.24607 -0.079 0.24861 C -0.19167 0.24538 -0.12344 0.25463 -0.16111 0.23867 C -0.17032 0.22641 -0.18212 0.22225 -0.19393 0.2167 C -0.1967 0.21323 -0.20035 0.21069 -0.20295 0.20676 C -0.20538 0.20306 -0.20625 0.19797 -0.20886 0.19473 C -0.2099 0.19334 -0.21094 0.19219 -0.21198 0.1908 C -0.21389 0.1827 -0.2158 0.17484 -0.21788 0.16698 C -0.21858 0.19473 -0.20764 0.23243 -0.22986 0.2426 C -0.23542 0.24815 -0.23854 0.24977 -0.24479 0.25255 C -0.24931 0.25856 -0.25504 0.26365 -0.26111 0.26642 C -0.25278 0.27799 -0.26146 0.26827 -0.2507 0.27429 C -0.24896 0.27521 -0.24792 0.27752 -0.24618 0.27845 C -0.24167 0.28099 -0.23594 0.28215 -0.23125 0.28423 C -0.22275 0.28793 -0.21476 0.29209 -0.20591 0.29417 C -0.07448 0.29163 -0.13976 0.30204 -0.08959 0.28423 C -0.0842 0.2796 -0.07865 0.28007 -0.07309 0.27637 C -0.06094 0.26827 -0.0757 0.2759 -0.06424 0.27035 C -0.05799 0.25856 -0.04566 0.25578 -0.03872 0.24445 C -0.02882 0.22826 -0.02118 0.20999 -0.01042 0.19473 C -0.00886 0.18872 -0.00469 0.17923 -0.00139 0.17484 C 0.00069 0.16258 0.0059 0.14963 0.00903 0.13714 C 0.01041 0.13113 0.01354 0.11934 0.01354 0.11934 C 0.01284 0.0895 0.02396 0.04602 -0.00139 0.03377 C -0.00573 0.02822 -0.004 0.03192 -0.00591 0.02382 C -0.00695 0.01989 -0.00886 0.01203 -0.00886 0.01203 C -0.00695 -0.00115 -0.0099 0.00278 3.33333E-006 -8.69565E-007 Z">
                                      <p:cBhvr>
                                        <p:cTn id="242" dur="13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3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8.33333E-007 -1.42461E-006 C -0.07396 -0.00648 0.01493 0.00069 -0.15816 -0.00416 C -0.16337 -0.0044 -0.16701 -0.00995 -0.17153 -0.01203 C -0.17691 -0.01457 -0.18299 -0.01434 -0.18802 -0.01804 C -0.20382 -0.0296 -0.19132 -0.02313 -0.20139 -0.02798 C -0.20503 -0.03261 -0.21337 -0.03978 -0.21337 -0.03978 C -0.21944 -0.06291 -0.2125 -0.08603 -0.21042 -0.10939 C -0.21146 -0.12882 -0.21215 -0.14662 -0.22239 -0.16119 C -0.22413 -0.16883 -0.22639 -0.17068 -0.23125 -0.17507 C -0.23229 -0.17715 -0.23299 -0.17946 -0.23437 -0.18108 C -0.23559 -0.18224 -0.23767 -0.18155 -0.23871 -0.18293 C -0.23976 -0.18432 -0.23924 -0.18733 -0.24028 -0.18895 C -0.24271 -0.19288 -0.2467 -0.19496 -0.24913 -0.19889 C -0.25816 -0.21346 -0.24583 -0.19542 -0.25521 -0.21277 C -0.2592 -0.22017 -0.26614 -0.22341 -0.27014 -0.23081 C -0.27691 -0.24353 -0.26875 -0.23497 -0.2776 -0.2426 C -0.27917 -0.24908 -0.28507 -0.26064 -0.28507 -0.26064 C -0.28924 -0.27798 -0.28246 -0.25255 -0.29097 -0.27243 C -0.29201 -0.27475 -0.29167 -0.27798 -0.29253 -0.28053 C -0.29739 -0.29556 -0.29392 -0.27729 -0.29705 -0.29232 C -0.29809 -0.29764 -0.3 -0.30828 -0.3 -0.30828 C -0.29896 -0.36378 -0.30399 -0.37766 -0.29392 -0.41559 C -0.29219 -0.4223 -0.28646 -0.42553 -0.28351 -0.43155 C -0.27951 -0.44889 -0.25694 -0.45629 -0.24618 -0.46531 C -0.23576 -0.47387 -0.24462 -0.46947 -0.23576 -0.47317 C -0.22708 -0.48127 -0.21337 -0.48358 -0.20295 -0.48728 C -0.17309 -0.48451 -0.18837 -0.48705 -0.17153 -0.47919 C -0.17049 -0.47711 -0.16944 -0.47526 -0.16858 -0.47317 C -0.16788 -0.47132 -0.16805 -0.46901 -0.16719 -0.46739 C -0.16441 -0.46138 -0.15694 -0.4556 -0.15226 -0.45329 C -0.14739 -0.44727 -0.14375 -0.44773 -0.13733 -0.44542 C -0.12066 -0.43964 -0.11892 -0.43918 -0.09705 -0.43756 C -0.08628 -0.4327 -0.09062 -0.43571 -0.08351 -0.42946 C -0.08055 -0.42345 -0.0776 -0.41767 -0.07465 -0.41166 C -0.07361 -0.40958 -0.07153 -0.40564 -0.07153 -0.40564 C -0.06979 -0.39824 -0.06701 -0.39339 -0.06562 -0.38576 C -0.0651 -0.35685 -0.07483 -0.31846 -0.05816 -0.29625 C -0.05573 -0.28654 -0.05833 -0.29232 -0.05069 -0.28631 C -0.0401 -0.27798 -0.03698 -0.27752 -0.02535 -0.27243 C -0.00069 -0.26156 -0.01962 -0.26665 -0.00139 -0.26249 C 0.00243 -0.25995 0.0066 -0.25902 0.01042 -0.25648 C 0.01163 -0.25555 0.01233 -0.2537 0.01354 -0.25255 C 0.01858 -0.24815 0.02448 -0.24422 0.02986 -0.24075 C 0.03351 -0.23566 0.0375 -0.23474 0.04184 -0.23081 C 0.04375 -0.22317 0.04653 -0.21439 0.05087 -0.20884 C 0.05243 -0.20028 0.05521 -0.18293 0.05521 -0.18293 C 0.05642 -0.14871 0.05833 -0.09736 0.05833 -0.06568 C 0.05833 -0.06036 0.05833 -0.05458 0.05677 -0.04972 C 0.05486 -0.04371 0.0434 -0.04186 0.0434 -0.04186 C 0.03941 -0.03677 0.02813 -0.03053 0.0224 -0.02798 C 0.01945 -0.0266 0.01354 -0.02382 0.01354 -0.02382 C 0.01007 -0.01943 0.00781 -0.01457 0.00451 -0.00995 C 0.00399 -0.0081 0.00417 -0.00532 0.00295 -0.00416 C -0.00226 0.00092 -0.0125 -1.42461E-006 -8.33333E-007 -1.42461E-006 Z">
                                      <p:cBhvr>
                                        <p:cTn id="244" dur="13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5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246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Ura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249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4" dur="4127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259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remove" presetClass="emph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4" dur="141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5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266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indefinite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1" dur="1411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2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273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indefinite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8" dur="1411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ukraschenie_8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377120" y="4343400"/>
            <a:ext cx="1766880" cy="2438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" descr="ukraschenie_8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377120" y="4343400"/>
            <a:ext cx="1766880" cy="2438280"/>
          </a:xfrm>
          <a:prstGeom prst="rect">
            <a:avLst/>
          </a:prstGeom>
          <a:ln w="0">
            <a:noFill/>
          </a:ln>
        </p:spPr>
      </p:pic>
      <p:grpSp>
        <p:nvGrpSpPr>
          <p:cNvPr id="155" name="Group 3"/>
          <p:cNvGrpSpPr/>
          <p:nvPr/>
        </p:nvGrpSpPr>
        <p:grpSpPr>
          <a:xfrm>
            <a:off x="2819520" y="3581280"/>
            <a:ext cx="3581280" cy="1693800"/>
            <a:chOff x="2819520" y="3581280"/>
            <a:chExt cx="3581280" cy="1693800"/>
          </a:xfrm>
        </p:grpSpPr>
        <p:pic>
          <p:nvPicPr>
            <p:cNvPr id="156" name="Picture 4" descr=""/>
            <p:cNvPicPr/>
            <p:nvPr/>
          </p:nvPicPr>
          <p:blipFill>
            <a:blip r:embed="rId3"/>
            <a:stretch/>
          </p:blipFill>
          <p:spPr>
            <a:xfrm>
              <a:off x="2895480" y="3581280"/>
              <a:ext cx="152352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Text Box 5"/>
            <p:cNvSpPr/>
            <p:nvPr/>
          </p:nvSpPr>
          <p:spPr>
            <a:xfrm>
              <a:off x="2819520" y="3962160"/>
              <a:ext cx="3581280" cy="131292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0" spc="-1" strike="noStrike">
                  <a:solidFill>
                    <a:srgbClr val="000000"/>
                  </a:solidFill>
                  <a:latin typeface="Calibri"/>
                </a:rPr>
                <a:t>a lamp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Group 6"/>
          <p:cNvGrpSpPr/>
          <p:nvPr/>
        </p:nvGrpSpPr>
        <p:grpSpPr>
          <a:xfrm>
            <a:off x="4267080" y="2008440"/>
            <a:ext cx="3809880" cy="2450520"/>
            <a:chOff x="4267080" y="2008440"/>
            <a:chExt cx="3809880" cy="2450520"/>
          </a:xfrm>
        </p:grpSpPr>
        <p:pic>
          <p:nvPicPr>
            <p:cNvPr id="159" name="Picture 7" descr=""/>
            <p:cNvPicPr/>
            <p:nvPr/>
          </p:nvPicPr>
          <p:blipFill>
            <a:blip r:embed="rId4"/>
            <a:stretch/>
          </p:blipFill>
          <p:spPr>
            <a:xfrm rot="2679600">
              <a:off x="5562000" y="2361960"/>
              <a:ext cx="1722600" cy="174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Text Box 8"/>
            <p:cNvSpPr/>
            <p:nvPr/>
          </p:nvSpPr>
          <p:spPr>
            <a:xfrm>
              <a:off x="4267080" y="2819160"/>
              <a:ext cx="3809880" cy="131292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0" spc="-1" strike="noStrike">
                  <a:solidFill>
                    <a:srgbClr val="000000"/>
                  </a:solidFill>
                  <a:latin typeface="Calibri"/>
                </a:rPr>
                <a:t>a </a:t>
              </a:r>
              <a:r>
                <a:rPr b="1" i="1" lang="en-US" sz="8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i="1" lang="en-US" sz="8000" spc="-1" strike="noStrike">
                  <a:solidFill>
                    <a:srgbClr val="000000"/>
                  </a:solidFill>
                  <a:latin typeface="Calibri"/>
                </a:rPr>
                <a:t>rog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9"/>
          <p:cNvGrpSpPr/>
          <p:nvPr/>
        </p:nvGrpSpPr>
        <p:grpSpPr>
          <a:xfrm>
            <a:off x="5181480" y="1371600"/>
            <a:ext cx="3962160" cy="1693800"/>
            <a:chOff x="5181480" y="1371600"/>
            <a:chExt cx="3962160" cy="1693800"/>
          </a:xfrm>
        </p:grpSpPr>
        <p:pic>
          <p:nvPicPr>
            <p:cNvPr id="162" name="Picture 10" descr=""/>
            <p:cNvPicPr/>
            <p:nvPr/>
          </p:nvPicPr>
          <p:blipFill>
            <a:blip r:embed="rId5"/>
            <a:stretch/>
          </p:blipFill>
          <p:spPr>
            <a:xfrm>
              <a:off x="7314840" y="1371600"/>
              <a:ext cx="1314720" cy="15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Text Box 11"/>
            <p:cNvSpPr/>
            <p:nvPr/>
          </p:nvSpPr>
          <p:spPr>
            <a:xfrm>
              <a:off x="5181480" y="1752480"/>
              <a:ext cx="3962160" cy="131292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0" spc="-1" strike="noStrike">
                  <a:solidFill>
                    <a:srgbClr val="000000"/>
                  </a:solidFill>
                  <a:latin typeface="Calibri"/>
                </a:rPr>
                <a:t>a kitten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12"/>
          <p:cNvGrpSpPr/>
          <p:nvPr/>
        </p:nvGrpSpPr>
        <p:grpSpPr>
          <a:xfrm>
            <a:off x="2895480" y="360000"/>
            <a:ext cx="3962520" cy="1816560"/>
            <a:chOff x="2895480" y="360000"/>
            <a:chExt cx="3962520" cy="1816560"/>
          </a:xfrm>
        </p:grpSpPr>
        <p:pic>
          <p:nvPicPr>
            <p:cNvPr id="165" name="Picture 13" descr=""/>
            <p:cNvPicPr/>
            <p:nvPr/>
          </p:nvPicPr>
          <p:blipFill>
            <a:blip r:embed="rId6"/>
            <a:stretch/>
          </p:blipFill>
          <p:spPr>
            <a:xfrm rot="3947400">
              <a:off x="4440240" y="512280"/>
              <a:ext cx="1301760" cy="149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Text Box 14"/>
            <p:cNvSpPr/>
            <p:nvPr/>
          </p:nvSpPr>
          <p:spPr>
            <a:xfrm>
              <a:off x="2895480" y="863640"/>
              <a:ext cx="3962520" cy="131292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i="1" lang="en-US" sz="8000" spc="-1" strike="noStrike">
                  <a:solidFill>
                    <a:srgbClr val="000000"/>
                  </a:solidFill>
                  <a:latin typeface="Calibri"/>
                </a:rPr>
                <a:t>a rabbit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7" name="triangle.wav" descr=""/>
          <p:cNvPicPr/>
          <p:nvPr/>
        </p:nvPicPr>
        <p:blipFill>
          <a:blip r:embed="rId7"/>
          <a:stretch/>
        </p:blipFill>
        <p:spPr>
          <a:xfrm>
            <a:off x="-30492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8" name="poprobuy_eshe.wav" descr=""/>
          <p:cNvPicPr/>
          <p:nvPr/>
        </p:nvPicPr>
        <p:blipFill>
          <a:blip r:embed="rId8"/>
          <a:stretch/>
        </p:blipFill>
        <p:spPr>
          <a:xfrm>
            <a:off x="-304920" y="457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9" name="poprobuy_eshe.wav" descr=""/>
          <p:cNvPicPr/>
          <p:nvPr/>
        </p:nvPicPr>
        <p:blipFill>
          <a:blip r:embed="rId9"/>
          <a:stretch/>
        </p:blipFill>
        <p:spPr>
          <a:xfrm>
            <a:off x="-304920" y="914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0" name="poprobuy_eshe.wav" descr=""/>
          <p:cNvPicPr/>
          <p:nvPr/>
        </p:nvPicPr>
        <p:blipFill>
          <a:blip r:embed="rId10"/>
          <a:stretch/>
        </p:blipFill>
        <p:spPr>
          <a:xfrm>
            <a:off x="-304920" y="1523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12" descr="krolik2.png"/>
          <p:cNvPicPr/>
          <p:nvPr/>
        </p:nvPicPr>
        <p:blipFill>
          <a:blip r:embed="rId11"/>
          <a:stretch/>
        </p:blipFill>
        <p:spPr>
          <a:xfrm>
            <a:off x="2362320" y="5195880"/>
            <a:ext cx="2352600" cy="166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5.55556E-007 7.90009E-006 C -0.01041 0.00486 -0.0059 0.00301 -0.01336 0.00602 C -0.02066 0.01249 -0.029 0.01434 -0.03733 0.01804 C -0.04914 0.02336 -0.06112 0.02891 -0.07309 0.03377 C -0.08247 0.0421 -0.09046 0.05135 -0.09705 0.0636 C -0.10086 0.08026 -0.11875 0.08465 -0.12987 0.08951 C -0.13091 0.08997 -0.1375 0.09344 -0.13872 0.09344 C -0.15313 0.09459 -0.16771 0.09483 -0.18212 0.09552 C -0.20191 0.09436 -0.21476 0.09737 -0.23125 0.08951 C -0.30035 0.0939 -0.34497 0.09436 -0.42691 0.09552 C -0.44184 0.09968 -0.42778 0.09459 -0.43872 0.10153 C -0.44341 0.10454 -0.44896 0.10454 -0.45365 0.10754 C -0.45834 0.11078 -0.46007 0.11402 -0.46407 0.11934 C -0.47066 0.14455 -0.49271 0.15264 -0.51042 0.15704 C -0.52257 0.16814 -0.53959 0.17114 -0.55365 0.17693 C -0.56407 0.18618 -0.55921 0.18363 -0.56719 0.18687 C -0.56858 0.18895 -0.57032 0.19057 -0.57153 0.19288 C -0.5724 0.19473 -0.57205 0.19728 -0.57309 0.1989 C -0.57882 0.20815 -0.58698 0.213 -0.59254 0.22272 C -0.59653 0.24631 -0.5908 0.2174 -0.59705 0.23659 C -0.59966 0.24446 -0.59931 0.25116 -0.60296 0.25856 C -0.60365 0.27406 -0.6125 0.32332 -0.59705 0.33002 C -0.5875 0.34274 -0.59757 0.33118 -0.58803 0.33812 C -0.5849 0.34043 -0.579 0.34598 -0.579 0.34598 C -0.57275 0.3587 -0.5632 0.37535 -0.55365 0.38391 C -0.54584 0.39108 -0.54983 0.38437 -0.54323 0.39177 C -0.54167 0.39362 -0.54046 0.39617 -0.53872 0.39779 C -0.53612 0.4001 -0.53264 0.39987 -0.52987 0.40172 C -0.51737 0.41027 -0.50209 0.41351 -0.48803 0.41559 C -0.46858 0.4149 -0.44723 0.42299 -0.42987 0.41166 C -0.4158 0.40241 -0.39723 0.38969 -0.38959 0.3698 C -0.38438 0.35616 -0.38247 0.33881 -0.37605 0.32609 C -0.3691 0.31245 -0.34306 0.30551 -0.33125 0.30019 C -0.32639 0.29788 -0.32275 0.29256 -0.31789 0.29025 C -0.31303 0.284 -0.3125 0.28076 -0.31042 0.27244 C -0.3099 0.25532 -0.30973 0.23798 -0.30886 0.22087 C -0.30834 0.21115 -0.30365 0.19774 -0.30139 0.18895 C -0.29514 0.16513 -0.29063 0.14015 -0.28212 0.11749 C -0.28056 0.10569 -0.27952 0.09344 -0.27466 0.08349 C -0.27257 0.07332 -0.27101 0.06129 -0.26563 0.05366 C -0.25938 0.0303 -0.2533 0.02221 -0.23577 0.01596 C -0.22987 0.01666 -0.22379 0.01643 -0.21789 0.01804 C -0.2125 0.01943 -0.20851 0.02753 -0.20296 0.02984 C -0.19862 0.03562 -0.19549 0.03909 -0.18959 0.04186 C -0.18351 0.0495 -0.17813 0.05505 -0.17014 0.05782 C -0.16407 0.06314 -0.15903 0.06846 -0.15226 0.0717 C -0.14011 0.08696 -0.12639 0.10408 -0.11042 0.11148 C -0.10139 0.1235 -0.09723 0.11818 -0.08646 0.12535 C -0.07881 0.13044 -0.07101 0.13298 -0.06268 0.1353 C 0.03733 0.13322 0.00851 0.14131 0.05382 0.12743 C 0.05817 0.12165 0.06302 0.11911 0.06719 0.11333 C 0.06945 0.10477 0.07119 0.09621 0.0731 0.08766 C 0.07395 0.08349 0.07622 0.07563 0.07622 0.07563 C 0.07587 0.05158 0.0882 -0.02266 0.0658 -0.05365 C 0.06284 -0.06521 0.06667 -0.0555 0.05972 -0.06151 C 0.05799 -0.06313 0.05677 -0.06567 0.05521 -0.06752 C 0.04914 -0.07423 0.05277 -0.06914 0.04635 -0.07354 C 0.03317 -0.08233 0.02327 -0.09944 0.00903 -0.10522 C 0.00261 -0.11424 -0.00746 -0.12141 -0.01631 -0.12511 C -0.03629 -0.12442 -0.0691 -0.14338 -0.07605 -0.11332 C -0.07291 -0.08996 -0.07379 -0.08741 -0.06112 -0.07354 C -0.05348 -0.06498 -0.06007 -0.06914 -0.05226 -0.06544 C -0.0507 -0.06359 -0.04948 -0.06128 -0.04775 -0.05966 C -0.04636 -0.05851 -0.04461 -0.05874 -0.04323 -0.05758 C -0.03263 -0.0481 -0.04445 -0.05388 -0.03421 -0.04972 C -0.02673 -0.03931 -0.03716 -0.05272 -0.02535 -0.04162 C -0.02361 -0.04 -0.02256 -0.03723 -0.02083 -0.03561 C -0.01823 -0.0333 -0.01492 -0.03307 -0.01198 -0.03168 C -0.0073 -0.02567 -0.00156 -0.02196 0.00295 -0.01572 C 0.00244 -0.0111 0.00313 -0.00601 0.00157 -0.00184 C 0.00087 7.90009E-006 -0.00173 -0.00138 -0.00295 7.90009E-006 C -0.00364 0.00093 -0.00105 7.90009E-006 -5.55556E-007 7.90009E-006 Z">
                                      <p:cBhvr>
                                        <p:cTn id="287" dur="13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8.69565E-007 C 0.01337 0.0007 0.02691 0.00023 0.04028 0.00208 C 0.04201 0.00232 0.04305 0.00555 0.04479 0.00602 C 0.04913 0.0074 0.05364 0.00717 0.05816 0.00787 C 0.10243 0.00717 0.14687 0.00717 0.19114 0.00602 C 0.19618 0.00578 0.20139 0.00185 0.20607 0.00393 C 0.20798 0.00486 0.20538 0.00948 0.20451 0.01203 C 0.20295 0.01619 0.20052 0.01989 0.19861 0.02382 C 0.19184 0.03724 0.16493 0.04417 0.15382 0.04764 C 0.12552 0.07216 0.07465 0.06476 0.04774 0.06568 C -0.03282 0.06453 -0.05955 0.0784 -0.11493 0.05574 C -0.12778 0.04394 -0.14757 0.03978 -0.16268 0.03377 C -0.17379 0.02937 -0.18455 0.0229 -0.19549 0.01781 C -0.19219 0.03053 -0.18854 0.0377 -0.179 0.04163 C -0.17361 0.04926 -0.17882 0.04302 -0.17014 0.04972 C -0.16702 0.05227 -0.16111 0.05759 -0.16111 0.05759 C -0.15556 0.06892 -0.14636 0.07748 -0.13733 0.08349 C -0.13125 0.09598 -0.13802 0.08465 -0.12986 0.09135 C -0.12518 0.09528 -0.12413 0.09875 -0.11788 0.1013 C -0.10452 0.11379 -0.0908 0.12165 -0.07466 0.12535 C -0.06962 0.12974 -0.06511 0.13021 -0.05972 0.13321 C -0.03785 0.1457 -0.01945 0.15079 0.00451 0.1531 C -0.00347 0.15634 -0.01025 0.16582 -0.01493 0.17484 C -0.01684 0.18317 -0.0217 0.18941 -0.02535 0.19681 C -0.02622 0.19866 -0.02587 0.20121 -0.02691 0.20282 C -0.029 0.20652 -0.03247 0.20884 -0.03438 0.21277 C -0.04167 0.22757 -0.05174 0.23543 -0.06424 0.24052 C -0.0691 0.24491 -0.07361 0.24607 -0.079 0.24861 C -0.19167 0.24538 -0.12344 0.25463 -0.16111 0.23867 C -0.17032 0.22641 -0.18212 0.22225 -0.19393 0.2167 C -0.1967 0.21323 -0.20035 0.21069 -0.20295 0.20676 C -0.20538 0.20306 -0.20625 0.19797 -0.20886 0.19473 C -0.2099 0.19334 -0.21094 0.19219 -0.21198 0.1908 C -0.21389 0.1827 -0.2158 0.17484 -0.21788 0.16698 C -0.21858 0.19473 -0.20764 0.23243 -0.22986 0.2426 C -0.23542 0.24815 -0.23854 0.24977 -0.24479 0.25255 C -0.24931 0.25856 -0.25504 0.26365 -0.26111 0.26642 C -0.25278 0.27799 -0.26146 0.26827 -0.2507 0.27429 C -0.24896 0.27521 -0.24792 0.27752 -0.24618 0.27845 C -0.24167 0.28099 -0.23594 0.28215 -0.23125 0.28423 C -0.22275 0.28793 -0.21476 0.29209 -0.20591 0.29417 C -0.07448 0.29163 -0.13976 0.30204 -0.08959 0.28423 C -0.0842 0.2796 -0.07865 0.28007 -0.07309 0.27637 C -0.06094 0.26827 -0.0757 0.2759 -0.06424 0.27035 C -0.05799 0.25856 -0.04566 0.25578 -0.03872 0.24445 C -0.02882 0.22826 -0.02118 0.20999 -0.01042 0.19473 C -0.00886 0.18872 -0.00469 0.17923 -0.00139 0.17484 C 0.00069 0.16258 0.0059 0.14963 0.00903 0.13714 C 0.01041 0.13113 0.01354 0.11934 0.01354 0.11934 C 0.01284 0.0895 0.02396 0.04602 -0.00139 0.03377 C -0.00573 0.02822 -0.004 0.03192 -0.00591 0.02382 C -0.00695 0.01989 -0.00886 0.01203 -0.00886 0.01203 C -0.00695 -0.00115 -0.0099 0.00278 3.33333E-006 -8.69565E-007 Z">
                                      <p:cBhvr>
                                        <p:cTn id="289" dur="13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0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8.33333E-007 -1.42461E-006 C -0.07396 -0.00648 0.01493 0.00069 -0.15816 -0.00416 C -0.16337 -0.0044 -0.16701 -0.00995 -0.17153 -0.01203 C -0.17691 -0.01457 -0.18299 -0.01434 -0.18802 -0.01804 C -0.20382 -0.0296 -0.19132 -0.02313 -0.20139 -0.02798 C -0.20503 -0.03261 -0.21337 -0.03978 -0.21337 -0.03978 C -0.21944 -0.06291 -0.2125 -0.08603 -0.21042 -0.10939 C -0.21146 -0.12882 -0.21215 -0.14662 -0.22239 -0.16119 C -0.22413 -0.16883 -0.22639 -0.17068 -0.23125 -0.17507 C -0.23229 -0.17715 -0.23299 -0.17946 -0.23437 -0.18108 C -0.23559 -0.18224 -0.23767 -0.18155 -0.23871 -0.18293 C -0.23976 -0.18432 -0.23924 -0.18733 -0.24028 -0.18895 C -0.24271 -0.19288 -0.2467 -0.19496 -0.24913 -0.19889 C -0.25816 -0.21346 -0.24583 -0.19542 -0.25521 -0.21277 C -0.2592 -0.22017 -0.26614 -0.22341 -0.27014 -0.23081 C -0.27691 -0.24353 -0.26875 -0.23497 -0.2776 -0.2426 C -0.27917 -0.24908 -0.28507 -0.26064 -0.28507 -0.26064 C -0.28924 -0.27798 -0.28246 -0.25255 -0.29097 -0.27243 C -0.29201 -0.27475 -0.29167 -0.27798 -0.29253 -0.28053 C -0.29739 -0.29556 -0.29392 -0.27729 -0.29705 -0.29232 C -0.29809 -0.29764 -0.3 -0.30828 -0.3 -0.30828 C -0.29896 -0.36378 -0.30399 -0.37766 -0.29392 -0.41559 C -0.29219 -0.4223 -0.28646 -0.42553 -0.28351 -0.43155 C -0.27951 -0.44889 -0.25694 -0.45629 -0.24618 -0.46531 C -0.23576 -0.47387 -0.24462 -0.46947 -0.23576 -0.47317 C -0.22708 -0.48127 -0.21337 -0.48358 -0.20295 -0.48728 C -0.17309 -0.48451 -0.18837 -0.48705 -0.17153 -0.47919 C -0.17049 -0.47711 -0.16944 -0.47526 -0.16858 -0.47317 C -0.16788 -0.47132 -0.16805 -0.46901 -0.16719 -0.46739 C -0.16441 -0.46138 -0.15694 -0.4556 -0.15226 -0.45329 C -0.14739 -0.44727 -0.14375 -0.44773 -0.13733 -0.44542 C -0.12066 -0.43964 -0.11892 -0.43918 -0.09705 -0.43756 C -0.08628 -0.4327 -0.09062 -0.43571 -0.08351 -0.42946 C -0.08055 -0.42345 -0.0776 -0.41767 -0.07465 -0.41166 C -0.07361 -0.40958 -0.07153 -0.40564 -0.07153 -0.40564 C -0.06979 -0.39824 -0.06701 -0.39339 -0.06562 -0.38576 C -0.0651 -0.35685 -0.07483 -0.31846 -0.05816 -0.29625 C -0.05573 -0.28654 -0.05833 -0.29232 -0.05069 -0.28631 C -0.0401 -0.27798 -0.03698 -0.27752 -0.02535 -0.27243 C -0.00069 -0.26156 -0.01962 -0.26665 -0.00139 -0.26249 C 0.00243 -0.25995 0.0066 -0.25902 0.01042 -0.25648 C 0.01163 -0.25555 0.01233 -0.2537 0.01354 -0.25255 C 0.01858 -0.24815 0.02448 -0.24422 0.02986 -0.24075 C 0.03351 -0.23566 0.0375 -0.23474 0.04184 -0.23081 C 0.04375 -0.22317 0.04653 -0.21439 0.05087 -0.20884 C 0.05243 -0.20028 0.05521 -0.18293 0.05521 -0.18293 C 0.05642 -0.14871 0.05833 -0.09736 0.05833 -0.06568 C 0.05833 -0.06036 0.05833 -0.05458 0.05677 -0.04972 C 0.05486 -0.04371 0.0434 -0.04186 0.0434 -0.04186 C 0.03941 -0.03677 0.02813 -0.03053 0.0224 -0.02798 C 0.01945 -0.0266 0.01354 -0.02382 0.01354 -0.02382 C 0.01007 -0.01943 0.00781 -0.01457 0.00451 -0.00995 C 0.00399 -0.0081 0.00417 -0.00532 0.00295 -0.00416 C -0.00226 0.00092 -0.0125 -1.42461E-006 -8.33333E-007 -1.42461E-006 Z">
                                      <p:cBhvr>
                                        <p:cTn id="291" dur="13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2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293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indefinite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8" dur="1411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9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300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Ura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303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8" dur="4127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path" presetID="3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Ura.wav"/>
                                        </p:tgtEl>
                                      </p:cMediaNode>
                                    </p:audio>
                                    <p:animMotion origin="layout" path="M -0.15538 0.02083 C -0.15225 0.01458 -0.13802 -0.05116 -0.10208 -0.04676 C -0.04739 -0.04051 -0.02586 0.00601 0.02466 -0.04051 C 0.05643 -0.06806 0.09375 -0.13727 0.12118 -0.13519 C 0.18316 -0.13288 0.19601 -0.06181 0.19601 0.00393 C 0.19757 0.09652 0.11702 0.17453 0.01893 0.18333 C -0.08038 0.18958 -0.1625 0.09027 -0.15538 0.02083 Z">
                                      <p:cBhvr>
                                        <p:cTn id="315" dur="13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317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indefinite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2" dur="1411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3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324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indefinite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9" dur="1411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3"/>
          <p:cNvGrpSpPr/>
          <p:nvPr/>
        </p:nvGrpSpPr>
        <p:grpSpPr>
          <a:xfrm>
            <a:off x="1981080" y="3581280"/>
            <a:ext cx="3657600" cy="1693800"/>
            <a:chOff x="1981080" y="3581280"/>
            <a:chExt cx="3657600" cy="1693800"/>
          </a:xfrm>
        </p:grpSpPr>
        <p:pic>
          <p:nvPicPr>
            <p:cNvPr id="173" name="Picture 4" descr=""/>
            <p:cNvPicPr/>
            <p:nvPr/>
          </p:nvPicPr>
          <p:blipFill>
            <a:blip r:embed="rId1"/>
            <a:stretch/>
          </p:blipFill>
          <p:spPr>
            <a:xfrm>
              <a:off x="2895480" y="3581280"/>
              <a:ext cx="152388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Text Box 5"/>
            <p:cNvSpPr/>
            <p:nvPr/>
          </p:nvSpPr>
          <p:spPr>
            <a:xfrm>
              <a:off x="1981080" y="3962160"/>
              <a:ext cx="3657600" cy="131292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0" spc="-1" strike="noStrike">
                  <a:solidFill>
                    <a:srgbClr val="000000"/>
                  </a:solidFill>
                  <a:latin typeface="Calibri"/>
                </a:rPr>
                <a:t>a doll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6"/>
          <p:cNvGrpSpPr/>
          <p:nvPr/>
        </p:nvGrpSpPr>
        <p:grpSpPr>
          <a:xfrm>
            <a:off x="4724280" y="2008440"/>
            <a:ext cx="4114800" cy="2450520"/>
            <a:chOff x="4724280" y="2008440"/>
            <a:chExt cx="4114800" cy="2450520"/>
          </a:xfrm>
        </p:grpSpPr>
        <p:pic>
          <p:nvPicPr>
            <p:cNvPr id="176" name="Picture 7" descr=""/>
            <p:cNvPicPr/>
            <p:nvPr/>
          </p:nvPicPr>
          <p:blipFill>
            <a:blip r:embed="rId2"/>
            <a:stretch/>
          </p:blipFill>
          <p:spPr>
            <a:xfrm rot="2679600">
              <a:off x="5562000" y="2361960"/>
              <a:ext cx="1722600" cy="174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Text Box 8"/>
            <p:cNvSpPr/>
            <p:nvPr/>
          </p:nvSpPr>
          <p:spPr>
            <a:xfrm>
              <a:off x="4724280" y="2819160"/>
              <a:ext cx="4114800" cy="131292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0" spc="-1" strike="noStrike">
                  <a:solidFill>
                    <a:srgbClr val="000000"/>
                  </a:solidFill>
                  <a:latin typeface="Calibri"/>
                </a:rPr>
                <a:t>a dress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oup 9"/>
          <p:cNvGrpSpPr/>
          <p:nvPr/>
        </p:nvGrpSpPr>
        <p:grpSpPr>
          <a:xfrm>
            <a:off x="5486400" y="1371600"/>
            <a:ext cx="3510000" cy="1693800"/>
            <a:chOff x="5486400" y="1371600"/>
            <a:chExt cx="3510000" cy="1693800"/>
          </a:xfrm>
        </p:grpSpPr>
        <p:pic>
          <p:nvPicPr>
            <p:cNvPr id="179" name="Picture 10" descr=""/>
            <p:cNvPicPr/>
            <p:nvPr/>
          </p:nvPicPr>
          <p:blipFill>
            <a:blip r:embed="rId3"/>
            <a:stretch/>
          </p:blipFill>
          <p:spPr>
            <a:xfrm>
              <a:off x="7315200" y="1371600"/>
              <a:ext cx="1314720" cy="15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Text Box 11"/>
            <p:cNvSpPr/>
            <p:nvPr/>
          </p:nvSpPr>
          <p:spPr>
            <a:xfrm>
              <a:off x="5486400" y="1752480"/>
              <a:ext cx="3510000" cy="131292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0" spc="-1" strike="noStrike">
                  <a:solidFill>
                    <a:srgbClr val="000000"/>
                  </a:solidFill>
                  <a:latin typeface="Calibri"/>
                </a:rPr>
                <a:t>a </a:t>
              </a:r>
              <a:r>
                <a:rPr b="1" i="1" lang="en-US" sz="8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i="1" lang="en-US" sz="8000" spc="-1" strike="noStrike">
                  <a:solidFill>
                    <a:srgbClr val="000000"/>
                  </a:solidFill>
                  <a:latin typeface="Calibri"/>
                </a:rPr>
                <a:t>rog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Group 12"/>
          <p:cNvGrpSpPr/>
          <p:nvPr/>
        </p:nvGrpSpPr>
        <p:grpSpPr>
          <a:xfrm>
            <a:off x="3581280" y="360000"/>
            <a:ext cx="4038840" cy="1816560"/>
            <a:chOff x="3581280" y="360000"/>
            <a:chExt cx="4038840" cy="1816560"/>
          </a:xfrm>
        </p:grpSpPr>
        <p:pic>
          <p:nvPicPr>
            <p:cNvPr id="182" name="Picture 13" descr=""/>
            <p:cNvPicPr/>
            <p:nvPr/>
          </p:nvPicPr>
          <p:blipFill>
            <a:blip r:embed="rId4"/>
            <a:stretch/>
          </p:blipFill>
          <p:spPr>
            <a:xfrm rot="3947400">
              <a:off x="4440240" y="512280"/>
              <a:ext cx="1301760" cy="149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Text Box 14"/>
            <p:cNvSpPr/>
            <p:nvPr/>
          </p:nvSpPr>
          <p:spPr>
            <a:xfrm>
              <a:off x="3581280" y="863640"/>
              <a:ext cx="4038840" cy="131292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0" spc="-1" strike="noStrike">
                  <a:solidFill>
                    <a:srgbClr val="000000"/>
                  </a:solidFill>
                  <a:latin typeface="Calibri"/>
                </a:rPr>
                <a:t>a kitten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4" name="triangle.wav" descr=""/>
          <p:cNvPicPr/>
          <p:nvPr/>
        </p:nvPicPr>
        <p:blipFill>
          <a:blip r:embed="rId5"/>
          <a:stretch/>
        </p:blipFill>
        <p:spPr>
          <a:xfrm>
            <a:off x="-30492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5" name="poprobuy_eshe.wav" descr=""/>
          <p:cNvPicPr/>
          <p:nvPr/>
        </p:nvPicPr>
        <p:blipFill>
          <a:blip r:embed="rId6"/>
          <a:stretch/>
        </p:blipFill>
        <p:spPr>
          <a:xfrm>
            <a:off x="-304920" y="457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6" name="poprobuy_eshe.wav" descr=""/>
          <p:cNvPicPr/>
          <p:nvPr/>
        </p:nvPicPr>
        <p:blipFill>
          <a:blip r:embed="rId7"/>
          <a:stretch/>
        </p:blipFill>
        <p:spPr>
          <a:xfrm>
            <a:off x="-304920" y="914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7" name="poprobuy_eshe.wav" descr=""/>
          <p:cNvPicPr/>
          <p:nvPr/>
        </p:nvPicPr>
        <p:blipFill>
          <a:blip r:embed="rId8"/>
          <a:stretch/>
        </p:blipFill>
        <p:spPr>
          <a:xfrm>
            <a:off x="-304920" y="1523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1" descr="ukraschenie_8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7431120" y="4419720"/>
            <a:ext cx="1712880" cy="2361960"/>
          </a:xfrm>
          <a:prstGeom prst="rect">
            <a:avLst/>
          </a:prstGeom>
          <a:ln w="0">
            <a:noFill/>
          </a:ln>
        </p:spPr>
      </p:pic>
      <p:pic>
        <p:nvPicPr>
          <p:cNvPr id="189" name="Рисунок 34" descr="plate-velur.png"/>
          <p:cNvPicPr/>
          <p:nvPr/>
        </p:nvPicPr>
        <p:blipFill>
          <a:blip r:embed="rId10"/>
          <a:srcRect l="0" t="10108" r="0" b="17456"/>
          <a:stretch/>
        </p:blipFill>
        <p:spPr>
          <a:xfrm>
            <a:off x="4419720" y="4648320"/>
            <a:ext cx="2371680" cy="220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withEffect" fill="hold" presetClass="path" presetID="3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15799 0.01896 C -0.15486 0.01272 -0.14062 -0.05296 -0.10469 -0.04857 C -0.05 -0.04233 -0.02847 0.00416 0.02205 -0.04233 C 0.05382 -0.06985 0.09115 -0.13923 0.11858 -0.13715 C 0.18056 -0.13483 0.1934 -0.0636 0.1934 0.00208 C 0.19497 0.09458 0.11441 0.17275 0.01632 0.18154 C -0.08299 0.18779 -0.1651 0.08834 -0.15799 0.01896 Z">
                                      <p:cBhvr>
                                        <p:cTn id="335" dur="13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5.55556E-007 7.90009E-006 C -0.01041 0.00486 -0.0059 0.00301 -0.01336 0.00602 C -0.02066 0.01249 -0.029 0.01434 -0.03733 0.01804 C -0.04914 0.02336 -0.06112 0.02891 -0.07309 0.03377 C -0.08247 0.0421 -0.09046 0.05135 -0.09705 0.0636 C -0.10086 0.08026 -0.11875 0.08465 -0.12987 0.08951 C -0.13091 0.08997 -0.1375 0.09344 -0.13872 0.09344 C -0.15313 0.09459 -0.16771 0.09483 -0.18212 0.09552 C -0.20191 0.09436 -0.21476 0.09737 -0.23125 0.08951 C -0.30035 0.0939 -0.34497 0.09436 -0.42691 0.09552 C -0.44184 0.09968 -0.42778 0.09459 -0.43872 0.10153 C -0.44341 0.10454 -0.44896 0.10454 -0.45365 0.10754 C -0.45834 0.11078 -0.46007 0.11402 -0.46407 0.11934 C -0.47066 0.14455 -0.49271 0.15264 -0.51042 0.15704 C -0.52257 0.16814 -0.53959 0.17114 -0.55365 0.17693 C -0.56407 0.18618 -0.55921 0.18363 -0.56719 0.18687 C -0.56858 0.18895 -0.57032 0.19057 -0.57153 0.19288 C -0.5724 0.19473 -0.57205 0.19728 -0.57309 0.1989 C -0.57882 0.20815 -0.58698 0.213 -0.59254 0.22272 C -0.59653 0.24631 -0.5908 0.2174 -0.59705 0.23659 C -0.59966 0.24446 -0.59931 0.25116 -0.60296 0.25856 C -0.60365 0.27406 -0.6125 0.32332 -0.59705 0.33002 C -0.5875 0.34274 -0.59757 0.33118 -0.58803 0.33812 C -0.5849 0.34043 -0.579 0.34598 -0.579 0.34598 C -0.57275 0.3587 -0.5632 0.37535 -0.55365 0.38391 C -0.54584 0.39108 -0.54983 0.38437 -0.54323 0.39177 C -0.54167 0.39362 -0.54046 0.39617 -0.53872 0.39779 C -0.53612 0.4001 -0.53264 0.39987 -0.52987 0.40172 C -0.51737 0.41027 -0.50209 0.41351 -0.48803 0.41559 C -0.46858 0.4149 -0.44723 0.42299 -0.42987 0.41166 C -0.4158 0.40241 -0.39723 0.38969 -0.38959 0.3698 C -0.38438 0.35616 -0.38247 0.33881 -0.37605 0.32609 C -0.3691 0.31245 -0.34306 0.30551 -0.33125 0.30019 C -0.32639 0.29788 -0.32275 0.29256 -0.31789 0.29025 C -0.31303 0.284 -0.3125 0.28076 -0.31042 0.27244 C -0.3099 0.25532 -0.30973 0.23798 -0.30886 0.22087 C -0.30834 0.21115 -0.30365 0.19774 -0.30139 0.18895 C -0.29514 0.16513 -0.29063 0.14015 -0.28212 0.11749 C -0.28056 0.10569 -0.27952 0.09344 -0.27466 0.08349 C -0.27257 0.07332 -0.27101 0.06129 -0.26563 0.05366 C -0.25938 0.0303 -0.2533 0.02221 -0.23577 0.01596 C -0.22987 0.01666 -0.22379 0.01643 -0.21789 0.01804 C -0.2125 0.01943 -0.20851 0.02753 -0.20296 0.02984 C -0.19862 0.03562 -0.19549 0.03909 -0.18959 0.04186 C -0.18351 0.0495 -0.17813 0.05505 -0.17014 0.05782 C -0.16407 0.06314 -0.15903 0.06846 -0.15226 0.0717 C -0.14011 0.08696 -0.12639 0.10408 -0.11042 0.11148 C -0.10139 0.1235 -0.09723 0.11818 -0.08646 0.12535 C -0.07881 0.13044 -0.07101 0.13298 -0.06268 0.1353 C 0.03733 0.13322 0.00851 0.14131 0.05382 0.12743 C 0.05817 0.12165 0.06302 0.11911 0.06719 0.11333 C 0.06945 0.10477 0.07119 0.09621 0.0731 0.08766 C 0.07395 0.08349 0.07622 0.07563 0.07622 0.07563 C 0.07587 0.05158 0.0882 -0.02266 0.0658 -0.05365 C 0.06284 -0.06521 0.06667 -0.0555 0.05972 -0.06151 C 0.05799 -0.06313 0.05677 -0.06567 0.05521 -0.06752 C 0.04914 -0.07423 0.05277 -0.06914 0.04635 -0.07354 C 0.03317 -0.08233 0.02327 -0.09944 0.00903 -0.10522 C 0.00261 -0.11424 -0.00746 -0.12141 -0.01631 -0.12511 C -0.03629 -0.12442 -0.0691 -0.14338 -0.07605 -0.11332 C -0.07291 -0.08996 -0.07379 -0.08741 -0.06112 -0.07354 C -0.05348 -0.06498 -0.06007 -0.06914 -0.05226 -0.06544 C -0.0507 -0.06359 -0.04948 -0.06128 -0.04775 -0.05966 C -0.04636 -0.05851 -0.04461 -0.05874 -0.04323 -0.05758 C -0.03263 -0.0481 -0.04445 -0.05388 -0.03421 -0.04972 C -0.02673 -0.03931 -0.03716 -0.05272 -0.02535 -0.04162 C -0.02361 -0.04 -0.02256 -0.03723 -0.02083 -0.03561 C -0.01823 -0.0333 -0.01492 -0.03307 -0.01198 -0.03168 C -0.0073 -0.02567 -0.00156 -0.02196 0.00295 -0.01572 C 0.00244 -0.0111 0.00313 -0.00601 0.00157 -0.00184 C 0.00087 7.90009E-006 -0.00173 -0.00138 -0.00295 7.90009E-006 C -0.00364 0.00093 -0.00105 7.90009E-006 -5.55556E-007 7.90009E-006 Z">
                                      <p:cBhvr>
                                        <p:cTn id="337" dur="13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8.69565E-007 C 0.01337 0.0007 0.02691 0.00023 0.04028 0.00208 C 0.04201 0.00232 0.04305 0.00555 0.04479 0.00602 C 0.04913 0.0074 0.05364 0.00717 0.05816 0.00787 C 0.10243 0.00717 0.14687 0.00717 0.19114 0.00602 C 0.19618 0.00578 0.20139 0.00185 0.20607 0.00393 C 0.20798 0.00486 0.20538 0.00948 0.20451 0.01203 C 0.20295 0.01619 0.20052 0.01989 0.19861 0.02382 C 0.19184 0.03724 0.16493 0.04417 0.15382 0.04764 C 0.12552 0.07216 0.07465 0.06476 0.04774 0.06568 C -0.03282 0.06453 -0.05955 0.0784 -0.11493 0.05574 C -0.12778 0.04394 -0.14757 0.03978 -0.16268 0.03377 C -0.17379 0.02937 -0.18455 0.0229 -0.19549 0.01781 C -0.19219 0.03053 -0.18854 0.0377 -0.179 0.04163 C -0.17361 0.04926 -0.17882 0.04302 -0.17014 0.04972 C -0.16702 0.05227 -0.16111 0.05759 -0.16111 0.05759 C -0.15556 0.06892 -0.14636 0.07748 -0.13733 0.08349 C -0.13125 0.09598 -0.13802 0.08465 -0.12986 0.09135 C -0.12518 0.09528 -0.12413 0.09875 -0.11788 0.1013 C -0.10452 0.11379 -0.0908 0.12165 -0.07466 0.12535 C -0.06962 0.12974 -0.06511 0.13021 -0.05972 0.13321 C -0.03785 0.1457 -0.01945 0.15079 0.00451 0.1531 C -0.00347 0.15634 -0.01025 0.16582 -0.01493 0.17484 C -0.01684 0.18317 -0.0217 0.18941 -0.02535 0.19681 C -0.02622 0.19866 -0.02587 0.20121 -0.02691 0.20282 C -0.029 0.20652 -0.03247 0.20884 -0.03438 0.21277 C -0.04167 0.22757 -0.05174 0.23543 -0.06424 0.24052 C -0.0691 0.24491 -0.07361 0.24607 -0.079 0.24861 C -0.19167 0.24538 -0.12344 0.25463 -0.16111 0.23867 C -0.17032 0.22641 -0.18212 0.22225 -0.19393 0.2167 C -0.1967 0.21323 -0.20035 0.21069 -0.20295 0.20676 C -0.20538 0.20306 -0.20625 0.19797 -0.20886 0.19473 C -0.2099 0.19334 -0.21094 0.19219 -0.21198 0.1908 C -0.21389 0.1827 -0.2158 0.17484 -0.21788 0.16698 C -0.21858 0.19473 -0.20764 0.23243 -0.22986 0.2426 C -0.23542 0.24815 -0.23854 0.24977 -0.24479 0.25255 C -0.24931 0.25856 -0.25504 0.26365 -0.26111 0.26642 C -0.25278 0.27799 -0.26146 0.26827 -0.2507 0.27429 C -0.24896 0.27521 -0.24792 0.27752 -0.24618 0.27845 C -0.24167 0.28099 -0.23594 0.28215 -0.23125 0.28423 C -0.22275 0.28793 -0.21476 0.29209 -0.20591 0.29417 C -0.07448 0.29163 -0.13976 0.30204 -0.08959 0.28423 C -0.0842 0.2796 -0.07865 0.28007 -0.07309 0.27637 C -0.06094 0.26827 -0.0757 0.2759 -0.06424 0.27035 C -0.05799 0.25856 -0.04566 0.25578 -0.03872 0.24445 C -0.02882 0.22826 -0.02118 0.20999 -0.01042 0.19473 C -0.00886 0.18872 -0.00469 0.17923 -0.00139 0.17484 C 0.00069 0.16258 0.0059 0.14963 0.00903 0.13714 C 0.01041 0.13113 0.01354 0.11934 0.01354 0.11934 C 0.01284 0.0895 0.02396 0.04602 -0.00139 0.03377 C -0.00573 0.02822 -0.004 0.03192 -0.00591 0.02382 C -0.00695 0.01989 -0.00886 0.01203 -0.00886 0.01203 C -0.00695 -0.00115 -0.0099 0.00278 3.33333E-006 -8.69565E-007 Z">
                                      <p:cBhvr>
                                        <p:cTn id="339" dur="13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0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8.33333E-007 -1.42461E-006 C -0.07396 -0.00648 0.01493 0.00069 -0.15816 -0.00416 C -0.16337 -0.0044 -0.16701 -0.00995 -0.17153 -0.01203 C -0.17691 -0.01457 -0.18299 -0.01434 -0.18802 -0.01804 C -0.20382 -0.0296 -0.19132 -0.02313 -0.20139 -0.02798 C -0.20503 -0.03261 -0.21337 -0.03978 -0.21337 -0.03978 C -0.21944 -0.06291 -0.2125 -0.08603 -0.21042 -0.10939 C -0.21146 -0.12882 -0.21215 -0.14662 -0.22239 -0.16119 C -0.22413 -0.16883 -0.22639 -0.17068 -0.23125 -0.17507 C -0.23229 -0.17715 -0.23299 -0.17946 -0.23437 -0.18108 C -0.23559 -0.18224 -0.23767 -0.18155 -0.23871 -0.18293 C -0.23976 -0.18432 -0.23924 -0.18733 -0.24028 -0.18895 C -0.24271 -0.19288 -0.2467 -0.19496 -0.24913 -0.19889 C -0.25816 -0.21346 -0.24583 -0.19542 -0.25521 -0.21277 C -0.2592 -0.22017 -0.26614 -0.22341 -0.27014 -0.23081 C -0.27691 -0.24353 -0.26875 -0.23497 -0.2776 -0.2426 C -0.27917 -0.24908 -0.28507 -0.26064 -0.28507 -0.26064 C -0.28924 -0.27798 -0.28246 -0.25255 -0.29097 -0.27243 C -0.29201 -0.27475 -0.29167 -0.27798 -0.29253 -0.28053 C -0.29739 -0.29556 -0.29392 -0.27729 -0.29705 -0.29232 C -0.29809 -0.29764 -0.3 -0.30828 -0.3 -0.30828 C -0.29896 -0.36378 -0.30399 -0.37766 -0.29392 -0.41559 C -0.29219 -0.4223 -0.28646 -0.42553 -0.28351 -0.43155 C -0.27951 -0.44889 -0.25694 -0.45629 -0.24618 -0.46531 C -0.23576 -0.47387 -0.24462 -0.46947 -0.23576 -0.47317 C -0.22708 -0.48127 -0.21337 -0.48358 -0.20295 -0.48728 C -0.17309 -0.48451 -0.18837 -0.48705 -0.17153 -0.47919 C -0.17049 -0.47711 -0.16944 -0.47526 -0.16858 -0.47317 C -0.16788 -0.47132 -0.16805 -0.46901 -0.16719 -0.46739 C -0.16441 -0.46138 -0.15694 -0.4556 -0.15226 -0.45329 C -0.14739 -0.44727 -0.14375 -0.44773 -0.13733 -0.44542 C -0.12066 -0.43964 -0.11892 -0.43918 -0.09705 -0.43756 C -0.08628 -0.4327 -0.09062 -0.43571 -0.08351 -0.42946 C -0.08055 -0.42345 -0.0776 -0.41767 -0.07465 -0.41166 C -0.07361 -0.40958 -0.07153 -0.40564 -0.07153 -0.40564 C -0.06979 -0.39824 -0.06701 -0.39339 -0.06562 -0.38576 C -0.0651 -0.35685 -0.07483 -0.31846 -0.05816 -0.29625 C -0.05573 -0.28654 -0.05833 -0.29232 -0.05069 -0.28631 C -0.0401 -0.27798 -0.03698 -0.27752 -0.02535 -0.27243 C -0.00069 -0.26156 -0.01962 -0.26665 -0.00139 -0.26249 C 0.00243 -0.25995 0.0066 -0.25902 0.01042 -0.25648 C 0.01163 -0.25555 0.01233 -0.2537 0.01354 -0.25255 C 0.01858 -0.24815 0.02448 -0.24422 0.02986 -0.24075 C 0.03351 -0.23566 0.0375 -0.23474 0.04184 -0.23081 C 0.04375 -0.22317 0.04653 -0.21439 0.05087 -0.20884 C 0.05243 -0.20028 0.05521 -0.18293 0.05521 -0.18293 C 0.05642 -0.14871 0.05833 -0.09736 0.05833 -0.06568 C 0.05833 -0.06036 0.05833 -0.05458 0.05677 -0.04972 C 0.05486 -0.04371 0.0434 -0.04186 0.0434 -0.04186 C 0.03941 -0.03677 0.02813 -0.03053 0.0224 -0.02798 C 0.01945 -0.0266 0.01354 -0.02382 0.01354 -0.02382 C 0.01007 -0.01943 0.00781 -0.01457 0.00451 -0.00995 C 0.00399 -0.0081 0.00417 -0.00532 0.00295 -0.00416 C -0.00226 0.00092 -0.0125 -1.42461E-006 -8.33333E-007 -1.42461E-006 Z">
                                      <p:cBhvr>
                                        <p:cTn id="341" dur="13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2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343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remove" presetClass="emph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8" dur="1411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9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350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remove" presetClass="emph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indefinite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5" dur="1411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6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357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remove" presetClass="emph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indefinite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2" dur="1411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3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364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Ura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2" dur="4127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9T13:42:53Z</dcterms:created>
  <dc:creator>1</dc:creator>
  <dc:description/>
  <dc:language>en-US</dc:language>
  <cp:lastModifiedBy>Admin</cp:lastModifiedBy>
  <dcterms:modified xsi:type="dcterms:W3CDTF">2014-06-18T13:38:19Z</dcterms:modified>
  <cp:revision>5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